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whoosh.wav" ContentType="audio/x-wav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13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1C7-C55E-468D-80F6-A1B2B8FD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3B6-5C26-46B7-A240-16B83BE2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0B3-96FE-409C-8866-35C5C75C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591-5174-417E-916B-6E154619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86A-EC60-4A4C-ACC0-8FC69920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4FC-9285-4C0A-BEEE-C9C9CAAD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B57-5AAD-45A6-B993-C2E1B8A5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435-97D0-4E48-87C9-0275E74D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6C4-C55E-4DB1-A2FB-AA865A21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CCA-8F05-4BFC-9F99-2533A0A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39B-3D28-4B4E-AC4F-9D013869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089-8E74-4D9B-A2BB-57CDBAD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91A2-D270-49C0-9391-1362A7297B4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8C6E-C54D-447D-A14B-80575E5D7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Kinematics Fundamental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valid Isom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10480" cy="20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DEB-2BEE-4922-AA70-C4DD54B50B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C66E2-23EA-4023-85FC-3F61E861BC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shof Cond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2040" cy="2824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57400" y="5105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82D-3B3E-439B-B74D-ECA989B3798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682CD-6498-45E6-8F61-4D0242187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ver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rsions result from grounding different links in the ch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there are as many inversions as l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inversions will have unique kinds of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a Grashof Fourbar has only 3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stin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versions, 2 crank-rockers, 1 double-crank, and 1 double-rock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091-DF0E-470C-820E-245C691DE2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FD961-D80E-4A79-9D5C-45FFB2B5CD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versions of the Grashof Fourba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7122"/>
          <a:stretch/>
        </p:blipFill>
        <p:spPr>
          <a:xfrm>
            <a:off x="1523880" y="1371600"/>
            <a:ext cx="6019920" cy="47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133720" y="76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+ L &lt; P + 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003400" y="2155680"/>
          <a:ext cx="4754520" cy="30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3400" y="2155680"/>
                    <a:ext cx="475452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902-3E8F-4150-88B0-8D718C1050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BB90A-7783-4507-8184-62D123171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versions of the Non-Grashof Fourba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1539" r="0" b="4616"/>
          <a:stretch/>
        </p:blipFill>
        <p:spPr>
          <a:xfrm>
            <a:off x="1600200" y="1523880"/>
            <a:ext cx="594360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+ L &gt; P + 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5943600" cy="52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D03-8D19-4BEB-87C3-CFC035F144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AB9BB-F762-4517-97D0-0F9410FD5A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04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al-Case Grashof Lin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9047"/>
          <a:stretch/>
        </p:blipFill>
        <p:spPr>
          <a:xfrm>
            <a:off x="1219320" y="1981080"/>
            <a:ext cx="6543720" cy="403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0" y="1371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+ L = P + 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592-DB17-4423-8274-243D2811FE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1C6EA-2EEE-4C7F-865E-E846B13DAB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5771" t="0" r="2886" b="11947"/>
          <a:stretch/>
        </p:blipFill>
        <p:spPr>
          <a:xfrm>
            <a:off x="1066680" y="1981080"/>
            <a:ext cx="7239240" cy="3581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3880" y="5788080"/>
            <a:ext cx="601992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versions of the Slider Cran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7239240" cy="527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425-228C-438C-954D-BF3E6BD255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17896-B055-4932-B4FE-74BD03B652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versions of the Sixbar Lin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065" t="1521" r="0" b="8231"/>
          <a:stretch/>
        </p:blipFill>
        <p:spPr>
          <a:xfrm>
            <a:off x="990720" y="1447920"/>
            <a:ext cx="7238880" cy="452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ECB-1850-4FF8-ADEE-8FEA21347E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A1AAC-8FD3-4993-93F1-CBA87777A4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ared Fivebar Link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410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= 3(5 – 1) – 2(5) – 0 =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410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= 3(5 – 1) – 2(5) – 1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373200" cy="3657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4797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9EA-9E6C-423A-A091-AD48114C5F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42278-EECF-4481-90E3-FED3309614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ant Link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219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D9C-2B5C-4A1A-B8A0-B3CAAA5F475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9606A-39C7-4004-BD41-E897F89416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s Reduc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stem DO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762120"/>
            <a:ext cx="525780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D12-D77D-4D0B-A1FD-A4A947D1A6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BB5A3-0160-4A83-BDCE-9ECFAC4C2D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d Its Degree of Freed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48360" cy="43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62A-1E1F-4372-B0DF-7D5D3B6267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39114-F45B-4EBA-9C7A-AEA1F3C2B6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d Their Grashof Cond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048120" cy="257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429000" cy="263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1EC-36BE-4679-998D-5A90B7FA53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3766C-9421-4A5F-9D53-2B91024B14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ng Mobility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ubler &amp; Kutzbach Equ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5389"/>
          <a:stretch/>
        </p:blipFill>
        <p:spPr>
          <a:xfrm>
            <a:off x="1447920" y="1905120"/>
            <a:ext cx="628164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A77-07AB-416B-B543-125FE27AF1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14BB1-CAA9-4F98-852B-F6790B6486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and Stru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259000"/>
            <a:ext cx="53341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bar Link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648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ta Triplet (Tru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360" y="1981080"/>
            <a:ext cx="8153280" cy="24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B11-8F12-4B2B-84AA-AD4B4B2036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ED8CE-129C-4E35-AB12-FA3391D36C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ying Mobility Equations -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945" t="5895" r="6580" b="2181"/>
          <a:stretch/>
        </p:blipFill>
        <p:spPr>
          <a:xfrm>
            <a:off x="1905120" y="1447920"/>
            <a:ext cx="518148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479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= 3 (L-1) –2(J1) – J2 = 3(8-1) –2(10) – 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F44-C19A-4163-B35C-9962B64260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14CB6-510A-4F82-A0D6-0C8D2F20C9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ying Mobility Equations -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62040" y="55627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= 3 (L-1) –2(J1) – J2 = 3(6-1) –2(7) – 1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745" r="0" b="0"/>
          <a:stretch/>
        </p:blipFill>
        <p:spPr>
          <a:xfrm>
            <a:off x="1523880" y="1219320"/>
            <a:ext cx="57913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CAA-149E-45CD-9E6B-B27B4FE43A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930D0-EDF8-43A5-B743-01A7101C81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uebler Paradox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1386" r="0" b="6946"/>
          <a:stretch/>
        </p:blipFill>
        <p:spPr>
          <a:xfrm>
            <a:off x="1895400" y="990720"/>
            <a:ext cx="53514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9E6-87A8-4186-966F-4BDAE73CFC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A9D7B-DAEA-48FA-A07E-0CA7EE81F1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ossible Mechanisms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“Number Synthesis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96240" cy="3622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486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combinations will make valid “Isomers,” and some will n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B15-23DA-4CB6-9069-72F57096D1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79657-12FC-4B51-ABFB-473EDD7D9B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om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7010280" cy="277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7010280" cy="208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10260" r="0" b="0"/>
          <a:stretch/>
        </p:blipFill>
        <p:spPr>
          <a:xfrm>
            <a:off x="7467480" y="3505320"/>
            <a:ext cx="141948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19810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F02-7A53-401D-B4B8-937AAD8627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324D8-6A0F-477D-8F20-D7A942861B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21:51:06Z</dcterms:created>
  <dc:creator>Default</dc:creator>
  <dc:description/>
  <dc:language>en-US</dc:language>
  <cp:lastModifiedBy>norton</cp:lastModifiedBy>
  <dcterms:modified xsi:type="dcterms:W3CDTF">2005-08-26T14:57:29Z</dcterms:modified>
  <cp:revision>20</cp:revision>
  <dc:subject/>
  <dc:title>Lecture 2</dc:title>
</cp:coreProperties>
</file>