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0.png" ContentType="image/png"/>
  <Override PartName="/ppt/media/image48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A5E-870B-4F83-B708-76F3304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40E-10EE-4B77-A249-EFC6DA3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28F-6D27-46AB-AE08-E4C51EEB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051-C78F-42FB-A30C-3D5CE79F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E20-7DC6-4646-BCF0-3619EC90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D51-BA5E-4C64-BA5B-E06B37F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DC9-5F91-43A9-987F-02973F03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703-9C92-4215-A3E9-5BFE9607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248-6BF4-4450-902E-0CB8C2B9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F1B-7CA2-49D9-9FC9-AD521DA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F37-B1FA-4D55-AEE3-194D62E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164-D1B2-474A-8727-4CC6408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763-621C-43F6-83C4-9C88B734B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tical Linkage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819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-Position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965" t="0" r="1953" b="0"/>
          <a:stretch/>
        </p:blipFill>
        <p:spPr>
          <a:xfrm>
            <a:off x="3781440" y="96840"/>
            <a:ext cx="5281560" cy="6529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7760" y="2127240"/>
            <a:ext cx="3657600" cy="4495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1280" y="2203560"/>
            <a:ext cx="2360520" cy="657000"/>
            <a:chOff x="611280" y="2203560"/>
            <a:chExt cx="2360520" cy="6570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611280" y="2203560"/>
              <a:ext cx="231444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85800" y="2209680"/>
              <a:ext cx="2286000" cy="609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80880" y="2971800"/>
            <a:ext cx="3124080" cy="914400"/>
            <a:chOff x="380880" y="2971800"/>
            <a:chExt cx="3124080" cy="91440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458640" y="2975040"/>
              <a:ext cx="300024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80880" y="2971800"/>
              <a:ext cx="3124080" cy="914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60200" y="4038480"/>
            <a:ext cx="3524400" cy="2567160"/>
            <a:chOff x="160200" y="4038480"/>
            <a:chExt cx="3524400" cy="2567160"/>
          </a:xfrm>
        </p:grpSpPr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179280" y="4043520"/>
              <a:ext cx="35053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160200" y="5403960"/>
              <a:ext cx="349884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28600" y="4038480"/>
              <a:ext cx="3429000" cy="2514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28600"/>
            <a:ext cx="8458200" cy="6400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2743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-Position Solution Variab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5638680"/>
            <a:ext cx="6819840" cy="92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965" t="0" r="1953" b="0"/>
          <a:stretch/>
        </p:blipFill>
        <p:spPr>
          <a:xfrm>
            <a:off x="4343400" y="304920"/>
            <a:ext cx="4254480" cy="5257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609480" y="2743200"/>
            <a:ext cx="3657600" cy="2743200"/>
            <a:chOff x="609480" y="2743200"/>
            <a:chExt cx="3657600" cy="2743200"/>
          </a:xfrm>
        </p:grpSpPr>
        <p:sp>
          <p:nvSpPr>
            <p:cNvPr id="170" name=""/>
            <p:cNvSpPr/>
            <p:nvPr/>
          </p:nvSpPr>
          <p:spPr>
            <a:xfrm>
              <a:off x="609480" y="2743200"/>
              <a:ext cx="365760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85800" y="2819520"/>
              <a:ext cx="3523680" cy="2567160"/>
              <a:chOff x="685800" y="2819520"/>
              <a:chExt cx="3523680" cy="2567160"/>
            </a:xfrm>
          </p:grpSpPr>
          <p:pic>
            <p:nvPicPr>
              <p:cNvPr id="1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520" y="2824560"/>
                <a:ext cx="3504960" cy="12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800" y="4185000"/>
                <a:ext cx="349848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753840" y="2819520"/>
                <a:ext cx="3428640" cy="2514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249200"/>
            <a:ext cx="8458200" cy="53802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80773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-Position Solution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48954"/>
          <a:stretch/>
        </p:blipFill>
        <p:spPr>
          <a:xfrm>
            <a:off x="1371600" y="1600200"/>
            <a:ext cx="682956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838080" y="2133720"/>
            <a:ext cx="3657600" cy="2743200"/>
            <a:chOff x="838080" y="2133720"/>
            <a:chExt cx="3657600" cy="2743200"/>
          </a:xfrm>
        </p:grpSpPr>
        <p:sp>
          <p:nvSpPr>
            <p:cNvPr id="180" name=""/>
            <p:cNvSpPr/>
            <p:nvPr/>
          </p:nvSpPr>
          <p:spPr>
            <a:xfrm>
              <a:off x="838080" y="2133720"/>
              <a:ext cx="365760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14400" y="2210040"/>
              <a:ext cx="3523680" cy="2567160"/>
              <a:chOff x="914400" y="2210040"/>
              <a:chExt cx="3523680" cy="25671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33120" y="2215080"/>
                <a:ext cx="3504960" cy="12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3575520"/>
                <a:ext cx="349848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982440" y="2210040"/>
                <a:ext cx="3428640" cy="2514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4800600" y="3886200"/>
            <a:ext cx="3352680" cy="771480"/>
            <a:chOff x="4800600" y="3886200"/>
            <a:chExt cx="3352680" cy="77148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4876560" y="3886200"/>
              <a:ext cx="32004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800600" y="3886200"/>
              <a:ext cx="3352680" cy="761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72000" y="2209680"/>
            <a:ext cx="3981600" cy="1400400"/>
            <a:chOff x="4572000" y="2209680"/>
            <a:chExt cx="3981600" cy="1400400"/>
          </a:xfrm>
        </p:grpSpPr>
        <p:grpSp>
          <p:nvGrpSpPr>
            <p:cNvPr id="189" name=""/>
            <p:cNvGrpSpPr/>
            <p:nvPr/>
          </p:nvGrpSpPr>
          <p:grpSpPr>
            <a:xfrm>
              <a:off x="4572000" y="2286000"/>
              <a:ext cx="3981600" cy="1324080"/>
              <a:chOff x="4572000" y="2286000"/>
              <a:chExt cx="3981600" cy="13240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5"/>
              <a:srcRect l="0" t="0" r="72251" b="0"/>
              <a:stretch/>
            </p:blipFill>
            <p:spPr>
              <a:xfrm>
                <a:off x="4572000" y="2286000"/>
                <a:ext cx="1295640" cy="13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6"/>
              <a:srcRect l="35917" t="0" r="34698" b="0"/>
              <a:stretch/>
            </p:blipFill>
            <p:spPr>
              <a:xfrm>
                <a:off x="5867640" y="2286000"/>
                <a:ext cx="1371600" cy="13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7"/>
              <a:srcRect l="73477" t="0" r="0" b="0"/>
              <a:stretch/>
            </p:blipFill>
            <p:spPr>
              <a:xfrm>
                <a:off x="7315200" y="2286000"/>
                <a:ext cx="1238400" cy="132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"/>
            <p:cNvSpPr/>
            <p:nvPr/>
          </p:nvSpPr>
          <p:spPr>
            <a:xfrm>
              <a:off x="4572000" y="2209680"/>
              <a:ext cx="3962520" cy="1371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295280" y="4876920"/>
            <a:ext cx="2895840" cy="1447560"/>
            <a:chOff x="1295280" y="4876920"/>
            <a:chExt cx="2895840" cy="1447560"/>
          </a:xfrm>
        </p:grpSpPr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1447920" y="4952880"/>
              <a:ext cx="255276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295280" y="4876920"/>
              <a:ext cx="2895840" cy="1447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800600" y="4876920"/>
            <a:ext cx="2971800" cy="1447560"/>
            <a:chOff x="4800600" y="4876920"/>
            <a:chExt cx="2971800" cy="1447560"/>
          </a:xfrm>
        </p:grpSpPr>
        <p:pic>
          <p:nvPicPr>
            <p:cNvPr id="198" name="" descr=""/>
            <p:cNvPicPr/>
            <p:nvPr/>
          </p:nvPicPr>
          <p:blipFill>
            <a:blip r:embed="rId9"/>
            <a:srcRect l="0" t="5293" r="0" b="0"/>
            <a:stretch/>
          </p:blipFill>
          <p:spPr>
            <a:xfrm>
              <a:off x="4876920" y="4952880"/>
              <a:ext cx="282888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800600" y="4876920"/>
              <a:ext cx="2971800" cy="1447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080" y="9036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-Position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965" t="0" r="1953" b="0"/>
          <a:stretch/>
        </p:blipFill>
        <p:spPr>
          <a:xfrm>
            <a:off x="3781440" y="96840"/>
            <a:ext cx="5281560" cy="65293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33520" y="1676520"/>
            <a:ext cx="2895480" cy="2680560"/>
            <a:chOff x="533520" y="1676520"/>
            <a:chExt cx="2895480" cy="2680560"/>
          </a:xfrm>
        </p:grpSpPr>
        <p:sp>
          <p:nvSpPr>
            <p:cNvPr id="203" name=""/>
            <p:cNvSpPr/>
            <p:nvPr/>
          </p:nvSpPr>
          <p:spPr>
            <a:xfrm>
              <a:off x="533520" y="1676520"/>
              <a:ext cx="2895480" cy="268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iven: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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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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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ssumed: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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1676520"/>
              <a:ext cx="2361960" cy="1600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3429000"/>
              <a:ext cx="2361960" cy="838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495680"/>
            <a:ext cx="2743200" cy="952200"/>
            <a:chOff x="533520" y="4495680"/>
            <a:chExt cx="2743200" cy="952200"/>
          </a:xfrm>
        </p:grpSpPr>
        <p:sp>
          <p:nvSpPr>
            <p:cNvPr id="207" name=""/>
            <p:cNvSpPr/>
            <p:nvPr/>
          </p:nvSpPr>
          <p:spPr>
            <a:xfrm>
              <a:off x="533520" y="4572000"/>
              <a:ext cx="2743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lculated: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520" y="4495680"/>
              <a:ext cx="2743200" cy="9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5562720"/>
            <a:ext cx="3048120" cy="838080"/>
            <a:chOff x="380880" y="5562720"/>
            <a:chExt cx="3048120" cy="838080"/>
          </a:xfrm>
        </p:grpSpPr>
        <p:sp>
          <p:nvSpPr>
            <p:cNvPr id="210" name=""/>
            <p:cNvSpPr/>
            <p:nvPr/>
          </p:nvSpPr>
          <p:spPr>
            <a:xfrm>
              <a:off x="380880" y="556272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peat process for other dyad U-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520" y="5562720"/>
              <a:ext cx="2743200" cy="838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676520"/>
            <a:ext cx="3276720" cy="5105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fying th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Fixed Pivo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76680" y="290520"/>
            <a:ext cx="52750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685800" y="1874880"/>
            <a:ext cx="2286000" cy="809640"/>
            <a:chOff x="685800" y="1874880"/>
            <a:chExt cx="2286000" cy="80964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1143000" y="1874880"/>
              <a:ext cx="12668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1874880"/>
              <a:ext cx="2286000" cy="761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800" y="2712960"/>
            <a:ext cx="2286000" cy="1000080"/>
            <a:chOff x="685800" y="2712960"/>
            <a:chExt cx="2286000" cy="100008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762120" y="2712960"/>
              <a:ext cx="2143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5800" y="2712960"/>
              <a:ext cx="2286000" cy="990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85800" y="3780000"/>
            <a:ext cx="2286000" cy="1038240"/>
            <a:chOff x="685800" y="3780000"/>
            <a:chExt cx="2286000" cy="10382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762120" y="3780000"/>
              <a:ext cx="21049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85800" y="3780000"/>
              <a:ext cx="2286000" cy="990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80880" y="5334120"/>
            <a:ext cx="2990880" cy="1038240"/>
            <a:chOff x="380880" y="5334120"/>
            <a:chExt cx="2990880" cy="1038240"/>
          </a:xfrm>
        </p:grpSpPr>
        <p:pic>
          <p:nvPicPr>
            <p:cNvPr id="225" name="" descr=""/>
            <p:cNvPicPr/>
            <p:nvPr/>
          </p:nvPicPr>
          <p:blipFill>
            <a:blip r:embed="rId5"/>
            <a:srcRect l="0" t="35676" r="0" b="0"/>
            <a:stretch/>
          </p:blipFill>
          <p:spPr>
            <a:xfrm>
              <a:off x="380880" y="5410440"/>
              <a:ext cx="2990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5800" y="5334120"/>
              <a:ext cx="2286000" cy="990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-2590920" y="5029200"/>
            <a:ext cx="2286000" cy="990360"/>
            <a:chOff x="-2590920" y="5029200"/>
            <a:chExt cx="2286000" cy="990360"/>
          </a:xfrm>
        </p:grpSpPr>
        <p:pic>
          <p:nvPicPr>
            <p:cNvPr id="228" name="" descr=""/>
            <p:cNvPicPr/>
            <p:nvPr/>
          </p:nvPicPr>
          <p:blipFill>
            <a:blip r:embed="rId6"/>
            <a:srcRect l="0" t="0" r="0" b="39277"/>
            <a:stretch/>
          </p:blipFill>
          <p:spPr>
            <a:xfrm>
              <a:off x="-2362320" y="5029200"/>
              <a:ext cx="189540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-2590920" y="5029200"/>
              <a:ext cx="2286000" cy="990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5800" y="4844880"/>
            <a:ext cx="2286000" cy="412920"/>
            <a:chOff x="685800" y="4844880"/>
            <a:chExt cx="2286000" cy="412920"/>
          </a:xfrm>
        </p:grpSpPr>
        <p:pic>
          <p:nvPicPr>
            <p:cNvPr id="231" name="" descr=""/>
            <p:cNvPicPr/>
            <p:nvPr/>
          </p:nvPicPr>
          <p:blipFill>
            <a:blip r:embed="rId7"/>
            <a:srcRect l="0" t="0" r="64340" b="74531"/>
            <a:stretch/>
          </p:blipFill>
          <p:spPr>
            <a:xfrm>
              <a:off x="762120" y="4844880"/>
              <a:ext cx="10666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8"/>
            <a:srcRect l="63702" t="0" r="0" b="74531"/>
            <a:stretch/>
          </p:blipFill>
          <p:spPr>
            <a:xfrm>
              <a:off x="1828800" y="4844880"/>
              <a:ext cx="1085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5800" y="4876560"/>
              <a:ext cx="2286000" cy="3812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-2514600" y="6172200"/>
            <a:ext cx="2286000" cy="380880"/>
            <a:chOff x="-2514600" y="6172200"/>
            <a:chExt cx="2286000" cy="380880"/>
          </a:xfrm>
        </p:grpSpPr>
        <p:pic>
          <p:nvPicPr>
            <p:cNvPr id="235" name="" descr=""/>
            <p:cNvPicPr/>
            <p:nvPr/>
          </p:nvPicPr>
          <p:blipFill>
            <a:blip r:embed="rId9"/>
            <a:srcRect l="0" t="75470" r="0" b="0"/>
            <a:stretch/>
          </p:blipFill>
          <p:spPr>
            <a:xfrm>
              <a:off x="-2286000" y="6172200"/>
              <a:ext cx="18954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-2514600" y="6172200"/>
              <a:ext cx="2286000" cy="380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lving the Equations for the Bet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5055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2520" y="701640"/>
            <a:ext cx="3352680" cy="6004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fied Fixed Pivo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722760" y="246240"/>
            <a:ext cx="5275080" cy="647676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304920" y="822240"/>
            <a:ext cx="3124080" cy="1828800"/>
            <a:chOff x="304920" y="822240"/>
            <a:chExt cx="3124080" cy="182880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487440" y="822240"/>
              <a:ext cx="2809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04920" y="822240"/>
              <a:ext cx="3124080" cy="1828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4920" y="2773440"/>
            <a:ext cx="3124080" cy="990360"/>
            <a:chOff x="304920" y="2773440"/>
            <a:chExt cx="3124080" cy="99036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304920" y="2849400"/>
              <a:ext cx="16095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rcRect l="0" t="0" r="0" b="3319"/>
            <a:stretch/>
          </p:blipFill>
          <p:spPr>
            <a:xfrm>
              <a:off x="1981080" y="2849400"/>
              <a:ext cx="14288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04920" y="2773440"/>
              <a:ext cx="3124080" cy="990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04920" y="3886200"/>
            <a:ext cx="3124080" cy="1143000"/>
            <a:chOff x="304920" y="3886200"/>
            <a:chExt cx="3124080" cy="1143000"/>
          </a:xfrm>
        </p:grpSpPr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669960" y="3918240"/>
              <a:ext cx="23241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04920" y="3886200"/>
              <a:ext cx="3124080" cy="1143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04920" y="5105520"/>
            <a:ext cx="3124080" cy="1447560"/>
            <a:chOff x="304920" y="5105520"/>
            <a:chExt cx="3124080" cy="1447560"/>
          </a:xfrm>
        </p:grpSpPr>
        <p:sp>
          <p:nvSpPr>
            <p:cNvPr id="253" name=""/>
            <p:cNvSpPr/>
            <p:nvPr/>
          </p:nvSpPr>
          <p:spPr>
            <a:xfrm>
              <a:off x="304920" y="5105520"/>
              <a:ext cx="3124080" cy="1447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457200" y="5105520"/>
              <a:ext cx="2927520" cy="14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Solve This Mes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code the equations  5.32 – 5.34 in Mathcad, TK or other package and solve for both dya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us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the assumed values in equations 5.19 through 5.31 to solve the 3-position problem for each dyad success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, use the Symech program which solves the three-position-specified-fixed-pivot problem interactively in Pro-Engine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ech will be demonstrated in lab tomorrow.  Please download the sample file from myWPI to your own disk space for use in the la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41280" y="958680"/>
            <a:ext cx="6400800" cy="5685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019560" cy="2355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427040" y="3548160"/>
            <a:ext cx="60724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514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Synthesis Metho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47960" y="247680"/>
            <a:ext cx="610704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tical Linkage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motion is a defined mathematical function of the input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motion is a defined path along a set of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motion is a defined set of positions of a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ree Use the Same Mathematical Formulation, Called the “Standard Form Equation”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rdman and Sand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1080" y="1523880"/>
            <a:ext cx="5105520" cy="47246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ptimal Synthesis Methods -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197080" cy="4291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5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600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timal Synthesis Methods -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133720" y="357120"/>
            <a:ext cx="6734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ytical Linkage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same tasks as graphical synthesis, except uses algebra instead of geome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ive locations of the link are termed “precision posit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oretically, can solve for up to 9 precision pos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ally, is limited to 3 or 4 pos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or three positions can be done by hand calculation, but computer makes it much eas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-position Motion Synthesis -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28120" y="4095000"/>
            <a:ext cx="3415680" cy="3414240"/>
            <a:chOff x="3228120" y="4095000"/>
            <a:chExt cx="3415680" cy="3414240"/>
          </a:xfrm>
        </p:grpSpPr>
        <p:sp>
          <p:nvSpPr>
            <p:cNvPr id="49" name=""/>
            <p:cNvSpPr/>
            <p:nvPr/>
          </p:nvSpPr>
          <p:spPr>
            <a:xfrm flipV="1" rot="16643400">
              <a:off x="3412080" y="4277520"/>
              <a:ext cx="3047400" cy="304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4132"/>
                  </a:moveTo>
                  <a:arcTo wR="10800" hR="10800" stAng="-2287551" swAng="18759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4132"/>
                  </a:moveTo>
                  <a:arcTo wR="10800" hR="10800" stAng="-2287551" swAng="1875956"/>
                </a:path>
              </a:pathLst>
            </a:custGeom>
            <a:noFill/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27520" y="4114800"/>
              <a:ext cx="533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411880" y="3049200"/>
            <a:ext cx="2208240" cy="1062360"/>
            <a:chOff x="5411880" y="3049200"/>
            <a:chExt cx="2208240" cy="1062360"/>
          </a:xfrm>
        </p:grpSpPr>
        <p:sp>
          <p:nvSpPr>
            <p:cNvPr id="52" name=""/>
            <p:cNvSpPr/>
            <p:nvPr/>
          </p:nvSpPr>
          <p:spPr>
            <a:xfrm flipH="1">
              <a:off x="5411880" y="3581280"/>
              <a:ext cx="1293840" cy="333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223680" y="3049200"/>
              <a:ext cx="1396440" cy="1062360"/>
              <a:chOff x="6223680" y="3049200"/>
              <a:chExt cx="1396440" cy="1062360"/>
            </a:xfrm>
          </p:grpSpPr>
          <p:sp>
            <p:nvSpPr>
              <p:cNvPr id="54" name=""/>
              <p:cNvSpPr/>
              <p:nvPr/>
            </p:nvSpPr>
            <p:spPr>
              <a:xfrm>
                <a:off x="6858000" y="3581280"/>
                <a:ext cx="76212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6223680" y="3049200"/>
                <a:ext cx="1062000" cy="1062360"/>
                <a:chOff x="6223680" y="3049200"/>
                <a:chExt cx="1062000" cy="1062360"/>
              </a:xfrm>
            </p:grpSpPr>
            <p:sp>
              <p:nvSpPr>
                <p:cNvPr id="56" name=""/>
                <p:cNvSpPr/>
                <p:nvPr/>
              </p:nvSpPr>
              <p:spPr>
                <a:xfrm rot="16552200">
                  <a:off x="6270480" y="3096360"/>
                  <a:ext cx="968400" cy="968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295" y="295"/>
                      </a:moveTo>
                      <a:arcTo wR="10800" hR="10800" stAng="-6204768" swAng="114980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295" y="295"/>
                      </a:moveTo>
                      <a:arcTo wR="10800" hR="10800" stAng="-6204768" swAng="11498069"/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259680" y="3133800"/>
                  <a:ext cx="5335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en-US" sz="16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" name=""/>
          <p:cNvGrpSpPr/>
          <p:nvPr/>
        </p:nvGrpSpPr>
        <p:grpSpPr>
          <a:xfrm>
            <a:off x="5548320" y="3499200"/>
            <a:ext cx="1560600" cy="1954800"/>
            <a:chOff x="5548320" y="3499200"/>
            <a:chExt cx="1560600" cy="1954800"/>
          </a:xfrm>
        </p:grpSpPr>
        <p:grpSp>
          <p:nvGrpSpPr>
            <p:cNvPr id="59" name=""/>
            <p:cNvGrpSpPr/>
            <p:nvPr/>
          </p:nvGrpSpPr>
          <p:grpSpPr>
            <a:xfrm>
              <a:off x="5548320" y="3499200"/>
              <a:ext cx="1288800" cy="1954800"/>
              <a:chOff x="5548320" y="3499200"/>
              <a:chExt cx="1288800" cy="1954800"/>
            </a:xfrm>
          </p:grpSpPr>
          <p:sp>
            <p:nvSpPr>
              <p:cNvPr id="60" name=""/>
              <p:cNvSpPr/>
              <p:nvPr/>
            </p:nvSpPr>
            <p:spPr>
              <a:xfrm flipH="1">
                <a:off x="5548320" y="3637440"/>
                <a:ext cx="1185840" cy="181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01800">
                <a:off x="6667560" y="3511440"/>
                <a:ext cx="156960" cy="157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629400" y="36576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3657600"/>
            <a:ext cx="933480" cy="2286000"/>
            <a:chOff x="4572000" y="3657600"/>
            <a:chExt cx="933480" cy="2286000"/>
          </a:xfrm>
        </p:grpSpPr>
        <p:grpSp>
          <p:nvGrpSpPr>
            <p:cNvPr id="64" name=""/>
            <p:cNvGrpSpPr/>
            <p:nvPr/>
          </p:nvGrpSpPr>
          <p:grpSpPr>
            <a:xfrm>
              <a:off x="4572000" y="3821040"/>
              <a:ext cx="933480" cy="2122560"/>
              <a:chOff x="4572000" y="3821040"/>
              <a:chExt cx="933480" cy="212256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4572000" y="3948120"/>
                <a:ext cx="851040" cy="199548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48520" y="3821040"/>
                <a:ext cx="156960" cy="157320"/>
              </a:xfrm>
              <a:prstGeom prst="ellipse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876920" y="3657600"/>
              <a:ext cx="52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60800" y="2286000"/>
            <a:ext cx="630720" cy="1271520"/>
            <a:chOff x="6760800" y="2286000"/>
            <a:chExt cx="630720" cy="1271520"/>
          </a:xfrm>
        </p:grpSpPr>
        <p:sp>
          <p:nvSpPr>
            <p:cNvPr id="69" name=""/>
            <p:cNvSpPr/>
            <p:nvPr/>
          </p:nvSpPr>
          <p:spPr>
            <a:xfrm flipH="1">
              <a:off x="6760800" y="2286000"/>
              <a:ext cx="173160" cy="1271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34320" y="259092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486400" y="2286000"/>
            <a:ext cx="1447920" cy="1523880"/>
            <a:chOff x="5486400" y="2286000"/>
            <a:chExt cx="1447920" cy="1523880"/>
          </a:xfrm>
        </p:grpSpPr>
        <p:sp>
          <p:nvSpPr>
            <p:cNvPr id="72" name=""/>
            <p:cNvSpPr/>
            <p:nvPr/>
          </p:nvSpPr>
          <p:spPr>
            <a:xfrm flipH="1">
              <a:off x="5486400" y="2286000"/>
              <a:ext cx="144792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251460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086600" y="74674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47800" cy="396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0" y="4952880"/>
            <a:ext cx="1752480" cy="4413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6400800" y="1295280"/>
            <a:ext cx="1905120" cy="1221840"/>
            <a:chOff x="6400800" y="1295280"/>
            <a:chExt cx="1905120" cy="1221840"/>
          </a:xfrm>
        </p:grpSpPr>
        <p:grpSp>
          <p:nvGrpSpPr>
            <p:cNvPr id="78" name=""/>
            <p:cNvGrpSpPr/>
            <p:nvPr/>
          </p:nvGrpSpPr>
          <p:grpSpPr>
            <a:xfrm>
              <a:off x="6400800" y="1295280"/>
              <a:ext cx="1447920" cy="990720"/>
              <a:chOff x="6400800" y="1295280"/>
              <a:chExt cx="1447920" cy="99072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6934320" y="1523520"/>
                <a:ext cx="914400" cy="762480"/>
                <a:chOff x="6934320" y="1523520"/>
                <a:chExt cx="914400" cy="7624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93432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cc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934320" y="1523520"/>
                  <a:ext cx="0" cy="762120"/>
                </a:xfrm>
                <a:prstGeom prst="line">
                  <a:avLst/>
                </a:prstGeom>
                <a:ln w="38160">
                  <a:solidFill>
                    <a:srgbClr val="ffcc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6400800" y="1295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j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777240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638680" y="37339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990720"/>
            <a:ext cx="895824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-position Motion Synthesis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44520" y="1143000"/>
            <a:ext cx="4026960" cy="5409720"/>
            <a:chOff x="344520" y="1143000"/>
            <a:chExt cx="4026960" cy="5409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44520" y="1143000"/>
              <a:ext cx="4026960" cy="54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44520" y="5847120"/>
              <a:ext cx="109764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4520" y="1221480"/>
              <a:ext cx="548640" cy="12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2000" y="1143000"/>
            <a:ext cx="44197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2324160" cy="504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800600" y="2514600"/>
            <a:ext cx="3809880" cy="1467000"/>
            <a:chOff x="4800600" y="2514600"/>
            <a:chExt cx="3809880" cy="1467000"/>
          </a:xfrm>
        </p:grpSpPr>
        <p:grpSp>
          <p:nvGrpSpPr>
            <p:cNvPr id="94" name=""/>
            <p:cNvGrpSpPr/>
            <p:nvPr/>
          </p:nvGrpSpPr>
          <p:grpSpPr>
            <a:xfrm>
              <a:off x="4800600" y="2590920"/>
              <a:ext cx="3790800" cy="1390680"/>
              <a:chOff x="4800600" y="2590920"/>
              <a:chExt cx="3790800" cy="139068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2590920"/>
                <a:ext cx="3790800" cy="46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0600" y="3048120"/>
                <a:ext cx="3762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3429000"/>
                <a:ext cx="3257280" cy="55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"/>
            <p:cNvSpPr/>
            <p:nvPr/>
          </p:nvSpPr>
          <p:spPr>
            <a:xfrm>
              <a:off x="4800600" y="2514600"/>
              <a:ext cx="3809880" cy="1447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572000" y="4800600"/>
            <a:ext cx="4352760" cy="1449360"/>
            <a:chOff x="4572000" y="4800600"/>
            <a:chExt cx="4352760" cy="144936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4572000" y="4802040"/>
              <a:ext cx="4352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7"/>
            <a:srcRect l="0" t="0" r="1301" b="0"/>
            <a:stretch/>
          </p:blipFill>
          <p:spPr>
            <a:xfrm>
              <a:off x="4572000" y="5487840"/>
              <a:ext cx="43434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633920" y="4800600"/>
              <a:ext cx="4232160" cy="1352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181480" y="1371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ctor Loop Eq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1148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ubstitute Euler’s Equation and Separate Real 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) and Imaginary 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1337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ubstitute Complex Nu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1676520"/>
            <a:ext cx="7238880" cy="4876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7440" y="152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lution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rategy #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5791320"/>
            <a:ext cx="113328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52880" y="5791320"/>
            <a:ext cx="10670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371600" y="4267080"/>
            <a:ext cx="6781680" cy="1218960"/>
            <a:chOff x="1371600" y="4267080"/>
            <a:chExt cx="6781680" cy="1218960"/>
          </a:xfrm>
        </p:grpSpPr>
        <p:sp>
          <p:nvSpPr>
            <p:cNvPr id="111" name=""/>
            <p:cNvSpPr/>
            <p:nvPr/>
          </p:nvSpPr>
          <p:spPr>
            <a:xfrm>
              <a:off x="1371600" y="4267080"/>
              <a:ext cx="67816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447560" y="4368600"/>
              <a:ext cx="5333400" cy="1019160"/>
              <a:chOff x="1447560" y="4368600"/>
              <a:chExt cx="5333400" cy="1019160"/>
            </a:xfrm>
          </p:grpSpPr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7560" y="4419360"/>
                <a:ext cx="2514240" cy="96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440" y="4368600"/>
                <a:ext cx="2666520" cy="10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371600" y="1905120"/>
            <a:ext cx="67816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403280" y="3124080"/>
            <a:ext cx="6762600" cy="923760"/>
            <a:chOff x="1403280" y="3124080"/>
            <a:chExt cx="6762600" cy="92376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rcRect l="0" t="0" r="0" b="41108"/>
            <a:stretch/>
          </p:blipFill>
          <p:spPr>
            <a:xfrm>
              <a:off x="1403280" y="3124080"/>
              <a:ext cx="6762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60640" y="3784320"/>
              <a:ext cx="518796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858000" y="4521240"/>
            <a:ext cx="1181160" cy="609480"/>
            <a:chOff x="6858000" y="4521240"/>
            <a:chExt cx="1181160" cy="609480"/>
          </a:xfrm>
        </p:grpSpPr>
        <p:sp>
          <p:nvSpPr>
            <p:cNvPr id="120" name=""/>
            <p:cNvSpPr/>
            <p:nvPr/>
          </p:nvSpPr>
          <p:spPr>
            <a:xfrm>
              <a:off x="6858000" y="4521240"/>
              <a:ext cx="1181160" cy="609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6934320" y="4559040"/>
              <a:ext cx="1085760" cy="54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1143000" y="152280"/>
            <a:ext cx="4352760" cy="1449360"/>
            <a:chOff x="1143000" y="152280"/>
            <a:chExt cx="4352760" cy="1449360"/>
          </a:xfrm>
        </p:grpSpPr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1143000" y="153720"/>
              <a:ext cx="4352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rcRect l="0" t="0" r="1301" b="0"/>
            <a:stretch/>
          </p:blipFill>
          <p:spPr>
            <a:xfrm>
              <a:off x="1143000" y="839520"/>
              <a:ext cx="43434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04920" y="152280"/>
              <a:ext cx="4232160" cy="1352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00280" y="1295280"/>
            <a:ext cx="7543800" cy="51818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560" y="1405080"/>
            <a:ext cx="7238880" cy="4919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-Position Solution Strategy #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55600" y="1535040"/>
            <a:ext cx="6877080" cy="503280"/>
            <a:chOff x="1155600" y="1535040"/>
            <a:chExt cx="6877080" cy="5032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rcRect l="0" t="0" r="0" b="48715"/>
            <a:stretch/>
          </p:blipFill>
          <p:spPr>
            <a:xfrm>
              <a:off x="1155600" y="1535040"/>
              <a:ext cx="6877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280" y="1763640"/>
              <a:ext cx="235116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14680" y="2143080"/>
            <a:ext cx="5943600" cy="1523880"/>
            <a:chOff x="1714680" y="2143080"/>
            <a:chExt cx="5943600" cy="1523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3755880" y="2163600"/>
              <a:ext cx="387684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1790640" y="2143080"/>
              <a:ext cx="116208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1866960" y="2904840"/>
              <a:ext cx="110484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714680" y="2143080"/>
              <a:ext cx="594360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14680" y="3832200"/>
            <a:ext cx="5943600" cy="762120"/>
            <a:chOff x="1714680" y="3832200"/>
            <a:chExt cx="5943600" cy="76212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2933640" y="3908520"/>
              <a:ext cx="43722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714680" y="3832200"/>
              <a:ext cx="5943600" cy="762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19240" y="3984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Let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90720" y="4724280"/>
            <a:ext cx="7048440" cy="1447560"/>
            <a:chOff x="990720" y="4724280"/>
            <a:chExt cx="7048440" cy="144756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1066680" y="5181480"/>
              <a:ext cx="26384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4076640" y="4724280"/>
              <a:ext cx="3876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04840" y="4724280"/>
              <a:ext cx="6934320" cy="1447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48002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hen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47242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And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3047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ond Dy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92880" cy="5824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2438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 the process for the right-side dy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and Analytical Synthesis both have Free Cho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05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6:54:47Z</dcterms:created>
  <dc:creator>Default</dc:creator>
  <dc:description/>
  <dc:language>en-US</dc:language>
  <cp:lastModifiedBy>norton</cp:lastModifiedBy>
  <dcterms:modified xsi:type="dcterms:W3CDTF">2005-09-12T13:48:28Z</dcterms:modified>
  <cp:revision>23</cp:revision>
  <dc:subject/>
  <dc:title>Lecture 9</dc:title>
</cp:coreProperties>
</file>