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2.wmf" ContentType="image/x-wmf"/>
  <Override PartName="/ppt/media/image8.png" ContentType="image/png"/>
  <Override PartName="/ppt/media/image41.wmf" ContentType="image/x-wmf"/>
  <Override PartName="/ppt/media/image39.wmf" ContentType="image/x-wmf"/>
  <Override PartName="/ppt/media/image30.png" ContentType="image/png"/>
  <Override PartName="/ppt/media/image28.png" ContentType="image/png"/>
  <Override PartName="/ppt/media/image34.wmf" ContentType="image/x-wmf"/>
  <Override PartName="/ppt/media/image37.wmf" ContentType="image/x-wmf"/>
  <Override PartName="/ppt/media/image38.wmf" ContentType="image/x-wmf"/>
  <Override PartName="/ppt/media/image43.wmf" ContentType="image/x-wmf"/>
  <Override PartName="/ppt/media/image44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DCB9F-7C57-49B9-A042-2CCB37EA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063D-CF3B-4286-B7A1-0F987183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F225-1557-47B3-A05E-38987845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CB9A-B9F1-480C-89A0-6FE9CB48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6F52-6609-4BBA-8F69-EC84F785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5862-5FE2-4BE4-A594-0AD5CF46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B3A2-78D2-45EA-8725-F26BF0F2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7801-D16C-4C06-BDD3-68DA4F4E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80A4-CC40-4F46-AECF-B32E9991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9629-E978-4737-A3C1-F3BCB0D3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B7A2-DD89-4058-9B1D-917B2914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F0C3-30F5-4A60-A670-BF1B6AD9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D952-C715-44CF-8DF3-C716FD05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2289-403A-4E75-B311-DC8CCCC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0DDC-738D-417E-A995-E81C40C1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3E28-AC0D-4D2D-96BC-0E4673D4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B23E-11B5-42A0-854B-6E2434D0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72958-8A2F-4510-8F7E-36BB5EE4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19BF-2C78-4C6C-AFDC-0912766A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2D10-98E1-4245-A315-C23CBBDF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F82E-D58F-4A90-90CB-2624F6C3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C09F-C305-4080-B235-4CF5E44A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56E5C-0674-4EFE-A44D-98A9C1AD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A5B8-1F27-4D4F-8B66-205CFBF4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30CB-CEB1-4632-9E87-BEDD298640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7C99-43FE-4E41-9784-7F6E6D4743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39680"/>
            <a:ext cx="77724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am Design - Introduc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cture 1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00200" y="1828800"/>
            <a:ext cx="6019920" cy="426708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Follow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2590920" cy="393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26863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s of Roller Follow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56412" t="0" r="7688" b="20005"/>
          <a:stretch/>
        </p:blipFill>
        <p:spPr>
          <a:xfrm>
            <a:off x="5257800" y="2133720"/>
            <a:ext cx="1981080" cy="1887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71600" y="4495680"/>
            <a:ext cx="6324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st have roller bearings - 2 types - caged and full comp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rger diameters can have ball bear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in bearing versions are also avail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vailable with studs or holes for straddle m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2590920" cy="17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3120" y="2133720"/>
            <a:ext cx="8537760" cy="335268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9360" y="4952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ce-Closed Follower Joi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06840" y="2351160"/>
            <a:ext cx="4114800" cy="2390760"/>
            <a:chOff x="4506840" y="2351160"/>
            <a:chExt cx="4114800" cy="239076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4506840" y="2351160"/>
              <a:ext cx="411480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935840" y="2656080"/>
              <a:ext cx="6858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34960" y="2362320"/>
            <a:ext cx="3733920" cy="2409840"/>
            <a:chOff x="534960" y="2362320"/>
            <a:chExt cx="3733920" cy="240984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34960" y="2362320"/>
              <a:ext cx="373392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583080" y="4343400"/>
              <a:ext cx="6858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40280" y="2514600"/>
              <a:ext cx="228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640480" y="4952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cilll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m Closed Cam-Follower Joi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1440" y="1981080"/>
            <a:ext cx="860112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jugate C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08120" y="1752480"/>
            <a:ext cx="7727400" cy="4287960"/>
            <a:chOff x="708120" y="1752480"/>
            <a:chExt cx="7727400" cy="428796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711000" y="1752480"/>
              <a:ext cx="7724520" cy="42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08120" y="3796920"/>
              <a:ext cx="536400" cy="56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Cam Motion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-Dwell or Rise-Fall (RF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gle-Dwell or Rise-Fall-Dwell (RF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uble-Dwell (RDF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Rise-Multi-Dwell-Multi-F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Motion Programs Needed for E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 of Motion Constrai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tical Extreme Position (CE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d points of motion are crit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between endpoints is not crit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tical Path Motion (CP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ath between endpoints is crit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cements, velocities, etc. may be speci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dpoints usually also crit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Cam Timing Dia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6190" t="0" r="6807" b="19809"/>
          <a:stretch/>
        </p:blipFill>
        <p:spPr>
          <a:xfrm>
            <a:off x="1139760" y="2286000"/>
            <a:ext cx="71582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VAJ Dia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5480" t="4931" r="24619" b="2116"/>
          <a:stretch/>
        </p:blipFill>
        <p:spPr>
          <a:xfrm>
            <a:off x="2133720" y="1371600"/>
            <a:ext cx="4768560" cy="5334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90720" y="1752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571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ariabl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ime (se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the cam angle (deg or ra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the angle over which the event occurs (deg or ra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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the normalized cam angle (unitles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the camshaft angular velocity (rad/se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otal displacement (length uni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, 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follower displacement (length uni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V, v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follower velocity (length /sec), (length /ra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, 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follower accel. (length/sec^2), (length/rad^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, 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follower jerk (length/sec^3), (length/rad^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, 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follower ping (length/sec^4), (length/rad^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 Cam and Follow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am is a specially shaped piece of metal or other material arranged to move a follower in a controlled fash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follower is a link or linkage train that is constrained to move in rotation (oscillation) or in transl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am-follower train is a degenerate form of a pure fourbar linkage (oscillation) or fourbar slider-crank (transla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Naïve and Poor Cam Design -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stant Velocity is Unacceptab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15076" t="0" r="6848" b="8624"/>
          <a:stretch/>
        </p:blipFill>
        <p:spPr>
          <a:xfrm>
            <a:off x="2133720" y="1676520"/>
            <a:ext cx="4630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ant Acceleration (Parabolic Displacement)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 also Unacceptab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3518"/>
          <a:stretch/>
        </p:blipFill>
        <p:spPr>
          <a:xfrm>
            <a:off x="1295280" y="2666880"/>
            <a:ext cx="632484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mple Harmonic Motion (SHM)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Also Unacceptable – Infinite Jerk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133720"/>
            <a:ext cx="82296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32486" t="0" r="37243" b="0"/>
          <a:stretch/>
        </p:blipFill>
        <p:spPr>
          <a:xfrm>
            <a:off x="530280" y="2819520"/>
            <a:ext cx="2428920" cy="2743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124080" y="2209680"/>
            <a:ext cx="5519880" cy="42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Fundamental Law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f Cam Desig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274176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m-follower function must have continuous velocity and acceleration across the entire interval, thus making the jerk fin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acceptable Double-Dwell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re constant velo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ant acceleration (parabolic displacemen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bic displac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harmonic mo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oosing Cam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must obey the fundamental l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er peak acceleration is better: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= 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er peak velocity lower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 =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5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mv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oother jerk means lower vib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gnitude of jerk is poorly controlled in manufactu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Acceptable Double-Dwell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87600" y="2688840"/>
            <a:ext cx="613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ycloid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ified Trapezoid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ified S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480" y="1600200"/>
            <a:ext cx="815364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ycloidal Mo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5127" t="0" r="3850" b="2299"/>
          <a:stretch/>
        </p:blipFill>
        <p:spPr>
          <a:xfrm>
            <a:off x="3276720" y="1981080"/>
            <a:ext cx="5410080" cy="4191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728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Ca</a:t>
            </a: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 = 6.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629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Cv</a:t>
            </a: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 = 2.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8006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Cj</a:t>
            </a: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 = 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1933560" cy="752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143000" y="3276720"/>
            <a:ext cx="1781280" cy="714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219320" y="4038480"/>
            <a:ext cx="1666800" cy="628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219320" y="4952880"/>
            <a:ext cx="1676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386240" cy="6562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3962160" cy="2998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886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Modified Trapezoidal Accele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3124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dified Sine Acceleration</a:t>
            </a:r>
            <a:br>
              <a:rPr sz="36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5257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are Cams Good Fo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ms can be rightfully considered as a universally useful mechanism.  They have decided advantages over all other mechanisms where a stroke starts at a dwell and ends at a dwell, especially for intermittent motion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klutin, 195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9160" y="990720"/>
            <a:ext cx="8872560" cy="555444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he SCCA Family of Classic Double Dwell Function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8266" r="0" b="5309"/>
          <a:stretch/>
        </p:blipFill>
        <p:spPr>
          <a:xfrm>
            <a:off x="4724280" y="5270400"/>
            <a:ext cx="4091040" cy="1112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rcRect l="1818" t="0" r="0" b="0"/>
          <a:stretch/>
        </p:blipFill>
        <p:spPr>
          <a:xfrm>
            <a:off x="357120" y="4127400"/>
            <a:ext cx="4114800" cy="2239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rcRect l="1756" t="0" r="1277" b="0"/>
          <a:stretch/>
        </p:blipFill>
        <p:spPr>
          <a:xfrm>
            <a:off x="304920" y="1135080"/>
            <a:ext cx="4211640" cy="2827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800600" y="1135080"/>
            <a:ext cx="3962520" cy="238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5181480" y="3649680"/>
            <a:ext cx="32860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xtra Slid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extra charg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rel Cam - Track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rel Cam - Ribb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27934" t="1205" r="25498" b="21501"/>
          <a:stretch/>
        </p:blipFill>
        <p:spPr>
          <a:xfrm>
            <a:off x="1981080" y="1447920"/>
            <a:ext cx="495324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152280" y="1143000"/>
            <a:ext cx="8839440" cy="5348160"/>
            <a:chOff x="152280" y="1143000"/>
            <a:chExt cx="8839440" cy="5348160"/>
          </a:xfrm>
        </p:grpSpPr>
        <p:sp>
          <p:nvSpPr>
            <p:cNvPr id="213" name=""/>
            <p:cNvSpPr/>
            <p:nvPr/>
          </p:nvSpPr>
          <p:spPr>
            <a:xfrm>
              <a:off x="152280" y="1143000"/>
              <a:ext cx="8839440" cy="534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52280" y="1217160"/>
              <a:ext cx="6982200" cy="52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6540120" y="2183040"/>
              <a:ext cx="2451240" cy="21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304920" y="1522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Rotary Indexers Use Ribbed Barrel Ca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acceptable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-995" t="-5779" r="-995" b="7251"/>
          <a:stretch/>
        </p:blipFill>
        <p:spPr>
          <a:xfrm>
            <a:off x="609480" y="213372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2133720"/>
            <a:ext cx="81532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ant Acceleration Probl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3728" b="10849"/>
          <a:stretch/>
        </p:blipFill>
        <p:spPr>
          <a:xfrm>
            <a:off x="4267080" y="2362320"/>
            <a:ext cx="4267440" cy="2819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5158" t="0" r="0" b="13543"/>
          <a:stretch/>
        </p:blipFill>
        <p:spPr>
          <a:xfrm>
            <a:off x="457200" y="2666880"/>
            <a:ext cx="4203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762120"/>
            <a:ext cx="8763120" cy="579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Compare Mod Trap, Mod Sine, and Cycloidal Motion Program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5098"/>
          <a:stretch/>
        </p:blipFill>
        <p:spPr>
          <a:xfrm>
            <a:off x="304920" y="990720"/>
            <a:ext cx="443232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0" t="0" r="0" b="14651"/>
          <a:stretch/>
        </p:blipFill>
        <p:spPr>
          <a:xfrm>
            <a:off x="4495680" y="838080"/>
            <a:ext cx="4432320" cy="251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0" t="0" r="0" b="12857"/>
          <a:stretch/>
        </p:blipFill>
        <p:spPr>
          <a:xfrm>
            <a:off x="457200" y="3581280"/>
            <a:ext cx="4432320" cy="2667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0" t="0" r="0" b="11901"/>
          <a:stretch/>
        </p:blipFill>
        <p:spPr>
          <a:xfrm>
            <a:off x="4572000" y="3581280"/>
            <a:ext cx="4432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23960" y="1905120"/>
            <a:ext cx="7696080" cy="342900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ctors for Various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52560" y="2133720"/>
            <a:ext cx="721512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are Cams Used Fo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lve actuation in IC engi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on control in machin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ce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cise positi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i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4853" t="5916" r="10211" b="6782"/>
          <a:stretch/>
        </p:blipFill>
        <p:spPr>
          <a:xfrm>
            <a:off x="838080" y="1219320"/>
            <a:ext cx="2667240" cy="4495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90720" y="5867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head Val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867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head Camsha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Valve Tra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dustrial Cam Tra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4802040" cy="603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m-Follower Systems are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generate Fourbar Linkag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57240" y="1905120"/>
            <a:ext cx="5429520" cy="4257720"/>
            <a:chOff x="1857240" y="1905120"/>
            <a:chExt cx="5429520" cy="42577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857240" y="1905120"/>
              <a:ext cx="5429520" cy="42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862280" y="3505320"/>
              <a:ext cx="5000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C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dial or Pl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xial, Cylindrical, or Barr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ck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bb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ion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gmen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jug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e-dimensional or Camo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4605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48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tationa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tionary-axial-tr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adial or p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219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rrel or axial - tr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57913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adial or p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7240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adial tr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s of C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00:48:03Z</dcterms:created>
  <dc:creator>Default</dc:creator>
  <dc:description/>
  <dc:language>en-US</dc:language>
  <cp:lastModifiedBy>norton</cp:lastModifiedBy>
  <dcterms:modified xsi:type="dcterms:W3CDTF">2005-09-26T02:07:21Z</dcterms:modified>
  <cp:revision>9</cp:revision>
  <dc:subject/>
  <dc:title>PowerPoint Presentation</dc:title>
</cp:coreProperties>
</file>