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6D227-5537-439D-97BF-719F015D5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8D992-FB3C-4AEC-8AAD-6311145AD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4F7A2-F90A-4517-9E75-7762AB2BE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15D13-185D-487A-9689-29233DD39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C4C4B-20BF-404A-A103-8B8D7C105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FCCD4-0A53-4403-AED3-E5BAA2460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2E23B-9097-42E4-A0F7-061AAF2FC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F32C8-4026-4AE7-B215-A932C7945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5EFA9-FE15-4FD0-ABF0-180A7185A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DF8B9-9775-4070-BDED-4CD569674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05C6F-4830-450D-928D-61316F09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221D1-2C96-4940-83C3-E0AC479E9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CC5C7-C8E3-4DD4-B804-3ABB5DDF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942BB-594C-4A1F-9B58-9B11546F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F9897-3C68-4B15-9464-79B2E7247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28BB0-B4F9-45ED-9504-95184628D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81448-B53B-404E-B72E-5C5D68A27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9F304-AC7F-491E-9E65-204939DE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95D60-968D-4F6A-874A-510A7564A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0B364-C361-466F-8B86-255D2AB82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2D369-139F-4131-B840-75D4B3A4F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C4CCD-80E4-4AF1-987E-F5B9EEC2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40F19-6F91-4BEB-82E7-28BBA945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CF5DF-FEE9-4185-98E0-AC7DCB3F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16CBB-DCD2-4523-999C-D2CD0716ACD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CEBC-3452-427D-81C0-1D300B0B4FE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Documentation and Presentation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 3310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inematics of Mechanis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scribing a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ust use Figures – “Picture worth 1000 words”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(Confucius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igures must b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o scal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ell annotat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eatly draw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ulti-view, axonometric, exploded, or all thre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abeled with Figure Number and Titl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iscussed in the text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f figure is not discussed – you should not include i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e placed close to its discuss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text must describe the function of the desig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d refer to the relevant figure and its annot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sign Description Exampl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858000" cy="14065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2209680" y="2743200"/>
            <a:ext cx="499140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6320" y="380880"/>
            <a:ext cx="8915400" cy="608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12680" y="360360"/>
            <a:ext cx="8915400" cy="61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riting Styl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e these book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Elements of Style” by Strunk and Whit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uide to Writing as an Engineer” by Beer and McMurra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y advise you to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void first person, if possibl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se active voice rather than passive voice, if possibl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e concise and “to the point.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se short sentenc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se the spell checke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uch more (read the books!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Part II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Presentations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ject Present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ch team will have 16 minu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2 minutes for present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28520" indent="-20556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igure on 1.5 minutes per slide (about 9 - 10 slide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 minutes for ques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pare visual display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 PowerPoint (upload to myWPI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oose 1 or 2 spokespersons, or all may presen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actice, practice, practic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esentation Cont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itle Slid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ject Title, Group Name, Members Nam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finition of Ne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oal State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mportant Functional Specifica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scription of Final Desig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mponents, features, how it works., etc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monstration of prototyp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nufacturability, cost  (if applicable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clusion, Thanks, Ques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werPoint Format Ti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 a high contrast color sche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ark letters on light background for lighted room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ight letters on dark background for darkened room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 default (large) font siz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void overly busy backgroun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You want them to see your info, not the backgroun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 unnecessary animation or sounds (distracting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ke images legible from back of roo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se annotation on image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ont Sel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nt styl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rif font 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me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or Garamond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ore readable for body tex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Sans Serif font (Arial or </a:t>
            </a:r>
            <a:r>
              <a:rPr b="0" lang="en-US" sz="2400" spc="-1" strike="noStrike">
                <a:solidFill>
                  <a:srgbClr val="ffffff"/>
                </a:solidFill>
                <a:latin typeface="MS Reference Sans Serif"/>
              </a:rPr>
              <a:t>MS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Typically used for heading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nt siz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se the largest font that fi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on’t crowd the slide with too much inf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Keep lines short without wrapping if possibl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ngineers don’t write, do they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 IQP survey of WPI graduate engineers in industry showed that they spend, on average, 25% of their working time writing reports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y also must frequently give oral presentations to colleagues, managers, executives, and clien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most often expressed and commonly-heard complaint from employers of engineers in the USA is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"These engineering graduates are good technically, but they can’t communicate . . . They can't write a simple report!"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e don’t want that said of WPI graduates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(I have actually heard many complements about WPI graduates’ abilities to present and report their work.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alance the Visual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71625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enter titles, not bullet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itles should be center-aligned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ullets should always be left-aligned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raphic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hould center graphics if no text is with the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r place graphics to the left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51560" indent="-21024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ith explanatory text to the right to bring eye to the text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r place graphics to the right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51560" indent="-21024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ith explanatory text to the left to bring eye to the graphic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bove all make it aesthetic (beautiful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4720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apitaliz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240" y="1676520"/>
            <a:ext cx="655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VOID USING ALL CAP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uld Use Title Cap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apitalizes Important Word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62720" indent="-2124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More Formal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62720" indent="-2124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More Work to Do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uld use initial cap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apitalizes only first word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62720" indent="-2124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Less formal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62720" indent="-2124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Less work to do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Be consistent, whichever you choo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esentation Skil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ress professionally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ave neat appearance and groom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Keep hands out of pockets (put them on the lectern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o hats!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k at the audience, not at the scree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atch the computer screen to make your point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ut don’t read from the screen – paraphrase it instea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 the computer mouse to point at items on slid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r use a laser pointer (less good, as must turn away from them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peak clearly, slowly, and loudly - (breathe deeply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void “umms” and “ahhs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hearse, and know your subject thoroughl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736640"/>
            <a:ext cx="7924680" cy="29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You will never get a second chance to make a first impression!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Part I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Reports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port Writ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gineering reports are formal docum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many cases the repor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the “work product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mat and appearance is importa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ent is most important and should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 unbias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 accurate and hones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esent data to back any claims or conclus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bel any opinions as suc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gineers are professiona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Your work product must reflect tha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Design Report Contents</a:t>
            </a:r>
            <a:br>
              <a:rPr sz="4000"/>
            </a:br>
            <a:r>
              <a:rPr b="1" lang="en-US" sz="2000" spc="-1" strike="noStrike">
                <a:solidFill>
                  <a:srgbClr val="e5e5ff"/>
                </a:solidFill>
                <a:latin typeface="Garamond"/>
              </a:rPr>
              <a:t>Please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e5e5ff"/>
                </a:solidFill>
                <a:latin typeface="Garamond"/>
              </a:rPr>
              <a:t>read the “Project Report Specifications” document on myWPI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itle Pag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bstrac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able of Content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ntroductio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Establish and justify need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ackground Research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Product/patent search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Benchmarking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Summarize – add’l info in Appendix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Goal Statemen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erformance Specifications (complete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oncept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Description and evaluation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Annotated Figures described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Decision matrix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Description of Final Desig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How it work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Analysi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Manufacturing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Cost (if appropriate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onclusio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Final comments on Desig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Recommendation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Design improvement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omments on Project Experienc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ppendices (in any order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Research data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Rejected Concept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Calculation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Any material of interest but not crucial to the narrative in report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Note that there is no guarantee that a reader will look at the appendice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riting an Abstrac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abstract is written last, after the report is complet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ts purpose is to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tate the problem and the objective (goal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mmarize WHAT was done (also how, but not when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otivate the reader to read the entire documen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r alert the reader that subject is of no interest to him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ngth is 1/3 to 1 page maximum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tains no figures, and is a single paragraph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s definitely NOT a diary of your activiti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xample of an Abstrac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"/>
          <p:cNvSpPr/>
          <p:nvPr/>
        </p:nvSpPr>
        <p:spPr>
          <a:xfrm>
            <a:off x="8001000" y="15238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381880" y="15238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8001000" y="30481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001000" y="2133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001000" y="31240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81880" y="3124080"/>
            <a:ext cx="180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8001000" y="3657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01000" y="3200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617220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 – States problem (3 sent.)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 – States Goal (1 sent.)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 – Describes solution (4 sent.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6729480" cy="45511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8001000" y="38098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381880" y="3809880"/>
            <a:ext cx="0" cy="2057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8001000" y="58672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001000" y="4800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xample of an Abstrac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"/>
          <p:cNvSpPr/>
          <p:nvPr/>
        </p:nvSpPr>
        <p:spPr>
          <a:xfrm>
            <a:off x="8001000" y="21337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1880" y="213372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8001000" y="31240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001000" y="2362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001000" y="15238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381880" y="1523880"/>
            <a:ext cx="180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8001000" y="20574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001000" y="16002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6172200"/>
            <a:ext cx="861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 – States Goal  (1 sent.)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 – States Problem (2 sent.)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 – Describes solution (4 sent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001000" y="32004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381880" y="3200400"/>
            <a:ext cx="0" cy="2666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8001000" y="58672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001000" y="4191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153200" cy="44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xample of an Abstrac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rcRect l="0" t="8293" r="0" b="0"/>
          <a:stretch/>
        </p:blipFill>
        <p:spPr>
          <a:xfrm>
            <a:off x="457200" y="1752480"/>
            <a:ext cx="7858080" cy="33721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8458200" y="19810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839080" y="198108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8458200" y="29718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458200" y="2286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458200" y="31240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839080" y="3124080"/>
            <a:ext cx="0" cy="18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8458200" y="49528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458200" y="38862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55627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 – States problem and goal in 2 sentences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 – Describes solution in 3 senten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1T13:12:18Z</dcterms:created>
  <dc:creator>hkault</dc:creator>
  <dc:description/>
  <dc:language>en-US</dc:language>
  <cp:lastModifiedBy>norton</cp:lastModifiedBy>
  <dcterms:modified xsi:type="dcterms:W3CDTF">2005-09-19T00:48:20Z</dcterms:modified>
  <cp:revision>47</cp:revision>
  <dc:subject/>
  <dc:title>Oral Presentation</dc:title>
</cp:coreProperties>
</file>