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2D5-ADCF-4CE0-9ABB-F99A5BFE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2CA-26E8-4D16-8F21-2819BF71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6AA-D858-4EF1-BC5C-BB155938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27B-F4B1-4D4C-9412-35786CE7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5E3-5962-487D-8A1D-33238C13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695-B6C4-4841-89C2-6267FC0F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505-E832-4CD5-807F-1D7DC8D7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64F-9CA8-4240-8307-C554E8A3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B91-6A5C-4418-8F35-1FB713B0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C1C-F1BA-4612-AA7B-87BA46D4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8E6-19CF-4671-9F93-0087264B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6DC-CAA2-436B-A1EE-FAE958EF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0033-1AD3-45C1-BCEC-0B9F446245F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1F3A-EEC5-4362-9B3F-2870E2ED3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spto.gov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sig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 3310 - Lecture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it short and to the point – one sentence on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“Functional Visualizatio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the function desired – without reference to any particular means to that 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’t say: “Design a better lawnmower.”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her say: 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 a means to shorten gr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 Stat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152280"/>
            <a:ext cx="7696080" cy="4191120"/>
            <a:chOff x="762120" y="152280"/>
            <a:chExt cx="7696080" cy="4191120"/>
          </a:xfrm>
        </p:grpSpPr>
        <p:sp>
          <p:nvSpPr>
            <p:cNvPr id="77" name=""/>
            <p:cNvSpPr/>
            <p:nvPr/>
          </p:nvSpPr>
          <p:spPr>
            <a:xfrm>
              <a:off x="762120" y="152280"/>
              <a:ext cx="7696080" cy="4191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895400" y="228600"/>
              <a:ext cx="5486400" cy="4114800"/>
              <a:chOff x="1895400" y="228600"/>
              <a:chExt cx="5486400" cy="4114800"/>
            </a:xfrm>
          </p:grpSpPr>
          <p:sp>
            <p:nvSpPr>
              <p:cNvPr id="79" name=""/>
              <p:cNvSpPr/>
              <p:nvPr/>
            </p:nvSpPr>
            <p:spPr>
              <a:xfrm>
                <a:off x="1895400" y="228600"/>
                <a:ext cx="5486400" cy="4114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0" name="Oxen_black" descr=""/>
              <p:cNvPicPr/>
              <p:nvPr/>
            </p:nvPicPr>
            <p:blipFill>
              <a:blip r:embed="rId1"/>
              <a:stretch/>
            </p:blipFill>
            <p:spPr>
              <a:xfrm>
                <a:off x="2238480" y="457200"/>
                <a:ext cx="4800600" cy="337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571920" y="3886200"/>
                <a:ext cx="251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Grass Shorten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0D5-B4DF-4001-8C4E-E7BCC48D0D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F762B-D17D-4945-9069-88BA83FCD8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sig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9320" y="123480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a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th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the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velop functional (task) spec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tion and i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of bes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B5A-1891-4E9F-B91E-178D881794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EB983-23D5-4EA2-B18A-BC846D0CD2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al (Task) Specif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“Performance Specifications,” not “Design Specifica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specs state WHAT is to be accomplished. Design specs state HOW it is to be d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erformance spec: “Must be corrosion resistant in a salt spray test per ASTM 4023a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esign spec: Must be made of stainless ste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define the task in a way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n be accomplish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n be shown (proven) to have been accomplish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CC0-5D6E-4072-8898-7A3900DF6B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191B3-CA07-4D1A-A709-5757438F58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sig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123480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a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th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the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functional (task) spec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eation and i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of bes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D28-9034-4315-B330-3000EFABEC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0B39D-FDE9-48C2-B274-6A53A84273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reative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733920"/>
            <a:ext cx="2819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ub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2666880"/>
            <a:ext cx="7786800" cy="2584440"/>
            <a:chOff x="685800" y="2666880"/>
            <a:chExt cx="7786800" cy="2584440"/>
          </a:xfrm>
        </p:grpSpPr>
        <p:sp>
          <p:nvSpPr>
            <p:cNvPr id="92" name=""/>
            <p:cNvSpPr/>
            <p:nvPr/>
          </p:nvSpPr>
          <p:spPr>
            <a:xfrm>
              <a:off x="685800" y="2666880"/>
              <a:ext cx="281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rustra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3" name="Frustration_black" descr=""/>
            <p:cNvPicPr/>
            <p:nvPr/>
          </p:nvPicPr>
          <p:blipFill>
            <a:blip r:embed="rId1"/>
            <a:stretch/>
          </p:blipFill>
          <p:spPr>
            <a:xfrm>
              <a:off x="6477120" y="3048120"/>
              <a:ext cx="1995480" cy="220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685800" y="4191120"/>
            <a:ext cx="4254480" cy="1814400"/>
            <a:chOff x="685800" y="4191120"/>
            <a:chExt cx="4254480" cy="1814400"/>
          </a:xfrm>
        </p:grpSpPr>
        <p:sp>
          <p:nvSpPr>
            <p:cNvPr id="95" name=""/>
            <p:cNvSpPr/>
            <p:nvPr/>
          </p:nvSpPr>
          <p:spPr>
            <a:xfrm>
              <a:off x="685800" y="4952880"/>
              <a:ext cx="28195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ureka!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" name="Light_Bulb_black" descr=""/>
            <p:cNvPicPr/>
            <p:nvPr/>
          </p:nvPicPr>
          <p:blipFill>
            <a:blip r:embed="rId2"/>
            <a:stretch/>
          </p:blipFill>
          <p:spPr>
            <a:xfrm>
              <a:off x="3733920" y="4191120"/>
              <a:ext cx="1206360" cy="18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4572000" y="1143000"/>
            <a:ext cx="3657600" cy="2743200"/>
            <a:chOff x="4572000" y="1143000"/>
            <a:chExt cx="3657600" cy="2743200"/>
          </a:xfrm>
        </p:grpSpPr>
        <p:pic>
          <p:nvPicPr>
            <p:cNvPr id="98" name="Blank_Page_black" descr=""/>
            <p:cNvPicPr/>
            <p:nvPr/>
          </p:nvPicPr>
          <p:blipFill>
            <a:blip r:embed="rId3"/>
            <a:stretch/>
          </p:blipFill>
          <p:spPr>
            <a:xfrm>
              <a:off x="4572000" y="1143000"/>
              <a:ext cx="15890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400800" y="167652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lank paper syndr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A08-4E8A-489B-A605-2056287267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65577-C5CA-4900-8C5C-18C11B18E8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 Gen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just take the first idea that comes to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ant as many concepts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fer judgment on their quality until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 to aid in concept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raw analogies with other physical contex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ist synonyms for the verb in problem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rainsto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EB9-4F37-4216-9F6B-22E588CBC7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15C09-F562-4B66-B0B5-E3CCFD9AB1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sig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09320" y="123480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a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th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the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functional (task) spec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tion and i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of bes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1676520"/>
            <a:ext cx="1295640" cy="3809520"/>
            <a:chOff x="609480" y="1676520"/>
            <a:chExt cx="1295640" cy="3809520"/>
          </a:xfrm>
        </p:grpSpPr>
        <p:grpSp>
          <p:nvGrpSpPr>
            <p:cNvPr id="105" name=""/>
            <p:cNvGrpSpPr/>
            <p:nvPr/>
          </p:nvGrpSpPr>
          <p:grpSpPr>
            <a:xfrm>
              <a:off x="762120" y="4419720"/>
              <a:ext cx="1143000" cy="1066320"/>
              <a:chOff x="762120" y="4419720"/>
              <a:chExt cx="1143000" cy="1066320"/>
            </a:xfrm>
          </p:grpSpPr>
          <p:sp>
            <p:nvSpPr>
              <p:cNvPr id="106" name=""/>
              <p:cNvSpPr/>
              <p:nvPr/>
            </p:nvSpPr>
            <p:spPr>
              <a:xfrm>
                <a:off x="762120" y="4419720"/>
                <a:ext cx="1066320" cy="106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345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345117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2120" y="47242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Iterate!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85800" y="3048120"/>
              <a:ext cx="1143000" cy="1066320"/>
              <a:chOff x="685800" y="3048120"/>
              <a:chExt cx="1143000" cy="1066320"/>
            </a:xfrm>
          </p:grpSpPr>
          <p:sp>
            <p:nvSpPr>
              <p:cNvPr id="109" name=""/>
              <p:cNvSpPr/>
              <p:nvPr/>
            </p:nvSpPr>
            <p:spPr>
              <a:xfrm>
                <a:off x="685800" y="3048120"/>
                <a:ext cx="1066320" cy="106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345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345117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5800" y="33526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Iterate!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09480" y="1676520"/>
              <a:ext cx="1143000" cy="1066320"/>
              <a:chOff x="609480" y="1676520"/>
              <a:chExt cx="1143000" cy="1066320"/>
            </a:xfrm>
          </p:grpSpPr>
          <p:sp>
            <p:nvSpPr>
              <p:cNvPr id="112" name=""/>
              <p:cNvSpPr/>
              <p:nvPr/>
            </p:nvSpPr>
            <p:spPr>
              <a:xfrm>
                <a:off x="609480" y="1676520"/>
                <a:ext cx="1066320" cy="106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345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345117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9480" y="19810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Iterate!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2C8-4138-4314-B33B-994F368E82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51DC9-EB57-41B2-A1C6-621657792F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ing and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models of promising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Graphical (sketches, drawin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D solid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thematical models (simula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hysical models (proof of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 the models to determine fea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y don’t work, itera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9D2-5654-4F79-AB2E-B3C425F6E9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6D73C-CCA5-44AF-A356-0AA59DC8D1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sig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320" y="123480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a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th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the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functional (task) spec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tion and i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ection of bes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3ED-887E-4EB0-A594-B7520C0F39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CA68E-E72A-4CC8-AAAD-B9526ABF0B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tri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686560" cy="33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31A-1D3B-497B-B9E5-7981EBD688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9BC1A-A583-410F-8D6E-CBE85F72D6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Desig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. . to conceive and plan out in the mind, to devise for a specific function or end.” (Webs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. . . making something that has not existed before.” (Petrosk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. . . the process of applying various techniques and scientific principles for the purpose of defining a device, a process, or a system in sufficient detail to permit its realiz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3A6-F4E0-4B5A-AC61-E26EBB5913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7CA8A-9733-463E-8C81-5CA8C11714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sig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09320" y="123480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a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th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the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functional (task) spec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tion and i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of bes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tailed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CB0-4BA6-4DCC-BA1D-0D3916387D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B9D70-DB8B-4516-AB8B-5E017F1AD0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sig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09320" y="123480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a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th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the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functional (task) spec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tion and i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of bes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1523880"/>
            <a:ext cx="1295640" cy="3961440"/>
            <a:chOff x="609480" y="1523880"/>
            <a:chExt cx="1295640" cy="3961440"/>
          </a:xfrm>
        </p:grpSpPr>
        <p:grpSp>
          <p:nvGrpSpPr>
            <p:cNvPr id="125" name=""/>
            <p:cNvGrpSpPr/>
            <p:nvPr/>
          </p:nvGrpSpPr>
          <p:grpSpPr>
            <a:xfrm>
              <a:off x="762120" y="4376880"/>
              <a:ext cx="1143000" cy="1108440"/>
              <a:chOff x="762120" y="4376880"/>
              <a:chExt cx="1143000" cy="1108440"/>
            </a:xfrm>
          </p:grpSpPr>
          <p:sp>
            <p:nvSpPr>
              <p:cNvPr id="126" name=""/>
              <p:cNvSpPr/>
              <p:nvPr/>
            </p:nvSpPr>
            <p:spPr>
              <a:xfrm>
                <a:off x="762120" y="4376880"/>
                <a:ext cx="1066320" cy="110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345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345117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2120" y="46933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Iterate!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85800" y="2950200"/>
              <a:ext cx="1143000" cy="1108440"/>
              <a:chOff x="685800" y="2950200"/>
              <a:chExt cx="1143000" cy="1108440"/>
            </a:xfrm>
          </p:grpSpPr>
          <p:sp>
            <p:nvSpPr>
              <p:cNvPr id="129" name=""/>
              <p:cNvSpPr/>
              <p:nvPr/>
            </p:nvSpPr>
            <p:spPr>
              <a:xfrm>
                <a:off x="685800" y="2950200"/>
                <a:ext cx="1066320" cy="110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345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345117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800" y="326664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Iterate!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09480" y="1523880"/>
              <a:ext cx="1143000" cy="1108440"/>
              <a:chOff x="609480" y="1523880"/>
              <a:chExt cx="1143000" cy="1108440"/>
            </a:xfrm>
          </p:grpSpPr>
          <p:sp>
            <p:nvSpPr>
              <p:cNvPr id="132" name=""/>
              <p:cNvSpPr/>
              <p:nvPr/>
            </p:nvSpPr>
            <p:spPr>
              <a:xfrm>
                <a:off x="609480" y="1523880"/>
                <a:ext cx="1066320" cy="110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9345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9345117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9480" y="18403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Iterate!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742-5824-4BD9-9BBA-04712F743A3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3484C-F1FD-4FDA-8753-A6314D4E58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sig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09320" y="123480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a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th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the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functional (task) spec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tion and i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of bes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E90-99AC-4468-BC03-D0A4625C48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94640-73C7-4782-A099-29A9F28BB4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ject 1 Adv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Design Process – it work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advantage of incubation – start it n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tter you define the problem, the better will be the resul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jump to a premature sol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re concepts you generate, the b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ion is 1% inspiration and 99% perspiration.”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omas Edi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46E-8E90-4506-A9CC-E7E7E052AA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1401A-F119-4A56-9309-73EDB7180E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ject Discu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E3D-DAEB-4FCA-A7E5-5E068A05A74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471D6-A2CC-45A1-BDE7-31F1C38555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Is Also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valu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F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Eureka_black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1846440" cy="563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D5D-74C7-4B0A-84CE-87196E4C53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8DC63-B49B-4C13-B276-D7216B88DD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Makes a Good Design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lectual curio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fraid to take ch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ing to fail and try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 knowledge of engineering fundament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analysis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standing of the desig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32B-E644-4C1B-9842-DADB615BEC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F0C09-6FB0-4FC4-824B-775D5AAC22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sig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320" y="123480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a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th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the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functional (task) spec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tion and i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of bes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4419720"/>
            <a:ext cx="1143000" cy="1066320"/>
            <a:chOff x="762120" y="4419720"/>
            <a:chExt cx="1143000" cy="1066320"/>
          </a:xfrm>
        </p:grpSpPr>
        <p:sp>
          <p:nvSpPr>
            <p:cNvPr id="53" name=""/>
            <p:cNvSpPr/>
            <p:nvPr/>
          </p:nvSpPr>
          <p:spPr>
            <a:xfrm>
              <a:off x="762120" y="4419720"/>
              <a:ext cx="1066320" cy="106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9345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934511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120" y="4724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terate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85800" y="3048120"/>
            <a:ext cx="1143000" cy="1066320"/>
            <a:chOff x="685800" y="3048120"/>
            <a:chExt cx="1143000" cy="1066320"/>
          </a:xfrm>
        </p:grpSpPr>
        <p:sp>
          <p:nvSpPr>
            <p:cNvPr id="56" name=""/>
            <p:cNvSpPr/>
            <p:nvPr/>
          </p:nvSpPr>
          <p:spPr>
            <a:xfrm>
              <a:off x="685800" y="3048120"/>
              <a:ext cx="1066320" cy="106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9345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934511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35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terate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9480" y="1676520"/>
            <a:ext cx="1143000" cy="1066320"/>
            <a:chOff x="609480" y="1676520"/>
            <a:chExt cx="1143000" cy="1066320"/>
          </a:xfrm>
        </p:grpSpPr>
        <p:sp>
          <p:nvSpPr>
            <p:cNvPr id="59" name=""/>
            <p:cNvSpPr/>
            <p:nvPr/>
          </p:nvSpPr>
          <p:spPr>
            <a:xfrm>
              <a:off x="609480" y="1676520"/>
              <a:ext cx="1066320" cy="106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9345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934511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480" y="19810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terate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1AE-3756-4F80-9741-FD6C7C33E1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CA66A-F17F-430B-9A11-163490AEE4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ntification of N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5638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he world needs is: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 good 5-cent cig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on-fattening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n electric car with good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 better lawnm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Jr._Engineer_black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2240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lawn_mower" descr=""/>
          <p:cNvPicPr/>
          <p:nvPr/>
        </p:nvPicPr>
        <p:blipFill>
          <a:blip r:embed="rId2"/>
          <a:srcRect l="3569" t="4018" r="1785" b="3516"/>
          <a:stretch/>
        </p:blipFill>
        <p:spPr>
          <a:xfrm>
            <a:off x="3962520" y="4191120"/>
            <a:ext cx="40384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FA5-6E6A-4FBC-B7ED-E700535821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8C117-DFFA-4904-9302-8E5C1BD653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sig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123480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a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search th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the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functional (task) spec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tion and i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of bes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950-7E77-4550-95B7-64E90F8F32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6C5EC-8EB8-410D-BBA4-832279A8B6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reinvent the whe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2004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ources of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orld Wide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sers (interviews - market surveys - focus grou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atents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www.uspto.gov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ww.delphion.com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xperiments and measu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rade shows and manufacturer’s 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wheel.tiff_black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2338200" cy="2590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1752480"/>
            <a:ext cx="4343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-  identify similar devices on mar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-  what are their problem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-  what technologies apply to proble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382-CAB7-4916-95A3-D1E8865695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2C07D-AC6F-46D8-9854-BFF23DD8B7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Design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23480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a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the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te the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functional (task) spec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tion and i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of best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type and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241-F59E-4E74-B0BD-FDB6E5482A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A255A-ECA3-4086-B582-1F7DFD78E2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1:06:18Z</dcterms:created>
  <dc:creator>Default</dc:creator>
  <dc:description/>
  <dc:language>en-US</dc:language>
  <cp:lastModifiedBy>Default</cp:lastModifiedBy>
  <dcterms:modified xsi:type="dcterms:W3CDTF">2004-10-22T16:36:44Z</dcterms:modified>
  <cp:revision>15</cp:revision>
  <dc:subject/>
  <dc:title>A Design Process</dc:title>
</cp:coreProperties>
</file>