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A55-5F2F-4C39-ACE0-1B440BA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30D-4D8F-4656-9EC5-A530BE4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BAA-0267-40F5-9721-06887949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8B3-ABAB-4B06-8AB7-3CCAAE37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365-11F7-4DEE-B690-A43258D3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09D-E0B5-41E3-8AD9-1D543E52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8DE-2CEA-461C-9149-6F317539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84D-D1EE-4A5E-9DC9-6FBDCF2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CEE-D2F7-4093-B7C6-15DB9244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204-4C7E-4510-B12E-F63C609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06D-A919-48C4-B2F9-22A4D24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C05-E678-4FD0-AFC8-2EF7F8C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05B4-2258-4D20-92E1-BDC7D042183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C23D-C707-4795-8D4C-D2AE879F0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Model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20:50:33Z</dcterms:created>
  <dc:creator>Default</dc:creator>
  <dc:description/>
  <dc:language>en-US</dc:language>
  <cp:lastModifiedBy>Default</cp:lastModifiedBy>
  <dcterms:modified xsi:type="dcterms:W3CDTF">2004-09-10T01:51:44Z</dcterms:modified>
  <cp:revision>3</cp:revision>
  <dc:subject/>
  <dc:title>Working Model Introduction</dc:title>
</cp:coreProperties>
</file>