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605-7AFC-4C74-9ED6-89F4D965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24D-A910-44F4-AC2D-9FB067A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1A9-B572-4A39-A02A-1AFD0D13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EAC-FB6D-479F-AD48-299D9070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A51-57B1-46CA-A2B8-A5E28CB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339-158D-4B06-8383-85AB42F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39D-4342-447E-B32E-11F4AE8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C17-B1EA-4DA2-A228-F7C8BC3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43C-132D-4BA3-9858-9438AD3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3C9-1ACE-443A-A27C-57BB944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F05-D5A2-415D-A8D2-636602F0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45E-C9E1-4927-9FF0-BD25856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A898-67A8-4093-AEA1-28816DFF483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CCB-B6A0-4EC8-963E-981AB4CB7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Linkage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7360" y="982800"/>
            <a:ext cx="5441760" cy="526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ggle Positions Limit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4286" t="0" r="0" b="12575"/>
          <a:stretch/>
        </p:blipFill>
        <p:spPr>
          <a:xfrm>
            <a:off x="1981080" y="3100320"/>
            <a:ext cx="5105520" cy="2975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81080" y="1119240"/>
            <a:ext cx="50580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7D2-E693-4C46-B36F-2F747356B0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EEBCB-6E58-45CE-894B-4736C2AAE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057400"/>
            <a:ext cx="7937640" cy="327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mission Ang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2645"/>
          <a:stretch/>
        </p:blipFill>
        <p:spPr>
          <a:xfrm>
            <a:off x="838080" y="2209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347-7CE5-483C-A320-8DEE3853DB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CCE72-1FEF-43BE-9E32-D7F461CC21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270080" y="3473280"/>
            <a:ext cx="457200" cy="424080"/>
            <a:chOff x="1270080" y="3473280"/>
            <a:chExt cx="457200" cy="424080"/>
          </a:xfrm>
        </p:grpSpPr>
        <p:sp>
          <p:nvSpPr>
            <p:cNvPr id="70" name=""/>
            <p:cNvSpPr/>
            <p:nvPr/>
          </p:nvSpPr>
          <p:spPr>
            <a:xfrm>
              <a:off x="1270080" y="3473280"/>
              <a:ext cx="457200" cy="424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03640" y="3567240"/>
              <a:ext cx="215640" cy="199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05720" y="571644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105520" y="2897280"/>
            <a:ext cx="1981080" cy="3200400"/>
            <a:chOff x="5105520" y="2897280"/>
            <a:chExt cx="1981080" cy="3200400"/>
          </a:xfrm>
        </p:grpSpPr>
        <p:sp>
          <p:nvSpPr>
            <p:cNvPr id="74" name=""/>
            <p:cNvSpPr/>
            <p:nvPr/>
          </p:nvSpPr>
          <p:spPr>
            <a:xfrm>
              <a:off x="6781680" y="57931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254560" y="3044880"/>
              <a:ext cx="1603440" cy="27482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5520" y="28972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-Position Synthesis -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587680"/>
            <a:ext cx="6710400" cy="6710400"/>
          </a:xfrm>
          <a:prstGeom prst="ellipse">
            <a:avLst/>
          </a:prstGeom>
          <a:noFill/>
          <a:ln w="158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280" y="2592360"/>
            <a:ext cx="7772400" cy="1295280"/>
          </a:xfrm>
          <a:prstGeom prst="line">
            <a:avLst/>
          </a:prstGeom>
          <a:ln w="158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7080"/>
            <a:ext cx="2743200" cy="2743200"/>
          </a:xfrm>
          <a:prstGeom prst="ellipse">
            <a:avLst/>
          </a:prstGeom>
          <a:noFill/>
          <a:ln w="158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77960"/>
            <a:ext cx="2743200" cy="2743200"/>
          </a:xfrm>
          <a:prstGeom prst="ellipse">
            <a:avLst/>
          </a:prstGeom>
          <a:noFill/>
          <a:ln w="158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171840" y="1677600"/>
            <a:ext cx="762120" cy="4267080"/>
          </a:xfrm>
          <a:prstGeom prst="line">
            <a:avLst/>
          </a:prstGeom>
          <a:ln w="15840">
            <a:solidFill>
              <a:srgbClr val="00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934320" y="2516040"/>
            <a:ext cx="685800" cy="3276360"/>
            <a:chOff x="6934320" y="2516040"/>
            <a:chExt cx="685800" cy="3276360"/>
          </a:xfrm>
        </p:grpSpPr>
        <p:sp>
          <p:nvSpPr>
            <p:cNvPr id="84" name=""/>
            <p:cNvSpPr/>
            <p:nvPr/>
          </p:nvSpPr>
          <p:spPr>
            <a:xfrm flipV="1">
              <a:off x="6934320" y="2667960"/>
              <a:ext cx="533160" cy="3124440"/>
            </a:xfrm>
            <a:prstGeom prst="line">
              <a:avLst/>
            </a:prstGeom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5200" y="2516040"/>
              <a:ext cx="304920" cy="304920"/>
            </a:xfrm>
            <a:prstGeom prst="ellipse">
              <a:avLst/>
            </a:prstGeom>
            <a:noFill/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80880" y="2516040"/>
            <a:ext cx="2286000" cy="2286000"/>
          </a:xfrm>
          <a:prstGeom prst="ellipse">
            <a:avLst/>
          </a:prstGeom>
          <a:noFill/>
          <a:ln cap="rnd" w="158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278160"/>
            <a:ext cx="152280" cy="762120"/>
          </a:xfrm>
          <a:prstGeom prst="line">
            <a:avLst/>
          </a:prstGeom>
          <a:ln w="158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0000" y="3506760"/>
            <a:ext cx="1406520" cy="487080"/>
            <a:chOff x="270000" y="3506760"/>
            <a:chExt cx="1406520" cy="487080"/>
          </a:xfrm>
        </p:grpSpPr>
        <p:sp>
          <p:nvSpPr>
            <p:cNvPr id="89" name=""/>
            <p:cNvSpPr/>
            <p:nvPr/>
          </p:nvSpPr>
          <p:spPr>
            <a:xfrm>
              <a:off x="1371600" y="35067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70000" y="3686040"/>
              <a:ext cx="1101600" cy="307800"/>
              <a:chOff x="270000" y="3686040"/>
              <a:chExt cx="1101600" cy="30780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401760" y="3686040"/>
                <a:ext cx="969840" cy="17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00" y="37303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57200" y="2309760"/>
            <a:ext cx="4664160" cy="1424160"/>
          </a:xfrm>
          <a:custGeom>
            <a:avLst/>
            <a:gdLst/>
            <a:ahLst/>
            <a:rect l="l" t="t" r="r" b="b"/>
            <a:pathLst>
              <a:path w="2938" h="897">
                <a:moveTo>
                  <a:pt x="0" y="897"/>
                </a:moveTo>
                <a:cubicBezTo>
                  <a:pt x="331" y="529"/>
                  <a:pt x="662" y="162"/>
                  <a:pt x="1152" y="81"/>
                </a:cubicBezTo>
                <a:cubicBezTo>
                  <a:pt x="1642" y="0"/>
                  <a:pt x="2666" y="363"/>
                  <a:pt x="2938" y="411"/>
                </a:cubicBezTo>
              </a:path>
            </a:pathLst>
          </a:custGeom>
          <a:noFill/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86000" y="3336120"/>
            <a:ext cx="1439280" cy="473760"/>
            <a:chOff x="1386000" y="3336120"/>
            <a:chExt cx="1439280" cy="473760"/>
          </a:xfrm>
        </p:grpSpPr>
        <p:sp>
          <p:nvSpPr>
            <p:cNvPr id="95" name=""/>
            <p:cNvSpPr/>
            <p:nvPr/>
          </p:nvSpPr>
          <p:spPr>
            <a:xfrm rot="10800000">
              <a:off x="1386000" y="3513240"/>
              <a:ext cx="311760" cy="2966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698480" y="3336120"/>
              <a:ext cx="1126800" cy="299160"/>
              <a:chOff x="1698480" y="3336120"/>
              <a:chExt cx="1126800" cy="29916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1698480" y="3464280"/>
                <a:ext cx="992520" cy="171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0800000">
                <a:off x="2555640" y="3336120"/>
                <a:ext cx="269640" cy="2563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2743200" y="1905120"/>
            <a:ext cx="4664160" cy="1423800"/>
          </a:xfrm>
          <a:custGeom>
            <a:avLst/>
            <a:gdLst/>
            <a:ahLst/>
            <a:rect l="l" t="t" r="r" b="b"/>
            <a:pathLst>
              <a:path w="2938" h="897">
                <a:moveTo>
                  <a:pt x="0" y="897"/>
                </a:moveTo>
                <a:cubicBezTo>
                  <a:pt x="331" y="529"/>
                  <a:pt x="662" y="162"/>
                  <a:pt x="1152" y="81"/>
                </a:cubicBezTo>
                <a:cubicBezTo>
                  <a:pt x="1642" y="0"/>
                  <a:pt x="2666" y="363"/>
                  <a:pt x="2938" y="411"/>
                </a:cubicBezTo>
              </a:path>
            </a:pathLst>
          </a:custGeom>
          <a:noFill/>
          <a:ln w="2556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297080"/>
            <a:ext cx="2743200" cy="274320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1677960"/>
            <a:ext cx="2743200" cy="274320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1560" y="1905120"/>
            <a:ext cx="2286000" cy="2286000"/>
          </a:xfrm>
          <a:prstGeom prst="ellipse">
            <a:avLst/>
          </a:prstGeom>
          <a:noFill/>
          <a:ln cap="rnd" w="158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1560" y="1905120"/>
            <a:ext cx="2286000" cy="2286000"/>
          </a:xfrm>
          <a:prstGeom prst="ellipse">
            <a:avLst/>
          </a:prstGeom>
          <a:noFill/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59320"/>
            <a:ext cx="221004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42400" y="3117960"/>
            <a:ext cx="2541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4C1-F444-487F-9B82-CFB8CC5551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B2915-EEBF-4A72-8A16-C8668EE49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4760" y="2266920"/>
            <a:ext cx="2286000" cy="2286000"/>
          </a:xfrm>
          <a:prstGeom prst="ellipse">
            <a:avLst/>
          </a:prstGeom>
          <a:noFill/>
          <a:ln w="158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76600" y="2338560"/>
            <a:ext cx="6710400" cy="6710040"/>
          </a:xfrm>
          <a:prstGeom prst="ellipse">
            <a:avLst/>
          </a:prstGeom>
          <a:noFill/>
          <a:ln w="158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76600" y="3341520"/>
            <a:ext cx="1827360" cy="351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7760" y="3436920"/>
            <a:ext cx="5433840" cy="2276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4912800">
            <a:off x="1972080" y="89280"/>
            <a:ext cx="1617840" cy="526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761600">
            <a:off x="5821200" y="2276640"/>
            <a:ext cx="533520" cy="38844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3884400"/>
              <a:gd name="textAreaBottom" fmla="*/ 3858480 h 3884400"/>
            </a:gdLst>
            <a:ahLst/>
            <a:rect l="textAreaLeft" t="textAreaTop" r="textAreaRight" b="textAreaBottom"/>
            <a:pathLst>
              <a:path w="21600" h="157172">
                <a:moveTo>
                  <a:pt x="3600" y="0"/>
                </a:moveTo>
                <a:arcTo wR="3600" hR="3600" stAng="16200000" swAng="-5400000"/>
                <a:lnTo>
                  <a:pt x="0" y="153572"/>
                </a:lnTo>
                <a:arcTo wR="3600" hR="3600" stAng="10800000" swAng="-5400000"/>
                <a:lnTo>
                  <a:pt x="18000" y="157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007200">
            <a:off x="166680" y="3282840"/>
            <a:ext cx="1636560" cy="482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2680" y="318780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240" y="546732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99040" y="2647800"/>
            <a:ext cx="1981080" cy="3200400"/>
            <a:chOff x="5099040" y="2647800"/>
            <a:chExt cx="1981080" cy="3200400"/>
          </a:xfrm>
        </p:grpSpPr>
        <p:sp>
          <p:nvSpPr>
            <p:cNvPr id="116" name=""/>
            <p:cNvSpPr/>
            <p:nvPr/>
          </p:nvSpPr>
          <p:spPr>
            <a:xfrm>
              <a:off x="6775200" y="554364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248080" y="2795400"/>
              <a:ext cx="1603440" cy="27482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99040" y="2647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3520" y="36036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-Position Synthesis - 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27840" y="2266920"/>
            <a:ext cx="685800" cy="3276360"/>
            <a:chOff x="6927840" y="2266920"/>
            <a:chExt cx="685800" cy="3276360"/>
          </a:xfrm>
        </p:grpSpPr>
        <p:sp>
          <p:nvSpPr>
            <p:cNvPr id="121" name=""/>
            <p:cNvSpPr/>
            <p:nvPr/>
          </p:nvSpPr>
          <p:spPr>
            <a:xfrm flipV="1">
              <a:off x="6927840" y="2418840"/>
              <a:ext cx="533160" cy="3124440"/>
            </a:xfrm>
            <a:prstGeom prst="line">
              <a:avLst/>
            </a:prstGeom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8720" y="2266920"/>
              <a:ext cx="304920" cy="304920"/>
            </a:xfrm>
            <a:prstGeom prst="ellipse">
              <a:avLst/>
            </a:prstGeom>
            <a:noFill/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3520" y="3257640"/>
            <a:ext cx="1406520" cy="487080"/>
            <a:chOff x="263520" y="3257640"/>
            <a:chExt cx="1406520" cy="487080"/>
          </a:xfrm>
        </p:grpSpPr>
        <p:sp>
          <p:nvSpPr>
            <p:cNvPr id="124" name=""/>
            <p:cNvSpPr/>
            <p:nvPr/>
          </p:nvSpPr>
          <p:spPr>
            <a:xfrm>
              <a:off x="1365120" y="3257640"/>
              <a:ext cx="304920" cy="3045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63520" y="3436920"/>
              <a:ext cx="1101600" cy="307800"/>
              <a:chOff x="263520" y="3436920"/>
              <a:chExt cx="1101600" cy="30780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395280" y="3436920"/>
                <a:ext cx="969840" cy="17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3520" y="348120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1379880" y="3087000"/>
            <a:ext cx="1439640" cy="473760"/>
            <a:chOff x="1379880" y="3087000"/>
            <a:chExt cx="1439640" cy="473760"/>
          </a:xfrm>
        </p:grpSpPr>
        <p:sp>
          <p:nvSpPr>
            <p:cNvPr id="129" name=""/>
            <p:cNvSpPr/>
            <p:nvPr/>
          </p:nvSpPr>
          <p:spPr>
            <a:xfrm rot="10800000">
              <a:off x="1379880" y="3264120"/>
              <a:ext cx="312120" cy="2966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692720" y="3087000"/>
              <a:ext cx="1126800" cy="299160"/>
              <a:chOff x="1692720" y="3087000"/>
              <a:chExt cx="1126800" cy="299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1692720" y="3215160"/>
                <a:ext cx="992520" cy="171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2549880" y="3087000"/>
                <a:ext cx="269640" cy="2563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2736720" y="1655640"/>
            <a:ext cx="4664160" cy="1424160"/>
          </a:xfrm>
          <a:custGeom>
            <a:avLst/>
            <a:gdLst/>
            <a:ahLst/>
            <a:rect l="l" t="t" r="r" b="b"/>
            <a:pathLst>
              <a:path w="2938" h="897">
                <a:moveTo>
                  <a:pt x="0" y="897"/>
                </a:moveTo>
                <a:cubicBezTo>
                  <a:pt x="331" y="529"/>
                  <a:pt x="662" y="162"/>
                  <a:pt x="1152" y="81"/>
                </a:cubicBezTo>
                <a:cubicBezTo>
                  <a:pt x="1642" y="0"/>
                  <a:pt x="2666" y="363"/>
                  <a:pt x="2938" y="411"/>
                </a:cubicBezTo>
              </a:path>
            </a:pathLst>
          </a:custGeom>
          <a:noFill/>
          <a:ln w="2556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0840" y="1914480"/>
            <a:ext cx="1225440" cy="1851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4760" y="4819680"/>
            <a:ext cx="3181320" cy="1295280"/>
            <a:chOff x="374760" y="4819680"/>
            <a:chExt cx="3181320" cy="1295280"/>
          </a:xfrm>
        </p:grpSpPr>
        <p:sp>
          <p:nvSpPr>
            <p:cNvPr id="136" name=""/>
            <p:cNvSpPr/>
            <p:nvPr/>
          </p:nvSpPr>
          <p:spPr>
            <a:xfrm>
              <a:off x="374760" y="4819680"/>
              <a:ext cx="3181320" cy="12952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760" y="4819680"/>
              <a:ext cx="31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eck: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Grashof Condition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Transmission Ang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ECF-BDF4-4E42-80BA-5C0F16F363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A0EC-001F-486A-9E21-AA2BB434B6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-Position Synthesi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6200" y="2151000"/>
            <a:ext cx="2121120" cy="303120"/>
          </a:xfrm>
          <a:prstGeom prst="line">
            <a:avLst/>
          </a:prstGeom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14760" y="2433600"/>
            <a:ext cx="1071720" cy="1204920"/>
          </a:xfrm>
          <a:prstGeom prst="line">
            <a:avLst/>
          </a:prstGeom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093000" y="2221200"/>
            <a:ext cx="1080720" cy="1278360"/>
          </a:xfrm>
          <a:prstGeom prst="line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749040" y="1582560"/>
            <a:ext cx="1406520" cy="4073760"/>
            <a:chOff x="3749040" y="1582560"/>
            <a:chExt cx="1406520" cy="4073760"/>
          </a:xfrm>
        </p:grpSpPr>
        <p:sp>
          <p:nvSpPr>
            <p:cNvPr id="143" name=""/>
            <p:cNvSpPr/>
            <p:nvPr/>
          </p:nvSpPr>
          <p:spPr>
            <a:xfrm flipV="1">
              <a:off x="3749040" y="1582560"/>
              <a:ext cx="1346040" cy="4073760"/>
            </a:xfrm>
            <a:prstGeom prst="line">
              <a:avLst/>
            </a:prstGeom>
            <a:ln w="25560">
              <a:solidFill>
                <a:srgbClr val="ff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7172000">
              <a:off x="4984920" y="19317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736720" y="2896920"/>
            <a:ext cx="2529000" cy="2251080"/>
            <a:chOff x="2736720" y="2896920"/>
            <a:chExt cx="2529000" cy="2251080"/>
          </a:xfrm>
        </p:grpSpPr>
        <p:sp>
          <p:nvSpPr>
            <p:cNvPr id="146" name=""/>
            <p:cNvSpPr/>
            <p:nvPr/>
          </p:nvSpPr>
          <p:spPr>
            <a:xfrm flipV="1">
              <a:off x="2736720" y="2896920"/>
              <a:ext cx="2529000" cy="2251080"/>
            </a:xfrm>
            <a:prstGeom prst="line">
              <a:avLst/>
            </a:prstGeom>
            <a:ln w="2556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104600">
              <a:off x="5008680" y="311760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08160" y="2084400"/>
            <a:ext cx="620640" cy="3292560"/>
            <a:chOff x="3008160" y="2084400"/>
            <a:chExt cx="620640" cy="3292560"/>
          </a:xfrm>
        </p:grpSpPr>
        <p:sp>
          <p:nvSpPr>
            <p:cNvPr id="149" name=""/>
            <p:cNvSpPr/>
            <p:nvPr/>
          </p:nvSpPr>
          <p:spPr>
            <a:xfrm flipV="1">
              <a:off x="3008160" y="2084400"/>
              <a:ext cx="476280" cy="3292560"/>
            </a:xfrm>
            <a:prstGeom prst="line">
              <a:avLst/>
            </a:prstGeom>
            <a:ln w="2556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38200">
              <a:off x="3465000" y="232884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94240" y="2616480"/>
            <a:ext cx="3287520" cy="2638440"/>
            <a:chOff x="3594240" y="2616480"/>
            <a:chExt cx="3287520" cy="2638440"/>
          </a:xfrm>
        </p:grpSpPr>
        <p:sp>
          <p:nvSpPr>
            <p:cNvPr id="152" name=""/>
            <p:cNvSpPr/>
            <p:nvPr/>
          </p:nvSpPr>
          <p:spPr>
            <a:xfrm flipV="1">
              <a:off x="3594240" y="2616480"/>
              <a:ext cx="3287520" cy="2638440"/>
            </a:xfrm>
            <a:prstGeom prst="line">
              <a:avLst/>
            </a:prstGeom>
            <a:ln w="25560">
              <a:solidFill>
                <a:srgbClr val="ff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197600">
              <a:off x="6553440" y="2855160"/>
              <a:ext cx="1526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866960" y="1068480"/>
            <a:ext cx="2270160" cy="1232280"/>
            <a:chOff x="1866960" y="1068480"/>
            <a:chExt cx="2270160" cy="1232280"/>
          </a:xfrm>
        </p:grpSpPr>
        <p:grpSp>
          <p:nvGrpSpPr>
            <p:cNvPr id="155" name=""/>
            <p:cNvGrpSpPr/>
            <p:nvPr/>
          </p:nvGrpSpPr>
          <p:grpSpPr>
            <a:xfrm>
              <a:off x="2284560" y="1347120"/>
              <a:ext cx="1772640" cy="953640"/>
              <a:chOff x="2284560" y="1347120"/>
              <a:chExt cx="1772640" cy="95364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2442600" y="1555200"/>
                <a:ext cx="1331640" cy="587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815800">
                <a:off x="2310840" y="201096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815800">
                <a:off x="3767760" y="1373040"/>
                <a:ext cx="26316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866960" y="184644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57520" y="106848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flipV="1">
            <a:off x="3874680" y="1518120"/>
            <a:ext cx="2225880" cy="720000"/>
          </a:xfrm>
          <a:prstGeom prst="line">
            <a:avLst/>
          </a:prstGeom>
          <a:ln cap="rnd" w="255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87720" y="1758960"/>
            <a:ext cx="2313000" cy="828360"/>
            <a:chOff x="3987720" y="1758960"/>
            <a:chExt cx="2313000" cy="828360"/>
          </a:xfrm>
        </p:grpSpPr>
        <p:grpSp>
          <p:nvGrpSpPr>
            <p:cNvPr id="163" name=""/>
            <p:cNvGrpSpPr/>
            <p:nvPr/>
          </p:nvGrpSpPr>
          <p:grpSpPr>
            <a:xfrm>
              <a:off x="4372560" y="2095560"/>
              <a:ext cx="1851120" cy="491760"/>
              <a:chOff x="4372560" y="2095560"/>
              <a:chExt cx="1851120" cy="4917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4510440" y="2247480"/>
                <a:ext cx="1441440" cy="201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5600">
                <a:off x="4378320" y="231804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65600">
                <a:off x="5954040" y="2101680"/>
                <a:ext cx="26316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987720" y="202392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21480" y="175896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36000" y="3364200"/>
            <a:ext cx="2430000" cy="714960"/>
            <a:chOff x="5436000" y="3364200"/>
            <a:chExt cx="2430000" cy="714960"/>
          </a:xfrm>
        </p:grpSpPr>
        <p:grpSp>
          <p:nvGrpSpPr>
            <p:cNvPr id="170" name=""/>
            <p:cNvGrpSpPr/>
            <p:nvPr/>
          </p:nvGrpSpPr>
          <p:grpSpPr>
            <a:xfrm>
              <a:off x="5436000" y="3364200"/>
              <a:ext cx="1874160" cy="421200"/>
              <a:chOff x="5436000" y="3364200"/>
              <a:chExt cx="1874160" cy="42120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5580360" y="3515400"/>
                <a:ext cx="1450440" cy="125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347400">
                <a:off x="5448600" y="3509640"/>
                <a:ext cx="26388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47400">
                <a:off x="7034040" y="337680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470560" y="377208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6760" y="354816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7240" y="2259000"/>
            <a:ext cx="832320" cy="2805120"/>
            <a:chOff x="2487240" y="2259000"/>
            <a:chExt cx="832320" cy="2805120"/>
          </a:xfrm>
        </p:grpSpPr>
        <p:sp>
          <p:nvSpPr>
            <p:cNvPr id="177" name=""/>
            <p:cNvSpPr/>
            <p:nvPr/>
          </p:nvSpPr>
          <p:spPr>
            <a:xfrm>
              <a:off x="2862360" y="4606920"/>
              <a:ext cx="45720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4702320"/>
              <a:ext cx="24120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487240" y="2259000"/>
              <a:ext cx="576360" cy="2441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5360" y="1636560"/>
            <a:ext cx="457200" cy="3535560"/>
            <a:chOff x="3735360" y="1636560"/>
            <a:chExt cx="457200" cy="3535560"/>
          </a:xfrm>
        </p:grpSpPr>
        <p:sp>
          <p:nvSpPr>
            <p:cNvPr id="181" name=""/>
            <p:cNvSpPr/>
            <p:nvPr/>
          </p:nvSpPr>
          <p:spPr>
            <a:xfrm>
              <a:off x="3735360" y="4714920"/>
              <a:ext cx="45720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3360" y="4832280"/>
              <a:ext cx="24120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895560" y="1636560"/>
              <a:ext cx="46080" cy="3183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187-BDA2-47E4-B293-EEF5E7D5EF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8E0FA-5345-4281-85C4-B06126B325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2662200"/>
            <a:ext cx="5502240" cy="55022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4120" y="2100240"/>
            <a:ext cx="7186680" cy="71866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5360" y="530856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2360" y="520056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2120" y="4028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ree-Position Synthesi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43360" y="5425920"/>
            <a:ext cx="241200" cy="241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295960"/>
            <a:ext cx="241200" cy="241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84560" y="1940760"/>
            <a:ext cx="1773000" cy="954360"/>
            <a:chOff x="2284560" y="1940760"/>
            <a:chExt cx="1773000" cy="954360"/>
          </a:xfrm>
        </p:grpSpPr>
        <p:sp>
          <p:nvSpPr>
            <p:cNvPr id="192" name=""/>
            <p:cNvSpPr/>
            <p:nvPr/>
          </p:nvSpPr>
          <p:spPr>
            <a:xfrm flipH="1">
              <a:off x="2442600" y="2149200"/>
              <a:ext cx="1331640" cy="5875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815800">
              <a:off x="2310840" y="2604960"/>
              <a:ext cx="263520" cy="263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815800">
              <a:off x="3767760" y="1966680"/>
              <a:ext cx="263160" cy="263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392200" y="277164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7520" y="166212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72560" y="2689200"/>
            <a:ext cx="1851120" cy="491760"/>
            <a:chOff x="4372560" y="2689200"/>
            <a:chExt cx="1851120" cy="491760"/>
          </a:xfrm>
        </p:grpSpPr>
        <p:sp>
          <p:nvSpPr>
            <p:cNvPr id="198" name=""/>
            <p:cNvSpPr/>
            <p:nvPr/>
          </p:nvSpPr>
          <p:spPr>
            <a:xfrm flipH="1">
              <a:off x="4510440" y="2841120"/>
              <a:ext cx="1441440" cy="2019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5600">
              <a:off x="4378320" y="2911680"/>
              <a:ext cx="263520" cy="263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5600">
              <a:off x="5954040" y="2695320"/>
              <a:ext cx="263160" cy="263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137120" y="259236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1480" y="235260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436000" y="3957840"/>
            <a:ext cx="1874160" cy="421920"/>
            <a:chOff x="5436000" y="3957840"/>
            <a:chExt cx="1874160" cy="421920"/>
          </a:xfrm>
        </p:grpSpPr>
        <p:sp>
          <p:nvSpPr>
            <p:cNvPr id="204" name=""/>
            <p:cNvSpPr/>
            <p:nvPr/>
          </p:nvSpPr>
          <p:spPr>
            <a:xfrm flipH="1">
              <a:off x="5580360" y="4109400"/>
              <a:ext cx="1450440" cy="126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347400">
              <a:off x="5448600" y="4103640"/>
              <a:ext cx="263880" cy="263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347400">
              <a:off x="7034040" y="3970440"/>
              <a:ext cx="263520" cy="263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551560" y="38368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6760" y="414180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487240" y="2852640"/>
            <a:ext cx="576360" cy="244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95560" y="2230200"/>
            <a:ext cx="46080" cy="31827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070520" y="2918880"/>
            <a:ext cx="1931760" cy="253008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102560" y="4188240"/>
            <a:ext cx="2905920" cy="1299600"/>
          </a:xfrm>
          <a:prstGeom prst="line">
            <a:avLst/>
          </a:prstGeom>
          <a:ln w="25560">
            <a:solidFill>
              <a:srgbClr val="00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75920" y="3158280"/>
            <a:ext cx="1291320" cy="2151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99680" y="4289400"/>
            <a:ext cx="2262240" cy="108432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5537160"/>
            <a:ext cx="3065400" cy="191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76320" y="3174840"/>
            <a:ext cx="1905120" cy="4505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ABE-3188-4F8B-8D1F-F90ACE9DFF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A9379-F203-4B98-9AB6-4902643FB0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9000" y="268596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2000" y="1519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e-Position Synthesi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br>
              <a:rPr sz="4400"/>
            </a:b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Adding a  Driver Dya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43280" y="1670040"/>
            <a:ext cx="5581440" cy="4103640"/>
            <a:chOff x="3743280" y="1670040"/>
            <a:chExt cx="5581440" cy="4103640"/>
          </a:xfrm>
        </p:grpSpPr>
        <p:sp>
          <p:nvSpPr>
            <p:cNvPr id="220" name=""/>
            <p:cNvSpPr/>
            <p:nvPr/>
          </p:nvSpPr>
          <p:spPr>
            <a:xfrm>
              <a:off x="5194080" y="5316480"/>
              <a:ext cx="45720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21080" y="5208480"/>
              <a:ext cx="457200" cy="45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02080" y="5433840"/>
              <a:ext cx="24120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0520" y="5303880"/>
              <a:ext cx="241200" cy="24120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743280" y="1948680"/>
              <a:ext cx="1772640" cy="953640"/>
              <a:chOff x="3743280" y="1948680"/>
              <a:chExt cx="1772640" cy="95364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3901320" y="2156760"/>
                <a:ext cx="1331640" cy="587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815800">
                <a:off x="3769560" y="261252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815800">
                <a:off x="5226480" y="1974600"/>
                <a:ext cx="26316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850920" y="277956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240" y="1670040"/>
              <a:ext cx="57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831280" y="2697120"/>
              <a:ext cx="1851120" cy="491760"/>
              <a:chOff x="5831280" y="2697120"/>
              <a:chExt cx="1851120" cy="49176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5969160" y="2849040"/>
                <a:ext cx="1441440" cy="201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65600">
                <a:off x="5837040" y="291960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5600">
                <a:off x="7412760" y="2703240"/>
                <a:ext cx="26316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595840" y="260028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80200" y="236052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894720" y="3965760"/>
              <a:ext cx="1874160" cy="421200"/>
              <a:chOff x="6894720" y="3965760"/>
              <a:chExt cx="1874160" cy="42120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7039080" y="4116960"/>
                <a:ext cx="1450440" cy="125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347400">
                <a:off x="6907320" y="4111200"/>
                <a:ext cx="26388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347400">
                <a:off x="8492760" y="3978360"/>
                <a:ext cx="263520" cy="26316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010280" y="384480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745480" y="414972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945960" y="2860560"/>
              <a:ext cx="576360" cy="2441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354280" y="2238120"/>
              <a:ext cx="46080" cy="3183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28880" y="2926440"/>
              <a:ext cx="1931400" cy="2530080"/>
            </a:xfrm>
            <a:prstGeom prst="line">
              <a:avLst/>
            </a:prstGeom>
            <a:ln w="255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561280" y="4195800"/>
              <a:ext cx="2905920" cy="1299600"/>
            </a:xfrm>
            <a:prstGeom prst="line">
              <a:avLst/>
            </a:prstGeom>
            <a:ln w="25560">
              <a:solidFill>
                <a:srgbClr val="00ffff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34640" y="3165840"/>
              <a:ext cx="1291680" cy="21510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658400" y="4296600"/>
              <a:ext cx="2262240" cy="1084680"/>
            </a:xfrm>
            <a:prstGeom prst="line">
              <a:avLst/>
            </a:prstGeom>
            <a:ln w="25560">
              <a:solidFill>
                <a:srgbClr val="ff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394080" y="4305240"/>
            <a:ext cx="2257560" cy="2257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20840" y="2498400"/>
            <a:ext cx="5294160" cy="2514600"/>
          </a:xfrm>
          <a:prstGeom prst="line">
            <a:avLst/>
          </a:prstGeom>
          <a:ln cap="rnd" w="255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5800" y="4218120"/>
            <a:ext cx="212760" cy="2127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57960" y="4835520"/>
            <a:ext cx="212760" cy="2127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6600" y="2224080"/>
            <a:ext cx="1406520" cy="14065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6800" y="2360520"/>
            <a:ext cx="3403080" cy="214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4520" y="4381560"/>
            <a:ext cx="212760" cy="2127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316160" y="2352240"/>
            <a:ext cx="439560" cy="58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03480" y="2816280"/>
            <a:ext cx="212400" cy="2127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43040" y="2254320"/>
            <a:ext cx="212760" cy="2127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ABA-C1EE-4386-9F19-E840059688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A3A50-1D92-4EA6-9526-189698CDC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Three-Position Mechan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52520" y="2019240"/>
            <a:ext cx="643896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56E-419E-49EE-83BB-39B34FA565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08B8B-6134-4E3A-9102-9D48A85B01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Fixed Piv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 method allowed fixed pivots to “come out in the wash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, we have limits on possible locations of fixed piv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3-7 and 3-8 show a graphical method to choose the fixed pivots and synthesize a suitable 3-position link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97F-0A65-414F-AC63-EC9401B8B1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2B1E-0908-4179-95FD-B01F691F51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583080" y="2587680"/>
            <a:ext cx="6710400" cy="6710400"/>
          </a:xfrm>
          <a:prstGeom prst="ellipse">
            <a:avLst/>
          </a:prstGeom>
          <a:noFill/>
          <a:ln w="158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91000"/>
            <a:ext cx="2432160" cy="3286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7120" y="3675240"/>
            <a:ext cx="5434200" cy="2276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89160" y="343692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5716440"/>
            <a:ext cx="457200" cy="45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105520" y="2897280"/>
            <a:ext cx="1981080" cy="3200400"/>
            <a:chOff x="5105520" y="2897280"/>
            <a:chExt cx="1981080" cy="3200400"/>
          </a:xfrm>
        </p:grpSpPr>
        <p:sp>
          <p:nvSpPr>
            <p:cNvPr id="268" name=""/>
            <p:cNvSpPr/>
            <p:nvPr/>
          </p:nvSpPr>
          <p:spPr>
            <a:xfrm>
              <a:off x="6781680" y="5793120"/>
              <a:ext cx="304920" cy="304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254560" y="3044880"/>
              <a:ext cx="1603440" cy="27482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28972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-Quick-Return Fourb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934320" y="2516040"/>
            <a:ext cx="685800" cy="3276360"/>
            <a:chOff x="6934320" y="2516040"/>
            <a:chExt cx="685800" cy="3276360"/>
          </a:xfrm>
        </p:grpSpPr>
        <p:sp>
          <p:nvSpPr>
            <p:cNvPr id="273" name=""/>
            <p:cNvSpPr/>
            <p:nvPr/>
          </p:nvSpPr>
          <p:spPr>
            <a:xfrm flipV="1">
              <a:off x="6934320" y="2667960"/>
              <a:ext cx="533160" cy="3124440"/>
            </a:xfrm>
            <a:prstGeom prst="line">
              <a:avLst/>
            </a:prstGeom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2516040"/>
              <a:ext cx="304920" cy="304920"/>
            </a:xfrm>
            <a:prstGeom prst="ellipse">
              <a:avLst/>
            </a:prstGeom>
            <a:noFill/>
            <a:ln w="158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80880" y="2516040"/>
            <a:ext cx="2286000" cy="2286000"/>
          </a:xfrm>
          <a:prstGeom prst="ellipse">
            <a:avLst/>
          </a:prstGeom>
          <a:noFill/>
          <a:ln w="1584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70000" y="3506760"/>
            <a:ext cx="1406520" cy="487080"/>
            <a:chOff x="270000" y="3506760"/>
            <a:chExt cx="1406520" cy="487080"/>
          </a:xfrm>
        </p:grpSpPr>
        <p:sp>
          <p:nvSpPr>
            <p:cNvPr id="277" name=""/>
            <p:cNvSpPr/>
            <p:nvPr/>
          </p:nvSpPr>
          <p:spPr>
            <a:xfrm>
              <a:off x="1371600" y="35067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70000" y="3686040"/>
              <a:ext cx="1101600" cy="307800"/>
              <a:chOff x="270000" y="3686040"/>
              <a:chExt cx="1101600" cy="307800"/>
            </a:xfrm>
          </p:grpSpPr>
          <p:sp>
            <p:nvSpPr>
              <p:cNvPr id="279" name=""/>
              <p:cNvSpPr/>
              <p:nvPr/>
            </p:nvSpPr>
            <p:spPr>
              <a:xfrm flipH="1">
                <a:off x="401760" y="3686040"/>
                <a:ext cx="969840" cy="17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0000" y="37303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457200" y="2309760"/>
            <a:ext cx="4664160" cy="1424160"/>
          </a:xfrm>
          <a:custGeom>
            <a:avLst/>
            <a:gdLst/>
            <a:ahLst/>
            <a:rect l="l" t="t" r="r" b="b"/>
            <a:pathLst>
              <a:path w="2938" h="897">
                <a:moveTo>
                  <a:pt x="0" y="897"/>
                </a:moveTo>
                <a:cubicBezTo>
                  <a:pt x="331" y="529"/>
                  <a:pt x="662" y="162"/>
                  <a:pt x="1152" y="81"/>
                </a:cubicBezTo>
                <a:cubicBezTo>
                  <a:pt x="1642" y="0"/>
                  <a:pt x="2666" y="363"/>
                  <a:pt x="2938" y="411"/>
                </a:cubicBezTo>
              </a:path>
            </a:pathLst>
          </a:custGeom>
          <a:noFill/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86000" y="3336120"/>
            <a:ext cx="1439280" cy="473760"/>
            <a:chOff x="1386000" y="3336120"/>
            <a:chExt cx="1439280" cy="473760"/>
          </a:xfrm>
        </p:grpSpPr>
        <p:sp>
          <p:nvSpPr>
            <p:cNvPr id="283" name=""/>
            <p:cNvSpPr/>
            <p:nvPr/>
          </p:nvSpPr>
          <p:spPr>
            <a:xfrm rot="10800000">
              <a:off x="1386000" y="3513240"/>
              <a:ext cx="311760" cy="29664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698480" y="3336120"/>
              <a:ext cx="1126800" cy="299160"/>
              <a:chOff x="1698480" y="3336120"/>
              <a:chExt cx="1126800" cy="29916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1698480" y="3464280"/>
                <a:ext cx="992520" cy="171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2555640" y="3336120"/>
                <a:ext cx="269640" cy="2563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2743200" y="1905120"/>
            <a:ext cx="4664160" cy="1423800"/>
          </a:xfrm>
          <a:custGeom>
            <a:avLst/>
            <a:gdLst/>
            <a:ahLst/>
            <a:rect l="l" t="t" r="r" b="b"/>
            <a:pathLst>
              <a:path w="2938" h="897">
                <a:moveTo>
                  <a:pt x="0" y="897"/>
                </a:moveTo>
                <a:cubicBezTo>
                  <a:pt x="331" y="529"/>
                  <a:pt x="662" y="162"/>
                  <a:pt x="1152" y="81"/>
                </a:cubicBezTo>
                <a:cubicBezTo>
                  <a:pt x="1642" y="0"/>
                  <a:pt x="2666" y="363"/>
                  <a:pt x="2938" y="411"/>
                </a:cubicBezTo>
              </a:path>
            </a:pathLst>
          </a:custGeom>
          <a:noFill/>
          <a:ln w="2556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53280" y="2684520"/>
            <a:ext cx="990720" cy="1887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5C5-092B-41A9-85F2-EF6E9C882C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B2F6F-4266-4C86-B155-064AD8384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ting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ng something 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analyze anything until it has been synthesized into ex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0C6-17D3-4B35-9301-E202AC2251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20457-72D8-4373-A638-8C94311A78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-Return Fourbar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162080" y="1093680"/>
            <a:ext cx="6989760" cy="5040360"/>
            <a:chOff x="1162080" y="1093680"/>
            <a:chExt cx="6989760" cy="5040360"/>
          </a:xfrm>
        </p:grpSpPr>
        <p:sp>
          <p:nvSpPr>
            <p:cNvPr id="291" name=""/>
            <p:cNvSpPr/>
            <p:nvPr/>
          </p:nvSpPr>
          <p:spPr>
            <a:xfrm>
              <a:off x="1162080" y="1093680"/>
              <a:ext cx="6989760" cy="504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01760" y="1231920"/>
              <a:ext cx="6672240" cy="70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"/>
            <a:srcRect l="3127" t="-14444" r="-452" b="0"/>
            <a:stretch/>
          </p:blipFill>
          <p:spPr>
            <a:xfrm>
              <a:off x="1289160" y="1231920"/>
              <a:ext cx="6716520" cy="475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"/>
            <p:cNvGrpSpPr/>
            <p:nvPr/>
          </p:nvGrpSpPr>
          <p:grpSpPr>
            <a:xfrm>
              <a:off x="4513320" y="1390680"/>
              <a:ext cx="3200040" cy="1096560"/>
              <a:chOff x="4513320" y="1390680"/>
              <a:chExt cx="3200040" cy="1096560"/>
            </a:xfrm>
          </p:grpSpPr>
          <p:pic>
            <p:nvPicPr>
              <p:cNvPr id="295" name="" descr=""/>
              <p:cNvPicPr/>
              <p:nvPr/>
            </p:nvPicPr>
            <p:blipFill>
              <a:blip r:embed="rId2"/>
              <a:srcRect l="19670" t="0" r="22954" b="20006"/>
              <a:stretch/>
            </p:blipFill>
            <p:spPr>
              <a:xfrm>
                <a:off x="4513320" y="1390680"/>
                <a:ext cx="3200040" cy="109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4524480" y="1917720"/>
                <a:ext cx="2743200" cy="18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959360" y="1390680"/>
              <a:ext cx="2308320" cy="1096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13-17BF-41E6-997E-1996241FCB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67619-DDB0-4A78-A4D2-BF7A82C056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-Return Sixb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95280" y="1371600"/>
            <a:ext cx="6858000" cy="4572000"/>
            <a:chOff x="1295280" y="1371600"/>
            <a:chExt cx="6858000" cy="4572000"/>
          </a:xfrm>
        </p:grpSpPr>
        <p:sp>
          <p:nvSpPr>
            <p:cNvPr id="300" name=""/>
            <p:cNvSpPr/>
            <p:nvPr/>
          </p:nvSpPr>
          <p:spPr>
            <a:xfrm>
              <a:off x="1295280" y="1371600"/>
              <a:ext cx="685800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6553080" cy="42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540-B530-4746-902A-066D911559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70522-1ED1-48C5-9CEE-4B8DFAED30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ank-Shaper Quick Re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866960" y="1752480"/>
            <a:ext cx="5410080" cy="4084560"/>
            <a:chOff x="1866960" y="1752480"/>
            <a:chExt cx="5410080" cy="4084560"/>
          </a:xfrm>
        </p:grpSpPr>
        <p:sp>
          <p:nvSpPr>
            <p:cNvPr id="304" name=""/>
            <p:cNvSpPr/>
            <p:nvPr/>
          </p:nvSpPr>
          <p:spPr>
            <a:xfrm>
              <a:off x="1866960" y="1752480"/>
              <a:ext cx="5410080" cy="408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2019240" y="1904760"/>
              <a:ext cx="5133960" cy="37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066680" y="1657440"/>
            <a:ext cx="6762960" cy="41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F9A-E937-47EB-AF74-AEE3B0BB91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5ACBD-46BC-4E6D-8E07-8B70D3DA13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200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thesis in Kinematic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ype of device do I need for the tas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kage?, Cam?, Gears?, Air cylinders?,  Other?  A Combin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ntitative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when a mathematical technique exists to directly create a solution. (Only for certain classes of proble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ative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when no mathematical technique ex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requires “design by successive analysi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ume a possible 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lyze it to determine sui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se solution based on insights gained in the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AAB-7A59-4B56-907D-FEE7E97BDB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818F6-7B2C-44A5-BF6E-FA14836365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kage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motion is a defined mathematical function of the input motion, e.g.,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motion is a defined path along a set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motion is a set of positions of a line defined a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, y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essive lo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C01-3DD0-4B2E-911E-D87E6CD28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8FCE4-1AFF-412F-A3EF-76D53C56A5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 Gener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2100240"/>
            <a:ext cx="5410080" cy="265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1924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tch Yoke Mechanism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s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C8B-5E25-4724-AF66-8C36382C93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4320B-AD94-4AB7-A9F3-55D1E7A016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 Gener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9240" y="5105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Advance 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57760" y="1714680"/>
            <a:ext cx="1428480" cy="31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75E-6DB8-430E-BDEE-3B955C5C47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F7053-5794-4860-8CAE-469EF3BB20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on Genera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Positions of a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3600" y="1676520"/>
            <a:ext cx="427680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15F-985E-4C25-A464-2C301987AB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918AF-2960-4322-936B-DBA202DBBE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mensional Syn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s the proper link lengths of a mechanism to perform the required tas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ble to all three modalities: path, motion, or function synthe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done either graphically or analytic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ethod can be used to check the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275-FC70-4D6B-9365-4E3E507A65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AE5DC-ACE5-4590-A04E-470394524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ting Cond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gree of freedom (number of inputs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shof condition (rotation required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mission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toggle po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either desirable or undesi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BBE-DB82-48C4-9A75-20595AC221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5EB45-9DAA-47AA-A598-DA1122BEA8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8:50:03Z</dcterms:created>
  <dc:creator>Default</dc:creator>
  <dc:description/>
  <dc:language>en-US</dc:language>
  <cp:lastModifiedBy>norton</cp:lastModifiedBy>
  <dcterms:modified xsi:type="dcterms:W3CDTF">2005-08-29T13:42:57Z</dcterms:modified>
  <cp:revision>38</cp:revision>
  <dc:subject/>
  <dc:title>Lecture 3</dc:title>
</cp:coreProperties>
</file>