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57C6-C302-494F-8513-98C245FA9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B76B-6208-4A41-80FE-453736579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58BC-48C2-421C-B3AC-2BA1C6721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498C-AA2E-49D7-B243-75B8A9D23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51A8-2A41-4E0B-A4E4-384ECAD04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0ECA-7627-4CC6-A6FC-843FB3CF8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10C2-F8F5-4626-873F-16554E744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0D30-E95A-4CAD-8A84-D9DEDFBFA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8F4F-3C7A-4559-AC7A-CBC65977C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D3D7-1392-46E1-A0E7-C855B4E39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05A2-DC7F-4BF8-8407-739E4FA94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2695-8543-4E2D-B988-D4DFED310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658CA-9E73-4690-AE4A-B46E692B3DF3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D9482-9B7F-4320-BD9E-604366D81B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9.png"/><Relationship Id="rId6" Type="http://schemas.openxmlformats.org/officeDocument/2006/relationships/image" Target="../media/image12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raphical Velocity Analys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cture 1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ure Rot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828800"/>
            <a:ext cx="838224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4867200" cy="39621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010280" y="2819520"/>
            <a:ext cx="1057320" cy="761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5410080" y="2819520"/>
            <a:ext cx="1038240" cy="71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4724280" y="3657600"/>
            <a:ext cx="3915000" cy="828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5257800" y="1981080"/>
            <a:ext cx="1647720" cy="628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2D58-53EF-4A23-A35B-C22ECC56739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6BDFF2-154B-4510-B9D3-DC447552508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elocity Differe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14400" y="1295280"/>
            <a:ext cx="7315200" cy="4724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1447920"/>
            <a:ext cx="7010640" cy="3581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4228920" cy="3162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638680" y="3352680"/>
            <a:ext cx="2266920" cy="10191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rcRect l="0" t="0" r="0" b="60005"/>
          <a:stretch/>
        </p:blipFill>
        <p:spPr>
          <a:xfrm>
            <a:off x="5715000" y="1752480"/>
            <a:ext cx="2038320" cy="5335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rcRect l="0" t="0" r="0" b="47584"/>
          <a:stretch/>
        </p:blipFill>
        <p:spPr>
          <a:xfrm>
            <a:off x="1843200" y="5257800"/>
            <a:ext cx="5457600" cy="304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rcRect l="0" t="51445" r="0" b="0"/>
          <a:stretch/>
        </p:blipFill>
        <p:spPr>
          <a:xfrm>
            <a:off x="5715000" y="2209680"/>
            <a:ext cx="2038320" cy="64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A402-384A-4798-BB2F-B8E6E352EE2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F6AD26-BA44-40E9-BB9B-773B1EFC88A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lative Veloci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14400" y="1447920"/>
            <a:ext cx="7315200" cy="4495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143000" y="5105520"/>
            <a:ext cx="5457960" cy="5810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219320" y="1676520"/>
            <a:ext cx="6705360" cy="31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371600" y="1828800"/>
            <a:ext cx="4105440" cy="28764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715000" y="3048120"/>
            <a:ext cx="2038320" cy="1581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715000" y="2133720"/>
            <a:ext cx="2124000" cy="5619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rcRect l="0" t="48141" r="0" b="0"/>
          <a:stretch/>
        </p:blipFill>
        <p:spPr>
          <a:xfrm>
            <a:off x="1128600" y="5384880"/>
            <a:ext cx="5457960" cy="3016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rcRect l="10765" t="13590" r="4001" b="18654"/>
          <a:stretch/>
        </p:blipFill>
        <p:spPr>
          <a:xfrm>
            <a:off x="6705720" y="5410080"/>
            <a:ext cx="1371600" cy="289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7"/>
          <a:srcRect l="11217" t="63813" r="6536" b="12395"/>
          <a:stretch/>
        </p:blipFill>
        <p:spPr>
          <a:xfrm>
            <a:off x="6705720" y="5105520"/>
            <a:ext cx="1371600" cy="260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7F9D-688F-4E0F-AE0C-DB99F34F995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7D49CD-6818-4A37-AAAF-F435D828434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raphical Solution – Step 1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2057400"/>
            <a:ext cx="8686800" cy="3373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782960" y="2214720"/>
            <a:ext cx="3880080" cy="3047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96720" y="2225520"/>
            <a:ext cx="4122720" cy="3057840"/>
          </a:xfrm>
          <a:prstGeom prst="rect">
            <a:avLst/>
          </a:prstGeom>
          <a:ln w="0">
            <a:noFill/>
          </a:ln>
        </p:spPr>
      </p:pic>
      <p:grpSp>
        <p:nvGrpSpPr>
          <p:cNvPr id="72" name=""/>
          <p:cNvGrpSpPr/>
          <p:nvPr/>
        </p:nvGrpSpPr>
        <p:grpSpPr>
          <a:xfrm>
            <a:off x="5792760" y="2282760"/>
            <a:ext cx="1285560" cy="2882880"/>
            <a:chOff x="5792760" y="2282760"/>
            <a:chExt cx="1285560" cy="2882880"/>
          </a:xfrm>
        </p:grpSpPr>
        <p:sp>
          <p:nvSpPr>
            <p:cNvPr id="73" name=""/>
            <p:cNvSpPr/>
            <p:nvPr/>
          </p:nvSpPr>
          <p:spPr>
            <a:xfrm flipH="1" flipV="1">
              <a:off x="5843520" y="2609640"/>
              <a:ext cx="905040" cy="23986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792760" y="22827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783120" y="4797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876920" y="3581280"/>
            <a:ext cx="3733560" cy="673200"/>
            <a:chOff x="4876920" y="3581280"/>
            <a:chExt cx="3733560" cy="673200"/>
          </a:xfrm>
        </p:grpSpPr>
        <p:sp>
          <p:nvSpPr>
            <p:cNvPr id="77" name=""/>
            <p:cNvSpPr/>
            <p:nvPr/>
          </p:nvSpPr>
          <p:spPr>
            <a:xfrm>
              <a:off x="5181480" y="3884760"/>
              <a:ext cx="3025800" cy="27432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876920" y="358128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305920" y="388620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6138720" y="3381480"/>
            <a:ext cx="1704960" cy="747360"/>
            <a:chOff x="6138720" y="3381480"/>
            <a:chExt cx="1704960" cy="747360"/>
          </a:xfrm>
        </p:grpSpPr>
        <p:sp>
          <p:nvSpPr>
            <p:cNvPr id="81" name=""/>
            <p:cNvSpPr/>
            <p:nvPr/>
          </p:nvSpPr>
          <p:spPr>
            <a:xfrm>
              <a:off x="6138720" y="3381480"/>
              <a:ext cx="233640" cy="6094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 flipV="1">
              <a:off x="6377040" y="3995280"/>
              <a:ext cx="1466640" cy="1335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6136920" y="3321000"/>
            <a:ext cx="1716120" cy="803160"/>
            <a:chOff x="6136920" y="3321000"/>
            <a:chExt cx="1716120" cy="803160"/>
          </a:xfrm>
        </p:grpSpPr>
        <p:sp>
          <p:nvSpPr>
            <p:cNvPr id="84" name=""/>
            <p:cNvSpPr/>
            <p:nvPr/>
          </p:nvSpPr>
          <p:spPr>
            <a:xfrm flipH="1" flipV="1">
              <a:off x="6136920" y="3370320"/>
              <a:ext cx="1716120" cy="7538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657840" y="332100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V</a:t>
              </a:r>
              <a:r>
                <a:rPr b="0" i="1" lang="en-US" sz="1800" spc="-1" strike="noStrike" baseline="-25000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5638680" y="3429000"/>
            <a:ext cx="1600200" cy="1091520"/>
            <a:chOff x="5638680" y="3429000"/>
            <a:chExt cx="1600200" cy="1091520"/>
          </a:xfrm>
        </p:grpSpPr>
        <p:sp>
          <p:nvSpPr>
            <p:cNvPr id="87" name=""/>
            <p:cNvSpPr/>
            <p:nvPr/>
          </p:nvSpPr>
          <p:spPr>
            <a:xfrm>
              <a:off x="6781680" y="411480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V</a:t>
              </a:r>
              <a:r>
                <a:rPr b="1" i="1" lang="en-US" sz="1800" spc="-1" strike="noStrike" baseline="-25000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638680" y="3429000"/>
              <a:ext cx="609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V</a:t>
              </a:r>
              <a:r>
                <a:rPr b="1" i="1" lang="en-US" sz="1800" spc="-1" strike="noStrike" baseline="-25000">
                  <a:solidFill>
                    <a:srgbClr val="ff0000"/>
                  </a:solidFill>
                  <a:latin typeface="Times New Roman"/>
                </a:rPr>
                <a:t>B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5100480" y="4448160"/>
            <a:ext cx="990720" cy="686880"/>
            <a:chOff x="5100480" y="4448160"/>
            <a:chExt cx="990720" cy="686880"/>
          </a:xfrm>
        </p:grpSpPr>
        <p:pic>
          <p:nvPicPr>
            <p:cNvPr id="90" name="" descr=""/>
            <p:cNvPicPr/>
            <p:nvPr/>
          </p:nvPicPr>
          <p:blipFill>
            <a:blip r:embed="rId2"/>
            <a:stretch/>
          </p:blipFill>
          <p:spPr>
            <a:xfrm>
              <a:off x="5100480" y="4448160"/>
              <a:ext cx="99072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5100480" y="4449600"/>
              <a:ext cx="987480" cy="685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7453440" y="4452840"/>
            <a:ext cx="1066680" cy="685800"/>
            <a:chOff x="7453440" y="4452840"/>
            <a:chExt cx="1066680" cy="685800"/>
          </a:xfrm>
        </p:grpSpPr>
        <p:pic>
          <p:nvPicPr>
            <p:cNvPr id="93" name="" descr=""/>
            <p:cNvPicPr/>
            <p:nvPr/>
          </p:nvPicPr>
          <p:blipFill>
            <a:blip r:embed="rId3"/>
            <a:stretch/>
          </p:blipFill>
          <p:spPr>
            <a:xfrm>
              <a:off x="7453440" y="4528800"/>
              <a:ext cx="1066680" cy="5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7453440" y="4452840"/>
              <a:ext cx="106344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6624720" y="2347920"/>
            <a:ext cx="1952640" cy="756720"/>
            <a:chOff x="6624720" y="2347920"/>
            <a:chExt cx="1952640" cy="756720"/>
          </a:xfrm>
        </p:grpSpPr>
        <p:pic>
          <p:nvPicPr>
            <p:cNvPr id="96" name="" descr=""/>
            <p:cNvPicPr/>
            <p:nvPr/>
          </p:nvPicPr>
          <p:blipFill>
            <a:blip r:embed="rId4"/>
            <a:stretch/>
          </p:blipFill>
          <p:spPr>
            <a:xfrm>
              <a:off x="6624720" y="2447640"/>
              <a:ext cx="1952640" cy="65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6738840" y="2347920"/>
              <a:ext cx="1752840" cy="695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7419960" y="3186000"/>
            <a:ext cx="1095480" cy="457200"/>
            <a:chOff x="7419960" y="3186000"/>
            <a:chExt cx="1095480" cy="457200"/>
          </a:xfrm>
        </p:grpSpPr>
        <p:pic>
          <p:nvPicPr>
            <p:cNvPr id="99" name="" descr=""/>
            <p:cNvPicPr/>
            <p:nvPr/>
          </p:nvPicPr>
          <p:blipFill>
            <a:blip r:embed="rId5"/>
            <a:stretch/>
          </p:blipFill>
          <p:spPr>
            <a:xfrm>
              <a:off x="7448760" y="3242880"/>
              <a:ext cx="1066680" cy="37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7419960" y="3186000"/>
              <a:ext cx="106704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6777000" y="23716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?</a:t>
            </a: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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0000" y="23716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?</a:t>
            </a: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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0520" y="23716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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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3B24-149C-4AB7-AC48-8E975A7ECA8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CEA149-843B-4A6A-98AC-1BFC80ABFD9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80880" y="1981080"/>
            <a:ext cx="8458200" cy="3449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782960" y="2133720"/>
            <a:ext cx="3880080" cy="31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5057640" y="2314440"/>
            <a:ext cx="3095640" cy="2549520"/>
            <a:chOff x="5057640" y="2314440"/>
            <a:chExt cx="3095640" cy="2549520"/>
          </a:xfrm>
        </p:grpSpPr>
        <p:sp>
          <p:nvSpPr>
            <p:cNvPr id="107" name=""/>
            <p:cNvSpPr/>
            <p:nvPr/>
          </p:nvSpPr>
          <p:spPr>
            <a:xfrm>
              <a:off x="5305320" y="2610000"/>
              <a:ext cx="2495520" cy="20286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57640" y="2314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848720" y="449568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raphical Solution – Step 2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33520" y="2133720"/>
            <a:ext cx="3924360" cy="3162240"/>
          </a:xfrm>
          <a:prstGeom prst="rect">
            <a:avLst/>
          </a:prstGeom>
          <a:ln w="0">
            <a:noFill/>
          </a:ln>
        </p:spPr>
      </p:pic>
      <p:grpSp>
        <p:nvGrpSpPr>
          <p:cNvPr id="112" name=""/>
          <p:cNvGrpSpPr/>
          <p:nvPr/>
        </p:nvGrpSpPr>
        <p:grpSpPr>
          <a:xfrm>
            <a:off x="6004080" y="3174480"/>
            <a:ext cx="1792080" cy="787320"/>
            <a:chOff x="6004080" y="3174480"/>
            <a:chExt cx="1792080" cy="787320"/>
          </a:xfrm>
        </p:grpSpPr>
        <p:sp>
          <p:nvSpPr>
            <p:cNvPr id="113" name=""/>
            <p:cNvSpPr/>
            <p:nvPr/>
          </p:nvSpPr>
          <p:spPr>
            <a:xfrm flipH="1" flipV="1">
              <a:off x="6004080" y="3174480"/>
              <a:ext cx="1792080" cy="7873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929640" y="317808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V</a:t>
              </a:r>
              <a:r>
                <a:rPr b="0" i="1" lang="en-US" sz="1800" spc="-1" strike="noStrike" baseline="-25000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6457680" y="3557520"/>
            <a:ext cx="1344600" cy="653400"/>
            <a:chOff x="6457680" y="3557520"/>
            <a:chExt cx="1344600" cy="653400"/>
          </a:xfrm>
        </p:grpSpPr>
        <p:sp>
          <p:nvSpPr>
            <p:cNvPr id="116" name=""/>
            <p:cNvSpPr/>
            <p:nvPr/>
          </p:nvSpPr>
          <p:spPr>
            <a:xfrm flipH="1" flipV="1">
              <a:off x="6457680" y="3557520"/>
              <a:ext cx="1344600" cy="4255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77240" y="380520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V</a:t>
              </a:r>
              <a:r>
                <a:rPr b="0" i="1" lang="en-US" sz="1800" spc="-1" strike="noStrike" baseline="-25000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5748480" y="3197160"/>
            <a:ext cx="742320" cy="570600"/>
            <a:chOff x="5748480" y="3197160"/>
            <a:chExt cx="742320" cy="570600"/>
          </a:xfrm>
        </p:grpSpPr>
        <p:sp>
          <p:nvSpPr>
            <p:cNvPr id="119" name=""/>
            <p:cNvSpPr/>
            <p:nvPr/>
          </p:nvSpPr>
          <p:spPr>
            <a:xfrm>
              <a:off x="5748480" y="3362040"/>
              <a:ext cx="609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V</a:t>
              </a:r>
              <a:r>
                <a:rPr b="0" i="1" lang="en-US" sz="1800" spc="-1" strike="noStrike" baseline="-25000">
                  <a:solidFill>
                    <a:srgbClr val="ff0000"/>
                  </a:solidFill>
                  <a:latin typeface="Times New Roman"/>
                </a:rPr>
                <a:t>C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030720" y="3197160"/>
              <a:ext cx="460080" cy="3841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629400" y="2209680"/>
            <a:ext cx="1981080" cy="762120"/>
            <a:chOff x="6629400" y="2209680"/>
            <a:chExt cx="1981080" cy="762120"/>
          </a:xfrm>
        </p:grpSpPr>
        <p:pic>
          <p:nvPicPr>
            <p:cNvPr id="122" name="" descr=""/>
            <p:cNvPicPr/>
            <p:nvPr/>
          </p:nvPicPr>
          <p:blipFill>
            <a:blip r:embed="rId2"/>
            <a:stretch/>
          </p:blipFill>
          <p:spPr>
            <a:xfrm>
              <a:off x="6629400" y="2362320"/>
              <a:ext cx="1981080" cy="6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6705720" y="2209680"/>
              <a:ext cx="175248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781680" y="22096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? 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5200" y="22096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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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848720" y="220968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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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952880" y="4572000"/>
            <a:ext cx="1447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88D0-DC20-4DB6-ADA4-DC4E24F7C35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5D7A7B-50A5-40D9-9F82-7DF24AC0CDA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3542-86F2-416D-B61F-1854340B4512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BC018F-98EA-4C29-8321-804F48FE0BD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iz #3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0D48-EB85-4031-B51C-351EA66A939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61A181-5764-48DD-B849-134B2054178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3T14:01:25Z</dcterms:created>
  <dc:creator>Default</dc:creator>
  <dc:description/>
  <dc:language>en-US</dc:language>
  <cp:lastModifiedBy>norton</cp:lastModifiedBy>
  <dcterms:modified xsi:type="dcterms:W3CDTF">2005-09-15T13:51:28Z</dcterms:modified>
  <cp:revision>13</cp:revision>
  <dc:subject/>
  <dc:title>Velocity Analysis - 1</dc:title>
</cp:coreProperties>
</file>