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DA9-D885-463E-8A4A-A6902DD6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17F-8086-4D13-8792-9C2CAA25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089-19AD-4050-B03B-AF31754D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C49D-4BA5-43A3-9AC1-DF7A3D65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51A-C4FE-4788-B3F7-6CC3097D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D49-2E3B-44C9-9648-468EBEB8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568-F97E-49B9-B96E-AF831B31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1DE-E8D6-4BC6-B52A-EDFE38C2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66F-9979-4F37-92E2-3CBDE8B6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093-3B05-4DE6-876B-B7DB239D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776-D6B2-48BB-BDF2-FB1BB1EF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DE5-E8E5-43CE-B481-064164D0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A970-54CF-4631-B83F-BD40242564C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2BBF-9BBD-489F-8B91-84E563A11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Review - Project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20:50:33Z</dcterms:created>
  <dc:creator>Default</dc:creator>
  <dc:description/>
  <dc:language>en-US</dc:language>
  <cp:lastModifiedBy>Default</cp:lastModifiedBy>
  <dcterms:modified xsi:type="dcterms:W3CDTF">2004-09-06T20:54:29Z</dcterms:modified>
  <cp:revision>2</cp:revision>
  <dc:subject/>
  <dc:title>Working Model Introduction</dc:title>
</cp:coreProperties>
</file>