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4.png" ContentType="image/png"/>
  <Override PartName="/ppt/media/image24.wmf" ContentType="image/x-wmf"/>
  <Override PartName="/ppt/media/image1.wmf" ContentType="image/x-wmf"/>
  <Override PartName="/ppt/media/image31.wmf" ContentType="image/x-wmf"/>
  <Override PartName="/ppt/media/image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44.png" ContentType="image/png"/>
  <Override PartName="/ppt/media/image32.wmf" ContentType="image/x-wmf"/>
  <Override PartName="/ppt/media/image46.png" ContentType="image/png"/>
  <Override PartName="/ppt/media/image29.wmf" ContentType="image/x-wmf"/>
  <Override PartName="/ppt/media/image47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49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6.png" ContentType="image/png"/>
  <Override PartName="/ppt/media/image36.png" ContentType="image/png"/>
  <Override PartName="/ppt/media/image10.png" ContentType="image/png"/>
  <Override PartName="/ppt/media/image5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44D1-44B1-4046-90A2-4CA777CF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11C8-1D9F-4192-AD0B-39E98EAE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435A-4D46-4D7D-9639-2AF97BB6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7B2C-68C9-4859-922E-597947C7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9E38-2DB3-4772-927C-BFCD9FC8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E000-EB4C-4399-9537-23ADF303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2DF0-D9D5-402D-BD81-BDE1FF0D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A516-A12C-468C-BCD6-0235D480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4519-41E5-4086-928F-C3BF9D15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FBAA-4BB3-4750-816E-5CAD529A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0B96-EE20-4A63-97B3-8C98457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6A5E-523E-471F-B9A7-EC7C2A19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D89A-F18A-4703-A00A-39CB66CF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2C5C-F2F6-43CD-84B0-A05FCCF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D7FF-FB4C-46A0-9C6A-A3870D8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BA88-37D2-4F79-844E-483AA389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7F7B-AFF8-41EC-A89E-AE41522F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1E31-4CB0-4A90-AF0F-10F01C59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06ED-C1EE-4B95-9E32-0894CF1A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6B79-E174-4179-A493-9F56C2AD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A970-B020-4BA2-A391-DF5D9BA8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D3AB-E148-445C-9471-B2CF4B62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6EF4-4328-4294-BD00-74F242A9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1792-C93D-45F2-9AAD-E0307CB3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E611-B261-4348-831A-258A6D9DC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5032-0B5F-49D4-9354-E53DE5F2DC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3968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am Design -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1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erior Cam Functions for Any 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3276360"/>
            <a:ext cx="6616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ynomials of sufficient or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-Splines of sufficient or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914400"/>
            <a:ext cx="8381880" cy="58672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905120"/>
            <a:ext cx="4722840" cy="471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057400"/>
            <a:ext cx="1143000" cy="4495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Polynomial Functions and Boundary Conditio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1066680"/>
            <a:ext cx="7848360" cy="609840"/>
            <a:chOff x="762120" y="1066680"/>
            <a:chExt cx="7848360" cy="609840"/>
          </a:xfrm>
        </p:grpSpPr>
        <p:sp>
          <p:nvSpPr>
            <p:cNvPr id="144" name=""/>
            <p:cNvSpPr/>
            <p:nvPr/>
          </p:nvSpPr>
          <p:spPr>
            <a:xfrm>
              <a:off x="762120" y="1066680"/>
              <a:ext cx="784836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"/>
            <a:srcRect l="14737" t="0" r="14525" b="-4868"/>
            <a:stretch/>
          </p:blipFill>
          <p:spPr>
            <a:xfrm>
              <a:off x="839880" y="1143000"/>
              <a:ext cx="7692840" cy="46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2"/>
          <a:srcRect l="11999" t="0" r="17172" b="0"/>
          <a:stretch/>
        </p:blipFill>
        <p:spPr>
          <a:xfrm>
            <a:off x="5562720" y="1905120"/>
            <a:ext cx="3130560" cy="4572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638680" y="2514600"/>
            <a:ext cx="2971800" cy="4114800"/>
            <a:chOff x="5638680" y="2514600"/>
            <a:chExt cx="2971800" cy="411480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rcRect l="15518" t="0" r="17245" b="-9021"/>
            <a:stretch/>
          </p:blipFill>
          <p:spPr>
            <a:xfrm>
              <a:off x="5638680" y="3047760"/>
              <a:ext cx="29718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rcRect l="15518" t="0" r="17245" b="-9021"/>
            <a:stretch/>
          </p:blipFill>
          <p:spPr>
            <a:xfrm>
              <a:off x="5638680" y="3504960"/>
              <a:ext cx="29718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5"/>
            <a:srcRect l="15607" t="0" r="16762" b="0"/>
            <a:stretch/>
          </p:blipFill>
          <p:spPr>
            <a:xfrm>
              <a:off x="5638680" y="3962160"/>
              <a:ext cx="29718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6"/>
            <a:srcRect l="15607" t="0" r="16762" b="0"/>
            <a:stretch/>
          </p:blipFill>
          <p:spPr>
            <a:xfrm>
              <a:off x="5638680" y="4267080"/>
              <a:ext cx="297180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7"/>
            <a:srcRect l="15607" t="-15746" r="16762" b="0"/>
            <a:stretch/>
          </p:blipFill>
          <p:spPr>
            <a:xfrm>
              <a:off x="5638680" y="4724280"/>
              <a:ext cx="29718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8"/>
            <a:srcRect l="15518" t="-100000" r="17245" b="-49882"/>
            <a:stretch/>
          </p:blipFill>
          <p:spPr>
            <a:xfrm>
              <a:off x="5638680" y="5257800"/>
              <a:ext cx="29718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9"/>
            <a:srcRect l="15518" t="0" r="17245" b="-4192"/>
            <a:stretch/>
          </p:blipFill>
          <p:spPr>
            <a:xfrm>
              <a:off x="5638680" y="5638680"/>
              <a:ext cx="29718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0"/>
            <a:srcRect l="15474" t="-24941" r="17480" b="0"/>
            <a:stretch/>
          </p:blipFill>
          <p:spPr>
            <a:xfrm>
              <a:off x="5638680" y="5943600"/>
              <a:ext cx="29718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1"/>
            <a:srcRect l="15518" t="-49882" r="17245" b="-49882"/>
            <a:stretch/>
          </p:blipFill>
          <p:spPr>
            <a:xfrm>
              <a:off x="5638680" y="6324480"/>
              <a:ext cx="29718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2"/>
            <a:srcRect l="15518" t="-20626" r="17245" b="-24047"/>
            <a:stretch/>
          </p:blipFill>
          <p:spPr>
            <a:xfrm>
              <a:off x="5638680" y="2514600"/>
              <a:ext cx="297180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13"/>
          <a:srcRect l="17123" t="0" r="8870" b="9098"/>
          <a:stretch/>
        </p:blipFill>
        <p:spPr>
          <a:xfrm>
            <a:off x="836640" y="1982880"/>
            <a:ext cx="464976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1676520"/>
            <a:ext cx="8458200" cy="4190760"/>
          </a:xfrm>
          <a:prstGeom prst="rect">
            <a:avLst/>
          </a:prstGeom>
          <a:solidFill>
            <a:srgbClr val="000514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3-4-5 and 4-5-6-7 Polynomial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-4-5 Poly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5257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-5-6-7 Poly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057560" cy="2743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924360" cy="2762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248280" cy="743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219320" y="1752480"/>
            <a:ext cx="268596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33520" y="1066680"/>
            <a:ext cx="8153280" cy="5715000"/>
            <a:chOff x="533520" y="1066680"/>
            <a:chExt cx="8153280" cy="5715000"/>
          </a:xfrm>
        </p:grpSpPr>
        <p:sp>
          <p:nvSpPr>
            <p:cNvPr id="168" name=""/>
            <p:cNvSpPr/>
            <p:nvPr/>
          </p:nvSpPr>
          <p:spPr>
            <a:xfrm>
              <a:off x="533520" y="1066680"/>
              <a:ext cx="8153280" cy="57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4800600" y="1066680"/>
              <a:ext cx="3772080" cy="266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609840" y="1295280"/>
              <a:ext cx="4267080" cy="23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914400" y="3733920"/>
              <a:ext cx="3886200" cy="29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4"/>
            <a:srcRect l="8773" t="2595" r="1752" b="0"/>
            <a:stretch/>
          </p:blipFill>
          <p:spPr>
            <a:xfrm>
              <a:off x="4724640" y="3886200"/>
              <a:ext cx="3886200" cy="28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Comparison of Five Double-Dwell Function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93968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ritical Path Mo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ant Velocity C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238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n problem in machin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times need to “chase” a convey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several ways to accomplish th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approach is opti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ant Velocity Set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01720" y="2362320"/>
            <a:ext cx="75391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2514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onstant Velocity Boundary Conditions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-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1st Tr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7441" t="0" r="0" b="1910"/>
          <a:stretch/>
        </p:blipFill>
        <p:spPr>
          <a:xfrm>
            <a:off x="2895480" y="419040"/>
            <a:ext cx="5911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 Segment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73160" y="1828800"/>
            <a:ext cx="699624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Better Appro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the number of seg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the segment you know most ab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polynomials where poss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the number of boundary condi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will give lowest possible peak accel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will not be smoothest possible solu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acceptable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-995" t="-5779" r="-995" b="7251"/>
          <a:stretch/>
        </p:blipFill>
        <p:spPr>
          <a:xfrm>
            <a:off x="609480" y="213372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nstant Velocity Boundary Conditions – 2</a:t>
            </a:r>
            <a:r>
              <a:rPr b="1" lang="en-US" sz="3200" spc="-1" strike="noStrike" baseline="30000">
                <a:solidFill>
                  <a:srgbClr val="e5e5ff"/>
                </a:solidFill>
                <a:latin typeface="Garamond"/>
              </a:rPr>
              <a:t>nd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Tr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5624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-Segment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64152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327640" cy="3062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53341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tra Slid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extra charg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el Cam - Track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el Cam - Ribb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7934" t="1205" r="25498" b="21501"/>
          <a:stretch/>
        </p:blipFill>
        <p:spPr>
          <a:xfrm>
            <a:off x="1981080" y="1447920"/>
            <a:ext cx="495324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152280" y="1143000"/>
            <a:ext cx="8839440" cy="5348160"/>
            <a:chOff x="152280" y="1143000"/>
            <a:chExt cx="8839440" cy="5348160"/>
          </a:xfrm>
        </p:grpSpPr>
        <p:sp>
          <p:nvSpPr>
            <p:cNvPr id="200" name=""/>
            <p:cNvSpPr/>
            <p:nvPr/>
          </p:nvSpPr>
          <p:spPr>
            <a:xfrm>
              <a:off x="152280" y="1143000"/>
              <a:ext cx="8839440" cy="534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152280" y="1217160"/>
              <a:ext cx="6982200" cy="52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6540120" y="2183040"/>
              <a:ext cx="2451240" cy="21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304920" y="1522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otary Indexers Use Ribbed Barrel Ca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2133720"/>
            <a:ext cx="81532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ant Acceleration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0" t="0" r="3728" b="10849"/>
          <a:stretch/>
        </p:blipFill>
        <p:spPr>
          <a:xfrm>
            <a:off x="4267080" y="2362320"/>
            <a:ext cx="4267440" cy="2819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rcRect l="5158" t="0" r="0" b="13543"/>
          <a:stretch/>
        </p:blipFill>
        <p:spPr>
          <a:xfrm>
            <a:off x="457200" y="2666880"/>
            <a:ext cx="420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cceptable Double-Dwell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87600" y="2688840"/>
            <a:ext cx="613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cloid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ied Trapezoid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ied S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1600200"/>
            <a:ext cx="815364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ycloidal Mo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5127" t="0" r="3850" b="2299"/>
          <a:stretch/>
        </p:blipFill>
        <p:spPr>
          <a:xfrm>
            <a:off x="3276720" y="1981080"/>
            <a:ext cx="541008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86728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514"/>
                </a:solidFill>
                <a:latin typeface="Times New Roman"/>
              </a:rPr>
              <a:t>Ca</a:t>
            </a:r>
            <a:r>
              <a:rPr b="0" lang="en-US" sz="1400" spc="-1" strike="noStrike">
                <a:solidFill>
                  <a:srgbClr val="000514"/>
                </a:solidFill>
                <a:latin typeface="Times New Roman"/>
              </a:rPr>
              <a:t> = 6.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514"/>
                </a:solidFill>
                <a:latin typeface="Times New Roman"/>
              </a:rPr>
              <a:t>Cv</a:t>
            </a:r>
            <a:r>
              <a:rPr b="0" lang="en-US" sz="1400" spc="-1" strike="noStrike">
                <a:solidFill>
                  <a:srgbClr val="000514"/>
                </a:solidFill>
                <a:latin typeface="Times New Roman"/>
              </a:rPr>
              <a:t> = 2.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48006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514"/>
                </a:solidFill>
                <a:latin typeface="Times New Roman"/>
              </a:rPr>
              <a:t>Cj</a:t>
            </a:r>
            <a:r>
              <a:rPr b="0" lang="en-US" sz="1400" spc="-1" strike="noStrike">
                <a:solidFill>
                  <a:srgbClr val="000514"/>
                </a:solidFill>
                <a:latin typeface="Times New Roman"/>
              </a:rPr>
              <a:t> = 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1933560" cy="752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1781280" cy="71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219320" y="4038480"/>
            <a:ext cx="1666800" cy="62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219320" y="4952880"/>
            <a:ext cx="1676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386240" cy="6562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3962160" cy="2998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Modified Trapezoidal Accele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3124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dified Sine Acceleration</a:t>
            </a:r>
            <a:br>
              <a:rPr sz="36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257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9160" y="990720"/>
            <a:ext cx="8872560" cy="555444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he SCCA Family of Classic Double Dwell Functio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8266" r="0" b="5309"/>
          <a:stretch/>
        </p:blipFill>
        <p:spPr>
          <a:xfrm>
            <a:off x="4724280" y="5270400"/>
            <a:ext cx="4091040" cy="111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1818" t="0" r="0" b="0"/>
          <a:stretch/>
        </p:blipFill>
        <p:spPr>
          <a:xfrm>
            <a:off x="357120" y="4127400"/>
            <a:ext cx="4114800" cy="22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1756" t="0" r="1277" b="0"/>
          <a:stretch/>
        </p:blipFill>
        <p:spPr>
          <a:xfrm>
            <a:off x="304920" y="1135080"/>
            <a:ext cx="4211640" cy="2827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00600" y="1135080"/>
            <a:ext cx="3962520" cy="238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181480" y="3649680"/>
            <a:ext cx="32860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762120"/>
            <a:ext cx="8763120" cy="57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Compare Mod Trap, Mod Sine, and Cycloidal Motion Program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15098"/>
          <a:stretch/>
        </p:blipFill>
        <p:spPr>
          <a:xfrm>
            <a:off x="304920" y="990720"/>
            <a:ext cx="443232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0" r="0" b="14651"/>
          <a:stretch/>
        </p:blipFill>
        <p:spPr>
          <a:xfrm>
            <a:off x="4495680" y="838080"/>
            <a:ext cx="443232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0" b="12857"/>
          <a:stretch/>
        </p:blipFill>
        <p:spPr>
          <a:xfrm>
            <a:off x="457200" y="3581280"/>
            <a:ext cx="4432320" cy="266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0" t="0" r="0" b="11901"/>
          <a:stretch/>
        </p:blipFill>
        <p:spPr>
          <a:xfrm>
            <a:off x="4572000" y="3581280"/>
            <a:ext cx="4432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23960" y="1905120"/>
            <a:ext cx="7696080" cy="342900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ctors for Various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52560" y="2133720"/>
            <a:ext cx="721512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01:55:05Z</dcterms:created>
  <dc:creator>Default</dc:creator>
  <dc:description/>
  <dc:language>en-US</dc:language>
  <cp:lastModifiedBy>norton</cp:lastModifiedBy>
  <dcterms:modified xsi:type="dcterms:W3CDTF">2005-09-27T14:50:15Z</dcterms:modified>
  <cp:revision>8</cp:revision>
  <dc:subject/>
  <dc:title>PowerPoint Presentation</dc:title>
</cp:coreProperties>
</file>