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371-E89C-4B01-9582-841176DD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9D0-304B-48C9-88B9-3E4AD4C0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D22-1E85-48E2-81B6-9575416D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AB6-0C2A-4ECE-AA1F-2E9E1924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E83-5BC6-4329-A092-07D56B20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D75-225D-409E-9B78-D04E9996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911-8EE0-460B-B8AD-EE91219B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431-0244-475A-9E8B-D078735F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E53-41F2-4167-B06B-16FD4038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F11-DE6A-47B1-9F94-59878165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ADB-5C8E-4841-83A2-4A39908C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DC3-3F0D-44EF-94A3-5DD7DB41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2BB0-90CE-4F39-95E1-9D5AD7618F35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C9BC-3ED2-4A48-A030-72EE98FDA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ject Group Lis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due now. Please pass to left side of the 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do not self select you will get an email by 4 PM today with your group me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ill be a group page on myWPI for your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e email all your members today to be sure that they are still in th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019-250E-4F68-B75F-1737DF018FC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683BF-7966-4301-ADFC-FC770AE91A6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0600" y="1981080"/>
            <a:ext cx="8076960" cy="358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uble-Dwell Link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3867120" cy="2652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3762360" cy="326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275-2EE5-4A9A-A924-B162354D28F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0AFD0-5894-48A3-9472-24476A66886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Sixbar has Example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gle-dwell six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uble-dwell six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96C-8B2A-4E75-92C4-030FCFA74DF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83684-1918-4CC7-B966-8B63A07A48D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xbar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7C2-8632-419A-B9C7-3DC22359AC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40A70-8ED1-4186-8EC0-C48A6998087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z #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B6E-F725-4892-9818-4AF1456DD27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E83FB-311F-468B-9198-D49487C1420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ject 1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downloadable from myWPI at 11 A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make a copy, read it, and bring it to class tomorrow with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523-4323-4290-BB3D-A6FAB4A55C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E071F-3EAD-428A-9CB1-2D384FAFB20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deota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reserve in Gordon Lib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03 – Grashof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04 – 2 and 3-position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42 – Quick Return Mech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st 2 might be  a good review for Quiz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FE4-03DD-4D83-BDF3-325F607F40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84F7B-6CC9-40B5-BDAB-4615F1AD084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traight Lines and Dwel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ight-Line Link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well Mechanis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z #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817-B9A4-460B-B5E8-292B0CB590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47F25-5556-493D-ABE9-0D135FC0745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ight-Line Link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9000" y="1143000"/>
            <a:ext cx="7506000" cy="49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29718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2990880" cy="1733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143000" y="3152880"/>
            <a:ext cx="2143080" cy="2762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471840" y="3162240"/>
            <a:ext cx="21240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791320" y="3162240"/>
            <a:ext cx="238284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DCE-3915-4099-84A1-6BE7CCF6FE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AA801-B81B-43F7-910C-43D43D4652F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aucellier Link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943600" cy="42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8F7-9F71-4520-BF86-6D13CFD8AC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A2D2C-F11A-40E1-8097-B65F46E328B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6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w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well is a period of stasis of the output link while the input link continues to m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wells are common in machin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ve actuation in IC eng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xing convey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k and place mech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s can provide exact dw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kages can provide approximate dw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1AE-13A8-4284-B946-07469E73DB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D636A-7FE4-4114-B60C-77194C9D200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Dwell Mechanism with Rocker Outpu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09640" y="1295280"/>
            <a:ext cx="7524720" cy="4495680"/>
            <a:chOff x="809640" y="1295280"/>
            <a:chExt cx="7524720" cy="4495680"/>
          </a:xfrm>
        </p:grpSpPr>
        <p:sp>
          <p:nvSpPr>
            <p:cNvPr id="62" name=""/>
            <p:cNvSpPr/>
            <p:nvPr/>
          </p:nvSpPr>
          <p:spPr>
            <a:xfrm>
              <a:off x="809640" y="1295280"/>
              <a:ext cx="7524720" cy="449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961920" y="1419120"/>
              <a:ext cx="7238880" cy="425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DB6-3151-41CF-9CAE-B745F5744C3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4E811-A810-4522-89A6-27A43383A9A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Dwell Mechanism with Slider Outpu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1371600"/>
            <a:ext cx="3762360" cy="457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53193" t="0" r="0" b="0"/>
          <a:stretch/>
        </p:blipFill>
        <p:spPr>
          <a:xfrm>
            <a:off x="2895480" y="1523880"/>
            <a:ext cx="33530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FE5-272D-4DC3-B975-2A59C1A8C0B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68411-0E85-4E20-9E1B-CBBA8B068AD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15:54:36Z</dcterms:created>
  <dc:creator>Default</dc:creator>
  <dc:description/>
  <dc:language>en-US</dc:language>
  <cp:lastModifiedBy>norton</cp:lastModifiedBy>
  <dcterms:modified xsi:type="dcterms:W3CDTF">2005-09-01T14:52:52Z</dcterms:modified>
  <cp:revision>28</cp:revision>
  <dc:subject/>
  <dc:title>Lecture 4</dc:title>
</cp:coreProperties>
</file>