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A11-900B-428E-8E9C-6512ABAC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15D-707E-4AD4-9293-3D0B3A29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F08D-352C-4F7B-BCFB-3224AE9B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776-DA3B-4631-A8AA-5CBDD458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3739-4B53-4EE0-8E14-464C9E3D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03D-9425-4313-9321-7DE3B077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EE3B-4ED9-4683-89F4-3BAEE621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2F00-DDB6-4F54-A416-6846BF83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D47-83E3-4864-88F2-1075577E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CD0-BBC6-4C92-9EDD-EABD10B2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FD4A-D737-4DAA-B2F2-9FA65252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DEDF-DDD7-47EA-8531-CB921DBE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83A3-42D0-4C07-B7C2-179015CB7EB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71FE-2672-46A2-BF18-3AE939BE7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0480"/>
            <a:ext cx="6705720" cy="6324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62720" y="1447920"/>
            <a:ext cx="31114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647640" y="457200"/>
            <a:ext cx="7848720" cy="2514600"/>
            <a:chOff x="647640" y="457200"/>
            <a:chExt cx="7848720" cy="2514600"/>
          </a:xfrm>
        </p:grpSpPr>
        <p:sp>
          <p:nvSpPr>
            <p:cNvPr id="71" name=""/>
            <p:cNvSpPr/>
            <p:nvPr/>
          </p:nvSpPr>
          <p:spPr>
            <a:xfrm>
              <a:off x="647640" y="457200"/>
              <a:ext cx="7848720" cy="251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3960" y="533520"/>
              <a:ext cx="75438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You are expected to approach this course with the WPI philosophy of education in mind, as described in the undergraduate catalog,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“...WPI educated people should be able to cope with change, to learn by themselves, to think for themselves, to analyze and deal with problems in a confident and realistic manner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47640" y="3276720"/>
            <a:ext cx="7848720" cy="3028680"/>
            <a:chOff x="647640" y="3276720"/>
            <a:chExt cx="7848720" cy="3028680"/>
          </a:xfrm>
        </p:grpSpPr>
        <p:sp>
          <p:nvSpPr>
            <p:cNvPr id="74" name=""/>
            <p:cNvSpPr/>
            <p:nvPr/>
          </p:nvSpPr>
          <p:spPr>
            <a:xfrm>
              <a:off x="647640" y="3276720"/>
              <a:ext cx="7848720" cy="3028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3960" y="3276720"/>
              <a:ext cx="75438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Kinematics is a very broad and interesting subject, and a moderately difficult one.  It is not possible to cover all of its varied aspects in only seven-weeks of lectures.  Therefore, the readings, quizzes, and projects may deal with topics NOT specifically covered in class lectures.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Nevertheless, you are expected,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n the spirit of the WPI Pla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, to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xtend yourself,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learn on your own, and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rise to the challenges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of the course objective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7132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 of Machinery, 3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nk &amp; White, “The Elements of Sty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 Notebo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king Model (on C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bar, Fivebar, Sixbar, Slider, Dynacam (on C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mech (WPI 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thcad, TKSolver, 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W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ignments, Projects, and Quiz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range yourselves in project groups of 3 to 4 by 8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not in a group by that date – will be assigned to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oductory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egree of Freed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447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. of independent coordinates needed to define position of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5791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DOF does a body in three-space (3-D)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0" b="11150"/>
          <a:stretch/>
        </p:blipFill>
        <p:spPr>
          <a:xfrm>
            <a:off x="1839960" y="2286000"/>
            <a:ext cx="5462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4572000"/>
            <a:ext cx="6553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ll of the above contain linkages which consist o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4952880"/>
            <a:ext cx="4724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i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1219320"/>
            <a:ext cx="6858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ssumed to be rigid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nodes for 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any shape (not just those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order = number of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64389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828800"/>
            <a:ext cx="190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Joints allow DOF between li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0" r="0" b="4445"/>
          <a:stretch/>
        </p:blipFill>
        <p:spPr>
          <a:xfrm>
            <a:off x="2416320" y="133200"/>
            <a:ext cx="55846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ach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bar Linkage Ma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k and Place Mech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66680" y="762120"/>
            <a:ext cx="7086600" cy="5410080"/>
          </a:xfrm>
          <a:prstGeom prst="rect">
            <a:avLst/>
          </a:prstGeom>
          <a:solidFill>
            <a:srgbClr val="ffe6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152280"/>
            <a:ext cx="55944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E 33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5280" y="2819160"/>
            <a:ext cx="65534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inematics of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. R. L. Nor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6BBA-C074-4B88-BBA7-C50EDE5AA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4F7A-8157-4965-8FF2-C6E39546544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se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ory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nst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59720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78798"/>
          <a:stretch/>
        </p:blipFill>
        <p:spPr>
          <a:xfrm>
            <a:off x="1752480" y="380880"/>
            <a:ext cx="5430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1855800" y="1676520"/>
            <a:ext cx="5430960" cy="2514600"/>
            <a:chOff x="1855800" y="1676520"/>
            <a:chExt cx="5430960" cy="25146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rcRect l="0" t="21313" r="0" b="37526"/>
            <a:stretch/>
          </p:blipFill>
          <p:spPr>
            <a:xfrm>
              <a:off x="1855800" y="1676520"/>
              <a:ext cx="54309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" name=""/>
            <p:cNvGrpSpPr/>
            <p:nvPr/>
          </p:nvGrpSpPr>
          <p:grpSpPr>
            <a:xfrm>
              <a:off x="2770200" y="1849680"/>
              <a:ext cx="685800" cy="414360"/>
              <a:chOff x="2770200" y="1849680"/>
              <a:chExt cx="685800" cy="414360"/>
            </a:xfrm>
          </p:grpSpPr>
          <p:sp>
            <p:nvSpPr>
              <p:cNvPr id="56" name=""/>
              <p:cNvSpPr/>
              <p:nvPr/>
            </p:nvSpPr>
            <p:spPr>
              <a:xfrm>
                <a:off x="2770200" y="1882800"/>
                <a:ext cx="68580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998800" y="184968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8" name="" descr=""/>
          <p:cNvPicPr/>
          <p:nvPr/>
        </p:nvPicPr>
        <p:blipFill>
          <a:blip r:embed="rId3"/>
          <a:srcRect l="0" t="62372" r="0" b="-1031"/>
          <a:stretch/>
        </p:blipFill>
        <p:spPr>
          <a:xfrm>
            <a:off x="1855800" y="4267080"/>
            <a:ext cx="5430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principal objectives of this course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evelop your understanding of the fundamentals of kinema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ntroduce you to the ‘Design Process’ as it applies to the solution of real-life, unstructured engineering design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mprove your ability to communicate your understanding of the subject through preparation of professional quality technical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hat is expected of you in this cour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wnload all handouts from MyWPI and check it frequen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tend all lec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tend all section meetings (where homework is collect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the assigned portions of the boo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The lectures ar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a substitute for reading the book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 all homework on time (no late homework is accept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 all projects and submit them in the form defined in the handout ‘Project Report Specifications.’ (on myWPI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ou really must start the projects when assigned - you cannot throw them together at the last minute and have a good resul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 your work must be your own or your group’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981080" y="3962520"/>
            <a:ext cx="5639040" cy="2286000"/>
            <a:chOff x="1981080" y="3962520"/>
            <a:chExt cx="5639040" cy="2286000"/>
          </a:xfrm>
        </p:grpSpPr>
        <p:sp>
          <p:nvSpPr>
            <p:cNvPr id="65" name=""/>
            <p:cNvSpPr/>
            <p:nvPr/>
          </p:nvSpPr>
          <p:spPr>
            <a:xfrm>
              <a:off x="1981080" y="3962520"/>
              <a:ext cx="56390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BFI%20Truck%20doct" descr=""/>
            <p:cNvPicPr/>
            <p:nvPr/>
          </p:nvPicPr>
          <p:blipFill>
            <a:blip r:embed="rId1"/>
            <a:stretch/>
          </p:blipFill>
          <p:spPr>
            <a:xfrm>
              <a:off x="2154240" y="4115160"/>
              <a:ext cx="5291280" cy="197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914400" y="23623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not be allowed in this cour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640" y="1523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ute Force and Igno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1384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insist, then this career awaits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rton</cp:lastModifiedBy>
  <dcterms:modified xsi:type="dcterms:W3CDTF">2005-08-25T13:33:00Z</dcterms:modified>
  <cp:revision>25</cp:revision>
  <dc:subject/>
  <dc:title>PowerPoint Presentation</dc:title>
</cp:coreProperties>
</file>