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97D-1140-45D0-8ADC-0A0671F6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AB1-27AA-4B82-8D98-2AF859AD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845-8F1A-4DBE-8067-F1671E6F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67C-F5C9-4382-9F08-AA2E647D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341-93C6-46DD-8080-FABF5B5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215-C798-4FFE-9A18-B5D0AC2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2A1-0A0F-4A31-846B-F57B5484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859-815F-4669-952C-E7F29F8C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940-6A73-4A50-8F22-9382563F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202-C057-4C8D-8B90-0365FCE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119-62B1-4F23-AF54-15943F8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C89-8267-4760-9F59-779B852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E88-8B93-467C-BE9B-800E77CF5C1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48F6-5E69-4C23-9AEC-D3B0E67AB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cyclic Gea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657680" y="1219320"/>
            <a:ext cx="4305240" cy="2438280"/>
            <a:chOff x="4657680" y="1219320"/>
            <a:chExt cx="4305240" cy="2438280"/>
          </a:xfrm>
        </p:grpSpPr>
        <p:sp>
          <p:nvSpPr>
            <p:cNvPr id="122" name=""/>
            <p:cNvSpPr/>
            <p:nvPr/>
          </p:nvSpPr>
          <p:spPr>
            <a:xfrm>
              <a:off x="4657680" y="1219320"/>
              <a:ext cx="430524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800600" y="1295280"/>
              <a:ext cx="4038480" cy="2262240"/>
              <a:chOff x="4800600" y="1295280"/>
              <a:chExt cx="4038480" cy="2262240"/>
            </a:xfrm>
          </p:grpSpPr>
          <p:sp>
            <p:nvSpPr>
              <p:cNvPr id="124" name=""/>
              <p:cNvSpPr/>
              <p:nvPr/>
            </p:nvSpPr>
            <p:spPr>
              <a:xfrm>
                <a:off x="4876920" y="129528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For gear 3 as outp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600" y="1295280"/>
                <a:ext cx="4038480" cy="226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4667400" y="3648240"/>
            <a:ext cx="4305240" cy="2438280"/>
            <a:chOff x="4667400" y="3648240"/>
            <a:chExt cx="4305240" cy="2438280"/>
          </a:xfrm>
        </p:grpSpPr>
        <p:sp>
          <p:nvSpPr>
            <p:cNvPr id="127" name=""/>
            <p:cNvSpPr/>
            <p:nvPr/>
          </p:nvSpPr>
          <p:spPr>
            <a:xfrm>
              <a:off x="4667400" y="3648240"/>
              <a:ext cx="430524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800600" y="3733920"/>
              <a:ext cx="4038480" cy="2232000"/>
              <a:chOff x="4800600" y="3733920"/>
              <a:chExt cx="4038480" cy="2232000"/>
            </a:xfrm>
          </p:grpSpPr>
          <p:sp>
            <p:nvSpPr>
              <p:cNvPr id="129" name=""/>
              <p:cNvSpPr/>
              <p:nvPr/>
            </p:nvSpPr>
            <p:spPr>
              <a:xfrm>
                <a:off x="4876920" y="373392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For gear 4 as outp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0600" y="3735360"/>
                <a:ext cx="4038480" cy="223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28600" y="1219320"/>
            <a:ext cx="419112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rguson’s Analytic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1523880"/>
            <a:ext cx="4114800" cy="3510360"/>
            <a:chOff x="228600" y="1523880"/>
            <a:chExt cx="4114800" cy="3510360"/>
          </a:xfrm>
        </p:grpSpPr>
        <p:grpSp>
          <p:nvGrpSpPr>
            <p:cNvPr id="134" name=""/>
            <p:cNvGrpSpPr/>
            <p:nvPr/>
          </p:nvGrpSpPr>
          <p:grpSpPr>
            <a:xfrm>
              <a:off x="228600" y="1523880"/>
              <a:ext cx="4114800" cy="3094200"/>
              <a:chOff x="228600" y="1523880"/>
              <a:chExt cx="4114800" cy="309420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523880"/>
                <a:ext cx="3809880" cy="309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457200" y="1752480"/>
                <a:ext cx="685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3520" y="18288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ne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8600" y="223992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r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4520" y="3678120"/>
                <a:ext cx="6098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55760" y="47577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x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912960" y="437688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3680" y="47577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18080" y="47577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8760" y="43768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3680" y="43768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0" t="0" r="0" b="20011"/>
          <a:stretch/>
        </p:blipFill>
        <p:spPr>
          <a:xfrm>
            <a:off x="4876920" y="2362320"/>
            <a:ext cx="24001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7540560" y="2741760"/>
            <a:ext cx="1143000" cy="382320"/>
            <a:chOff x="7540560" y="2741760"/>
            <a:chExt cx="1143000" cy="38232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7620120" y="2819520"/>
              <a:ext cx="9810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0560" y="2741760"/>
              <a:ext cx="1143000" cy="38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952880" y="4114800"/>
            <a:ext cx="3257640" cy="638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233388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467480" y="5181480"/>
            <a:ext cx="1143000" cy="382680"/>
            <a:chOff x="7467480" y="5181480"/>
            <a:chExt cx="1143000" cy="382680"/>
          </a:xfrm>
        </p:grpSpPr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620120" y="5257800"/>
              <a:ext cx="942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467480" y="5181480"/>
              <a:ext cx="1143000" cy="3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876920" y="1628640"/>
            <a:ext cx="3485880" cy="809640"/>
            <a:chOff x="4876920" y="1628640"/>
            <a:chExt cx="3485880" cy="809640"/>
          </a:xfrm>
        </p:grpSpPr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4876920" y="1676520"/>
              <a:ext cx="3485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124840" y="1628640"/>
              <a:ext cx="2286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04920" y="1295280"/>
            <a:ext cx="403848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5257800"/>
            <a:ext cx="3657600" cy="609480"/>
            <a:chOff x="533520" y="5257800"/>
            <a:chExt cx="3657600" cy="609480"/>
          </a:xfrm>
        </p:grpSpPr>
        <p:pic>
          <p:nvPicPr>
            <p:cNvPr id="160" name="" descr=""/>
            <p:cNvPicPr/>
            <p:nvPr/>
          </p:nvPicPr>
          <p:blipFill>
            <a:blip r:embed="rId8"/>
            <a:srcRect l="0" t="63595" r="7393" b="0"/>
            <a:stretch/>
          </p:blipFill>
          <p:spPr>
            <a:xfrm>
              <a:off x="533520" y="5333760"/>
              <a:ext cx="3581280" cy="5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3520" y="5257800"/>
              <a:ext cx="3657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267-D322-4C03-A9C6-63E540D51E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5AB32-D1B3-4D4A-B109-151F30D81B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rque and Effici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0280" y="1219320"/>
            <a:ext cx="80820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86E-A7C1-4F24-93A0-FA6887869B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34FA6-BC6A-4CF6-B275-5315F7A93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686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iciency of an Epicyclic T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72240" cy="8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6100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rcRect l="1025" t="2573" r="1636" b="0"/>
          <a:stretch/>
        </p:blipFill>
        <p:spPr>
          <a:xfrm>
            <a:off x="304920" y="3200400"/>
            <a:ext cx="452412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952880" y="4648320"/>
            <a:ext cx="395316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507-ADDD-4A9B-86A3-9513E0332D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FC430-DA18-4448-A117-076040D0C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8000" y="1676520"/>
            <a:ext cx="8386560" cy="40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cyclic Gears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424" t="0" r="4272" b="12335"/>
          <a:stretch/>
        </p:blipFill>
        <p:spPr>
          <a:xfrm>
            <a:off x="534960" y="1903320"/>
            <a:ext cx="4114800" cy="243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2160" y="4495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1-DOF Gear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78360" y="1827360"/>
            <a:ext cx="3762360" cy="3639960"/>
            <a:chOff x="4878360" y="1827360"/>
            <a:chExt cx="3762360" cy="363996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878360" y="1827360"/>
              <a:ext cx="376236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83280" y="44956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picyclic 2-DOF Gear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5638680" y="5029200"/>
              <a:ext cx="211464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563-C12B-43A3-B054-F48C586E06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23C7-3F9D-4FF7-A5EF-6A74C78447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cyclic Gear T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8040" y="1600200"/>
            <a:ext cx="7386480" cy="43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407-4A04-4032-B627-55C0B37080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3865E-60F9-4F17-AF1E-B847CCF62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cyclic Advant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ratios in small package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ly reve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-DOF allo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ratios without gear dis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have high efficiency if properly designed (but very poor efficiency if no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129-638B-42D0-AE24-5641C7504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8EBA7-2394-454E-BAEF-AC39F23D93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1981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vai’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welve Basic Epi-Cycl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6534000" cy="54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6E6-AAEC-4C22-ABC2-9766D66F48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F27D2-166C-4793-9348-347BB3E19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447920"/>
            <a:ext cx="85341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bula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86320" y="1676520"/>
            <a:ext cx="4838400" cy="150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5000400" cy="21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801880" cy="319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15000" y="4343400"/>
            <a:ext cx="609480" cy="20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715000" y="4648320"/>
            <a:ext cx="609480" cy="20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15000" y="5029200"/>
            <a:ext cx="609480" cy="209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962520" y="4343400"/>
            <a:ext cx="419040" cy="2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962520" y="4648320"/>
            <a:ext cx="457200" cy="25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962520" y="5029200"/>
            <a:ext cx="4381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543800" y="4495680"/>
            <a:ext cx="657360" cy="2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7543800" y="4876920"/>
            <a:ext cx="638280" cy="23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6553080" y="4309920"/>
            <a:ext cx="666720" cy="2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4746600" y="4321080"/>
            <a:ext cx="714240" cy="2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6629400" y="4659480"/>
            <a:ext cx="552600" cy="20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4843440" y="468144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6647040" y="5033880"/>
            <a:ext cx="533160" cy="247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4844880" y="5037120"/>
            <a:ext cx="590760" cy="2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8B4-5E64-4124-BF35-46C38F63B9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A2EF8-4277-4469-9476-72647D4C90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rguson’s Parad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43120" y="2057400"/>
            <a:ext cx="745776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20A-1DC7-4524-B09D-92EB2A121E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A081C-F05D-4A3C-99DB-7714CF1F9A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219320"/>
            <a:ext cx="86104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rguson’s Tabular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86400" y="1405080"/>
            <a:ext cx="4201560" cy="1512720"/>
            <a:chOff x="4586400" y="1405080"/>
            <a:chExt cx="4201560" cy="15127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0" t="0" r="26422" b="51662"/>
            <a:stretch/>
          </p:blipFill>
          <p:spPr>
            <a:xfrm>
              <a:off x="4597200" y="2079720"/>
              <a:ext cx="4190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586400" y="1405080"/>
              <a:ext cx="384804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230040" y="1338120"/>
            <a:ext cx="4114800" cy="3510360"/>
            <a:chOff x="230040" y="1338120"/>
            <a:chExt cx="4114800" cy="3510360"/>
          </a:xfrm>
        </p:grpSpPr>
        <p:grpSp>
          <p:nvGrpSpPr>
            <p:cNvPr id="84" name=""/>
            <p:cNvGrpSpPr/>
            <p:nvPr/>
          </p:nvGrpSpPr>
          <p:grpSpPr>
            <a:xfrm>
              <a:off x="230040" y="1338120"/>
              <a:ext cx="4114800" cy="3094200"/>
              <a:chOff x="230040" y="1338120"/>
              <a:chExt cx="4114800" cy="3094200"/>
            </a:xfrm>
          </p:grpSpPr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4960" y="1338120"/>
                <a:ext cx="3809880" cy="309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58640" y="1566720"/>
                <a:ext cx="685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4960" y="164304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ne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0040" y="205416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rm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5960" y="3492360"/>
                <a:ext cx="6098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457200" y="4572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x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914400" y="41911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05120" y="4572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520" y="4572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0200" y="41911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5120" y="419112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62520" y="3200400"/>
            <a:ext cx="473364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858000" y="3962520"/>
            <a:ext cx="62856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910560" y="4653000"/>
            <a:ext cx="6760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5087880" y="4686480"/>
            <a:ext cx="552600" cy="18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970680" y="4302000"/>
            <a:ext cx="533520" cy="21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989760" y="5003640"/>
            <a:ext cx="495360" cy="23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121360" y="4311720"/>
            <a:ext cx="552240" cy="21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5151600" y="5010120"/>
            <a:ext cx="552240" cy="2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6967440" y="5364000"/>
            <a:ext cx="561960" cy="209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5218200" y="5389560"/>
            <a:ext cx="514440" cy="1810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052960" y="4594320"/>
            <a:ext cx="738360" cy="1044360"/>
            <a:chOff x="5052960" y="4594320"/>
            <a:chExt cx="738360" cy="1044360"/>
          </a:xfrm>
        </p:grpSpPr>
        <p:sp>
          <p:nvSpPr>
            <p:cNvPr id="107" name=""/>
            <p:cNvSpPr/>
            <p:nvPr/>
          </p:nvSpPr>
          <p:spPr>
            <a:xfrm>
              <a:off x="5052960" y="4594320"/>
              <a:ext cx="68580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520" y="5257800"/>
              <a:ext cx="68580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FCA-4C12-45FC-A49E-7D3F386F7C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C634F-848B-468A-BCFC-A78DE162C3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43280" y="1752480"/>
            <a:ext cx="52578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tical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00480" y="1905120"/>
            <a:ext cx="2571480" cy="790560"/>
            <a:chOff x="2400480" y="1905120"/>
            <a:chExt cx="2571480" cy="7905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2400480" y="1905120"/>
              <a:ext cx="25714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3048120" y="2362320"/>
              <a:ext cx="170496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2400480" y="2819520"/>
            <a:ext cx="2409480" cy="757080"/>
            <a:chOff x="2400480" y="2819520"/>
            <a:chExt cx="2409480" cy="75708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2400480" y="2819520"/>
              <a:ext cx="24094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3048120" y="3281400"/>
              <a:ext cx="1676160" cy="2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324160" y="3809880"/>
            <a:ext cx="2857320" cy="924120"/>
            <a:chOff x="2324160" y="3809880"/>
            <a:chExt cx="2857320" cy="924120"/>
          </a:xfrm>
        </p:grpSpPr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2324160" y="3809880"/>
              <a:ext cx="23241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3086280" y="4191120"/>
              <a:ext cx="2095200" cy="54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2247840" y="4952880"/>
            <a:ext cx="4533840" cy="5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D4E-6C9B-44B5-A040-20D2B6442F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B8014-1A9C-4610-99B2-E552E1F61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1:12:57Z</dcterms:created>
  <dc:creator>Default</dc:creator>
  <dc:description/>
  <dc:language>en-US</dc:language>
  <cp:lastModifiedBy>Default</cp:lastModifiedBy>
  <dcterms:modified xsi:type="dcterms:W3CDTF">2004-09-07T00:40:29Z</dcterms:modified>
  <cp:revision>14</cp:revision>
  <dc:subject/>
  <dc:title>Epicyclic Gearing</dc:title>
</cp:coreProperties>
</file>