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FCB-8F14-4D81-88BA-EC8A71A1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5A8-0143-44D0-A743-D0FAB314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0E3-7AD6-48E3-97EF-275F611F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90E-AA19-41E6-9D90-3AA33A24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860-BA35-4EE8-8D33-F6FC09D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FBB-B323-45F3-9BB9-FB1D7EEC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522-9F6D-4FB5-B414-ACF7BFEA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A4E-77D9-42B8-9BB0-995B31D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15F-B3F4-4D9A-9BD8-8CE4DEDC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644-5EF6-4CBD-8907-FCF646F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E9B-85B9-49C6-8974-A3DAA4B1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95D-8A38-4EFA-83AD-FAED1DD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D3F-711C-4E82-8465-C904191E53DD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975-593A-4713-9258-121174E08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z 1 on 9/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d Book and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a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e (mm or in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FD9-EB29-4724-9BD2-766406D201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CE867-1405-44E6-A25F-D6D07B0462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676520"/>
            <a:ext cx="8153280" cy="426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ed Fivebar Coupler Cur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105520" cy="379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90480" y="2514600"/>
            <a:ext cx="25783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602-5DF3-4811-8A64-10AFAA6E92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3648A-C464-40CD-9F05-95DBB46D368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480" y="1228680"/>
            <a:ext cx="8905680" cy="486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ates – Cayley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9240" y="1343160"/>
            <a:ext cx="4152600" cy="4602960"/>
            <a:chOff x="219240" y="1343160"/>
            <a:chExt cx="4152600" cy="4602960"/>
          </a:xfrm>
        </p:grpSpPr>
        <p:sp>
          <p:nvSpPr>
            <p:cNvPr id="93" name=""/>
            <p:cNvSpPr/>
            <p:nvPr/>
          </p:nvSpPr>
          <p:spPr>
            <a:xfrm>
              <a:off x="219240" y="1343160"/>
              <a:ext cx="4152600" cy="40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rcRect l="6548" t="0" r="6548" b="5031"/>
            <a:stretch/>
          </p:blipFill>
          <p:spPr>
            <a:xfrm>
              <a:off x="219240" y="2685960"/>
              <a:ext cx="404784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447840" y="1542960"/>
              <a:ext cx="3504960" cy="938160"/>
              <a:chOff x="447840" y="1542960"/>
              <a:chExt cx="3504960" cy="93816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rcRect l="0" t="0" r="41777" b="0"/>
              <a:stretch/>
            </p:blipFill>
            <p:spPr>
              <a:xfrm>
                <a:off x="447840" y="1542960"/>
                <a:ext cx="3504960" cy="63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rcRect l="58231" t="36130" r="0" b="0"/>
              <a:stretch/>
            </p:blipFill>
            <p:spPr>
              <a:xfrm>
                <a:off x="523800" y="2076120"/>
                <a:ext cx="2514240" cy="40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"/>
            <p:cNvSpPr/>
            <p:nvPr/>
          </p:nvSpPr>
          <p:spPr>
            <a:xfrm>
              <a:off x="838080" y="54864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iginal Link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495680" y="1343160"/>
            <a:ext cx="4496040" cy="4602960"/>
            <a:chOff x="4495680" y="1343160"/>
            <a:chExt cx="4496040" cy="4602960"/>
          </a:xfrm>
        </p:grpSpPr>
        <p:sp>
          <p:nvSpPr>
            <p:cNvPr id="100" name=""/>
            <p:cNvSpPr/>
            <p:nvPr/>
          </p:nvSpPr>
          <p:spPr>
            <a:xfrm>
              <a:off x="4495680" y="548640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yley Diagram and Cogn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343160"/>
              <a:ext cx="4419720" cy="40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4"/>
            <a:srcRect l="1727" t="0" r="0" b="0"/>
            <a:stretch/>
          </p:blipFill>
          <p:spPr>
            <a:xfrm>
              <a:off x="4572000" y="1447920"/>
              <a:ext cx="4290840" cy="38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12E-F383-42B8-936C-886F0807BB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21B8E-DD2A-45ED-BFC1-7B37697750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760" y="1704960"/>
            <a:ext cx="8991720" cy="431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ates – Roberts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310" t="0" r="2611" b="0"/>
          <a:stretch/>
        </p:blipFill>
        <p:spPr>
          <a:xfrm>
            <a:off x="257040" y="1857240"/>
            <a:ext cx="4200840" cy="3333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erts Dia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29240" y="1876320"/>
            <a:ext cx="4181400" cy="3917520"/>
            <a:chOff x="4629240" y="1876320"/>
            <a:chExt cx="4181400" cy="391752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rcRect l="1537" t="0" r="1977" b="0"/>
            <a:stretch/>
          </p:blipFill>
          <p:spPr>
            <a:xfrm>
              <a:off x="4629240" y="1876320"/>
              <a:ext cx="41814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181480" y="53341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parated Cogn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07D-3033-41FC-818D-DA585BD313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1AE8F-9675-4DF2-B945-EC8345ECC0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yley-Robert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6AA-0E71-4293-B97B-34A8C55A3E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659C9-72B4-4989-9AD6-42E80A391A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ed Fivebar Cogn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37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E43-7AFF-4450-ADD0-D450505DF1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7A71-A75E-4816-872B-49C33CE240C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llel Motion -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352680" cy="2749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2529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8E9-1947-465B-98AD-A7D161CF2F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F2E27-C154-4334-936A-DCE86B886D1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llel Motion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09480" y="1295280"/>
            <a:ext cx="3324240" cy="4705560"/>
            <a:chOff x="609480" y="1295280"/>
            <a:chExt cx="3324240" cy="47055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609480" y="1295280"/>
              <a:ext cx="3324240" cy="47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00400" y="4610160"/>
              <a:ext cx="733320" cy="13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67080" y="1295280"/>
            <a:ext cx="4335480" cy="4648320"/>
            <a:chOff x="4267080" y="1295280"/>
            <a:chExt cx="4335480" cy="4648320"/>
          </a:xfrm>
        </p:grpSpPr>
        <p:grpSp>
          <p:nvGrpSpPr>
            <p:cNvPr id="122" name=""/>
            <p:cNvGrpSpPr/>
            <p:nvPr/>
          </p:nvGrpSpPr>
          <p:grpSpPr>
            <a:xfrm>
              <a:off x="4267080" y="1295280"/>
              <a:ext cx="4335480" cy="4648320"/>
              <a:chOff x="4267080" y="1295280"/>
              <a:chExt cx="4335480" cy="46483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267080" y="1295280"/>
                <a:ext cx="4335480" cy="4648320"/>
                <a:chOff x="4267080" y="1295280"/>
                <a:chExt cx="4335480" cy="464832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67080" y="1295280"/>
                  <a:ext cx="4335480" cy="464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4267080" y="1295280"/>
                  <a:ext cx="1219320" cy="2400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162920" y="144792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072200" y="1407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03F-D29D-4FF9-A641-E022456F14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11D68-BA40-46DC-9BC0-52C7949365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Constant Velocity, Slider-Crank Sixba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843200"/>
            <a:ext cx="8458200" cy="37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33F-94E7-4585-B7BB-5E8D1BDBD5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DAA1F-2EF3-4EB1-868F-C924FFBA2A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80 Degree Oscil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0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B54-0658-4FC0-B8D2-AD39A67FA8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60229-EFFD-4748-8C5E-DBD7A72DF9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12 Degree Oscil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35000"/>
            <a:ext cx="8076960" cy="29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C94-B0D2-4EC2-8AD2-29BA0FD497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763AD-0E1C-4E34-84C8-CC4E5C4C62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upler Curv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60 Degree Oscil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FE5-03C6-42A3-B78F-146E82593A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16421-1488-445D-91BE-1671ED6B1A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mote Center Circle Gen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8280" y="2133720"/>
            <a:ext cx="7867440" cy="32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505-93E2-47A6-9791-25E9CC8BEA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2D86B-304E-4E10-9061-B3A931B27A1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F8E-E6A7-47E5-A3DA-642B407F021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F2354-7EF2-488C-A9C6-1DD724CA7F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Four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83B-FC33-415E-87D4-C5EE46804D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3836-CD18-4837-AF62-FBC2BC553E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bar Coupler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es and Nelson At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ed Fivebar Coupler Cu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hang-Hammond At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s and Cayley Dia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ed Fivebar Cognates of Four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Link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E84-389C-403E-83A0-51AF3028B8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EC24B-AC58-4423-B795-CBBFD70EF0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480" y="1647720"/>
            <a:ext cx="8915400" cy="441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Infinity of Coupler Cur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1828800"/>
            <a:ext cx="3809880" cy="3200400"/>
            <a:chOff x="304920" y="1828800"/>
            <a:chExt cx="3809880" cy="3200400"/>
          </a:xfrm>
        </p:grpSpPr>
        <p:sp>
          <p:nvSpPr>
            <p:cNvPr id="50" name=""/>
            <p:cNvSpPr/>
            <p:nvPr/>
          </p:nvSpPr>
          <p:spPr>
            <a:xfrm>
              <a:off x="304920" y="1828800"/>
              <a:ext cx="3809880" cy="32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rcRect l="4357" t="3193" r="1906" b="0"/>
            <a:stretch/>
          </p:blipFill>
          <p:spPr>
            <a:xfrm>
              <a:off x="304920" y="2057400"/>
              <a:ext cx="3809880" cy="26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457200" y="5257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inite points on a coup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57720" y="1828800"/>
            <a:ext cx="4648320" cy="3888720"/>
            <a:chOff x="4257720" y="1828800"/>
            <a:chExt cx="4648320" cy="3888720"/>
          </a:xfrm>
        </p:grpSpPr>
        <p:grpSp>
          <p:nvGrpSpPr>
            <p:cNvPr id="54" name=""/>
            <p:cNvGrpSpPr/>
            <p:nvPr/>
          </p:nvGrpSpPr>
          <p:grpSpPr>
            <a:xfrm>
              <a:off x="4257720" y="1828800"/>
              <a:ext cx="4648320" cy="3200400"/>
              <a:chOff x="4257720" y="1828800"/>
              <a:chExt cx="4648320" cy="3200400"/>
            </a:xfrm>
          </p:grpSpPr>
          <p:sp>
            <p:nvSpPr>
              <p:cNvPr id="55" name=""/>
              <p:cNvSpPr/>
              <p:nvPr/>
            </p:nvSpPr>
            <p:spPr>
              <a:xfrm>
                <a:off x="4257720" y="1828800"/>
                <a:ext cx="4648320" cy="320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0000" y="1981080"/>
                <a:ext cx="1028880" cy="281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77040" y="1981080"/>
                <a:ext cx="1104840" cy="275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0040" y="1905120"/>
                <a:ext cx="1047600" cy="300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63040" y="2057400"/>
                <a:ext cx="1085760" cy="265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"/>
            <p:cNvSpPr/>
            <p:nvPr/>
          </p:nvSpPr>
          <p:spPr>
            <a:xfrm>
              <a:off x="4800600" y="52578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ssible shapes of cur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FBE-6590-4907-AFBF-AEF0E7C2AB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23BFD-0E4D-4A1E-8B50-95FEF752E7F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ying With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rones and Nelson Atl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00" y="1447920"/>
            <a:ext cx="8982000" cy="415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3642" r="0" b="1397"/>
          <a:stretch/>
        </p:blipFill>
        <p:spPr>
          <a:xfrm>
            <a:off x="247680" y="1581120"/>
            <a:ext cx="4200480" cy="322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5160" y="4915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ical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24480" y="1571760"/>
            <a:ext cx="4524120" cy="3803040"/>
            <a:chOff x="4524480" y="1571760"/>
            <a:chExt cx="4524120" cy="380304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4524480" y="1571760"/>
              <a:ext cx="452412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809960" y="4915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tracting the linkage in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C33-172F-456E-855D-60A1EEC6DA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E7A3C-DA9A-42A4-8548-1A180452CF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297080"/>
            <a:ext cx="7311960" cy="479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1833480" cy="3733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advance me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 susp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3343320" cy="181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3048120" cy="21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E59-2544-48BA-8F73-8FE20A0C75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128B1-8DA6-4B54-A19F-8B3F91290BC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metrical Fourbar Link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67040" y="1752480"/>
            <a:ext cx="5209920" cy="4021200"/>
            <a:chOff x="1967040" y="1752480"/>
            <a:chExt cx="5209920" cy="40212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967040" y="1752480"/>
              <a:ext cx="5209920" cy="40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853240" y="1904760"/>
              <a:ext cx="114300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786280" y="1876320"/>
              <a:ext cx="1257480" cy="27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264-97E9-4BA0-A3E7-314A1B9FD4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4E0D7-BBE0-4367-AF8D-0D2CC607A7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metrical Coupler Cur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981080"/>
            <a:ext cx="8763120" cy="359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29280" cy="3257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24520" cy="32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6CF-65D1-4E00-B64F-443C97EFE3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39BCB-9CF3-42B5-8653-1D69D82C775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5:54:36Z</dcterms:created>
  <dc:creator>Default</dc:creator>
  <dc:description/>
  <dc:language>en-US</dc:language>
  <cp:lastModifiedBy>norton</cp:lastModifiedBy>
  <dcterms:modified xsi:type="dcterms:W3CDTF">2005-08-30T01:31:54Z</dcterms:modified>
  <cp:revision>26</cp:revision>
  <dc:subject/>
  <dc:title>Lecture 4</dc:title>
</cp:coreProperties>
</file>