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46C-3BF2-4B08-8F54-DC3A708B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727-CA5E-42D2-AD52-8F076452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392-F2E4-4D3F-B223-2965D294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7D11-EE0B-41B0-B033-AF54F5D9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25D2-217E-4E14-886C-63ABFA0C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CB5-6E14-4486-8EB8-4D5A4C57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8DC-B196-44AB-A2DD-537E58C2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7E9-BC55-4C44-BAD5-048AC84B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851-31E5-4C7F-8B04-AD49E8D6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C963-38B1-41AE-8758-695D943B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946-FE60-45A9-8BD7-092C18E7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57B-C4E1-49A1-8441-5360BF94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BD49-EA6B-4B47-9392-0CCBA0B0B30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2BDA-F825-4F5B-B161-C37833E63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ar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circular Ge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1280" y="2057400"/>
            <a:ext cx="5029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rolling centr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drag-link fou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constant output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in printing presses and other rotating machin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spur or helical tee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80880" y="1447920"/>
            <a:ext cx="2562120" cy="4495320"/>
            <a:chOff x="380880" y="1447920"/>
            <a:chExt cx="2562120" cy="4495320"/>
          </a:xfrm>
        </p:grpSpPr>
        <p:sp>
          <p:nvSpPr>
            <p:cNvPr id="87" name=""/>
            <p:cNvSpPr/>
            <p:nvPr/>
          </p:nvSpPr>
          <p:spPr>
            <a:xfrm>
              <a:off x="380880" y="1447920"/>
              <a:ext cx="2562120" cy="44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36840" y="1621080"/>
              <a:ext cx="2060280" cy="41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4A8-CA07-4CB0-B54A-5258DC222D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C3D58-ED8B-450E-B503-D269357EBC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600200"/>
            <a:ext cx="7848720" cy="434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othed or Timing Be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4983120" cy="405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0" b="1853"/>
          <a:stretch/>
        </p:blipFill>
        <p:spPr>
          <a:xfrm>
            <a:off x="5943600" y="1752480"/>
            <a:ext cx="233856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1AC-261E-4892-90A3-436990DEFE5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67201-7FD8-4BCF-818B-B728D8DCA5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in Dri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1470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52880" y="3809880"/>
            <a:ext cx="3353040" cy="217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343836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160-0592-4339-893B-9FF3A85D5A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0CB18-CEDE-45AC-858E-620B002888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ur Ge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4952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th are parallel to 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st expensive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isier than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efficiency (99% / se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disenga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lash can be a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7200" y="1981080"/>
            <a:ext cx="2819160" cy="3353040"/>
            <a:chOff x="457200" y="1981080"/>
            <a:chExt cx="2819160" cy="3353040"/>
          </a:xfrm>
        </p:grpSpPr>
        <p:sp>
          <p:nvSpPr>
            <p:cNvPr id="46" name=""/>
            <p:cNvSpPr/>
            <p:nvPr/>
          </p:nvSpPr>
          <p:spPr>
            <a:xfrm>
              <a:off x="457200" y="1981080"/>
              <a:ext cx="2819160" cy="335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685800" y="2133720"/>
              <a:ext cx="2369880" cy="30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948E-0869-4FF6-9F26-4CF88AFE67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0FEB2-5572-45E3-9549-A856AFC2FF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1640" y="380520"/>
            <a:ext cx="3886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lical Ge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43040" y="15238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th not parallel to ax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expensive than sp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er tha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xial force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or crossed a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onger tooth s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er to diseng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52280" y="228600"/>
            <a:ext cx="3733560" cy="5943600"/>
            <a:chOff x="152280" y="228600"/>
            <a:chExt cx="3733560" cy="5943600"/>
          </a:xfrm>
        </p:grpSpPr>
        <p:sp>
          <p:nvSpPr>
            <p:cNvPr id="51" name=""/>
            <p:cNvSpPr/>
            <p:nvPr/>
          </p:nvSpPr>
          <p:spPr>
            <a:xfrm>
              <a:off x="152280" y="228600"/>
              <a:ext cx="3733560" cy="594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rcRect l="0" t="2593" r="0" b="4207"/>
            <a:stretch/>
          </p:blipFill>
          <p:spPr>
            <a:xfrm>
              <a:off x="2133360" y="380880"/>
              <a:ext cx="154296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2057040" y="3241800"/>
              <a:ext cx="163224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8240" y="1447920"/>
              <a:ext cx="17528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allel ax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e = 96 - 98%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240" y="4038480"/>
              <a:ext cx="1828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rossed ax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e = 50 - 90% 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8C7-36AE-4A79-A15F-CF72260500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77C9A-235A-4A08-BA27-6344222E5E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1295280"/>
            <a:ext cx="6248160" cy="259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ringbone Ge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87080" y="4038120"/>
            <a:ext cx="6591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opposite-hand helicals back to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cels axial force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quiet as hel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expensive to m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22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216-C603-4C70-BC65-FC3C560E29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6EEE7-49D8-44AF-8435-C5E03FC6EE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066680"/>
            <a:ext cx="853452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ck and Pin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40" y="3657600"/>
            <a:ext cx="7810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ry to linear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pur, helical, or herringb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ute becomes a straight line – trapezoidal tee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in “rack and pinion” st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as a cutter to make circular g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1233360"/>
            <a:ext cx="3581640" cy="219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219560" cy="18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5C6-6479-4DCD-BA0C-8A334B879A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FA1BA-59F8-4787-B935-71A453C561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ar Ho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hob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4441680" cy="375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B80-6B95-4213-B827-CB1FD01F03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6E1DD-F1F7-48B4-88FB-41CB504847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vel Ge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520" y="14479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rolling c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e apices must inters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axes intersect al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turn any corner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power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th are not invol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ight bevels are “spu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ral bevels are “helic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04920" y="1295280"/>
            <a:ext cx="3429000" cy="4647960"/>
            <a:chOff x="304920" y="1295280"/>
            <a:chExt cx="3429000" cy="4647960"/>
          </a:xfrm>
        </p:grpSpPr>
        <p:sp>
          <p:nvSpPr>
            <p:cNvPr id="70" name=""/>
            <p:cNvSpPr/>
            <p:nvPr/>
          </p:nvSpPr>
          <p:spPr>
            <a:xfrm>
              <a:off x="304920" y="1295280"/>
              <a:ext cx="3429000" cy="464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880" y="1981080"/>
              <a:ext cx="121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raight B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1676520" y="1504800"/>
              <a:ext cx="189540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1676520" y="3657240"/>
              <a:ext cx="18856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80880" y="426708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iral B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5DB-AE36-4212-A9E8-5B66F61DC5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DF048-69EB-40A6-9D86-BDA710341D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m and Whe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89360" y="1143000"/>
            <a:ext cx="5790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m has single tooth or “thread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io = no. of teeth on whe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m is “helical” with big helix 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eth are not invol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and installed as matched pa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intersecting orthogonal a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or double envelo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expensive 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design them to prevent “backdriv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efficiency (40 - 85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ratios obtainable in single s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torque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920" y="1828800"/>
            <a:ext cx="2209680" cy="3657600"/>
            <a:chOff x="304920" y="1828800"/>
            <a:chExt cx="2209680" cy="3657600"/>
          </a:xfrm>
        </p:grpSpPr>
        <p:sp>
          <p:nvSpPr>
            <p:cNvPr id="78" name=""/>
            <p:cNvSpPr/>
            <p:nvPr/>
          </p:nvSpPr>
          <p:spPr>
            <a:xfrm>
              <a:off x="304920" y="1828800"/>
              <a:ext cx="2209680" cy="36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457200" y="1981440"/>
              <a:ext cx="1905120" cy="334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2DA-9775-432B-9267-B27532A6FD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3C946-B4C8-4740-93A1-6EA750A533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1523880"/>
            <a:ext cx="5823000" cy="381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id Ge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19280" y="1981080"/>
            <a:ext cx="2971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ased on rolling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yperboloi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n-intersecting ax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n-involute tee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gh torque capac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ed in automotive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ifferentia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1657440"/>
            <a:ext cx="5538600" cy="35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679-EA0E-4D18-BA0C-2D807F84FA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7C9C3-49BC-4A45-B268-953A01034B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02:47:25Z</dcterms:created>
  <dc:creator>Default</dc:creator>
  <dc:description/>
  <dc:language>en-US</dc:language>
  <cp:lastModifiedBy>Default</cp:lastModifiedBy>
  <dcterms:modified xsi:type="dcterms:W3CDTF">2004-10-05T14:54:41Z</dcterms:modified>
  <cp:revision>14</cp:revision>
  <dc:subject/>
  <dc:title>Gear Tooth Theory</dc:title>
</cp:coreProperties>
</file>