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A5E-5C01-4F7D-BE2D-FD7D1BE2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656-E837-444E-8321-7ACA70C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D39-95BA-42AE-A9A5-4D1E37E0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97C-1C37-4E32-ABD4-52051C22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2BB-4286-405A-95A1-66C2CFC5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E7C-75BD-448D-896D-68CE581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D18-3D4E-4F6B-A5C0-D3FB3F81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F98-7EDB-45A1-93AD-89BA2DF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DFA-FC1E-414C-8736-F85463F8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175-3D70-430E-9EBF-33F0A38F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CA9-9DC2-4C4B-84F0-469D359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362-FE9F-47D8-9053-60E341BA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CAC1-7F2B-4552-8BB6-4A73F332A46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90B2-A023-44A6-9608-8072CC7D3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7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kage Position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z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ctor Loop – Slider Cran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760" y="1066680"/>
            <a:ext cx="8610480" cy="502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317600"/>
            <a:ext cx="41832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324160"/>
            <a:ext cx="3581280" cy="2209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1238400" cy="228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1743120" cy="266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2286000"/>
            <a:ext cx="2562120" cy="466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76920" y="2895480"/>
            <a:ext cx="3181320" cy="1771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876920" y="4952880"/>
            <a:ext cx="1504800" cy="5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A6E-1907-4435-B167-89902003AF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B1EBD-6C13-4598-A8EB-272CAB846D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ctor Loop – Inverted S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295280"/>
            <a:ext cx="32004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2783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86400" y="3787920"/>
            <a:ext cx="80028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4120" y="1425600"/>
            <a:ext cx="1162080" cy="295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334120" y="1730520"/>
            <a:ext cx="1733400" cy="295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334120" y="2035080"/>
            <a:ext cx="2523960" cy="4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334120" y="2568600"/>
            <a:ext cx="1866960" cy="32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334120" y="3021120"/>
            <a:ext cx="120960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rcRect l="0" t="0" r="0" b="14871"/>
          <a:stretch/>
        </p:blipFill>
        <p:spPr>
          <a:xfrm>
            <a:off x="5410080" y="3406680"/>
            <a:ext cx="2524320" cy="381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5486400" y="5083200"/>
            <a:ext cx="188604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5410080" y="4092480"/>
            <a:ext cx="1895760" cy="581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5486400" y="4778280"/>
            <a:ext cx="2143080" cy="2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373-BC12-4CE4-91E3-208B7EF831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D94DB-7595-4ED3-AD04-DEA94A18C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5680" y="1442880"/>
            <a:ext cx="6097320" cy="449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ve Thy Computer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246" t="3319" r="6445" b="5267"/>
          <a:stretch/>
        </p:blipFill>
        <p:spPr>
          <a:xfrm>
            <a:off x="1752480" y="160020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898-9A69-46A8-99D5-9AFF54DA16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DDC35-0CEA-4948-A474-8165B08ADA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er Progra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16761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/Engineer and Sym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hcad or Matlab or TKSo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015-19AB-4FED-89B9-655A566A99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1ED40-E833-4FBB-BD3D-2786AEFD9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e 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oints have same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e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ints have different dis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taneous translation and r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162920"/>
            <a:ext cx="6858000" cy="74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822960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e Figure 4-3, p. 168 for 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0280" y="4876920"/>
            <a:ext cx="7543800" cy="93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82920" y="4876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8D8-D1D4-4185-B87C-A938CF1BC1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6D117-A3E8-4414-8493-322F74B9CC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rdinate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15591"/>
          <a:stretch/>
        </p:blipFill>
        <p:spPr>
          <a:xfrm>
            <a:off x="1295280" y="1295280"/>
            <a:ext cx="6158160" cy="289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5280" y="4343400"/>
            <a:ext cx="6705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te System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CS = Global Coordinate System,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, 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LNCS = Local Non-Rotating Coordinate System ,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, 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RCS = Local Rotating Coordinate System , (</a:t>
            </a: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x’, y’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362320" y="1752480"/>
            <a:ext cx="2438280" cy="990720"/>
            <a:chOff x="2362320" y="1752480"/>
            <a:chExt cx="2438280" cy="990720"/>
          </a:xfrm>
        </p:grpSpPr>
        <p:sp>
          <p:nvSpPr>
            <p:cNvPr id="58" name=""/>
            <p:cNvSpPr/>
            <p:nvPr/>
          </p:nvSpPr>
          <p:spPr>
            <a:xfrm flipV="1">
              <a:off x="3124080" y="2209680"/>
              <a:ext cx="1371600" cy="5335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2820600" y="2130840"/>
              <a:ext cx="248040" cy="601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19720" y="1752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Times New Roman"/>
                </a:rPr>
                <a:t>x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2057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Times New Roman"/>
                </a:rPr>
                <a:t>y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054-60E6-4A7E-8C19-15A1314D29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6B749-C6A1-4F9F-AA08-72CA32CC2E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1384200"/>
            <a:ext cx="7619760" cy="472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ex Numbers as Ve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6480" y="1536840"/>
            <a:ext cx="73296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914400" y="5346720"/>
            <a:ext cx="7315200" cy="609480"/>
            <a:chOff x="914400" y="5346720"/>
            <a:chExt cx="7315200" cy="609480"/>
          </a:xfrm>
        </p:grpSpPr>
        <p:sp>
          <p:nvSpPr>
            <p:cNvPr id="66" name=""/>
            <p:cNvSpPr/>
            <p:nvPr/>
          </p:nvSpPr>
          <p:spPr>
            <a:xfrm>
              <a:off x="914400" y="5346720"/>
              <a:ext cx="73152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5257800" y="5540400"/>
              <a:ext cx="1228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6553080" y="5477040"/>
              <a:ext cx="15145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135080" y="546588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convert from polar to Cartesian form, use t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DC7-F3A5-4940-8E09-402EE92C72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730C1-67B8-4E95-B0AD-A06C914296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6760" y="1066680"/>
            <a:ext cx="8610480" cy="502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ctor Loop – Fourbar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06440" y="1155600"/>
            <a:ext cx="4051440" cy="2006640"/>
            <a:chOff x="406440" y="1155600"/>
            <a:chExt cx="4051440" cy="2006640"/>
          </a:xfrm>
        </p:grpSpPr>
        <p:sp>
          <p:nvSpPr>
            <p:cNvPr id="73" name=""/>
            <p:cNvSpPr/>
            <p:nvPr/>
          </p:nvSpPr>
          <p:spPr>
            <a:xfrm>
              <a:off x="406440" y="1155600"/>
              <a:ext cx="4051440" cy="200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0" t="0" r="256" b="0"/>
            <a:stretch/>
          </p:blipFill>
          <p:spPr>
            <a:xfrm>
              <a:off x="533520" y="1168560"/>
              <a:ext cx="3733560" cy="198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4572000" y="1155600"/>
            <a:ext cx="4183200" cy="47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6480" y="1312920"/>
            <a:ext cx="1323720" cy="247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48320" y="1533600"/>
            <a:ext cx="1895400" cy="266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648320" y="1917720"/>
            <a:ext cx="4038480" cy="29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676760" y="2193840"/>
            <a:ext cx="1838520" cy="390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724280" y="2705040"/>
            <a:ext cx="3486240" cy="3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667400" y="3000240"/>
            <a:ext cx="2724120" cy="27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4648320" y="3286080"/>
            <a:ext cx="3762360" cy="27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rcRect l="0" t="0" r="0" b="50654"/>
          <a:stretch/>
        </p:blipFill>
        <p:spPr>
          <a:xfrm>
            <a:off x="4711680" y="363204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4648320" y="4444920"/>
            <a:ext cx="17524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6791400" y="521964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425520" y="3265560"/>
            <a:ext cx="4038480" cy="26668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6934320" y="1447920"/>
            <a:ext cx="1218960" cy="233280"/>
            <a:chOff x="6934320" y="1447920"/>
            <a:chExt cx="1218960" cy="233280"/>
          </a:xfrm>
        </p:grpSpPr>
        <p:pic>
          <p:nvPicPr>
            <p:cNvPr id="88" name="" descr=""/>
            <p:cNvPicPr/>
            <p:nvPr/>
          </p:nvPicPr>
          <p:blipFill>
            <a:blip r:embed="rId13"/>
            <a:stretch/>
          </p:blipFill>
          <p:spPr>
            <a:xfrm>
              <a:off x="6991920" y="1447920"/>
              <a:ext cx="115344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934320" y="1447920"/>
              <a:ext cx="121896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4724280" y="5295960"/>
            <a:ext cx="1905120" cy="380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2705040"/>
            <a:ext cx="4038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917720"/>
            <a:ext cx="4038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295280"/>
            <a:ext cx="4038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5029200" y="4013280"/>
            <a:ext cx="3048120" cy="26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8320" y="3657600"/>
            <a:ext cx="4038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6438960" y="4444920"/>
            <a:ext cx="1181160" cy="59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7"/>
          <a:stretch/>
        </p:blipFill>
        <p:spPr>
          <a:xfrm>
            <a:off x="7569360" y="4444920"/>
            <a:ext cx="1056960" cy="58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36896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36896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5181480"/>
            <a:ext cx="2057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5181480"/>
            <a:ext cx="19051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97C-9511-4A0B-96F1-09DA827F87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A1010-5A7E-496D-9308-ED17DFE47C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ition of a Point on a Lin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295280"/>
            <a:ext cx="5181840" cy="472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76560" cy="334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0" r="0" b="44924"/>
          <a:stretch/>
        </p:blipFill>
        <p:spPr>
          <a:xfrm>
            <a:off x="2133720" y="4876920"/>
            <a:ext cx="4876560" cy="53316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2654280" y="2629080"/>
            <a:ext cx="2451240" cy="685800"/>
            <a:chOff x="2654280" y="2629080"/>
            <a:chExt cx="2451240" cy="685800"/>
          </a:xfrm>
        </p:grpSpPr>
        <p:sp>
          <p:nvSpPr>
            <p:cNvPr id="107" name=""/>
            <p:cNvSpPr/>
            <p:nvPr/>
          </p:nvSpPr>
          <p:spPr>
            <a:xfrm flipV="1">
              <a:off x="3416400" y="2781360"/>
              <a:ext cx="1371600" cy="5335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112560" y="2702520"/>
              <a:ext cx="248040" cy="601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4280" y="28195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Times New Roman"/>
                </a:rPr>
                <a:t>x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4280" y="2629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Times New Roman"/>
                </a:rPr>
                <a:t>y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1800" y="2057040"/>
            <a:ext cx="1676520" cy="2133720"/>
            <a:chOff x="2971800" y="2057040"/>
            <a:chExt cx="1676520" cy="2133720"/>
          </a:xfrm>
        </p:grpSpPr>
        <p:sp>
          <p:nvSpPr>
            <p:cNvPr id="112" name=""/>
            <p:cNvSpPr/>
            <p:nvPr/>
          </p:nvSpPr>
          <p:spPr>
            <a:xfrm flipV="1">
              <a:off x="2971800" y="2057040"/>
              <a:ext cx="1676520" cy="213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1920" y="333864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25000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971800" y="3352320"/>
            <a:ext cx="548640" cy="904680"/>
            <a:chOff x="2971800" y="3352320"/>
            <a:chExt cx="548640" cy="904680"/>
          </a:xfrm>
        </p:grpSpPr>
        <p:sp>
          <p:nvSpPr>
            <p:cNvPr id="115" name=""/>
            <p:cNvSpPr/>
            <p:nvPr/>
          </p:nvSpPr>
          <p:spPr>
            <a:xfrm flipV="1">
              <a:off x="2971800" y="3352320"/>
              <a:ext cx="380880" cy="838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2360" y="3886200"/>
              <a:ext cx="38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00"/>
                  </a:solidFill>
                  <a:latin typeface="Times New Roman"/>
                </a:rPr>
                <a:t>R</a:t>
              </a:r>
              <a:r>
                <a:rPr b="0" i="1" lang="en-US" sz="1600" spc="-1" strike="noStrike" baseline="-25000">
                  <a:solidFill>
                    <a:srgbClr val="00cc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rcRect l="0" t="47246" r="0" b="0"/>
          <a:stretch/>
        </p:blipFill>
        <p:spPr>
          <a:xfrm>
            <a:off x="2133720" y="5410080"/>
            <a:ext cx="4876560" cy="5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3F2-8577-4049-B2A5-6A8368E587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B05C4-2B2B-4CC4-A598-F6B885AE2C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A11-A904-4FC3-A927-5221E10235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8D58B-68DB-43BB-B6CF-134EA0713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01:06:39Z</dcterms:created>
  <dc:creator>Default</dc:creator>
  <dc:description/>
  <dc:language>en-US</dc:language>
  <cp:lastModifiedBy>norton</cp:lastModifiedBy>
  <dcterms:modified xsi:type="dcterms:W3CDTF">2005-09-08T13:37:11Z</dcterms:modified>
  <cp:revision>19</cp:revision>
  <dc:subject/>
  <dc:title>Lecture 8</dc:title>
</cp:coreProperties>
</file>