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1ADD-1565-4354-80AB-5B133EF5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9541-D112-40AF-90F5-2D193AB3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6497-5AE8-41C2-8C59-993CF6EC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3A12-DF33-457F-B03E-F2BB7EA4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9116-17E4-40D7-999C-A2E2C026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23A7-5E6B-4876-98D7-4419F417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1579-4CE0-4F3D-B51B-D7A85C91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8D67-23A0-4329-AF87-5AEF27CF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CB98-EDC9-4891-AE66-36D10CD9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3C90-D9F3-4A67-8E38-48D31051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9C01-16AD-4B6D-B4B5-66362BA7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340F-FEC7-4C22-8992-8E14C537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380F-C471-4F5F-956C-4C2B4FED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B622-4873-482E-8062-75B4A2B6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7CB1-54FE-4D67-AA4E-D946A583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CC46-4BE4-44B3-8FF0-782E6611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2FA1-1310-4010-A966-75EAE9DD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3B9A-3CB4-4620-AAAD-8A8A640B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4F53-4310-424E-B44B-0164A5D8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A079-87B3-4CFA-BEEC-5791375C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D18A-DC45-4BFF-9FFD-063AE413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4C7E-FC22-40A5-A50A-FCCB2191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8F02-52EF-4FC4-A306-8DD9C2BD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4370-1BD7-4A43-877F-1CF10326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A3B5-E4EE-42D8-A57D-92D3C5A81A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A618-D95A-41AA-9DC3-BC213E1CCB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39680"/>
            <a:ext cx="77724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am Design -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cture 2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adius of Curvature of Pitch Cur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191120"/>
            <a:ext cx="8229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 its paramet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, v, a, R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The minimum radius of curvature occurs near the point of minimum (i.e., maximum negative) acceler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 can only control it with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nc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, v,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defin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62120" y="2209680"/>
            <a:ext cx="401976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dercut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4479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dercut due to small negative radius of curv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648320" y="1828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7160" y="838080"/>
            <a:ext cx="426708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019920" y="4419720"/>
            <a:ext cx="2819160" cy="1904760"/>
            <a:chOff x="6019920" y="4419720"/>
            <a:chExt cx="2819160" cy="1904760"/>
          </a:xfrm>
        </p:grpSpPr>
        <p:sp>
          <p:nvSpPr>
            <p:cNvPr id="132" name=""/>
            <p:cNvSpPr/>
            <p:nvPr/>
          </p:nvSpPr>
          <p:spPr>
            <a:xfrm>
              <a:off x="6019920" y="4419720"/>
              <a:ext cx="2666880" cy="1904760"/>
            </a:xfrm>
            <a:prstGeom prst="rect">
              <a:avLst/>
            </a:prstGeom>
            <a:solidFill>
              <a:srgbClr val="00051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72200" y="45720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o Avoid Undercutting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72200" y="579132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 factor of 2 is desired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rcRect l="4528" t="0" r="0" b="0"/>
            <a:stretch/>
          </p:blipFill>
          <p:spPr>
            <a:xfrm>
              <a:off x="6477120" y="5105520"/>
              <a:ext cx="16095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228600" y="3048120"/>
            <a:ext cx="8763120" cy="3590640"/>
            <a:chOff x="228600" y="3048120"/>
            <a:chExt cx="8763120" cy="3590640"/>
          </a:xfrm>
        </p:grpSpPr>
        <p:grpSp>
          <p:nvGrpSpPr>
            <p:cNvPr id="137" name=""/>
            <p:cNvGrpSpPr/>
            <p:nvPr/>
          </p:nvGrpSpPr>
          <p:grpSpPr>
            <a:xfrm>
              <a:off x="228600" y="3048120"/>
              <a:ext cx="8763120" cy="3590640"/>
              <a:chOff x="228600" y="3048120"/>
              <a:chExt cx="8763120" cy="359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48520" y="3078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dercut due to small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positive radius of curvatu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3048120"/>
                <a:ext cx="5486400" cy="3590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"/>
            <p:cNvSpPr/>
            <p:nvPr/>
          </p:nvSpPr>
          <p:spPr>
            <a:xfrm flipH="1">
              <a:off x="5867280" y="341784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dius of Curvature Fun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816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5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ich of these looks like </a:t>
            </a:r>
            <a:r>
              <a:rPr b="1" lang="en-US" sz="4400" spc="-1" strike="noStrike">
                <a:solidFill>
                  <a:srgbClr val="e5e5ff"/>
                </a:solidFill>
                <a:latin typeface="Symbol"/>
                <a:ea typeface="Symbol"/>
              </a:rPr>
              <a:t>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5480" t="4931" r="24619" b="2116"/>
          <a:stretch/>
        </p:blipFill>
        <p:spPr>
          <a:xfrm>
            <a:off x="2133720" y="1295280"/>
            <a:ext cx="4768560" cy="5334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90720" y="1752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571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44240" y="2606400"/>
            <a:ext cx="62118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n DYNACA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44240" y="2606400"/>
            <a:ext cx="62118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n DYNACA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ressure Angle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and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Radius of Curvatur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VAJ Dia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5480" t="4931" r="24619" b="2116"/>
          <a:stretch/>
        </p:blipFill>
        <p:spPr>
          <a:xfrm>
            <a:off x="2133720" y="1371600"/>
            <a:ext cx="476856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90720" y="1752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71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ler Follower Termin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232" t="0" r="0" b="0"/>
          <a:stretch/>
        </p:blipFill>
        <p:spPr>
          <a:xfrm>
            <a:off x="1028880" y="1219320"/>
            <a:ext cx="70866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2971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ressure Angl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5200560" cy="6201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34490" t="0" r="27590" b="-12361"/>
          <a:stretch/>
        </p:blipFill>
        <p:spPr>
          <a:xfrm>
            <a:off x="304920" y="3048120"/>
            <a:ext cx="3047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oosing the Prime Cir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something about 3 times max lif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or all value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erate to an accep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pressure angle for a translating roller follower should b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&lt; = 30 degre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ccentricit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an be introduced to correct asymmetry in max and m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f desi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sure Angle Fun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6019560" cy="4168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34490" t="0" r="27590" b="-12361"/>
          <a:stretch/>
        </p:blipFill>
        <p:spPr>
          <a:xfrm>
            <a:off x="1905120" y="1371600"/>
            <a:ext cx="3047760" cy="76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15480" t="4931" r="24619" b="2116"/>
          <a:stretch/>
        </p:blipFill>
        <p:spPr>
          <a:xfrm>
            <a:off x="6400800" y="2971800"/>
            <a:ext cx="2521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2362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at Follow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52680" y="318960"/>
            <a:ext cx="553428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Radius of Curvatur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676520"/>
            <a:ext cx="80010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ff"/>
                </a:solidFill>
                <a:uFillTx/>
                <a:latin typeface="Times New Roman"/>
              </a:rPr>
              <a:t>Defini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vature of a mathematical function, such as a cam-follower displacement function, is proportional to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ate of change of dire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the func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is the function’s tangent, or its velocity.  Thus, curvature is primarily a function of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cond derivative of the fu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r its accele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adius of Curva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reciprocal of Curva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02:22:11Z</dcterms:created>
  <dc:creator>Default</dc:creator>
  <dc:description/>
  <dc:language>en-US</dc:language>
  <cp:lastModifiedBy>ME Dept.</cp:lastModifiedBy>
  <dcterms:modified xsi:type="dcterms:W3CDTF">2005-09-29T13:51:11Z</dcterms:modified>
  <cp:revision>5</cp:revision>
  <dc:subject/>
  <dc:title>Cam Design -3</dc:title>
</cp:coreProperties>
</file>