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B08F-16B1-46CC-90C3-31A3F69B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8FC-6BC9-4753-B2FC-3B00AA6E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12A-088C-433E-AA98-DDCE7DFC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235-6AA8-43F6-BDA3-98DA6998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641-E5CF-495B-87E2-9F817456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425-F3B1-4B61-9F00-5A345349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705-3602-47F0-A936-A6F5A701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4D7-D1B4-4B1F-9E58-51CE77FD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830-4F4A-4B95-963A-54E33BF2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A3F7-7605-478A-9912-8FD6A303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15F-E33D-4985-86FD-BAB355C5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05C-C8FE-4104-AD8E-0ED06C87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C329-BE6A-4FA2-A62F-ED1F9A76DB0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7EE4-2F01-4B5B-8291-5A3181BE3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ar Tooth The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sure Ang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71600" y="1600200"/>
            <a:ext cx="8200800" cy="46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893-4949-4960-9681-B6CE6CA1C4D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2576C-ED55-4DF2-AC2D-984FCBE49D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ar Tooth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7DA-ADF1-4343-96FA-BB16C255081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75C7C-08D8-4CA5-8BA7-59AB29B320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1873080"/>
            <a:ext cx="8686800" cy="399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oth Shape versus Pressure Ang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12640" y="2035080"/>
            <a:ext cx="8296560" cy="3632400"/>
            <a:chOff x="512640" y="2035080"/>
            <a:chExt cx="8296560" cy="363240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12640" y="2035080"/>
              <a:ext cx="2629080" cy="36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3338640" y="2057400"/>
              <a:ext cx="2600280" cy="36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6151680" y="2035080"/>
              <a:ext cx="2657520" cy="36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969840" y="5083200"/>
              <a:ext cx="533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89360" y="5083200"/>
              <a:ext cx="533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08880" y="5083200"/>
              <a:ext cx="5331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ABE-5432-4677-86F2-D9F6D45E52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F39F0-CF2E-4B57-8FE8-EE6729A171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volute Insensitiv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35240" y="1219320"/>
            <a:ext cx="6472080" cy="475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C4F-256A-40AD-A565-13E0AC1E36F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62AA6-F148-4455-A128-134F386DD2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mencla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04920" y="1523880"/>
            <a:ext cx="8162640" cy="4343400"/>
            <a:chOff x="304920" y="1523880"/>
            <a:chExt cx="8162640" cy="43434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304920" y="1523880"/>
              <a:ext cx="8162640" cy="434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rcRect l="0" t="5428" r="0" b="7237"/>
            <a:stretch/>
          </p:blipFill>
          <p:spPr>
            <a:xfrm>
              <a:off x="6727680" y="1609560"/>
              <a:ext cx="761760" cy="38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304920" y="1600200"/>
            <a:ext cx="2198520" cy="1066680"/>
            <a:chOff x="304920" y="1600200"/>
            <a:chExt cx="2198520" cy="1066680"/>
          </a:xfrm>
        </p:grpSpPr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1589040" y="1600200"/>
              <a:ext cx="79056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04920" y="1709640"/>
              <a:ext cx="136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ametral Pitc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6040" y="1600200"/>
              <a:ext cx="205740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9720" y="2209680"/>
              <a:ext cx="136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du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1741320" y="2133720"/>
              <a:ext cx="64800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7DB-025A-4DE3-9ED2-2FF1117692D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C3D14-DD3E-494E-A043-93C2AA1274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90720" y="3048120"/>
            <a:ext cx="22860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152280"/>
            <a:ext cx="4343400" cy="609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048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ndard Tooth Siz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1866960" cy="5190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1800360" cy="586728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990720" y="3124080"/>
            <a:ext cx="2198520" cy="1066680"/>
            <a:chOff x="990720" y="3124080"/>
            <a:chExt cx="2198520" cy="1066680"/>
          </a:xfrm>
        </p:grpSpPr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2274840" y="3124080"/>
              <a:ext cx="79056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990720" y="3233520"/>
              <a:ext cx="136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ametral Pitc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31840" y="3124080"/>
              <a:ext cx="205740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55520" y="3733560"/>
              <a:ext cx="136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du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2427120" y="3657600"/>
              <a:ext cx="64800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8F0-F7C2-4770-80A0-A8ED5EFD73B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6E01E-5425-4C82-822D-01E3CBC5C1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971720"/>
            <a:ext cx="8381880" cy="3803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0880" y="1828800"/>
            <a:ext cx="8610840" cy="4038480"/>
            <a:chOff x="380880" y="1828800"/>
            <a:chExt cx="8610840" cy="4038480"/>
          </a:xfrm>
        </p:grpSpPr>
        <p:sp>
          <p:nvSpPr>
            <p:cNvPr id="112" name=""/>
            <p:cNvSpPr/>
            <p:nvPr/>
          </p:nvSpPr>
          <p:spPr>
            <a:xfrm>
              <a:off x="380880" y="1828800"/>
              <a:ext cx="8610840" cy="4038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720" y="1905120"/>
              <a:ext cx="4800600" cy="350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4800600" y="2286000"/>
              <a:ext cx="1866960" cy="27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2514600" y="2133720"/>
              <a:ext cx="1876320" cy="30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25F-7F43-438E-AF2E-44B941210F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6E3A6-D425-4B1B-9F18-B9F40D2937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file-Shifted Gear Teet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43080" y="2057400"/>
            <a:ext cx="6657840" cy="34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A72-5023-4555-B950-259262AF34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85A4F-CD2C-4B64-9ECD-6E4FBA4484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080" y="1295280"/>
            <a:ext cx="8267400" cy="487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ars Are From Rolling Cylin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324480" y="1447920"/>
            <a:ext cx="2019240" cy="4635360"/>
            <a:chOff x="6324480" y="1447920"/>
            <a:chExt cx="2019240" cy="463536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6324480" y="1447920"/>
              <a:ext cx="1981080" cy="37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362640" y="525780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ternal Gears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581280" y="1676520"/>
            <a:ext cx="2286000" cy="4406760"/>
            <a:chOff x="3581280" y="1676520"/>
            <a:chExt cx="2286000" cy="44067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rcRect l="0" t="1954" r="2831" b="16103"/>
            <a:stretch/>
          </p:blipFill>
          <p:spPr>
            <a:xfrm>
              <a:off x="3581280" y="1676520"/>
              <a:ext cx="2286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809880" y="525780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ternal Cylind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85800" y="1905120"/>
            <a:ext cx="2552760" cy="4178160"/>
            <a:chOff x="685800" y="1905120"/>
            <a:chExt cx="2552760" cy="4178160"/>
          </a:xfrm>
        </p:grpSpPr>
        <p:pic>
          <p:nvPicPr>
            <p:cNvPr id="52" name="" descr=""/>
            <p:cNvPicPr/>
            <p:nvPr/>
          </p:nvPicPr>
          <p:blipFill>
            <a:blip r:embed="rId3"/>
            <a:srcRect l="0" t="0" r="0" b="12938"/>
            <a:stretch/>
          </p:blipFill>
          <p:spPr>
            <a:xfrm>
              <a:off x="685800" y="1905120"/>
              <a:ext cx="255276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066680" y="525780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ternal Cylind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602-23E3-431D-AE08-8F90E01284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63698-FCC5-48F9-A55F-AB08291FD3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 Rolling C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680" y="2057400"/>
            <a:ext cx="8001000" cy="37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F7A-8AC4-4765-8880-2F8E6404A14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A9489-EAAC-4979-A454-ECD38A16F0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038480" y="228600"/>
            <a:ext cx="4648320" cy="586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810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 Rolling Hyperbolo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16023" r="3686" b="2539"/>
          <a:stretch/>
        </p:blipFill>
        <p:spPr>
          <a:xfrm>
            <a:off x="4572000" y="833400"/>
            <a:ext cx="3733920" cy="5033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15000" y="29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intersecting ax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267-7B03-452F-9B01-1E555C002E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41A84-D6F5-4178-901B-881E37E9C4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67080" y="228600"/>
            <a:ext cx="3505320" cy="586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ling Centrod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make Noncircular Ge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0" y="457200"/>
            <a:ext cx="287640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17B9-1FCD-4C97-9B54-03C34EEA10B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97675-95E2-4CEF-820B-EE475276C3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circular Gears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991-E5D2-41E1-A46B-CBECA092A07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A6AD1-5F22-491D-8F41-37307B9B5F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ear Trains Have Equivalent Linkag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14440" y="1833480"/>
            <a:ext cx="8115120" cy="3191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52578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ything is a Fourbar Linkag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7E4-F902-4A6D-97FB-3D2F3296E0A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7DC96-5803-4D8D-A960-C39663C40E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damental Law of Gea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57400" y="2819520"/>
            <a:ext cx="3229200" cy="790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2120" y="20574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ngular Velocity Ratio is Constant at All Pos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4114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rque Ratio is Also Constant at All Pos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948040" y="4876920"/>
            <a:ext cx="324792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53C-B4CC-40F9-929D-9E5A26F4F6E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0C773-0153-45B3-8893-D86611A957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358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agic of the Involute Tooth Sha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1336" r="0" b="2720"/>
          <a:stretch/>
        </p:blipFill>
        <p:spPr>
          <a:xfrm>
            <a:off x="4952880" y="304920"/>
            <a:ext cx="254808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85E-7FB8-4B32-8B68-21C570DE724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D6F0F-D573-4731-904E-B3E828023B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9T02:47:25Z</dcterms:created>
  <dc:creator>Default</dc:creator>
  <dc:description/>
  <dc:language>en-US</dc:language>
  <cp:lastModifiedBy>ME Dept.</cp:lastModifiedBy>
  <dcterms:modified xsi:type="dcterms:W3CDTF">2005-10-03T13:38:45Z</dcterms:modified>
  <cp:revision>6</cp:revision>
  <dc:subject/>
  <dc:title>Gear Tooth Theory</dc:title>
</cp:coreProperties>
</file>