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DD98-EE0D-4AFE-B1C7-F40FEEC7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B778-8249-4C6D-95B9-3C6E9D99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BA22-B89F-4240-BD76-62C927C7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2856-F5D1-4ED0-BCC3-240632F6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41FC-63BC-4DB9-A9BD-B2371750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F455-DF22-43B4-BFE7-EEFBCF14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F1F4-6449-449D-B3CC-7E8BBCD9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0D79-E309-4AFE-A8F9-8F4537A6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BC05-0D55-494F-83C5-1CDB44CF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1F8C-DCE5-44B7-B3BD-757A4BFA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1AFE-8387-4196-8075-E0D223C6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30E7C-18C2-4E90-A7FD-750920F3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AF31-BADE-4663-8CEC-B8451F4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20A3-34A8-4056-9C59-3C8BCD55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966C-09E0-4E45-89CD-7A75A7AB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1043-89BF-47CD-A3C0-44F06362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0798-BDA7-4255-96A8-E0F903C2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C5BB-A0F3-4C29-8EA4-3032050C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80E8-0FC9-4C28-A8B2-6A56D445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4308-73C8-4A0F-8A73-CF2B75F1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3D74-E0C9-43F6-AFC6-883DD5EC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2212-D68B-48F9-A249-A57F0A1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99D9-DF9C-4097-A142-A8001A49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D8AA-F476-4087-9563-079F830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29CE-23E1-4268-BEE0-F8E03B4E716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9B5E-22AD-46F8-87E6-089C8729CE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2826-CFEC-47E6-9A4D-D6E114279E6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736F-CD8A-4DF8-A4D1-6288E02E5F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5.png"/><Relationship Id="rId1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ject 1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8 groups are on reco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reports were received by the deadli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sults are GOOD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des a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 = 1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n = 7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w = 4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ent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wo proposed student designs are potentially realizab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me groups used synthesis techniques effectively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me groups just “threw darts” with BF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me students show a very good understanding of kinematic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thers do no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me need to read the Project Report Specifications (again?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st need to view the Report writing Powerpoint slid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1A72-8118-4DC0-A729-A252AA7C9FF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84C2D-05F3-4725-9220-2AAB547829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89120" y="1827360"/>
            <a:ext cx="61531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77C1-C319-4B35-93FD-F9AC6CBEE2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37B03-6372-48CC-BB7B-92346A24FE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85880" y="1657440"/>
            <a:ext cx="62294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5E4C-17EA-4BA4-A897-2460A9D1B7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9BC14-493F-488C-85C7-9A432FB4B2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76520" y="1706400"/>
            <a:ext cx="6181560" cy="4286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1324080" cy="62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885A-63E2-498E-B046-9B667CBFBB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A3F58-826B-4BCC-BCCE-9A546E6A12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66800" y="1703520"/>
            <a:ext cx="6105600" cy="422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E0B6-E094-4D1F-8AC0-3E1686777C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E54D4-E289-47B3-9F56-121FE84BC1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35120" y="1569960"/>
            <a:ext cx="62006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CD1C-9C49-47C3-806A-FD6E74B07E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F56E2-7563-41FB-B6AF-87FA13BDFF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589040" y="1609560"/>
            <a:ext cx="6305400" cy="4400640"/>
            <a:chOff x="1589040" y="1609560"/>
            <a:chExt cx="6305400" cy="440064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589040" y="1609560"/>
              <a:ext cx="6305400" cy="44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6008760" y="1761840"/>
              <a:ext cx="17715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22D8A-F092-44F3-8763-8DCBA395F7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4EAAE-55BB-4EA7-9BDF-A6EA592D2B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76920" y="533520"/>
            <a:ext cx="403848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urbar Link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8600" y="1905120"/>
            <a:ext cx="4514760" cy="4114800"/>
            <a:chOff x="228600" y="1905120"/>
            <a:chExt cx="4514760" cy="4114800"/>
          </a:xfrm>
        </p:grpSpPr>
        <p:sp>
          <p:nvSpPr>
            <p:cNvPr id="149" name=""/>
            <p:cNvSpPr/>
            <p:nvPr/>
          </p:nvSpPr>
          <p:spPr>
            <a:xfrm>
              <a:off x="228600" y="1905120"/>
              <a:ext cx="449568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28600" y="1905120"/>
              <a:ext cx="4514760" cy="4114800"/>
              <a:chOff x="228600" y="1905120"/>
              <a:chExt cx="4514760" cy="4114800"/>
            </a:xfrm>
          </p:grpSpPr>
          <p:pic>
            <p:nvPicPr>
              <p:cNvPr id="151" name="" descr=""/>
              <p:cNvPicPr/>
              <p:nvPr/>
            </p:nvPicPr>
            <p:blipFill>
              <a:blip r:embed="rId1"/>
              <a:srcRect l="0" t="0" r="26254" b="5618"/>
              <a:stretch/>
            </p:blipFill>
            <p:spPr>
              <a:xfrm>
                <a:off x="228600" y="2819520"/>
                <a:ext cx="449568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2680" y="1905120"/>
                <a:ext cx="1390680" cy="94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3" name=""/>
          <p:cNvGrpSpPr/>
          <p:nvPr/>
        </p:nvGrpSpPr>
        <p:grpSpPr>
          <a:xfrm>
            <a:off x="5257800" y="4299120"/>
            <a:ext cx="3228480" cy="704160"/>
            <a:chOff x="5257800" y="4299120"/>
            <a:chExt cx="3228480" cy="704160"/>
          </a:xfrm>
        </p:grpSpPr>
        <p:grpSp>
          <p:nvGrpSpPr>
            <p:cNvPr id="154" name=""/>
            <p:cNvGrpSpPr/>
            <p:nvPr/>
          </p:nvGrpSpPr>
          <p:grpSpPr>
            <a:xfrm>
              <a:off x="5333760" y="4299120"/>
              <a:ext cx="3152520" cy="704160"/>
              <a:chOff x="5333760" y="4299120"/>
              <a:chExt cx="3152520" cy="704160"/>
            </a:xfrm>
          </p:grpSpPr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3760" y="4299120"/>
                <a:ext cx="3143160" cy="38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33760" y="4679640"/>
                <a:ext cx="3152520" cy="32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7" name=""/>
            <p:cNvSpPr/>
            <p:nvPr/>
          </p:nvSpPr>
          <p:spPr>
            <a:xfrm>
              <a:off x="5257800" y="4299120"/>
              <a:ext cx="3200040" cy="68544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029200" y="5126040"/>
            <a:ext cx="3753000" cy="687240"/>
            <a:chOff x="5029200" y="5126040"/>
            <a:chExt cx="3753000" cy="687240"/>
          </a:xfrm>
        </p:grpSpPr>
        <p:grpSp>
          <p:nvGrpSpPr>
            <p:cNvPr id="159" name=""/>
            <p:cNvGrpSpPr/>
            <p:nvPr/>
          </p:nvGrpSpPr>
          <p:grpSpPr>
            <a:xfrm>
              <a:off x="5029200" y="5213160"/>
              <a:ext cx="3723840" cy="600120"/>
              <a:chOff x="5029200" y="5213160"/>
              <a:chExt cx="3723840" cy="600120"/>
            </a:xfrm>
          </p:grpSpPr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9200" y="5213160"/>
                <a:ext cx="1857240" cy="60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933960" y="5213160"/>
                <a:ext cx="1819080" cy="60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5046840" y="5126040"/>
              <a:ext cx="3735360" cy="6858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562720" y="609480"/>
            <a:ext cx="2633400" cy="847800"/>
            <a:chOff x="5562720" y="609480"/>
            <a:chExt cx="2633400" cy="847800"/>
          </a:xfrm>
        </p:grpSpPr>
        <p:grpSp>
          <p:nvGrpSpPr>
            <p:cNvPr id="164" name=""/>
            <p:cNvGrpSpPr/>
            <p:nvPr/>
          </p:nvGrpSpPr>
          <p:grpSpPr>
            <a:xfrm>
              <a:off x="5562720" y="609480"/>
              <a:ext cx="2571480" cy="847800"/>
              <a:chOff x="5562720" y="609480"/>
              <a:chExt cx="2571480" cy="847800"/>
            </a:xfrm>
          </p:grpSpPr>
          <p:pic>
            <p:nvPicPr>
              <p:cNvPr id="1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867280" y="609480"/>
                <a:ext cx="1886040" cy="4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562720" y="1066680"/>
                <a:ext cx="2571480" cy="390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"/>
            <p:cNvSpPr/>
            <p:nvPr/>
          </p:nvSpPr>
          <p:spPr>
            <a:xfrm>
              <a:off x="5562720" y="641520"/>
              <a:ext cx="2633400" cy="7617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029200" y="3395520"/>
            <a:ext cx="3629160" cy="761760"/>
            <a:chOff x="5029200" y="3395520"/>
            <a:chExt cx="3629160" cy="761760"/>
          </a:xfrm>
        </p:grpSpPr>
        <p:pic>
          <p:nvPicPr>
            <p:cNvPr id="169" name="" descr=""/>
            <p:cNvPicPr/>
            <p:nvPr/>
          </p:nvPicPr>
          <p:blipFill>
            <a:blip r:embed="rId9"/>
            <a:stretch/>
          </p:blipFill>
          <p:spPr>
            <a:xfrm>
              <a:off x="5029200" y="3395520"/>
              <a:ext cx="36291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105520" y="3433680"/>
              <a:ext cx="3504960" cy="6858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334120" y="1676520"/>
            <a:ext cx="3124080" cy="1523880"/>
            <a:chOff x="5334120" y="1676520"/>
            <a:chExt cx="3124080" cy="1523880"/>
          </a:xfrm>
        </p:grpSpPr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5410080" y="1752480"/>
              <a:ext cx="284796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1"/>
            <a:srcRect l="12245" t="0" r="6132" b="0"/>
            <a:stretch/>
          </p:blipFill>
          <p:spPr>
            <a:xfrm>
              <a:off x="5486400" y="2438280"/>
              <a:ext cx="1523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2"/>
            <a:stretch/>
          </p:blipFill>
          <p:spPr>
            <a:xfrm>
              <a:off x="7162920" y="2209680"/>
              <a:ext cx="12477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334120" y="1676520"/>
              <a:ext cx="3124080" cy="15238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9440" y="2165400"/>
              <a:ext cx="1252440" cy="9586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7E47-DB37-4CE2-ABB9-2231F69C85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9322E-B852-4E5D-B95A-CD614AA10C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87692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ider Cran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905120"/>
            <a:ext cx="44956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628640" cy="1038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41911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5410080" y="838080"/>
            <a:ext cx="2895840" cy="882360"/>
            <a:chOff x="5410080" y="838080"/>
            <a:chExt cx="2895840" cy="882360"/>
          </a:xfrm>
        </p:grpSpPr>
        <p:sp>
          <p:nvSpPr>
            <p:cNvPr id="183" name=""/>
            <p:cNvSpPr/>
            <p:nvPr/>
          </p:nvSpPr>
          <p:spPr>
            <a:xfrm>
              <a:off x="5410080" y="838080"/>
              <a:ext cx="2895840" cy="8823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5486400" y="958680"/>
              <a:ext cx="269568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5257800" y="4299120"/>
            <a:ext cx="3200400" cy="685800"/>
            <a:chOff x="5257800" y="4299120"/>
            <a:chExt cx="3200400" cy="685800"/>
          </a:xfrm>
        </p:grpSpPr>
        <p:grpSp>
          <p:nvGrpSpPr>
            <p:cNvPr id="186" name=""/>
            <p:cNvGrpSpPr/>
            <p:nvPr/>
          </p:nvGrpSpPr>
          <p:grpSpPr>
            <a:xfrm>
              <a:off x="5562720" y="4299120"/>
              <a:ext cx="2476440" cy="682560"/>
              <a:chOff x="5562720" y="4299120"/>
              <a:chExt cx="2476440" cy="68256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62720" y="4299120"/>
                <a:ext cx="240984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91320" y="4648320"/>
                <a:ext cx="224784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" name=""/>
            <p:cNvSpPr/>
            <p:nvPr/>
          </p:nvSpPr>
          <p:spPr>
            <a:xfrm>
              <a:off x="5257800" y="4299120"/>
              <a:ext cx="3200400" cy="6858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952880" y="5126040"/>
            <a:ext cx="3886200" cy="685800"/>
            <a:chOff x="4952880" y="5126040"/>
            <a:chExt cx="3886200" cy="685800"/>
          </a:xfrm>
        </p:grpSpPr>
        <p:sp>
          <p:nvSpPr>
            <p:cNvPr id="191" name=""/>
            <p:cNvSpPr/>
            <p:nvPr/>
          </p:nvSpPr>
          <p:spPr>
            <a:xfrm>
              <a:off x="4952880" y="5126040"/>
              <a:ext cx="3886200" cy="6858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6"/>
            <a:stretch/>
          </p:blipFill>
          <p:spPr>
            <a:xfrm>
              <a:off x="5029200" y="5257800"/>
              <a:ext cx="13809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7"/>
            <a:stretch/>
          </p:blipFill>
          <p:spPr>
            <a:xfrm>
              <a:off x="6553080" y="5334120"/>
              <a:ext cx="221004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5334120" y="1905120"/>
            <a:ext cx="3124080" cy="2209680"/>
            <a:chOff x="5334120" y="1905120"/>
            <a:chExt cx="3124080" cy="2209680"/>
          </a:xfrm>
        </p:grpSpPr>
        <p:sp>
          <p:nvSpPr>
            <p:cNvPr id="195" name=""/>
            <p:cNvSpPr/>
            <p:nvPr/>
          </p:nvSpPr>
          <p:spPr>
            <a:xfrm>
              <a:off x="5334120" y="1905120"/>
              <a:ext cx="3124080" cy="220968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8"/>
            <a:stretch/>
          </p:blipFill>
          <p:spPr>
            <a:xfrm>
              <a:off x="5715000" y="1981080"/>
              <a:ext cx="223848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6019920" y="2362320"/>
              <a:ext cx="143820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0"/>
            <a:stretch/>
          </p:blipFill>
          <p:spPr>
            <a:xfrm>
              <a:off x="6172200" y="3048120"/>
              <a:ext cx="12193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1"/>
            <a:stretch/>
          </p:blipFill>
          <p:spPr>
            <a:xfrm>
              <a:off x="5670720" y="3411360"/>
              <a:ext cx="235260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2"/>
            <a:stretch/>
          </p:blipFill>
          <p:spPr>
            <a:xfrm>
              <a:off x="6248520" y="2743200"/>
              <a:ext cx="108576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515F-124D-4413-BE09-9A44809999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0300C-AA51-4A66-94FA-0E51ADCC79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732200" y="228600"/>
            <a:ext cx="425952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ared Fivebar Link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200" y="1893960"/>
            <a:ext cx="4343400" cy="4114800"/>
            <a:chOff x="160200" y="1893960"/>
            <a:chExt cx="4343400" cy="4114800"/>
          </a:xfrm>
        </p:grpSpPr>
        <p:sp>
          <p:nvSpPr>
            <p:cNvPr id="204" name=""/>
            <p:cNvSpPr/>
            <p:nvPr/>
          </p:nvSpPr>
          <p:spPr>
            <a:xfrm>
              <a:off x="160200" y="1893960"/>
              <a:ext cx="43434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60200" y="2122560"/>
              <a:ext cx="4313520" cy="3740040"/>
              <a:chOff x="160200" y="2122560"/>
              <a:chExt cx="4313520" cy="374004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200" y="2122560"/>
                <a:ext cx="4191120" cy="374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3589200" y="2427120"/>
                <a:ext cx="884520" cy="76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368440" y="1969920"/>
              <a:ext cx="1982880" cy="652320"/>
              <a:chOff x="2368440" y="1969920"/>
              <a:chExt cx="1982880" cy="652320"/>
            </a:xfrm>
          </p:grpSpPr>
          <p:pic>
            <p:nvPicPr>
              <p:cNvPr id="2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1080" y="1969920"/>
                <a:ext cx="17524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2368440" y="1969920"/>
                <a:ext cx="1982880" cy="652320"/>
              </a:xfrm>
              <a:prstGeom prst="rect">
                <a:avLst/>
              </a:prstGeom>
              <a:noFill/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5105520" y="380880"/>
            <a:ext cx="3581280" cy="838440"/>
            <a:chOff x="5105520" y="380880"/>
            <a:chExt cx="3581280" cy="838440"/>
          </a:xfrm>
        </p:grpSpPr>
        <p:sp>
          <p:nvSpPr>
            <p:cNvPr id="212" name=""/>
            <p:cNvSpPr/>
            <p:nvPr/>
          </p:nvSpPr>
          <p:spPr>
            <a:xfrm>
              <a:off x="5105520" y="380880"/>
              <a:ext cx="3581280" cy="83844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3"/>
            <a:stretch/>
          </p:blipFill>
          <p:spPr>
            <a:xfrm>
              <a:off x="5790960" y="457200"/>
              <a:ext cx="214308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5410080" y="838080"/>
              <a:ext cx="3190680" cy="3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4952880" y="1371600"/>
            <a:ext cx="3886200" cy="1143000"/>
            <a:chOff x="4952880" y="1371600"/>
            <a:chExt cx="3886200" cy="1143000"/>
          </a:xfrm>
        </p:grpSpPr>
        <p:sp>
          <p:nvSpPr>
            <p:cNvPr id="216" name=""/>
            <p:cNvSpPr/>
            <p:nvPr/>
          </p:nvSpPr>
          <p:spPr>
            <a:xfrm>
              <a:off x="4952880" y="1371600"/>
              <a:ext cx="3886200" cy="11430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5"/>
            <a:stretch/>
          </p:blipFill>
          <p:spPr>
            <a:xfrm>
              <a:off x="5029200" y="1447920"/>
              <a:ext cx="366696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6"/>
            <a:stretch/>
          </p:blipFill>
          <p:spPr>
            <a:xfrm>
              <a:off x="5010120" y="1862280"/>
              <a:ext cx="37911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"/>
          <p:cNvGrpSpPr/>
          <p:nvPr/>
        </p:nvGrpSpPr>
        <p:grpSpPr>
          <a:xfrm>
            <a:off x="3267000" y="2757600"/>
            <a:ext cx="1123920" cy="542880"/>
            <a:chOff x="3267000" y="2757600"/>
            <a:chExt cx="1123920" cy="542880"/>
          </a:xfrm>
        </p:grpSpPr>
        <p:pic>
          <p:nvPicPr>
            <p:cNvPr id="220" name="" descr=""/>
            <p:cNvPicPr/>
            <p:nvPr/>
          </p:nvPicPr>
          <p:blipFill>
            <a:blip r:embed="rId7"/>
            <a:stretch/>
          </p:blipFill>
          <p:spPr>
            <a:xfrm>
              <a:off x="3267000" y="2757600"/>
              <a:ext cx="112392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3343320" y="3062520"/>
              <a:ext cx="9334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267000" y="2757600"/>
              <a:ext cx="1066680" cy="53352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884840" y="2666880"/>
            <a:ext cx="3954240" cy="685800"/>
            <a:chOff x="4884840" y="2666880"/>
            <a:chExt cx="3954240" cy="685800"/>
          </a:xfrm>
        </p:grpSpPr>
        <p:sp>
          <p:nvSpPr>
            <p:cNvPr id="224" name=""/>
            <p:cNvSpPr/>
            <p:nvPr/>
          </p:nvSpPr>
          <p:spPr>
            <a:xfrm>
              <a:off x="4884840" y="2666880"/>
              <a:ext cx="3954240" cy="6858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9"/>
            <a:stretch/>
          </p:blipFill>
          <p:spPr>
            <a:xfrm>
              <a:off x="4941720" y="2730600"/>
              <a:ext cx="389592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"/>
          <p:cNvGrpSpPr/>
          <p:nvPr/>
        </p:nvGrpSpPr>
        <p:grpSpPr>
          <a:xfrm>
            <a:off x="4884840" y="3505320"/>
            <a:ext cx="3954240" cy="1371600"/>
            <a:chOff x="4884840" y="3505320"/>
            <a:chExt cx="3954240" cy="1371600"/>
          </a:xfrm>
        </p:grpSpPr>
        <p:sp>
          <p:nvSpPr>
            <p:cNvPr id="227" name=""/>
            <p:cNvSpPr/>
            <p:nvPr/>
          </p:nvSpPr>
          <p:spPr>
            <a:xfrm>
              <a:off x="4884840" y="3505320"/>
              <a:ext cx="3954240" cy="13716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10"/>
            <a:stretch/>
          </p:blipFill>
          <p:spPr>
            <a:xfrm>
              <a:off x="5029200" y="3581280"/>
              <a:ext cx="37814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1"/>
            <a:stretch/>
          </p:blipFill>
          <p:spPr>
            <a:xfrm>
              <a:off x="5334120" y="4267080"/>
              <a:ext cx="306684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4884840" y="5029200"/>
            <a:ext cx="3954240" cy="858960"/>
            <a:chOff x="4884840" y="5029200"/>
            <a:chExt cx="3954240" cy="858960"/>
          </a:xfrm>
        </p:grpSpPr>
        <p:sp>
          <p:nvSpPr>
            <p:cNvPr id="231" name=""/>
            <p:cNvSpPr/>
            <p:nvPr/>
          </p:nvSpPr>
          <p:spPr>
            <a:xfrm>
              <a:off x="4884840" y="5029200"/>
              <a:ext cx="3954240" cy="8589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2"/>
            <a:stretch/>
          </p:blipFill>
          <p:spPr>
            <a:xfrm>
              <a:off x="4952880" y="5105520"/>
              <a:ext cx="182880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3"/>
            <a:stretch/>
          </p:blipFill>
          <p:spPr>
            <a:xfrm>
              <a:off x="6781680" y="5105520"/>
              <a:ext cx="1905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4"/>
            <a:stretch/>
          </p:blipFill>
          <p:spPr>
            <a:xfrm>
              <a:off x="4952880" y="5486400"/>
              <a:ext cx="182880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5"/>
            <a:stretch/>
          </p:blipFill>
          <p:spPr>
            <a:xfrm>
              <a:off x="7010280" y="5486400"/>
              <a:ext cx="1314720" cy="29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C2B2-5302-4589-A43C-49CF5DF65E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5AAA9-5B5B-44AD-92EC-0BC0443641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876920" y="228600"/>
            <a:ext cx="403848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rted Slider Cran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1905120"/>
            <a:ext cx="44956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410080" y="380880"/>
            <a:ext cx="2895840" cy="838440"/>
            <a:chOff x="5410080" y="380880"/>
            <a:chExt cx="2895840" cy="838440"/>
          </a:xfrm>
        </p:grpSpPr>
        <p:sp>
          <p:nvSpPr>
            <p:cNvPr id="240" name=""/>
            <p:cNvSpPr/>
            <p:nvPr/>
          </p:nvSpPr>
          <p:spPr>
            <a:xfrm>
              <a:off x="5410080" y="380880"/>
              <a:ext cx="2895840" cy="83844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5486400" y="457200"/>
              <a:ext cx="269568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" name="" descr=""/>
          <p:cNvPicPr/>
          <p:nvPr/>
        </p:nvPicPr>
        <p:blipFill>
          <a:blip r:embed="rId2"/>
          <a:srcRect l="0" t="0" r="14747" b="0"/>
          <a:stretch/>
        </p:blipFill>
        <p:spPr>
          <a:xfrm>
            <a:off x="380880" y="2514600"/>
            <a:ext cx="4361040" cy="3257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35520" y="4421160"/>
            <a:ext cx="71424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219320" y="2133720"/>
            <a:ext cx="895320" cy="295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505320" y="2133720"/>
            <a:ext cx="799920" cy="31428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5105520" y="1371600"/>
            <a:ext cx="3581280" cy="1143000"/>
            <a:chOff x="5105520" y="1371600"/>
            <a:chExt cx="3581280" cy="1143000"/>
          </a:xfrm>
        </p:grpSpPr>
        <p:sp>
          <p:nvSpPr>
            <p:cNvPr id="247" name=""/>
            <p:cNvSpPr/>
            <p:nvPr/>
          </p:nvSpPr>
          <p:spPr>
            <a:xfrm>
              <a:off x="5105520" y="1371600"/>
              <a:ext cx="3581280" cy="11430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5181480" y="1447560"/>
              <a:ext cx="332424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7"/>
            <a:stretch/>
          </p:blipFill>
          <p:spPr>
            <a:xfrm>
              <a:off x="5181480" y="1904760"/>
              <a:ext cx="350532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5029200" y="2666880"/>
            <a:ext cx="3828960" cy="685800"/>
            <a:chOff x="5029200" y="2666880"/>
            <a:chExt cx="3828960" cy="685800"/>
          </a:xfrm>
        </p:grpSpPr>
        <p:pic>
          <p:nvPicPr>
            <p:cNvPr id="251" name="" descr=""/>
            <p:cNvPicPr/>
            <p:nvPr/>
          </p:nvPicPr>
          <p:blipFill>
            <a:blip r:embed="rId8"/>
            <a:stretch/>
          </p:blipFill>
          <p:spPr>
            <a:xfrm>
              <a:off x="5181480" y="2971440"/>
              <a:ext cx="36766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9"/>
            <a:stretch/>
          </p:blipFill>
          <p:spPr>
            <a:xfrm>
              <a:off x="5105520" y="2685960"/>
              <a:ext cx="3705120" cy="2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029200" y="2666880"/>
              <a:ext cx="3809880" cy="6858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29200" y="3505320"/>
            <a:ext cx="3809880" cy="761760"/>
            <a:chOff x="5029200" y="3505320"/>
            <a:chExt cx="3809880" cy="761760"/>
          </a:xfrm>
        </p:grpSpPr>
        <p:sp>
          <p:nvSpPr>
            <p:cNvPr id="255" name=""/>
            <p:cNvSpPr/>
            <p:nvPr/>
          </p:nvSpPr>
          <p:spPr>
            <a:xfrm>
              <a:off x="5029200" y="3505320"/>
              <a:ext cx="3809880" cy="76176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10"/>
            <a:stretch/>
          </p:blipFill>
          <p:spPr>
            <a:xfrm>
              <a:off x="5181480" y="3581280"/>
              <a:ext cx="3333960" cy="62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5029200" y="4419720"/>
            <a:ext cx="3809880" cy="1468440"/>
            <a:chOff x="5029200" y="4419720"/>
            <a:chExt cx="3809880" cy="1468440"/>
          </a:xfrm>
        </p:grpSpPr>
        <p:sp>
          <p:nvSpPr>
            <p:cNvPr id="258" name=""/>
            <p:cNvSpPr/>
            <p:nvPr/>
          </p:nvSpPr>
          <p:spPr>
            <a:xfrm>
              <a:off x="5029200" y="4419720"/>
              <a:ext cx="3809880" cy="146844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11"/>
            <a:stretch/>
          </p:blipFill>
          <p:spPr>
            <a:xfrm>
              <a:off x="5334120" y="4496040"/>
              <a:ext cx="30286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2"/>
            <a:stretch/>
          </p:blipFill>
          <p:spPr>
            <a:xfrm>
              <a:off x="5867280" y="5105520"/>
              <a:ext cx="19051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1219320" y="2057400"/>
            <a:ext cx="1066680" cy="45720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52680" y="2057400"/>
            <a:ext cx="1067040" cy="45720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2408040" y="4258800"/>
            <a:ext cx="1401480" cy="236520"/>
          </a:xfrm>
          <a:prstGeom prst="line">
            <a:avLst/>
          </a:prstGeom>
          <a:ln w="9360">
            <a:solidFill>
              <a:srgbClr val="a886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A313-F06A-45BA-B4FB-0BFFF7C3588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EAA84-529E-4C33-9C89-B5B9723B11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aluation and Team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industr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engineering is done in tea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performance will be continually evaluated by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supervisors and mana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teammates and co-work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custom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compensation and advancement (and your job) depends on their collective evalu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“hard” and how “well” you are working will be judged by them, not by yo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have an obligation to your team as well as to the company to carry your loa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CBBE-C0D2-41A5-B760-A5906A5539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8378C-8B4F-4FFA-8B80-0E9C059EC3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732200" y="1905120"/>
            <a:ext cx="42595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a Poi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"/>
          <p:cNvSpPr/>
          <p:nvPr/>
        </p:nvSpPr>
        <p:spPr>
          <a:xfrm>
            <a:off x="160200" y="1893960"/>
            <a:ext cx="4343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4191120" cy="2617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895480" y="2057400"/>
            <a:ext cx="1390680" cy="108576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4952880" y="2209680"/>
            <a:ext cx="3886200" cy="1143000"/>
            <a:chOff x="4952880" y="2209680"/>
            <a:chExt cx="3886200" cy="1143000"/>
          </a:xfrm>
        </p:grpSpPr>
        <p:sp>
          <p:nvSpPr>
            <p:cNvPr id="270" name=""/>
            <p:cNvSpPr/>
            <p:nvPr/>
          </p:nvSpPr>
          <p:spPr>
            <a:xfrm>
              <a:off x="4952880" y="2209680"/>
              <a:ext cx="3886200" cy="11430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5029200" y="2286000"/>
              <a:ext cx="37623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4"/>
            <a:stretch/>
          </p:blipFill>
          <p:spPr>
            <a:xfrm>
              <a:off x="6095880" y="2895480"/>
              <a:ext cx="132408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4884840" y="3886200"/>
            <a:ext cx="3954240" cy="1676520"/>
            <a:chOff x="4884840" y="3886200"/>
            <a:chExt cx="3954240" cy="1676520"/>
          </a:xfrm>
        </p:grpSpPr>
        <p:sp>
          <p:nvSpPr>
            <p:cNvPr id="274" name=""/>
            <p:cNvSpPr/>
            <p:nvPr/>
          </p:nvSpPr>
          <p:spPr>
            <a:xfrm>
              <a:off x="4884840" y="3886200"/>
              <a:ext cx="3954240" cy="167652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5"/>
            <a:stretch/>
          </p:blipFill>
          <p:spPr>
            <a:xfrm>
              <a:off x="4952880" y="4419720"/>
              <a:ext cx="38102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6"/>
            <a:stretch/>
          </p:blipFill>
          <p:spPr>
            <a:xfrm>
              <a:off x="6172200" y="4876920"/>
              <a:ext cx="133344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7"/>
            <a:stretch/>
          </p:blipFill>
          <p:spPr>
            <a:xfrm>
              <a:off x="4952880" y="4038840"/>
              <a:ext cx="3819600" cy="34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1E9F-1120-4EAF-A926-054356184D1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94083-B5F6-4BA2-BB33-2EFF5F3C1D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2133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a Point on a Lin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6248520" cy="390348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304920" y="4648320"/>
            <a:ext cx="4190760" cy="1295280"/>
            <a:chOff x="304920" y="4648320"/>
            <a:chExt cx="4190760" cy="1295280"/>
          </a:xfrm>
        </p:grpSpPr>
        <p:sp>
          <p:nvSpPr>
            <p:cNvPr id="281" name=""/>
            <p:cNvSpPr/>
            <p:nvPr/>
          </p:nvSpPr>
          <p:spPr>
            <a:xfrm>
              <a:off x="304920" y="4648320"/>
              <a:ext cx="41907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24280"/>
              <a:ext cx="3885840" cy="114264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160" y="4800600"/>
              <a:ext cx="376200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1600200" y="5410080"/>
              <a:ext cx="1323360" cy="36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4724280" y="4648320"/>
            <a:ext cx="4190760" cy="1295280"/>
            <a:chOff x="4724280" y="4648320"/>
            <a:chExt cx="4190760" cy="1295280"/>
          </a:xfrm>
        </p:grpSpPr>
        <p:sp>
          <p:nvSpPr>
            <p:cNvPr id="286" name=""/>
            <p:cNvSpPr/>
            <p:nvPr/>
          </p:nvSpPr>
          <p:spPr>
            <a:xfrm>
              <a:off x="4724280" y="4648320"/>
              <a:ext cx="41907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821120" y="4778280"/>
              <a:ext cx="3954240" cy="1085040"/>
              <a:chOff x="4821120" y="4778280"/>
              <a:chExt cx="3954240" cy="1085040"/>
            </a:xfrm>
          </p:grpSpPr>
          <p:pic>
            <p:nvPicPr>
              <p:cNvPr id="28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89160" y="5158800"/>
                <a:ext cx="3809520" cy="39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108480" y="5463720"/>
                <a:ext cx="1333080" cy="39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89160" y="4778280"/>
                <a:ext cx="381924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89160" y="4854240"/>
                <a:ext cx="3819240" cy="34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4821120" y="4778280"/>
                <a:ext cx="3954240" cy="1066320"/>
              </a:xfrm>
              <a:prstGeom prst="rect">
                <a:avLst/>
              </a:prstGeom>
              <a:noFill/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353F-67A1-42F0-A22D-A54E14ED99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45F51-A8FC-4963-8E8E-DFA2C9842E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9798-68C4-4EF3-B676-AC0E787112C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095DE-FD9E-4027-B830-C734EFACFA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urbar Demons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57D4-4526-49D6-A975-CCDFB8AB61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62426-E4E8-4A22-95A7-B356ADBF3D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ider Demons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3583-6258-4CD9-B8AC-BAC6AC8D5D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6F1A3-AB1B-4615-8B77-508D138AF1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ared Fivebar Demons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A251-F27A-4CE8-A96E-391161E786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59BCF-AE2C-4485-90F7-A309B05414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93968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elocity Analysi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55880" y="2257560"/>
            <a:ext cx="4210200" cy="313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3F98-4936-4B82-8957-A67B210DF7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6D69A-BE5F-4371-A9CC-338B0C240F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68600" y="2081160"/>
            <a:ext cx="5476680" cy="32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D909-CF38-4923-A7E3-8709DCA1D2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8F8D6-AB7A-409E-BE7A-D3FAA5E76B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28720" y="2155680"/>
            <a:ext cx="521964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B8F0-19D6-4968-B352-1982692213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80EC3-588C-4858-89D6-DA09DB7C56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00280" y="2133720"/>
            <a:ext cx="5286240" cy="38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477120" y="3352680"/>
            <a:ext cx="135252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0784-2FB2-4696-A00C-9CC916DA9C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0B303-1D35-4E1A-BA1B-F0D50A6232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66800" y="1981080"/>
            <a:ext cx="535320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CF2E-CBBA-4608-9C43-0593F50FB3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256E8-D9EC-4BA3-A1ED-99AB91CB3A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6280" y="1362240"/>
            <a:ext cx="670572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locity of Slip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62200" y="1906560"/>
            <a:ext cx="52290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F56E-C463-4EA8-BD69-A214D4555D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54024-221A-4DF7-9F41-56266082DF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6:36:52Z</dcterms:created>
  <dc:creator>Default</dc:creator>
  <dc:description/>
  <dc:language>en-US</dc:language>
  <cp:lastModifiedBy>norton</cp:lastModifiedBy>
  <dcterms:modified xsi:type="dcterms:W3CDTF">2005-09-19T02:16:57Z</dcterms:modified>
  <cp:revision>24</cp:revision>
  <dc:subject/>
  <dc:title>Velocity Analysis</dc:title>
</cp:coreProperties>
</file>