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D59-7228-41D5-9F9B-011235E2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896-AF95-4C8F-A138-662375AF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964-89B3-4CCA-9C18-6FCD03A5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026-C30F-484C-9886-9BCAD5B3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843-A84E-431B-BEFF-5DFBB2E7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CC6-C927-4ED3-9DFE-08C62B96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485-4C16-45D0-AF81-BF68B0A1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8CDF-7650-415A-9640-3CC3C3ED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7DC5-1CE0-4271-98CF-8B50C8D7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E1A-BE36-4072-8175-89BBB814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D275-925F-4287-9A25-777218B4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465-2574-4C7C-AB1D-06EDF7EE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75C4-630F-45CC-B7F5-43EA435583C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54DF-AEBD-4D8B-B8FC-C4E228760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stant Centers of Velocity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d Centrod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1143000"/>
            <a:ext cx="8153640" cy="4876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2209680"/>
            <a:ext cx="205740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gular Velocity Rat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317600"/>
            <a:ext cx="7696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52886"/>
          <a:stretch/>
        </p:blipFill>
        <p:spPr>
          <a:xfrm>
            <a:off x="762120" y="1371600"/>
            <a:ext cx="7467480" cy="555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5410440" cy="3592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248520" y="4908600"/>
            <a:ext cx="1981080" cy="662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257480" y="5486400"/>
            <a:ext cx="1285560" cy="266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rcRect l="0" t="0" r="0" b="23852"/>
          <a:stretch/>
        </p:blipFill>
        <p:spPr>
          <a:xfrm>
            <a:off x="4076640" y="5410080"/>
            <a:ext cx="140976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6324480" y="2419200"/>
            <a:ext cx="1676520" cy="498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6629400" y="3029040"/>
            <a:ext cx="1143000" cy="455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6248520" y="3562200"/>
            <a:ext cx="1904760" cy="498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6553080" y="4172040"/>
            <a:ext cx="1371600" cy="714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6872400" y="1628640"/>
            <a:ext cx="790560" cy="409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09480" y="3429000"/>
            <a:ext cx="2743200" cy="2743200"/>
          </a:xfrm>
          <a:prstGeom prst="ellipse">
            <a:avLst/>
          </a:prstGeom>
          <a:solidFill>
            <a:srgbClr val="00ffff">
              <a:alpha val="17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3A7-17C1-4E53-B395-BE639FF4E6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82F3B-E4E4-4899-AA82-3FCA3F44AE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chanical Advant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6760" y="1295280"/>
            <a:ext cx="86104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819520" y="1447920"/>
            <a:ext cx="6052680" cy="3233160"/>
            <a:chOff x="2819520" y="1447920"/>
            <a:chExt cx="6052680" cy="323316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rcRect l="22615" t="0" r="0" b="0"/>
            <a:stretch/>
          </p:blipFill>
          <p:spPr>
            <a:xfrm>
              <a:off x="2819520" y="1447920"/>
              <a:ext cx="6052680" cy="32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4323240" y="1536480"/>
              <a:ext cx="1503360" cy="49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"/>
          <p:cNvGrpSpPr/>
          <p:nvPr/>
        </p:nvGrpSpPr>
        <p:grpSpPr>
          <a:xfrm>
            <a:off x="380880" y="1447920"/>
            <a:ext cx="2133720" cy="2133360"/>
            <a:chOff x="380880" y="1447920"/>
            <a:chExt cx="2133720" cy="2133360"/>
          </a:xfrm>
        </p:grpSpPr>
        <p:grpSp>
          <p:nvGrpSpPr>
            <p:cNvPr id="164" name=""/>
            <p:cNvGrpSpPr/>
            <p:nvPr/>
          </p:nvGrpSpPr>
          <p:grpSpPr>
            <a:xfrm>
              <a:off x="380880" y="1447920"/>
              <a:ext cx="2087640" cy="2133000"/>
              <a:chOff x="380880" y="1447920"/>
              <a:chExt cx="2087640" cy="2133000"/>
            </a:xfrm>
          </p:grpSpPr>
          <p:pic>
            <p:nvPicPr>
              <p:cNvPr id="165" name="" descr=""/>
              <p:cNvPicPr/>
              <p:nvPr/>
            </p:nvPicPr>
            <p:blipFill>
              <a:blip r:embed="rId3"/>
              <a:srcRect l="2903" t="42116" r="15158" b="0"/>
              <a:stretch/>
            </p:blipFill>
            <p:spPr>
              <a:xfrm>
                <a:off x="380880" y="1962720"/>
                <a:ext cx="2079720" cy="1618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80880" y="1447920"/>
                <a:ext cx="2087640" cy="54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7" name=""/>
            <p:cNvSpPr/>
            <p:nvPr/>
          </p:nvSpPr>
          <p:spPr>
            <a:xfrm>
              <a:off x="457200" y="1447920"/>
              <a:ext cx="2057400" cy="213336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57200" y="3700440"/>
            <a:ext cx="2057400" cy="762120"/>
            <a:chOff x="457200" y="3700440"/>
            <a:chExt cx="2057400" cy="762120"/>
          </a:xfrm>
        </p:grpSpPr>
        <p:pic>
          <p:nvPicPr>
            <p:cNvPr id="169" name="" descr=""/>
            <p:cNvPicPr/>
            <p:nvPr/>
          </p:nvPicPr>
          <p:blipFill>
            <a:blip r:embed="rId5"/>
            <a:stretch/>
          </p:blipFill>
          <p:spPr>
            <a:xfrm>
              <a:off x="838080" y="3776760"/>
              <a:ext cx="121932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57200" y="3700440"/>
              <a:ext cx="2057400" cy="7621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57200" y="4495680"/>
            <a:ext cx="2057400" cy="1447920"/>
            <a:chOff x="457200" y="4495680"/>
            <a:chExt cx="2057400" cy="1447920"/>
          </a:xfrm>
        </p:grpSpPr>
        <p:pic>
          <p:nvPicPr>
            <p:cNvPr id="172" name="" descr=""/>
            <p:cNvPicPr/>
            <p:nvPr/>
          </p:nvPicPr>
          <p:blipFill>
            <a:blip r:embed="rId6"/>
            <a:stretch/>
          </p:blipFill>
          <p:spPr>
            <a:xfrm>
              <a:off x="914400" y="4495680"/>
              <a:ext cx="12477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57200" y="4572000"/>
              <a:ext cx="2057400" cy="13716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666880" y="4800600"/>
            <a:ext cx="6019920" cy="1143000"/>
            <a:chOff x="2666880" y="4800600"/>
            <a:chExt cx="6019920" cy="1143000"/>
          </a:xfrm>
        </p:grpSpPr>
        <p:grpSp>
          <p:nvGrpSpPr>
            <p:cNvPr id="175" name=""/>
            <p:cNvGrpSpPr/>
            <p:nvPr/>
          </p:nvGrpSpPr>
          <p:grpSpPr>
            <a:xfrm>
              <a:off x="2666880" y="4876920"/>
              <a:ext cx="6014880" cy="974520"/>
              <a:chOff x="2666880" y="4876920"/>
              <a:chExt cx="6014880" cy="97452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2666880" y="4876920"/>
                <a:ext cx="3870720" cy="974520"/>
                <a:chOff x="2666880" y="4876920"/>
                <a:chExt cx="3870720" cy="974520"/>
              </a:xfrm>
            </p:grpSpPr>
            <p:pic>
              <p:nvPicPr>
                <p:cNvPr id="17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666880" y="4876920"/>
                  <a:ext cx="2179080" cy="97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8"/>
                <a:srcRect l="22143" t="0" r="0" b="0"/>
                <a:stretch/>
              </p:blipFill>
              <p:spPr>
                <a:xfrm>
                  <a:off x="4792680" y="4907520"/>
                  <a:ext cx="1744920" cy="92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7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537960" y="4947840"/>
                <a:ext cx="2143800" cy="85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0" name=""/>
            <p:cNvSpPr/>
            <p:nvPr/>
          </p:nvSpPr>
          <p:spPr>
            <a:xfrm>
              <a:off x="2666880" y="4800600"/>
              <a:ext cx="6019920" cy="1143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D52-32F6-4597-9C2D-699DE3ED178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5D079-F63D-4807-B27C-3EAC51E332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2514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“Hopalong”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hevrolet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ega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c. 1970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0" r="0" b="53850"/>
          <a:stretch/>
        </p:blipFill>
        <p:spPr>
          <a:xfrm>
            <a:off x="2832120" y="95400"/>
            <a:ext cx="5622840" cy="2743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rcRect l="0" t="46155" r="0" b="0"/>
          <a:stretch/>
        </p:blipFill>
        <p:spPr>
          <a:xfrm>
            <a:off x="2819520" y="2971800"/>
            <a:ext cx="56228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0043-AD21-4789-956C-AEA244468C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150B6-8F2F-45DF-80A2-29E4D267E9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ntrodes -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54648" b="0"/>
          <a:stretch/>
        </p:blipFill>
        <p:spPr>
          <a:xfrm>
            <a:off x="609480" y="1676520"/>
            <a:ext cx="3810240" cy="4251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rcRect l="52609" t="0" r="0" b="0"/>
          <a:stretch/>
        </p:blipFill>
        <p:spPr>
          <a:xfrm>
            <a:off x="4800600" y="1676520"/>
            <a:ext cx="3981600" cy="425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17E-F2A0-4912-B50D-BD6F991F99F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0920E-1F0D-4A58-9820-EB92E7F354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ntrodes -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51924" b="0"/>
          <a:stretch/>
        </p:blipFill>
        <p:spPr>
          <a:xfrm>
            <a:off x="604800" y="1066680"/>
            <a:ext cx="3814920" cy="4991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rcRect l="52822" t="0" r="0" b="0"/>
          <a:stretch/>
        </p:blipFill>
        <p:spPr>
          <a:xfrm>
            <a:off x="4800600" y="1066680"/>
            <a:ext cx="3743280" cy="499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2F49-3351-4E05-92C1-E734492D31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66190-49C9-4753-B1DF-4B0450F156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ntrodes - 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066680"/>
            <a:ext cx="8534160" cy="5105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781680" y="1828800"/>
            <a:ext cx="1886040" cy="3610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rcRect l="0" t="232" r="50002" b="1725"/>
          <a:stretch/>
        </p:blipFill>
        <p:spPr>
          <a:xfrm>
            <a:off x="457200" y="1219320"/>
            <a:ext cx="3048120" cy="48085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rcRect l="53753" t="232" r="0" b="1725"/>
          <a:stretch/>
        </p:blipFill>
        <p:spPr>
          <a:xfrm>
            <a:off x="3733920" y="1219320"/>
            <a:ext cx="2819160" cy="480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312-D11F-48EA-A73A-8BAE0CAB849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D2DCF-0804-41A2-B995-5AC231346D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usps and Centrodes -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57360" y="2590920"/>
            <a:ext cx="7829280" cy="272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4E2B-F5FB-4433-960D-3F356AE169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D0228-5CCC-480B-895A-C1A149605D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usps and Centrodes -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3532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CB9-E1F8-4ED8-A63B-D3D291B096D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BFD2C-BDAD-45F4-B9BD-0587F64CF4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“Linkless” Link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219320" y="990720"/>
            <a:ext cx="6705360" cy="5181480"/>
            <a:chOff x="1219320" y="990720"/>
            <a:chExt cx="6705360" cy="5181480"/>
          </a:xfrm>
        </p:grpSpPr>
        <p:sp>
          <p:nvSpPr>
            <p:cNvPr id="201" name=""/>
            <p:cNvSpPr/>
            <p:nvPr/>
          </p:nvSpPr>
          <p:spPr>
            <a:xfrm>
              <a:off x="1219320" y="990720"/>
              <a:ext cx="6705360" cy="5181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4800240" y="1219320"/>
              <a:ext cx="2781000" cy="420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1523880" y="1447920"/>
              <a:ext cx="2599920" cy="36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447560" y="55627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latform Rock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76560" y="55627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oston Rock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E1B-93F2-4C73-ADC3-7A505214442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B6B09-0DF0-446A-B1E4-377F23613B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of change of position with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ar velocity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/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ular velocity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a point in pure rot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tude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le: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pendicular to radiu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B5A3-9BC0-460C-8727-0371B5CE25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128B1-B8FA-4608-B91A-45617ED35D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stant Center of Velocity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- Definition -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oint, common to two bodies in a plane, which point has the same instantaneous velocity in each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mber of instant center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odies in the plane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09840" y="4724280"/>
            <a:ext cx="25243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738-6019-4498-8ED2-151E532018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FEEF3-C09C-4E9D-BB36-EFCDCC5E24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nnedy’s R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three bodies in the plane will have exactly three instant centers, and they will lie on the same straight l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DEA2-2842-479B-B4A0-C6AB49A3BA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2745D-498C-441F-BDD3-8A3AE23C3B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0" y="3124080"/>
            <a:ext cx="3581280" cy="2706840"/>
            <a:chOff x="2286000" y="3124080"/>
            <a:chExt cx="3581280" cy="2706840"/>
          </a:xfrm>
        </p:grpSpPr>
        <p:pic>
          <p:nvPicPr>
            <p:cNvPr id="51" name="" descr=""/>
            <p:cNvPicPr/>
            <p:nvPr/>
          </p:nvPicPr>
          <p:blipFill>
            <a:blip r:embed="rId1"/>
            <a:srcRect l="0" t="0" r="18792" b="0"/>
            <a:stretch/>
          </p:blipFill>
          <p:spPr>
            <a:xfrm>
              <a:off x="2286000" y="3124080"/>
              <a:ext cx="358128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257800" y="3124080"/>
              <a:ext cx="609480" cy="14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inding Instant Cen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971800" y="1806480"/>
            <a:ext cx="1500120" cy="36036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4190760" y="1828800"/>
            <a:ext cx="919080" cy="36338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2820960"/>
            <a:ext cx="121896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164720" y="2287440"/>
            <a:ext cx="333000" cy="623880"/>
            <a:chOff x="7164720" y="2287440"/>
            <a:chExt cx="333000" cy="623880"/>
          </a:xfrm>
        </p:grpSpPr>
        <p:sp>
          <p:nvSpPr>
            <p:cNvPr id="58" name=""/>
            <p:cNvSpPr/>
            <p:nvPr/>
          </p:nvSpPr>
          <p:spPr>
            <a:xfrm>
              <a:off x="7239240" y="2744640"/>
              <a:ext cx="1602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64720" y="2287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848720" y="3201840"/>
            <a:ext cx="639000" cy="459720"/>
            <a:chOff x="7848720" y="3201840"/>
            <a:chExt cx="639000" cy="459720"/>
          </a:xfrm>
        </p:grpSpPr>
        <p:sp>
          <p:nvSpPr>
            <p:cNvPr id="61" name=""/>
            <p:cNvSpPr/>
            <p:nvPr/>
          </p:nvSpPr>
          <p:spPr>
            <a:xfrm>
              <a:off x="7848720" y="3354120"/>
              <a:ext cx="1602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154720" y="3201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249960" y="3201840"/>
            <a:ext cx="539280" cy="459720"/>
            <a:chOff x="6249960" y="3201840"/>
            <a:chExt cx="539280" cy="459720"/>
          </a:xfrm>
        </p:grpSpPr>
        <p:sp>
          <p:nvSpPr>
            <p:cNvPr id="64" name=""/>
            <p:cNvSpPr/>
            <p:nvPr/>
          </p:nvSpPr>
          <p:spPr>
            <a:xfrm>
              <a:off x="6629400" y="3354120"/>
              <a:ext cx="1598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49960" y="3201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224240" y="1905120"/>
            <a:ext cx="820800" cy="510120"/>
            <a:chOff x="4224240" y="1905120"/>
            <a:chExt cx="820800" cy="510120"/>
          </a:xfrm>
        </p:grpSpPr>
        <p:sp>
          <p:nvSpPr>
            <p:cNvPr id="67" name=""/>
            <p:cNvSpPr/>
            <p:nvPr/>
          </p:nvSpPr>
          <p:spPr>
            <a:xfrm>
              <a:off x="4224240" y="2133720"/>
              <a:ext cx="160200" cy="166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95680" y="190512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,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345440" y="2878200"/>
            <a:ext cx="585720" cy="550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240680" y="3963960"/>
            <a:ext cx="333000" cy="688320"/>
            <a:chOff x="7240680" y="3963960"/>
            <a:chExt cx="333000" cy="688320"/>
          </a:xfrm>
        </p:grpSpPr>
        <p:sp>
          <p:nvSpPr>
            <p:cNvPr id="71" name=""/>
            <p:cNvSpPr/>
            <p:nvPr/>
          </p:nvSpPr>
          <p:spPr>
            <a:xfrm>
              <a:off x="7315200" y="3963960"/>
              <a:ext cx="1602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40680" y="4192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 flipH="1">
            <a:off x="7391160" y="3430440"/>
            <a:ext cx="53316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6705360" y="3430440"/>
            <a:ext cx="68580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705720" y="2841480"/>
            <a:ext cx="618840" cy="588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15200" y="2744640"/>
            <a:ext cx="76320" cy="129564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343044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248520" y="2286000"/>
            <a:ext cx="2286000" cy="2741400"/>
            <a:chOff x="6248520" y="2286000"/>
            <a:chExt cx="2286000" cy="2741400"/>
          </a:xfrm>
        </p:grpSpPr>
        <p:sp>
          <p:nvSpPr>
            <p:cNvPr id="79" name=""/>
            <p:cNvSpPr/>
            <p:nvPr/>
          </p:nvSpPr>
          <p:spPr>
            <a:xfrm>
              <a:off x="6705720" y="464976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Dual Grap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48520" y="2286000"/>
              <a:ext cx="2286000" cy="274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993600" y="5410080"/>
            <a:ext cx="4111920" cy="0"/>
          </a:xfrm>
          <a:prstGeom prst="line">
            <a:avLst/>
          </a:prstGeom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020240" y="4148280"/>
            <a:ext cx="3743640" cy="1468440"/>
          </a:xfrm>
          <a:prstGeom prst="line">
            <a:avLst/>
          </a:prstGeom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19320" y="4724280"/>
            <a:ext cx="549000" cy="776520"/>
            <a:chOff x="1219320" y="4724280"/>
            <a:chExt cx="549000" cy="776520"/>
          </a:xfrm>
        </p:grpSpPr>
        <p:sp>
          <p:nvSpPr>
            <p:cNvPr id="84" name=""/>
            <p:cNvSpPr/>
            <p:nvPr/>
          </p:nvSpPr>
          <p:spPr>
            <a:xfrm>
              <a:off x="1447560" y="5334120"/>
              <a:ext cx="160200" cy="16668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19320" y="4724280"/>
              <a:ext cx="54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,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324480" y="525780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 Dual, lines become points, and points become li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2133720" cy="1030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0880" y="23623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 (4 - 1) / 2 =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47A-288C-45C8-BB92-DE25CAB7ED0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B28B9-C459-4E48-B578-ED60C4EBB3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C’s Can Be At Infin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53921" t="0" r="0" b="0"/>
          <a:stretch/>
        </p:blipFill>
        <p:spPr>
          <a:xfrm>
            <a:off x="685800" y="1523880"/>
            <a:ext cx="3733920" cy="4400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240680" y="2585880"/>
            <a:ext cx="14446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0" t="0" r="50062" b="0"/>
          <a:stretch/>
        </p:blipFill>
        <p:spPr>
          <a:xfrm>
            <a:off x="4800600" y="1523880"/>
            <a:ext cx="3886200" cy="440064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7245360" y="2133720"/>
            <a:ext cx="1517760" cy="452160"/>
            <a:chOff x="7245360" y="2133720"/>
            <a:chExt cx="1517760" cy="452160"/>
          </a:xfrm>
        </p:grpSpPr>
        <p:sp>
          <p:nvSpPr>
            <p:cNvPr id="94" name=""/>
            <p:cNvSpPr/>
            <p:nvPr/>
          </p:nvSpPr>
          <p:spPr>
            <a:xfrm>
              <a:off x="7245360" y="2585880"/>
              <a:ext cx="121284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77320" y="213372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ff66"/>
                  </a:solidFill>
                  <a:latin typeface="Times New Roman"/>
                </a:rPr>
                <a:t>V</a:t>
              </a:r>
              <a:r>
                <a:rPr b="0" lang="en-US" sz="1600" spc="-1" strike="noStrike">
                  <a:solidFill>
                    <a:srgbClr val="66ff66"/>
                  </a:solidFill>
                  <a:latin typeface="Times New Roman"/>
                </a:rPr>
                <a:t> </a:t>
              </a:r>
              <a:r>
                <a:rPr b="0" i="1" lang="en-US" sz="1600" spc="-1" strike="noStrike" baseline="-25000">
                  <a:solidFill>
                    <a:srgbClr val="66ff66"/>
                  </a:solidFill>
                  <a:latin typeface="Times New Roman"/>
                </a:rPr>
                <a:t>I </a:t>
              </a:r>
              <a:r>
                <a:rPr b="0" lang="en-US" sz="1600" spc="-1" strike="noStrike" baseline="-25000">
                  <a:solidFill>
                    <a:srgbClr val="66ff66"/>
                  </a:solidFill>
                  <a:latin typeface="Times New Roman"/>
                </a:rPr>
                <a:t>3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228840" y="2119320"/>
            <a:ext cx="1114560" cy="428760"/>
            <a:chOff x="3228840" y="2119320"/>
            <a:chExt cx="1114560" cy="428760"/>
          </a:xfrm>
        </p:grpSpPr>
        <p:sp>
          <p:nvSpPr>
            <p:cNvPr id="97" name=""/>
            <p:cNvSpPr/>
            <p:nvPr/>
          </p:nvSpPr>
          <p:spPr>
            <a:xfrm>
              <a:off x="3228840" y="2548080"/>
              <a:ext cx="103824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33560" y="21193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ff66"/>
                  </a:solidFill>
                  <a:latin typeface="Times New Roman"/>
                </a:rPr>
                <a:t>V</a:t>
              </a:r>
              <a:r>
                <a:rPr b="0" lang="en-US" sz="1600" spc="-1" strike="noStrike">
                  <a:solidFill>
                    <a:srgbClr val="66ff66"/>
                  </a:solidFill>
                  <a:latin typeface="Times New Roman"/>
                </a:rPr>
                <a:t> </a:t>
              </a:r>
              <a:r>
                <a:rPr b="0" i="1" lang="en-US" sz="1600" spc="-1" strike="noStrike" baseline="-25000">
                  <a:solidFill>
                    <a:srgbClr val="66ff66"/>
                  </a:solidFill>
                  <a:latin typeface="Times New Roman"/>
                </a:rPr>
                <a:t>I </a:t>
              </a:r>
              <a:r>
                <a:rPr b="0" lang="en-US" sz="1600" spc="-1" strike="noStrike" baseline="-25000">
                  <a:solidFill>
                    <a:srgbClr val="66ff66"/>
                  </a:solidFill>
                  <a:latin typeface="Times New Roman"/>
                </a:rPr>
                <a:t>3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24A-C525-476A-9828-4B5CDF7B64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4158E-28B2-40C4-B2DA-4F0DF42910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762120" y="3200400"/>
            <a:ext cx="2438280" cy="2895480"/>
            <a:chOff x="762120" y="3200400"/>
            <a:chExt cx="2438280" cy="2895480"/>
          </a:xfrm>
        </p:grpSpPr>
        <p:sp>
          <p:nvSpPr>
            <p:cNvPr id="100" name=""/>
            <p:cNvSpPr/>
            <p:nvPr/>
          </p:nvSpPr>
          <p:spPr>
            <a:xfrm>
              <a:off x="762120" y="3200400"/>
              <a:ext cx="2438280" cy="28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839880" y="3278160"/>
              <a:ext cx="2238120" cy="2364840"/>
              <a:chOff x="839880" y="3278160"/>
              <a:chExt cx="2238120" cy="2364840"/>
            </a:xfrm>
          </p:grpSpPr>
          <p:sp>
            <p:nvSpPr>
              <p:cNvPr id="102" name=""/>
              <p:cNvSpPr/>
              <p:nvPr/>
            </p:nvSpPr>
            <p:spPr>
              <a:xfrm>
                <a:off x="1295280" y="3811680"/>
                <a:ext cx="1219320" cy="1218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1754280" y="3278160"/>
                <a:ext cx="333000" cy="623880"/>
                <a:chOff x="1754280" y="3278160"/>
                <a:chExt cx="333000" cy="623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828800" y="3735360"/>
                  <a:ext cx="160200" cy="166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754280" y="3278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438280" y="4192560"/>
                <a:ext cx="639720" cy="459720"/>
                <a:chOff x="2438280" y="4192560"/>
                <a:chExt cx="639720" cy="459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438280" y="4344840"/>
                  <a:ext cx="160560" cy="166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745000" y="4192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839880" y="4192560"/>
                <a:ext cx="539640" cy="459720"/>
                <a:chOff x="839880" y="4192560"/>
                <a:chExt cx="539640" cy="4597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19320" y="4344840"/>
                  <a:ext cx="160200" cy="166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39880" y="4192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1830600" y="4954680"/>
                <a:ext cx="333000" cy="688320"/>
                <a:chOff x="1830600" y="4954680"/>
                <a:chExt cx="333000" cy="6883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1905120" y="4954680"/>
                  <a:ext cx="160200" cy="166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830600" y="5183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" name=""/>
            <p:cNvGrpSpPr/>
            <p:nvPr/>
          </p:nvGrpSpPr>
          <p:grpSpPr>
            <a:xfrm>
              <a:off x="838080" y="3276720"/>
              <a:ext cx="2286000" cy="2741400"/>
              <a:chOff x="838080" y="3276720"/>
              <a:chExt cx="2286000" cy="2741400"/>
            </a:xfrm>
          </p:grpSpPr>
          <p:sp>
            <p:nvSpPr>
              <p:cNvPr id="116" name=""/>
              <p:cNvSpPr/>
              <p:nvPr/>
            </p:nvSpPr>
            <p:spPr>
              <a:xfrm>
                <a:off x="1295280" y="56404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Times New Roman"/>
                  </a:rPr>
                  <a:t>Dual Grap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38080" y="3276720"/>
                <a:ext cx="2286000" cy="274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31240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stant Centers of a Slider- Crank Linkag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733920" y="380880"/>
            <a:ext cx="490536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>
            <a:off x="7162920" y="2895120"/>
            <a:ext cx="1123920" cy="2746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15320" y="3935520"/>
            <a:ext cx="1037880" cy="511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80480" y="24732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1600" spc="-1" strike="noStrike" baseline="-25000">
                <a:solidFill>
                  <a:srgbClr val="0000ff"/>
                </a:solidFill>
                <a:latin typeface="Times New Roman"/>
              </a:rPr>
              <a:t>I 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Times New Roman"/>
              </a:rPr>
              <a:t>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41148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1600" spc="-1" strike="noStrike" baseline="-25000">
                <a:solidFill>
                  <a:srgbClr val="0000ff"/>
                </a:solidFill>
                <a:latin typeface="Times New Roman"/>
              </a:rPr>
              <a:t>I 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Times New Roman"/>
              </a:rPr>
              <a:t>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35000" y="3868560"/>
            <a:ext cx="586080" cy="551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981080" y="4421160"/>
            <a:ext cx="53352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1294920" y="4420800"/>
            <a:ext cx="68580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295280" y="3832200"/>
            <a:ext cx="619200" cy="588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3735360"/>
            <a:ext cx="75960" cy="129528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442116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838080"/>
            <a:ext cx="1600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6B49-39AA-4DED-B157-373072F7F9B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F0C97-204C-4742-9AD2-9D196BFAEC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2438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stant Centers of a Cam and Follow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34390" t="47588" r="0" b="0"/>
          <a:stretch/>
        </p:blipFill>
        <p:spPr>
          <a:xfrm>
            <a:off x="3352680" y="3276720"/>
            <a:ext cx="5124600" cy="3305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34390" t="0" r="0" b="54537"/>
          <a:stretch/>
        </p:blipFill>
        <p:spPr>
          <a:xfrm>
            <a:off x="3348000" y="257040"/>
            <a:ext cx="5124600" cy="28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C3A-5A48-422C-AF7C-0A2EB148E43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8B02E-CFDD-4D34-85C1-D009B53631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locity Analysis Using IC’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560" y="1143000"/>
            <a:ext cx="7939080" cy="4944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4371" t="2352" r="5338" b="0"/>
          <a:stretch/>
        </p:blipFill>
        <p:spPr>
          <a:xfrm>
            <a:off x="770040" y="1284120"/>
            <a:ext cx="5580000" cy="4672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62800" y="1284120"/>
            <a:ext cx="1836720" cy="46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562800" y="2273400"/>
            <a:ext cx="1730160" cy="741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562800" y="3187800"/>
            <a:ext cx="1695240" cy="573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562800" y="3898800"/>
            <a:ext cx="1704960" cy="741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562800" y="4888080"/>
            <a:ext cx="1712880" cy="599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rcRect l="8036" t="0" r="3514" b="0"/>
          <a:stretch/>
        </p:blipFill>
        <p:spPr>
          <a:xfrm>
            <a:off x="6691320" y="1496880"/>
            <a:ext cx="1554120" cy="58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6F4-9303-4047-8C6F-15BDB60BA8E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FDB26-F056-48D9-9BBE-DAC14E8EAF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02:02:37Z</dcterms:created>
  <dc:creator>Default</dc:creator>
  <dc:description/>
  <dc:language>en-US</dc:language>
  <cp:lastModifiedBy>norton</cp:lastModifiedBy>
  <dcterms:modified xsi:type="dcterms:W3CDTF">2005-09-13T13:52:09Z</dcterms:modified>
  <cp:revision>28</cp:revision>
  <dc:subject/>
  <dc:title>Instant Centers and Centrodes</dc:title>
</cp:coreProperties>
</file>