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F79-FD11-40EF-A240-352FAD48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FD6-37CD-4217-8BA4-8DE86AE9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D4A-CB89-43EF-A1CF-C926967A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70C-83D2-480D-A5EE-FBEB2850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40A-AA05-4B62-9FCA-3BEDFCE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4B4-F1E6-42B3-A180-4FD1AFC5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02F-2EF0-4746-A2D0-96BF8A3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E58-548F-4FD8-B75A-CA6C964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044-A23F-4FBE-8CA9-4FF173FC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267-ACB0-4155-A61B-440D0636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AD0-7FD8-46A8-8B3D-CC7B170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40D-2E3F-47DE-90A4-B375F8B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576-D05D-46D9-90AF-44B2FF5365E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B3A-A7BD-463B-B2F7-6061EFF89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iolis 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91120"/>
            <a:ext cx="761976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iolis 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74003" t="0" r="0" b="0"/>
          <a:stretch/>
        </p:blipFill>
        <p:spPr>
          <a:xfrm>
            <a:off x="6400800" y="1219320"/>
            <a:ext cx="1981080" cy="287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76400" y="4343400"/>
            <a:ext cx="109548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76400" y="4876920"/>
            <a:ext cx="1771560" cy="39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76400" y="5410080"/>
            <a:ext cx="1533600" cy="43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23760" y="42670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319560" y="4343400"/>
            <a:ext cx="474336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19560" y="4876920"/>
            <a:ext cx="3609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319560" y="5486400"/>
            <a:ext cx="342900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66920" y="4267080"/>
            <a:ext cx="5029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rcRect l="37998" t="0" r="27002" b="0"/>
          <a:stretch/>
        </p:blipFill>
        <p:spPr>
          <a:xfrm>
            <a:off x="3657600" y="1219320"/>
            <a:ext cx="2666880" cy="287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rcRect l="0" t="0" r="63001" b="0"/>
          <a:stretch/>
        </p:blipFill>
        <p:spPr>
          <a:xfrm>
            <a:off x="762120" y="1219320"/>
            <a:ext cx="2819160" cy="287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9DA-5C4A-4075-A770-4AA4768137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660A3-B81B-4A36-8909-D94C12EFF7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gebraic Acceleration Analysis of the Inverted Slid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179280"/>
            <a:ext cx="464832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642" t="0" r="0" b="0"/>
          <a:stretch/>
        </p:blipFill>
        <p:spPr>
          <a:xfrm>
            <a:off x="152280" y="2971800"/>
            <a:ext cx="402912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970520" y="1420920"/>
            <a:ext cx="3581280" cy="380880"/>
            <a:chOff x="4970520" y="1420920"/>
            <a:chExt cx="3581280" cy="3808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122800" y="1420920"/>
              <a:ext cx="3304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970520" y="1420920"/>
              <a:ext cx="35812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800" y="676440"/>
            <a:ext cx="2895480" cy="637560"/>
            <a:chOff x="5257800" y="676440"/>
            <a:chExt cx="2895480" cy="637560"/>
          </a:xfrm>
        </p:grpSpPr>
        <p:pic>
          <p:nvPicPr>
            <p:cNvPr id="64" name="" descr=""/>
            <p:cNvPicPr/>
            <p:nvPr/>
          </p:nvPicPr>
          <p:blipFill>
            <a:blip r:embed="rId3"/>
            <a:srcRect l="0" t="0" r="0" b="57359"/>
            <a:stretch/>
          </p:blipFill>
          <p:spPr>
            <a:xfrm>
              <a:off x="5334120" y="676440"/>
              <a:ext cx="26953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rcRect l="0" t="53377" r="0" b="0"/>
            <a:stretch/>
          </p:blipFill>
          <p:spPr>
            <a:xfrm>
              <a:off x="5410080" y="981000"/>
              <a:ext cx="2695680" cy="3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57800" y="676440"/>
              <a:ext cx="28954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3160" y="1905120"/>
            <a:ext cx="4267080" cy="828720"/>
            <a:chOff x="4583160" y="1905120"/>
            <a:chExt cx="4267080" cy="828720"/>
          </a:xfrm>
        </p:grpSpPr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4651200" y="1928880"/>
              <a:ext cx="4172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583160" y="1905120"/>
              <a:ext cx="4267080" cy="828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257800" y="254160"/>
            <a:ext cx="2895480" cy="323640"/>
            <a:chOff x="5257800" y="254160"/>
            <a:chExt cx="2895480" cy="323640"/>
          </a:xfrm>
        </p:grpSpPr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5334120" y="254160"/>
              <a:ext cx="8953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6477120" y="254160"/>
              <a:ext cx="695160" cy="29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315200" y="254160"/>
              <a:ext cx="752400" cy="2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257800" y="254160"/>
              <a:ext cx="28954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2000" y="4191120"/>
            <a:ext cx="4267080" cy="674640"/>
            <a:chOff x="4572000" y="4191120"/>
            <a:chExt cx="4267080" cy="674640"/>
          </a:xfrm>
        </p:grpSpPr>
        <p:sp>
          <p:nvSpPr>
            <p:cNvPr id="76" name=""/>
            <p:cNvSpPr/>
            <p:nvPr/>
          </p:nvSpPr>
          <p:spPr>
            <a:xfrm>
              <a:off x="4572000" y="4191120"/>
              <a:ext cx="42670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4705200" y="4275360"/>
              <a:ext cx="388620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4554360" y="4983120"/>
            <a:ext cx="4267440" cy="1003320"/>
            <a:chOff x="4554360" y="4983120"/>
            <a:chExt cx="4267440" cy="1003320"/>
          </a:xfrm>
        </p:grpSpPr>
        <p:sp>
          <p:nvSpPr>
            <p:cNvPr id="79" name=""/>
            <p:cNvSpPr/>
            <p:nvPr/>
          </p:nvSpPr>
          <p:spPr>
            <a:xfrm>
              <a:off x="4554360" y="4983120"/>
              <a:ext cx="4267440" cy="100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0"/>
            <a:stretch/>
          </p:blipFill>
          <p:spPr>
            <a:xfrm>
              <a:off x="4572000" y="5105520"/>
              <a:ext cx="4191120" cy="7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4572000" y="2851200"/>
            <a:ext cx="4267080" cy="1220760"/>
            <a:chOff x="4572000" y="2851200"/>
            <a:chExt cx="4267080" cy="1220760"/>
          </a:xfrm>
        </p:grpSpPr>
        <p:sp>
          <p:nvSpPr>
            <p:cNvPr id="82" name=""/>
            <p:cNvSpPr/>
            <p:nvPr/>
          </p:nvSpPr>
          <p:spPr>
            <a:xfrm>
              <a:off x="4572000" y="2851200"/>
              <a:ext cx="42670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1"/>
            <a:stretch/>
          </p:blipFill>
          <p:spPr>
            <a:xfrm>
              <a:off x="4800600" y="2895480"/>
              <a:ext cx="39052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2"/>
            <a:stretch/>
          </p:blipFill>
          <p:spPr>
            <a:xfrm>
              <a:off x="4741920" y="3500280"/>
              <a:ext cx="39718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3BB-0CD0-4C3C-8FC9-D64345EE5D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B638-EB97-4D72-BD16-F604C54E36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gebraic Acceleration Analysis of the Inverted Slid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179280"/>
            <a:ext cx="464832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51200" y="328680"/>
            <a:ext cx="4172040" cy="78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83160" y="304920"/>
            <a:ext cx="4267080" cy="82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5920" y="3333600"/>
            <a:ext cx="4124160" cy="27720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572000" y="1219320"/>
            <a:ext cx="4267080" cy="761760"/>
            <a:chOff x="4572000" y="1219320"/>
            <a:chExt cx="4267080" cy="7617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724280" y="1246320"/>
              <a:ext cx="4095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0" y="1219320"/>
              <a:ext cx="42670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2000" y="4379760"/>
            <a:ext cx="4267080" cy="1600200"/>
            <a:chOff x="4572000" y="4379760"/>
            <a:chExt cx="4267080" cy="160020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4599000" y="4406760"/>
              <a:ext cx="421956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0" y="4379760"/>
              <a:ext cx="42670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72000" y="2124000"/>
            <a:ext cx="4267080" cy="914400"/>
            <a:chOff x="4572000" y="2124000"/>
            <a:chExt cx="4267080" cy="91440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5240160" y="2192040"/>
              <a:ext cx="21528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2124000"/>
              <a:ext cx="42670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2000" y="3160800"/>
            <a:ext cx="4267080" cy="1066680"/>
            <a:chOff x="4572000" y="3160800"/>
            <a:chExt cx="4267080" cy="106668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4876920" y="3214440"/>
              <a:ext cx="37814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572000" y="3160800"/>
              <a:ext cx="42670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215-3AF0-4CDC-AEFD-19F90578ED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DC005-1CE3-42B5-B18C-DC4A0C0D32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your project info to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do a design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liminary concept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questions for 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5BA-9B6D-4616-A255-2A041A6B2D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97914-179F-4F9B-A6E5-3B7CEED8A4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z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74E-135B-4578-95C0-1F9131B286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F4471-7E28-49F3-B56A-5174FDD37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3:19:46Z</dcterms:created>
  <dc:creator>Default</dc:creator>
  <dc:description/>
  <dc:language>en-US</dc:language>
  <cp:lastModifiedBy>Default</cp:lastModifiedBy>
  <dcterms:modified xsi:type="dcterms:W3CDTF">2004-09-23T00:49:53Z</dcterms:modified>
  <cp:revision>15</cp:revision>
  <dc:subject/>
  <dc:title>Acceleration Analysis</dc:title>
</cp:coreProperties>
</file>