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8473-B862-4B61-B85D-785656C1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0D96-9DA0-4A59-92B9-49AA378F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40B1-9ADD-454D-8573-2E8F6831D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F401-EA83-444E-A4E3-76601C3F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CECC-868F-48EF-9A02-5C2E529F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03D9-C11A-4532-8F87-3CFDDB33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6D85-BF0C-4828-8C7B-5B148AF2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3B1D-3297-434B-A852-139E6BCE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6466-679D-4C9C-9A75-C4EF64F9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8964-EC62-487E-AEB6-002D941E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B015-E9AB-4860-97DC-13C57892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71F5-850F-4DF9-A0D5-610219B9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EEE3-C281-4D47-AE71-66DFE108EC1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01FD-9969-47A4-A619-ADCB4FDC78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ar Ty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ncircular Ge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81280" y="2057400"/>
            <a:ext cx="5029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d on rolling centro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a drag-link fourb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-constant output sp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d in printing presses and other rotating machin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have spur or helical tee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80880" y="1447920"/>
            <a:ext cx="2562120" cy="4495320"/>
            <a:chOff x="380880" y="1447920"/>
            <a:chExt cx="2562120" cy="4495320"/>
          </a:xfrm>
        </p:grpSpPr>
        <p:sp>
          <p:nvSpPr>
            <p:cNvPr id="87" name=""/>
            <p:cNvSpPr/>
            <p:nvPr/>
          </p:nvSpPr>
          <p:spPr>
            <a:xfrm>
              <a:off x="380880" y="1447920"/>
              <a:ext cx="2562120" cy="4495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636840" y="1621080"/>
              <a:ext cx="2060280" cy="410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BEE9-D7E3-48BB-B6A8-AC914A5A980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0EEDF-9071-44DC-8D84-DC930B1F8D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600200"/>
            <a:ext cx="7848720" cy="434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othed or Timing Bel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4983120" cy="4059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rcRect l="0" t="0" r="0" b="1853"/>
          <a:stretch/>
        </p:blipFill>
        <p:spPr>
          <a:xfrm>
            <a:off x="5943600" y="1752480"/>
            <a:ext cx="233856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1BB3-C3CC-4DB8-ACDD-F0A9B4776CD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3B52F-F818-4F19-89FF-48C068EB73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in Driv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147024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952880" y="3809880"/>
            <a:ext cx="3353040" cy="2179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286000" y="1447920"/>
            <a:ext cx="3438360" cy="214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92CA-D664-4AE8-87F6-905CB464C0E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557E08-D1FD-481E-81C5-DB6E8FD4AF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ur Ge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86200" y="1828800"/>
            <a:ext cx="4952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eth are parallel to 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st expensive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isier than ot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efficiency (99% / se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disengag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klash can be a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57200" y="1981080"/>
            <a:ext cx="2819160" cy="3353040"/>
            <a:chOff x="457200" y="1981080"/>
            <a:chExt cx="2819160" cy="3353040"/>
          </a:xfrm>
        </p:grpSpPr>
        <p:sp>
          <p:nvSpPr>
            <p:cNvPr id="46" name=""/>
            <p:cNvSpPr/>
            <p:nvPr/>
          </p:nvSpPr>
          <p:spPr>
            <a:xfrm>
              <a:off x="457200" y="1981080"/>
              <a:ext cx="2819160" cy="335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685800" y="2133720"/>
              <a:ext cx="2369880" cy="304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1038-68C1-48EE-958F-E431A9780A4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501ECD-6E01-4DED-8E1D-8575444F7D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1640" y="380520"/>
            <a:ext cx="3886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lical Ge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343040" y="15238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eth not parallel to ax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expensive than sp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er than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xial force compo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allel or crossed ax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onger tooth s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der to diseng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52280" y="228600"/>
            <a:ext cx="3733560" cy="5943600"/>
            <a:chOff x="152280" y="228600"/>
            <a:chExt cx="3733560" cy="5943600"/>
          </a:xfrm>
        </p:grpSpPr>
        <p:sp>
          <p:nvSpPr>
            <p:cNvPr id="51" name=""/>
            <p:cNvSpPr/>
            <p:nvPr/>
          </p:nvSpPr>
          <p:spPr>
            <a:xfrm>
              <a:off x="152280" y="228600"/>
              <a:ext cx="3733560" cy="5943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rcRect l="0" t="2593" r="0" b="4207"/>
            <a:stretch/>
          </p:blipFill>
          <p:spPr>
            <a:xfrm>
              <a:off x="2133360" y="380880"/>
              <a:ext cx="154296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2057040" y="3241800"/>
              <a:ext cx="1632240" cy="28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228240" y="1447920"/>
              <a:ext cx="17528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arallel ax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e = 96 - 98%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240" y="4038480"/>
              <a:ext cx="1828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rossed ax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e = 50 - 90% 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8E8B-AE8F-4E23-909A-782674F9F3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656597-84C7-4829-8A83-97F1F65BF6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47920" y="1295280"/>
            <a:ext cx="6248160" cy="259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rringbone Ge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87080" y="4038120"/>
            <a:ext cx="65912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opposite-hand helicals back to b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cels axial force compo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quiet as helic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expensive to ma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790960" cy="22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6CE7-25EC-40C6-8C33-854D89981B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B3329-6672-411A-A090-5870925C28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066680"/>
            <a:ext cx="8534520" cy="251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ck and Pin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7640" y="3657600"/>
            <a:ext cx="7810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tary to linear 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pur, helical, or herringb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olute becomes a straight line – trapezoidal tee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d in “rack and pinion” ste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d as a cutter to make circular g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1233360"/>
            <a:ext cx="3581640" cy="2195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2000" y="1371600"/>
            <a:ext cx="4219560" cy="18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35FA-E2B2-48E3-B07D-83B906A080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C9565C-4A72-4ED5-822C-87E9BA9B6E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ar Ho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6" name="hob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4441680" cy="375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8762-1AA1-4D3A-8AD8-CBB8A88095A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64701-942C-45DA-A48F-7A439CCE32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vel Ge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62520" y="1447920"/>
            <a:ext cx="4952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d on rolling c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e apices must inters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, axes intersect al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turn any corner a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power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eth are not invol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ight bevels are “spur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iral bevels are “helical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04920" y="1295280"/>
            <a:ext cx="3429000" cy="4647960"/>
            <a:chOff x="304920" y="1295280"/>
            <a:chExt cx="3429000" cy="4647960"/>
          </a:xfrm>
        </p:grpSpPr>
        <p:sp>
          <p:nvSpPr>
            <p:cNvPr id="70" name=""/>
            <p:cNvSpPr/>
            <p:nvPr/>
          </p:nvSpPr>
          <p:spPr>
            <a:xfrm>
              <a:off x="304920" y="1295280"/>
              <a:ext cx="3429000" cy="4647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0880" y="1981080"/>
              <a:ext cx="1219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traight Bev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1676520" y="1504800"/>
              <a:ext cx="1895400" cy="17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1676520" y="3657240"/>
              <a:ext cx="18856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80880" y="4267080"/>
              <a:ext cx="11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piral Bev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8AF5-95CF-4AAC-999C-95CBCDD75E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FDD70-64D4-4DDC-A48A-376543CCE1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m and Whe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89360" y="1143000"/>
            <a:ext cx="5790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m has single tooth or “thread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tio = no. of teeth on whe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m is “helical” with big helix ang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eth are not invol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de and installed as matched pai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n-intersecting orthogonal ax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or double envelo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y expensive to ma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design them to prevent “backdriving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or efficiency (40 - 85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 ratios obtainable in single st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 torque capa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04920" y="1828800"/>
            <a:ext cx="2209680" cy="3657600"/>
            <a:chOff x="304920" y="1828800"/>
            <a:chExt cx="2209680" cy="3657600"/>
          </a:xfrm>
        </p:grpSpPr>
        <p:sp>
          <p:nvSpPr>
            <p:cNvPr id="78" name=""/>
            <p:cNvSpPr/>
            <p:nvPr/>
          </p:nvSpPr>
          <p:spPr>
            <a:xfrm>
              <a:off x="304920" y="1828800"/>
              <a:ext cx="2209680" cy="365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457200" y="1981440"/>
              <a:ext cx="1905120" cy="334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7673-CE77-4507-B756-4166833AEF7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1DAB75-99A5-4AA1-BA04-D61EB7F674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2280" y="1523880"/>
            <a:ext cx="5823000" cy="381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ypoid Ge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19280" y="1981080"/>
            <a:ext cx="2971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ased on rolling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hyperboloid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on-intersecting ax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on-involute teet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High torque capac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Used in automotive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differential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04920" y="1657440"/>
            <a:ext cx="5538600" cy="354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68C5-DE23-4F5E-AE68-95497261212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A4619F-F376-49D9-8F88-5E4E4F28F9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9T02:47:25Z</dcterms:created>
  <dc:creator>Default</dc:creator>
  <dc:description/>
  <dc:language>en-US</dc:language>
  <cp:lastModifiedBy>Default</cp:lastModifiedBy>
  <dcterms:modified xsi:type="dcterms:W3CDTF">2004-10-05T14:54:41Z</dcterms:modified>
  <cp:revision>14</cp:revision>
  <dc:subject/>
  <dc:title>Gear Tooth Theory</dc:title>
</cp:coreProperties>
</file>