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D84C-C5D9-4F25-BC6B-35D1FB9F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5D98-6416-44B3-94F7-EEFFFDE2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712D-5231-4512-BFE0-4D905243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FE82-6963-4D33-B647-2D07F295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5535-95FE-4926-8A98-3243865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E4E7-9FCE-4022-BD04-7D0CBC5B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7AD0-90EB-48FD-B0F0-FB9A27B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83F5-AABF-46C8-A656-1352CB2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81A9-4F72-4B91-8C7D-FE529258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2088-D0B5-48BB-8FAA-E29F3F86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77A-3600-42B3-A1FC-C87E783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3347-B946-4A33-A982-31EEEEB0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6007-1BFA-4803-8BCA-C280EC3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93A3-636A-4130-B3DF-2240FA5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3E46-E536-4FF4-A7F6-D504A71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6AC9-E153-45E1-AB36-C469E17F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2770-4FB4-4C52-94B0-AAD3BEF1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ED19-E4C7-498B-BBE4-80135787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E6CF-5D72-486C-83C6-46F97A9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B815-2C03-49D8-9288-7C1C4A1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0C69-7466-4126-AC00-F61F7D7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3442-2380-44A0-90D6-40079C0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501D-A0AF-4E60-B3A7-53930CC2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F67D-B510-4F59-95A4-8C88CFA9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2FF-AB71-439C-9200-D8939BEE0FD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FEB-E998-4DA2-901F-A8BB90C904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3F5-DAAE-481F-A9FE-45CED0A8591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7DC-AE9B-4277-A162-A73B5662B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image" Target="../media/image64.png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cceleration Analysi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celeration of a Point on a Lin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1219320"/>
            <a:ext cx="464832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219320"/>
            <a:ext cx="403884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2604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838080" y="4191120"/>
            <a:ext cx="2667240" cy="1676160"/>
            <a:chOff x="838080" y="4191120"/>
            <a:chExt cx="2667240" cy="167616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990720" y="4267080"/>
              <a:ext cx="236196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38080" y="4191120"/>
              <a:ext cx="2667240" cy="16761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572000" y="3687840"/>
            <a:ext cx="4214880" cy="2230200"/>
            <a:chOff x="4572000" y="3687840"/>
            <a:chExt cx="4214880" cy="2230200"/>
          </a:xfrm>
        </p:grpSpPr>
        <p:sp>
          <p:nvSpPr>
            <p:cNvPr id="301" name=""/>
            <p:cNvSpPr/>
            <p:nvPr/>
          </p:nvSpPr>
          <p:spPr>
            <a:xfrm>
              <a:off x="4572000" y="3687840"/>
              <a:ext cx="4214880" cy="22302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5791320" y="3871800"/>
              <a:ext cx="13906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5867280" y="37004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719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3719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724280" y="4226040"/>
            <a:ext cx="3924360" cy="407880"/>
            <a:chOff x="4724280" y="4226040"/>
            <a:chExt cx="3924360" cy="407880"/>
          </a:xfrm>
        </p:grpSpPr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4724280" y="4226040"/>
              <a:ext cx="392436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800600" y="4253040"/>
              <a:ext cx="3809880" cy="3808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00600" y="4753080"/>
            <a:ext cx="3809880" cy="1112760"/>
            <a:chOff x="4800600" y="4753080"/>
            <a:chExt cx="3809880" cy="1112760"/>
          </a:xfrm>
        </p:grpSpPr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4952880" y="4780080"/>
              <a:ext cx="3543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800600" y="4753080"/>
              <a:ext cx="3809880" cy="10666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687920" y="1523880"/>
            <a:ext cx="3922560" cy="943200"/>
            <a:chOff x="4687920" y="1523880"/>
            <a:chExt cx="3922560" cy="943200"/>
          </a:xfrm>
        </p:grpSpPr>
        <p:pic>
          <p:nvPicPr>
            <p:cNvPr id="313" name="" descr=""/>
            <p:cNvPicPr/>
            <p:nvPr/>
          </p:nvPicPr>
          <p:blipFill>
            <a:blip r:embed="rId6"/>
            <a:stretch/>
          </p:blipFill>
          <p:spPr>
            <a:xfrm>
              <a:off x="4687920" y="1562040"/>
              <a:ext cx="380988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724280" y="1523880"/>
              <a:ext cx="3886200" cy="9144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572000" y="1398600"/>
            <a:ext cx="4267080" cy="2133720"/>
            <a:chOff x="4572000" y="1398600"/>
            <a:chExt cx="4267080" cy="2133720"/>
          </a:xfrm>
        </p:grpSpPr>
        <p:sp>
          <p:nvSpPr>
            <p:cNvPr id="316" name=""/>
            <p:cNvSpPr/>
            <p:nvPr/>
          </p:nvSpPr>
          <p:spPr>
            <a:xfrm>
              <a:off x="4572000" y="1398600"/>
              <a:ext cx="4267080" cy="21337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664160" y="2514600"/>
              <a:ext cx="3962160" cy="914400"/>
              <a:chOff x="4664160" y="2514600"/>
              <a:chExt cx="3962160" cy="914400"/>
            </a:xfrm>
          </p:grpSpPr>
          <p:pic>
            <p:nvPicPr>
              <p:cNvPr id="31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64160" y="2570040"/>
                <a:ext cx="396216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4724280" y="2514600"/>
                <a:ext cx="3886200" cy="91440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1E7A-614B-47FB-8D08-FCF5CEF64B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6BF13-5F5C-4199-85F7-A7052CE997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74F8-A874-4204-AA26-A217364D29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8DC22-2B14-4438-AF96-47D3233188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bar 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749B-78E6-4182-B3B1-DBE3F5F6CD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B6817-769C-4408-9C00-2633EC81AD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r 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ED33-B516-4CB3-9904-78C0AB19C1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CE1DE-2E3A-47B7-8081-2C219BFA0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celeration - Pure R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676520"/>
            <a:ext cx="7925040" cy="411480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828800"/>
            <a:ext cx="304776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828800"/>
            <a:ext cx="4343400" cy="3809880"/>
            <a:chOff x="762120" y="1828800"/>
            <a:chExt cx="4343400" cy="3809880"/>
          </a:xfrm>
        </p:grpSpPr>
        <p:sp>
          <p:nvSpPr>
            <p:cNvPr id="106" name=""/>
            <p:cNvSpPr/>
            <p:nvPr/>
          </p:nvSpPr>
          <p:spPr>
            <a:xfrm>
              <a:off x="762120" y="1828800"/>
              <a:ext cx="434340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914400" y="2361960"/>
              <a:ext cx="4038840" cy="301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1824120" y="2055600"/>
              <a:ext cx="685800" cy="456840"/>
              <a:chOff x="1824120" y="2055600"/>
              <a:chExt cx="685800" cy="456840"/>
            </a:xfrm>
          </p:grpSpPr>
          <p:pic>
            <p:nvPicPr>
              <p:cNvPr id="1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9160" y="2056680"/>
                <a:ext cx="61884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824120" y="2055600"/>
                <a:ext cx="685800" cy="45684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038840" y="2057040"/>
              <a:ext cx="744480" cy="466560"/>
              <a:chOff x="4038840" y="2057040"/>
              <a:chExt cx="744480" cy="46656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3760" y="2057040"/>
                <a:ext cx="638280" cy="46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4038840" y="2057040"/>
                <a:ext cx="744480" cy="45720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5529240" y="2023920"/>
            <a:ext cx="2666880" cy="1143000"/>
            <a:chOff x="5529240" y="2023920"/>
            <a:chExt cx="2666880" cy="11430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5562720" y="2100240"/>
              <a:ext cx="25524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29240" y="2023920"/>
              <a:ext cx="266688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519880" y="3414600"/>
            <a:ext cx="2666880" cy="1984320"/>
            <a:chOff x="5519880" y="3414600"/>
            <a:chExt cx="2666880" cy="1984320"/>
          </a:xfrm>
        </p:grpSpPr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5596200" y="3414600"/>
              <a:ext cx="259056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19880" y="3414600"/>
              <a:ext cx="2666880" cy="19810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8EC9-2367-4154-9CA5-DA54AE946C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1CEF6-B76B-4E64-A013-1119F534CE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celeration Dif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219320"/>
            <a:ext cx="7925040" cy="472428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905120"/>
            <a:ext cx="36576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905120"/>
            <a:ext cx="38098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560" y="2222640"/>
            <a:ext cx="36385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876920" y="2743200"/>
            <a:ext cx="3319200" cy="947880"/>
            <a:chOff x="4876920" y="2743200"/>
            <a:chExt cx="3319200" cy="9478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1228680" cy="30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4876920" y="2743200"/>
              <a:ext cx="3319200" cy="947880"/>
              <a:chOff x="4876920" y="2743200"/>
              <a:chExt cx="3319200" cy="947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876920" y="2743200"/>
                <a:ext cx="3319200" cy="94788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3157560"/>
                <a:ext cx="2905200" cy="41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0" name=""/>
          <p:cNvGrpSpPr/>
          <p:nvPr/>
        </p:nvGrpSpPr>
        <p:grpSpPr>
          <a:xfrm>
            <a:off x="4876920" y="3962520"/>
            <a:ext cx="3309840" cy="1509480"/>
            <a:chOff x="4876920" y="3962520"/>
            <a:chExt cx="3309840" cy="1509480"/>
          </a:xfrm>
        </p:grpSpPr>
        <p:sp>
          <p:nvSpPr>
            <p:cNvPr id="131" name=""/>
            <p:cNvSpPr/>
            <p:nvPr/>
          </p:nvSpPr>
          <p:spPr>
            <a:xfrm>
              <a:off x="4876920" y="3962520"/>
              <a:ext cx="3309840" cy="15094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5486400" y="4124160"/>
              <a:ext cx="210492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155680" y="1392120"/>
            <a:ext cx="4429440" cy="2858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876920" y="2133720"/>
            <a:ext cx="3319200" cy="457200"/>
            <a:chOff x="4876920" y="2133720"/>
            <a:chExt cx="3319200" cy="45720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5410080" y="2210040"/>
              <a:ext cx="628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781680" y="2210040"/>
              <a:ext cx="781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876920" y="2133720"/>
              <a:ext cx="3319200" cy="4572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D063-B92B-4ED3-9BCA-FE65BA1755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9B940-0319-4BA4-B71B-86341D8BA4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lative Accel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16080" y="1371600"/>
            <a:ext cx="8534160" cy="434808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9200" y="1600200"/>
            <a:ext cx="4305600" cy="32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1200" y="2214720"/>
            <a:ext cx="8143920" cy="325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92640" y="2367000"/>
            <a:ext cx="1285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92640" y="2367000"/>
            <a:ext cx="1295640" cy="3301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642F-D38C-4616-8BCD-7256BA669B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82916-C98F-4BCA-958E-39F8B5D29F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1219320"/>
            <a:ext cx="7619760" cy="4876560"/>
          </a:xfrm>
          <a:prstGeom prst="rect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572000"/>
            <a:ext cx="72752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phical Acceleration 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86704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2364" r="0" b="5609"/>
          <a:stretch/>
        </p:blipFill>
        <p:spPr>
          <a:xfrm>
            <a:off x="914400" y="1371600"/>
            <a:ext cx="415296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00400" y="5105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64120" y="5105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5640" y="510552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4840" y="5105520"/>
            <a:ext cx="4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43000" y="4648320"/>
            <a:ext cx="1523880" cy="1143000"/>
            <a:chOff x="1143000" y="4648320"/>
            <a:chExt cx="1523880" cy="11430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rcRect l="0" t="0" r="3031" b="0"/>
            <a:stretch/>
          </p:blipFill>
          <p:spPr>
            <a:xfrm>
              <a:off x="1371600" y="5257800"/>
              <a:ext cx="10717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1360440" y="4853160"/>
              <a:ext cx="107640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143000" y="4648320"/>
              <a:ext cx="152388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8120" y="4648320"/>
            <a:ext cx="3047760" cy="1143000"/>
            <a:chOff x="3048120" y="4648320"/>
            <a:chExt cx="3047760" cy="1143000"/>
          </a:xfrm>
        </p:grpSpPr>
        <p:pic>
          <p:nvPicPr>
            <p:cNvPr id="160" name="" descr=""/>
            <p:cNvPicPr/>
            <p:nvPr/>
          </p:nvPicPr>
          <p:blipFill>
            <a:blip r:embed="rId5"/>
            <a:stretch/>
          </p:blipFill>
          <p:spPr>
            <a:xfrm>
              <a:off x="3809880" y="4716360"/>
              <a:ext cx="12574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>
              <a:off x="3124080" y="5334120"/>
              <a:ext cx="288612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48120" y="4648320"/>
              <a:ext cx="304776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77120" y="4648320"/>
            <a:ext cx="1447560" cy="1143000"/>
            <a:chOff x="6477120" y="4648320"/>
            <a:chExt cx="1447560" cy="1143000"/>
          </a:xfrm>
        </p:grpSpPr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6705720" y="4648320"/>
              <a:ext cx="8953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8"/>
            <a:stretch/>
          </p:blipFill>
          <p:spPr>
            <a:xfrm>
              <a:off x="6705720" y="5257800"/>
              <a:ext cx="8665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477120" y="4648320"/>
              <a:ext cx="144756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400800" y="1981080"/>
            <a:ext cx="1523880" cy="685800"/>
          </a:xfrm>
          <a:prstGeom prst="line">
            <a:avLst/>
          </a:prstGeom>
          <a:ln w="284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494120" y="2668680"/>
            <a:ext cx="430200" cy="977760"/>
          </a:xfrm>
          <a:prstGeom prst="line">
            <a:avLst/>
          </a:prstGeom>
          <a:ln w="284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1981080"/>
            <a:ext cx="1095480" cy="1685880"/>
          </a:xfrm>
          <a:prstGeom prst="line">
            <a:avLst/>
          </a:prstGeom>
          <a:ln w="284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95880" y="3657600"/>
            <a:ext cx="1371600" cy="533520"/>
          </a:xfrm>
          <a:prstGeom prst="line">
            <a:avLst/>
          </a:prstGeom>
          <a:ln w="284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5880" y="2666880"/>
            <a:ext cx="152640" cy="1524240"/>
          </a:xfrm>
          <a:prstGeom prst="line">
            <a:avLst/>
          </a:prstGeom>
          <a:ln w="284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838480" y="1561680"/>
            <a:ext cx="609480" cy="16002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1905120"/>
            <a:ext cx="1361880" cy="1332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990760" y="1952640"/>
            <a:ext cx="257400" cy="7142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991120" y="1961640"/>
            <a:ext cx="419040" cy="19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54320" y="1371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4160" y="2895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16480" y="1523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040" y="1676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9ED4-0EF7-4A59-A1B0-3395F7E7AB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3E6A7-499A-403E-8571-04395C9746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celeration of Coupler Poi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814320" y="1263600"/>
            <a:ext cx="7513560" cy="4800600"/>
          </a:xfrm>
          <a:prstGeom prst="rect">
            <a:avLst/>
          </a:prstGeom>
          <a:solidFill>
            <a:srgbClr val="000514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22400" y="4492800"/>
            <a:ext cx="7110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345"/>
          <a:stretch/>
        </p:blipFill>
        <p:spPr>
          <a:xfrm>
            <a:off x="1001880" y="1427040"/>
            <a:ext cx="4009680" cy="2903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84720" y="1438200"/>
            <a:ext cx="2933640" cy="28861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6423120" y="4568760"/>
            <a:ext cx="1523880" cy="1143000"/>
            <a:chOff x="6423120" y="4568760"/>
            <a:chExt cx="1523880" cy="1143000"/>
          </a:xfrm>
        </p:grpSpPr>
        <p:sp>
          <p:nvSpPr>
            <p:cNvPr id="186" name=""/>
            <p:cNvSpPr/>
            <p:nvPr/>
          </p:nvSpPr>
          <p:spPr>
            <a:xfrm>
              <a:off x="6423120" y="4568760"/>
              <a:ext cx="152388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6728040" y="5178240"/>
              <a:ext cx="8953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6716880" y="4754520"/>
              <a:ext cx="96192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1903320" y="4797360"/>
            <a:ext cx="4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?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75000" y="47973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2640" y="47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51000" y="4568760"/>
            <a:ext cx="3048120" cy="1143000"/>
            <a:chOff x="1251000" y="4568760"/>
            <a:chExt cx="3048120" cy="1143000"/>
          </a:xfrm>
        </p:grpSpPr>
        <p:sp>
          <p:nvSpPr>
            <p:cNvPr id="193" name=""/>
            <p:cNvSpPr/>
            <p:nvPr/>
          </p:nvSpPr>
          <p:spPr>
            <a:xfrm>
              <a:off x="1251000" y="4568760"/>
              <a:ext cx="304812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1741320" y="5102280"/>
              <a:ext cx="200052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4594320" y="4568760"/>
            <a:ext cx="1523880" cy="1143000"/>
            <a:chOff x="4594320" y="4568760"/>
            <a:chExt cx="1523880" cy="1143000"/>
          </a:xfrm>
        </p:grpSpPr>
        <p:pic>
          <p:nvPicPr>
            <p:cNvPr id="196" name="" descr=""/>
            <p:cNvPicPr/>
            <p:nvPr/>
          </p:nvPicPr>
          <p:blipFill>
            <a:blip r:embed="rId6"/>
            <a:srcRect l="0" t="0" r="3031" b="0"/>
            <a:stretch/>
          </p:blipFill>
          <p:spPr>
            <a:xfrm>
              <a:off x="4822920" y="5178240"/>
              <a:ext cx="10717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7"/>
            <a:stretch/>
          </p:blipFill>
          <p:spPr>
            <a:xfrm>
              <a:off x="4811760" y="4773600"/>
              <a:ext cx="107640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94320" y="4568760"/>
              <a:ext cx="152388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065640" y="2863800"/>
            <a:ext cx="1042920" cy="514440"/>
            <a:chOff x="6065640" y="2863800"/>
            <a:chExt cx="1042920" cy="514440"/>
          </a:xfrm>
        </p:grpSpPr>
        <p:sp>
          <p:nvSpPr>
            <p:cNvPr id="200" name=""/>
            <p:cNvSpPr/>
            <p:nvPr/>
          </p:nvSpPr>
          <p:spPr>
            <a:xfrm flipH="1">
              <a:off x="6065640" y="3168720"/>
              <a:ext cx="1042920" cy="209520"/>
            </a:xfrm>
            <a:prstGeom prst="line">
              <a:avLst/>
            </a:prstGeom>
            <a:ln w="28440">
              <a:solidFill>
                <a:srgbClr val="a886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70480" y="2863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886e0"/>
                  </a:solidFill>
                  <a:latin typeface="Times New Roman"/>
                </a:rPr>
                <a:t>A</a:t>
              </a:r>
              <a:r>
                <a:rPr b="0" i="1" lang="en-US" sz="1600" spc="-1" strike="noStrike" baseline="-25000">
                  <a:solidFill>
                    <a:srgbClr val="a886e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4E70-734C-4C7C-B8C6-92B9C4A7C2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96D24-9966-475D-9E47-2744FEC3BF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09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lgebraic Acceleration Analysis of the Fourbar Linkag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52280"/>
            <a:ext cx="464832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3212" t="0" r="0" b="0"/>
          <a:stretch/>
        </p:blipFill>
        <p:spPr>
          <a:xfrm>
            <a:off x="152280" y="3429000"/>
            <a:ext cx="4038840" cy="262260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5486400" y="295200"/>
            <a:ext cx="2286000" cy="590760"/>
            <a:chOff x="5486400" y="295200"/>
            <a:chExt cx="2286000" cy="59076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5943600" y="328680"/>
              <a:ext cx="1285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715000" y="633600"/>
              <a:ext cx="1886040" cy="2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86400" y="295200"/>
              <a:ext cx="2286000" cy="5907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181480" y="990720"/>
            <a:ext cx="2743200" cy="339480"/>
            <a:chOff x="5181480" y="990720"/>
            <a:chExt cx="2743200" cy="33948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5486400" y="1025280"/>
              <a:ext cx="220032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81480" y="990720"/>
              <a:ext cx="2743200" cy="3394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83160" y="1457280"/>
            <a:ext cx="4267080" cy="1295280"/>
            <a:chOff x="4583160" y="1457280"/>
            <a:chExt cx="4267080" cy="129528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4583160" y="1457280"/>
              <a:ext cx="42292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6"/>
            <a:stretch/>
          </p:blipFill>
          <p:spPr>
            <a:xfrm>
              <a:off x="4811760" y="2142720"/>
              <a:ext cx="117144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7"/>
            <a:stretch/>
          </p:blipFill>
          <p:spPr>
            <a:xfrm>
              <a:off x="6183360" y="1838160"/>
              <a:ext cx="2486160" cy="8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83160" y="1457280"/>
              <a:ext cx="4267080" cy="12952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3360" y="1838160"/>
              <a:ext cx="2514600" cy="8377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72000" y="2894040"/>
            <a:ext cx="4267080" cy="914400"/>
            <a:chOff x="4572000" y="2894040"/>
            <a:chExt cx="4267080" cy="914400"/>
          </a:xfrm>
        </p:grpSpPr>
        <p:pic>
          <p:nvPicPr>
            <p:cNvPr id="219" name="" descr=""/>
            <p:cNvPicPr/>
            <p:nvPr/>
          </p:nvPicPr>
          <p:blipFill>
            <a:blip r:embed="rId8"/>
            <a:stretch/>
          </p:blipFill>
          <p:spPr>
            <a:xfrm>
              <a:off x="4694400" y="2914920"/>
              <a:ext cx="40100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0" y="2894040"/>
              <a:ext cx="4267080" cy="9144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72000" y="3949560"/>
            <a:ext cx="4314960" cy="563760"/>
            <a:chOff x="4572000" y="3949560"/>
            <a:chExt cx="4314960" cy="563760"/>
          </a:xfrm>
        </p:grpSpPr>
        <p:pic>
          <p:nvPicPr>
            <p:cNvPr id="222" name="" descr=""/>
            <p:cNvPicPr/>
            <p:nvPr/>
          </p:nvPicPr>
          <p:blipFill>
            <a:blip r:embed="rId9"/>
            <a:stretch/>
          </p:blipFill>
          <p:spPr>
            <a:xfrm>
              <a:off x="4572000" y="3949560"/>
              <a:ext cx="431496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"/>
            <a:stretch/>
          </p:blipFill>
          <p:spPr>
            <a:xfrm>
              <a:off x="4572000" y="4208400"/>
              <a:ext cx="42195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72000" y="3979800"/>
              <a:ext cx="4267080" cy="5335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72000" y="4635360"/>
            <a:ext cx="3048120" cy="1300320"/>
            <a:chOff x="4572000" y="4635360"/>
            <a:chExt cx="3048120" cy="1300320"/>
          </a:xfrm>
        </p:grpSpPr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4672080" y="4668840"/>
              <a:ext cx="292428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0" y="4635360"/>
              <a:ext cx="3048120" cy="12956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696080" y="4635360"/>
            <a:ext cx="1143000" cy="1295640"/>
            <a:chOff x="7696080" y="4635360"/>
            <a:chExt cx="1143000" cy="1295640"/>
          </a:xfrm>
        </p:grpSpPr>
        <p:pic>
          <p:nvPicPr>
            <p:cNvPr id="229" name="" descr=""/>
            <p:cNvPicPr/>
            <p:nvPr/>
          </p:nvPicPr>
          <p:blipFill>
            <a:blip r:embed="rId12"/>
            <a:stretch/>
          </p:blipFill>
          <p:spPr>
            <a:xfrm>
              <a:off x="7772400" y="4908600"/>
              <a:ext cx="90504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696080" y="4635360"/>
              <a:ext cx="1143000" cy="12956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7909-4FBC-49E6-8AC6-C200F93A6A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56F13-5C04-4644-BCEE-4C09E0DE1C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09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lgebraic Acceleration Analysis of the Slider Cran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04920"/>
            <a:ext cx="46483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5433840" y="460440"/>
            <a:ext cx="2286000" cy="590400"/>
            <a:chOff x="5433840" y="460440"/>
            <a:chExt cx="2286000" cy="590400"/>
          </a:xfrm>
        </p:grpSpPr>
        <p:sp>
          <p:nvSpPr>
            <p:cNvPr id="235" name=""/>
            <p:cNvSpPr/>
            <p:nvPr/>
          </p:nvSpPr>
          <p:spPr>
            <a:xfrm>
              <a:off x="5433840" y="460440"/>
              <a:ext cx="2286000" cy="5904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824440" y="518760"/>
              <a:ext cx="13240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5586120" y="774360"/>
              <a:ext cx="1914480" cy="24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5129280" y="1155600"/>
            <a:ext cx="2743200" cy="339480"/>
            <a:chOff x="5129280" y="1155600"/>
            <a:chExt cx="2743200" cy="339480"/>
          </a:xfrm>
        </p:grpSpPr>
        <p:sp>
          <p:nvSpPr>
            <p:cNvPr id="239" name=""/>
            <p:cNvSpPr/>
            <p:nvPr/>
          </p:nvSpPr>
          <p:spPr>
            <a:xfrm>
              <a:off x="5129280" y="1155600"/>
              <a:ext cx="2743200" cy="3394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5680440" y="1180800"/>
              <a:ext cx="1714320" cy="2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4530600" y="1612800"/>
            <a:ext cx="4267080" cy="1305000"/>
            <a:chOff x="4530600" y="1612800"/>
            <a:chExt cx="4267080" cy="1305000"/>
          </a:xfrm>
        </p:grpSpPr>
        <p:pic>
          <p:nvPicPr>
            <p:cNvPr id="242" name="" descr=""/>
            <p:cNvPicPr/>
            <p:nvPr/>
          </p:nvPicPr>
          <p:blipFill>
            <a:blip r:embed="rId5"/>
            <a:stretch/>
          </p:blipFill>
          <p:spPr>
            <a:xfrm>
              <a:off x="5128920" y="1612800"/>
              <a:ext cx="31435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6"/>
            <a:stretch/>
          </p:blipFill>
          <p:spPr>
            <a:xfrm>
              <a:off x="4562280" y="2112840"/>
              <a:ext cx="161928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7"/>
            <a:stretch/>
          </p:blipFill>
          <p:spPr>
            <a:xfrm>
              <a:off x="6262560" y="2044800"/>
              <a:ext cx="24098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530600" y="1622520"/>
              <a:ext cx="4267080" cy="12952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7120" y="2003400"/>
              <a:ext cx="2514600" cy="8380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19440" y="3059280"/>
            <a:ext cx="4267080" cy="534960"/>
            <a:chOff x="4519440" y="3059280"/>
            <a:chExt cx="4267080" cy="534960"/>
          </a:xfrm>
        </p:grpSpPr>
        <p:sp>
          <p:nvSpPr>
            <p:cNvPr id="248" name=""/>
            <p:cNvSpPr/>
            <p:nvPr/>
          </p:nvSpPr>
          <p:spPr>
            <a:xfrm>
              <a:off x="4519440" y="3059280"/>
              <a:ext cx="4267080" cy="5349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4824360" y="3108600"/>
              <a:ext cx="363852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4519440" y="3726000"/>
            <a:ext cx="4267080" cy="626760"/>
            <a:chOff x="4519440" y="3726000"/>
            <a:chExt cx="4267080" cy="626760"/>
          </a:xfrm>
        </p:grpSpPr>
        <p:sp>
          <p:nvSpPr>
            <p:cNvPr id="251" name=""/>
            <p:cNvSpPr/>
            <p:nvPr/>
          </p:nvSpPr>
          <p:spPr>
            <a:xfrm>
              <a:off x="4519440" y="3726000"/>
              <a:ext cx="4267080" cy="6267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9"/>
            <a:stretch/>
          </p:blipFill>
          <p:spPr>
            <a:xfrm>
              <a:off x="4900320" y="3778200"/>
              <a:ext cx="319104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0"/>
            <a:stretch/>
          </p:blipFill>
          <p:spPr>
            <a:xfrm>
              <a:off x="4976640" y="4100400"/>
              <a:ext cx="3057480" cy="22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4519440" y="4475160"/>
            <a:ext cx="4267440" cy="1163520"/>
            <a:chOff x="4519440" y="4475160"/>
            <a:chExt cx="4267440" cy="1163520"/>
          </a:xfrm>
        </p:grpSpPr>
        <p:sp>
          <p:nvSpPr>
            <p:cNvPr id="255" name=""/>
            <p:cNvSpPr/>
            <p:nvPr/>
          </p:nvSpPr>
          <p:spPr>
            <a:xfrm>
              <a:off x="4519440" y="4475160"/>
              <a:ext cx="4267440" cy="11635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683240" y="4608360"/>
              <a:ext cx="3924360" cy="8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81EE-5190-4496-BABF-75AF3D7049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2FD08-7DB1-4451-9693-913DB1BC3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lgebraic Acceleration Analysis of the Geared Fiveba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430200"/>
            <a:ext cx="46483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25280" y="2116080"/>
            <a:ext cx="4114800" cy="3876840"/>
            <a:chOff x="125280" y="2116080"/>
            <a:chExt cx="4114800" cy="3876840"/>
          </a:xfrm>
        </p:grpSpPr>
        <p:grpSp>
          <p:nvGrpSpPr>
            <p:cNvPr id="260" name=""/>
            <p:cNvGrpSpPr/>
            <p:nvPr/>
          </p:nvGrpSpPr>
          <p:grpSpPr>
            <a:xfrm>
              <a:off x="125280" y="2116080"/>
              <a:ext cx="4114800" cy="3876840"/>
              <a:chOff x="125280" y="2116080"/>
              <a:chExt cx="4114800" cy="3876840"/>
            </a:xfrm>
          </p:grpSpPr>
          <p:sp>
            <p:nvSpPr>
              <p:cNvPr id="261" name=""/>
              <p:cNvSpPr/>
              <p:nvPr/>
            </p:nvSpPr>
            <p:spPr>
              <a:xfrm>
                <a:off x="125280" y="2116080"/>
                <a:ext cx="4114800" cy="387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25280" y="2331360"/>
                <a:ext cx="4086000" cy="3523680"/>
                <a:chOff x="125280" y="2331360"/>
                <a:chExt cx="4086000" cy="352368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5280" y="2331360"/>
                  <a:ext cx="3970080" cy="352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3373560" y="2618280"/>
                  <a:ext cx="837720" cy="71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217240" y="2187360"/>
                <a:ext cx="1878480" cy="614880"/>
                <a:chOff x="2217240" y="2187360"/>
                <a:chExt cx="1878480" cy="61488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361600" y="2187360"/>
                  <a:ext cx="1659960" cy="58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2217240" y="2187360"/>
                  <a:ext cx="1878480" cy="614880"/>
                </a:xfrm>
                <a:prstGeom prst="rect">
                  <a:avLst/>
                </a:prstGeom>
                <a:noFill/>
                <a:ln w="9360">
                  <a:solidFill>
                    <a:srgbClr val="0005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3068280" y="2929680"/>
              <a:ext cx="1064520" cy="510840"/>
              <a:chOff x="3068280" y="2929680"/>
              <a:chExt cx="1064520" cy="5108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68280" y="2929680"/>
                <a:ext cx="1064520" cy="2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40280" y="3216600"/>
                <a:ext cx="884160" cy="2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3068280" y="2929680"/>
                <a:ext cx="1010160" cy="50220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176040" y="4791240"/>
            <a:ext cx="336600" cy="3808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4572000" y="547560"/>
            <a:ext cx="4206960" cy="339840"/>
            <a:chOff x="4572000" y="547560"/>
            <a:chExt cx="4206960" cy="339840"/>
          </a:xfrm>
        </p:grpSpPr>
        <p:pic>
          <p:nvPicPr>
            <p:cNvPr id="274" name="" descr=""/>
            <p:cNvPicPr/>
            <p:nvPr/>
          </p:nvPicPr>
          <p:blipFill>
            <a:blip r:embed="rId6"/>
            <a:stretch/>
          </p:blipFill>
          <p:spPr>
            <a:xfrm>
              <a:off x="4876920" y="582480"/>
              <a:ext cx="376236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72000" y="547560"/>
              <a:ext cx="4206960" cy="3398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572000" y="1014480"/>
            <a:ext cx="4194000" cy="349200"/>
            <a:chOff x="4572000" y="1014480"/>
            <a:chExt cx="4194000" cy="349200"/>
          </a:xfrm>
        </p:grpSpPr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4724280" y="1039680"/>
              <a:ext cx="371484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572000" y="1014480"/>
              <a:ext cx="4194000" cy="3301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572000" y="1496880"/>
            <a:ext cx="4226040" cy="762120"/>
            <a:chOff x="4572000" y="1496880"/>
            <a:chExt cx="4226040" cy="762120"/>
          </a:xfrm>
        </p:grpSpPr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4724280" y="1496880"/>
              <a:ext cx="39625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72000" y="1508040"/>
              <a:ext cx="4226040" cy="7509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72000" y="2368440"/>
            <a:ext cx="4218120" cy="1208160"/>
            <a:chOff x="4572000" y="2368440"/>
            <a:chExt cx="4218120" cy="1208160"/>
          </a:xfrm>
        </p:grpSpPr>
        <p:pic>
          <p:nvPicPr>
            <p:cNvPr id="283" name="" descr=""/>
            <p:cNvPicPr/>
            <p:nvPr/>
          </p:nvPicPr>
          <p:blipFill>
            <a:blip r:embed="rId9"/>
            <a:stretch/>
          </p:blipFill>
          <p:spPr>
            <a:xfrm>
              <a:off x="4572000" y="2411280"/>
              <a:ext cx="41720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572000" y="2368440"/>
              <a:ext cx="4218120" cy="12081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0"/>
            <a:stretch/>
          </p:blipFill>
          <p:spPr>
            <a:xfrm>
              <a:off x="4724280" y="3021120"/>
              <a:ext cx="386712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562640" y="3665520"/>
            <a:ext cx="4190760" cy="914400"/>
            <a:chOff x="4562640" y="3665520"/>
            <a:chExt cx="4190760" cy="914400"/>
          </a:xfrm>
        </p:grpSpPr>
        <p:pic>
          <p:nvPicPr>
            <p:cNvPr id="287" name="" descr=""/>
            <p:cNvPicPr/>
            <p:nvPr/>
          </p:nvPicPr>
          <p:blipFill>
            <a:blip r:embed="rId11"/>
            <a:stretch/>
          </p:blipFill>
          <p:spPr>
            <a:xfrm>
              <a:off x="4632480" y="3749760"/>
              <a:ext cx="198108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2"/>
            <a:stretch/>
          </p:blipFill>
          <p:spPr>
            <a:xfrm>
              <a:off x="6765840" y="3741840"/>
              <a:ext cx="190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62640" y="3665520"/>
              <a:ext cx="4190760" cy="9144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62640" y="4749840"/>
            <a:ext cx="4214520" cy="1125360"/>
            <a:chOff x="4562640" y="4749840"/>
            <a:chExt cx="4214520" cy="1125360"/>
          </a:xfrm>
        </p:grpSpPr>
        <p:sp>
          <p:nvSpPr>
            <p:cNvPr id="291" name=""/>
            <p:cNvSpPr/>
            <p:nvPr/>
          </p:nvSpPr>
          <p:spPr>
            <a:xfrm>
              <a:off x="4562640" y="4749840"/>
              <a:ext cx="4214520" cy="11253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13"/>
            <a:stretch/>
          </p:blipFill>
          <p:spPr>
            <a:xfrm>
              <a:off x="5019840" y="4808520"/>
              <a:ext cx="3352680" cy="103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85CF-EC77-4272-BF4B-D3A561675A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6B7CE-579F-4D29-8FDF-C370A596F0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3:19:46Z</dcterms:created>
  <dc:creator>Default</dc:creator>
  <dc:description/>
  <dc:language>en-US</dc:language>
  <cp:lastModifiedBy>norton</cp:lastModifiedBy>
  <dcterms:modified xsi:type="dcterms:W3CDTF">2005-09-20T13:31:34Z</dcterms:modified>
  <cp:revision>29</cp:revision>
  <dc:subject/>
  <dc:title>Acceleration Analysis</dc:title>
</cp:coreProperties>
</file>