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0B90-DE86-41DE-81E7-1F459AB7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BA5E-A73C-47C8-AF3F-176AE01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FD47-E3FD-4071-AB09-F861967A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70DB-5C04-4AC2-AD11-03F2D4FF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840-B03F-487C-96F6-D881D952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E29C-05F3-4EE6-B7D7-EC311ED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39DD-F20C-426C-9302-F1887993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55B3-84E9-4493-9247-5DD33196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BE9-8855-4374-84E6-8588884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2E2-B3C7-45C5-A447-62FF177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90FF-3162-40FF-8504-AC9352A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BB8E-336B-4FFB-B663-240C422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AED-A058-4948-882F-AB1D21B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5F08-DCDE-4D33-8743-35E8401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0C9A-0740-4AF1-881C-9AC43743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8D78-BFD9-455C-8C75-D0C4D4C8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BE77-F423-4B8A-BD58-390575B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32E1-174B-4944-92B3-6D2B440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20B5-1D09-44CF-921C-02772733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504F-1BA2-4BEA-8DFB-05D63E8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00B6-8E87-4A57-90CC-6338397E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2CD9-900B-47EE-A281-A53BDE7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B94E-5AE9-4F6E-ADEA-88856D7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3FF4-583A-464F-8FB0-C6026CC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A76-F4FF-45EC-96D1-93AA33DDED1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CFB0-5E11-41D8-8296-057DCD74E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E50-5F11-4BCE-AD73-89A66EFBE77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6EC3-B605-42AF-9D5B-D6015D268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ear Trains</a:t>
            </a:r>
            <a:br>
              <a:rPr sz="60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Simple, Compound, &amp; Reverte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0362-DF60-4375-9EE9-657C044A7B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16C2F-CFBA-417A-93CB-44E117971D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ars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" y="1066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:  A pair of gears in mesh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er is called pinion, larger is called g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7480" y="563868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hould be &lt;= about 10:1 per gear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67200" y="2079720"/>
            <a:ext cx="3048120" cy="3429000"/>
            <a:chOff x="4867200" y="2079720"/>
            <a:chExt cx="3048120" cy="3429000"/>
          </a:xfrm>
        </p:grpSpPr>
        <p:sp>
          <p:nvSpPr>
            <p:cNvPr id="106" name=""/>
            <p:cNvSpPr/>
            <p:nvPr/>
          </p:nvSpPr>
          <p:spPr>
            <a:xfrm>
              <a:off x="4867200" y="2079720"/>
              <a:ext cx="3048120" cy="3429000"/>
            </a:xfrm>
            <a:prstGeom prst="rect">
              <a:avLst/>
            </a:pr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019840" y="2232000"/>
              <a:ext cx="2895480" cy="3276000"/>
              <a:chOff x="5019840" y="2232000"/>
              <a:chExt cx="2895480" cy="32760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324400" y="2232000"/>
                <a:ext cx="1980720" cy="1981080"/>
                <a:chOff x="5324400" y="2232000"/>
                <a:chExt cx="1980720" cy="19810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324400" y="2232000"/>
                  <a:ext cx="1980720" cy="1981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76320" y="2384280"/>
                  <a:ext cx="1676160" cy="167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171840" y="3103200"/>
                  <a:ext cx="304200" cy="304560"/>
                </a:xfrm>
                <a:prstGeom prst="ellipse">
                  <a:avLst/>
                </a:prstGeom>
                <a:solidFill>
                  <a:srgbClr val="0099cc"/>
                </a:solidFill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14760" y="2841480"/>
                  <a:ext cx="837720" cy="837720"/>
                </a:xfrm>
                <a:prstGeom prst="ellipse">
                  <a:avLst/>
                </a:prstGeom>
                <a:solidFill>
                  <a:srgbClr val="66ff66"/>
                </a:solidFill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657480" y="3188880"/>
                  <a:ext cx="139320" cy="139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5019840" y="4441680"/>
                <a:ext cx="2895480" cy="10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ternal S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 +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n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/ N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u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239520" y="29941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6520" y="253692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219320" y="2057400"/>
            <a:ext cx="3047760" cy="342900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71600" y="2400480"/>
            <a:ext cx="2895480" cy="3009240"/>
            <a:chOff x="1371600" y="2400480"/>
            <a:chExt cx="2895480" cy="3009240"/>
          </a:xfrm>
        </p:grpSpPr>
        <p:grpSp>
          <p:nvGrpSpPr>
            <p:cNvPr id="119" name=""/>
            <p:cNvGrpSpPr/>
            <p:nvPr/>
          </p:nvGrpSpPr>
          <p:grpSpPr>
            <a:xfrm>
              <a:off x="1371600" y="2400480"/>
              <a:ext cx="2666520" cy="1599840"/>
              <a:chOff x="1371600" y="2400480"/>
              <a:chExt cx="2666520" cy="1599840"/>
            </a:xfrm>
          </p:grpSpPr>
          <p:sp>
            <p:nvSpPr>
              <p:cNvPr id="120" name=""/>
              <p:cNvSpPr/>
              <p:nvPr/>
            </p:nvSpPr>
            <p:spPr>
              <a:xfrm>
                <a:off x="2438280" y="2400480"/>
                <a:ext cx="1599840" cy="159984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71600" y="2638080"/>
                <a:ext cx="1066680" cy="106632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27000" y="3126960"/>
                <a:ext cx="151920" cy="151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2240" y="313488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71600" y="4343400"/>
              <a:ext cx="2895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ternal 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-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n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/ N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48280" y="289548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 rot="5586600">
            <a:off x="2808720" y="2752560"/>
            <a:ext cx="7610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00D9-BB2B-4460-B19A-5E9F4AB4C3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8945D-7768-49AB-9BA5-8D7126D62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e Gear Tra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72396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:  One gear per shaft or ax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4574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952560" y="1905120"/>
            <a:ext cx="7238880" cy="1981080"/>
            <a:chOff x="952560" y="1905120"/>
            <a:chExt cx="7238880" cy="1981080"/>
          </a:xfrm>
        </p:grpSpPr>
        <p:sp>
          <p:nvSpPr>
            <p:cNvPr id="131" name=""/>
            <p:cNvSpPr/>
            <p:nvPr/>
          </p:nvSpPr>
          <p:spPr>
            <a:xfrm>
              <a:off x="952560" y="2438280"/>
              <a:ext cx="1066680" cy="10670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19240" y="2133720"/>
              <a:ext cx="1600200" cy="1600200"/>
            </a:xfrm>
            <a:prstGeom prst="ellipse">
              <a:avLst/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471760"/>
              <a:ext cx="914400" cy="914400"/>
            </a:xfrm>
            <a:prstGeom prst="ellipse">
              <a:avLst/>
            </a:prstGeom>
            <a:solidFill>
              <a:srgbClr val="00051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3840" y="1905120"/>
              <a:ext cx="1981440" cy="19810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5280" y="2057400"/>
              <a:ext cx="1676160" cy="16765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7960" y="29275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63720" y="28447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3800" y="2838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3800" y="28447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10040" y="28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62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6880" y="3244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3062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429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8880" y="3244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9160" y="2629080"/>
              <a:ext cx="761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 rot="5586600">
              <a:off x="2351160" y="2448000"/>
              <a:ext cx="7617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0440" y="261000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 rot="5586600">
              <a:off x="5018400" y="237168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680" y="23623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5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0552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ntermediate gears are id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F8AB-5493-48C9-B36C-EBE7771DBF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F7DFF-0833-4EA4-AA94-B799C94FA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371600"/>
            <a:ext cx="838224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und Gear Tra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448240" cy="4381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170496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3162240" cy="4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0B42-47E1-4A30-AC3A-38D86F88B3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94201-C1F7-432C-B155-5A3219F934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9760" y="1295280"/>
            <a:ext cx="63244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88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und Train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86080" y="1447920"/>
            <a:ext cx="6048360" cy="35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6204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quare root of 180 = 13.42 &gt;10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98760" y="2362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ube root of 180 = 5.646 &lt; 10</a:t>
            </a:r>
            <a:r>
              <a:rPr b="0" lang="en-US" sz="1800" spc="-1" strike="noStrike">
                <a:solidFill>
                  <a:srgbClr val="000514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71880" y="2859120"/>
            <a:ext cx="2057400" cy="2209680"/>
            <a:chOff x="2171880" y="2859120"/>
            <a:chExt cx="2057400" cy="2209680"/>
          </a:xfrm>
        </p:grpSpPr>
        <p:sp>
          <p:nvSpPr>
            <p:cNvPr id="163" name=""/>
            <p:cNvSpPr/>
            <p:nvPr/>
          </p:nvSpPr>
          <p:spPr>
            <a:xfrm>
              <a:off x="2171880" y="2859120"/>
              <a:ext cx="2057400" cy="2209680"/>
            </a:xfrm>
            <a:prstGeom prst="rect">
              <a:avLst/>
            </a:prstGeom>
            <a:noFill/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247840" y="3011400"/>
              <a:ext cx="1847880" cy="19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2171880" y="5221440"/>
            <a:ext cx="2057400" cy="533160"/>
            <a:chOff x="2171880" y="5221440"/>
            <a:chExt cx="2057400" cy="53316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2313000" y="5330520"/>
              <a:ext cx="175248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71880" y="5221440"/>
              <a:ext cx="2057400" cy="533160"/>
            </a:xfrm>
            <a:prstGeom prst="rect">
              <a:avLst/>
            </a:prstGeom>
            <a:noFill/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991040" y="1981080"/>
            <a:ext cx="2590920" cy="838440"/>
            <a:chOff x="4991040" y="1981080"/>
            <a:chExt cx="2590920" cy="838440"/>
          </a:xfrm>
        </p:grpSpPr>
        <p:sp>
          <p:nvSpPr>
            <p:cNvPr id="169" name=""/>
            <p:cNvSpPr/>
            <p:nvPr/>
          </p:nvSpPr>
          <p:spPr>
            <a:xfrm>
              <a:off x="4991040" y="1981080"/>
              <a:ext cx="2590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What are factors of 180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6 x 6 x 5 = 1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67360" y="1981080"/>
              <a:ext cx="2514600" cy="838440"/>
            </a:xfrm>
            <a:prstGeom prst="rect">
              <a:avLst/>
            </a:prstGeom>
            <a:noFill/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067360" y="3124080"/>
            <a:ext cx="2438280" cy="2425680"/>
            <a:chOff x="5067360" y="3124080"/>
            <a:chExt cx="2438280" cy="242568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5164200" y="3220920"/>
              <a:ext cx="23414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067360" y="3124080"/>
              <a:ext cx="2425680" cy="2425680"/>
            </a:xfrm>
            <a:prstGeom prst="rect">
              <a:avLst/>
            </a:prstGeom>
            <a:noFill/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CDB4-1896-4E06-AF51-B79C60646A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EC5FA-833A-4787-A65D-2214897486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2967" r="0" b="0"/>
          <a:stretch/>
        </p:blipFill>
        <p:spPr>
          <a:xfrm>
            <a:off x="1371600" y="1295280"/>
            <a:ext cx="6419880" cy="498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88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und Train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18E1-CFBD-4EAA-938C-7DEC5E8D7F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37EC-B94F-432E-90D1-1355859037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und Reverted Gear Tra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324480" cy="3914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1467000" cy="657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15200" y="2981160"/>
            <a:ext cx="1542960" cy="447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174312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6077-B608-4661-B177-6DDCA11FE2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29085-1A96-442E-A9E4-A07DD0AD47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1371600"/>
            <a:ext cx="76960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erted Train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2840" y="1371600"/>
            <a:ext cx="68486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89160" y="1828800"/>
            <a:ext cx="6743520" cy="3333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219320" y="2438280"/>
            <a:ext cx="2057400" cy="3429000"/>
            <a:chOff x="1219320" y="2438280"/>
            <a:chExt cx="2057400" cy="3429000"/>
          </a:xfrm>
        </p:grpSpPr>
        <p:sp>
          <p:nvSpPr>
            <p:cNvPr id="186" name=""/>
            <p:cNvSpPr/>
            <p:nvPr/>
          </p:nvSpPr>
          <p:spPr>
            <a:xfrm>
              <a:off x="1219320" y="2438280"/>
              <a:ext cx="2057400" cy="3429000"/>
            </a:xfrm>
            <a:prstGeom prst="rect">
              <a:avLst/>
            </a:prstGeom>
            <a:noFill/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295280" y="2514600"/>
              <a:ext cx="1895760" cy="323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3500280" y="2438280"/>
            <a:ext cx="3129120" cy="1524240"/>
            <a:chOff x="3500280" y="2438280"/>
            <a:chExt cx="3129120" cy="1524240"/>
          </a:xfrm>
        </p:grpSpPr>
        <p:grpSp>
          <p:nvGrpSpPr>
            <p:cNvPr id="189" name=""/>
            <p:cNvGrpSpPr/>
            <p:nvPr/>
          </p:nvGrpSpPr>
          <p:grpSpPr>
            <a:xfrm>
              <a:off x="3986280" y="2438280"/>
              <a:ext cx="2178000" cy="368280"/>
              <a:chOff x="3986280" y="2438280"/>
              <a:chExt cx="2178000" cy="3682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4"/>
              <a:srcRect l="27781" t="0" r="33339" b="0"/>
              <a:stretch/>
            </p:blipFill>
            <p:spPr>
              <a:xfrm>
                <a:off x="3986280" y="2492280"/>
                <a:ext cx="164448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5554800" y="24382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Times New Roman"/>
                  </a:rPr>
                  <a:t>= 1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3713040" y="2757600"/>
              <a:ext cx="131472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5237280" y="2787480"/>
              <a:ext cx="13809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500280" y="2438280"/>
              <a:ext cx="3129120" cy="152424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934320" y="3021120"/>
            <a:ext cx="1523880" cy="914400"/>
            <a:chOff x="6934320" y="3021120"/>
            <a:chExt cx="1523880" cy="914400"/>
          </a:xfrm>
        </p:grpSpPr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>
              <a:off x="6934320" y="3103560"/>
              <a:ext cx="14857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934320" y="3021120"/>
              <a:ext cx="1523880" cy="91440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809880" y="5199120"/>
            <a:ext cx="1828800" cy="533160"/>
            <a:chOff x="3809880" y="5199120"/>
            <a:chExt cx="1828800" cy="533160"/>
          </a:xfrm>
        </p:grpSpPr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3809880" y="5275080"/>
              <a:ext cx="180000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809880" y="5199120"/>
              <a:ext cx="1828800" cy="53316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5880" y="5046840"/>
            <a:ext cx="2219040" cy="933120"/>
            <a:chOff x="6095880" y="5046840"/>
            <a:chExt cx="2219040" cy="933120"/>
          </a:xfrm>
        </p:grpSpPr>
        <p:pic>
          <p:nvPicPr>
            <p:cNvPr id="202" name="" descr=""/>
            <p:cNvPicPr/>
            <p:nvPr/>
          </p:nvPicPr>
          <p:blipFill>
            <a:blip r:embed="rId9"/>
            <a:stretch/>
          </p:blipFill>
          <p:spPr>
            <a:xfrm>
              <a:off x="6095880" y="5046840"/>
              <a:ext cx="10760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0"/>
            <a:stretch/>
          </p:blipFill>
          <p:spPr>
            <a:xfrm>
              <a:off x="7238880" y="5046840"/>
              <a:ext cx="107604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095880" y="5046840"/>
              <a:ext cx="2209680" cy="91404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41680" y="4038480"/>
            <a:ext cx="2362320" cy="914400"/>
            <a:chOff x="3541680" y="4038480"/>
            <a:chExt cx="2362320" cy="914400"/>
          </a:xfrm>
        </p:grpSpPr>
        <p:pic>
          <p:nvPicPr>
            <p:cNvPr id="206" name="" descr=""/>
            <p:cNvPicPr/>
            <p:nvPr/>
          </p:nvPicPr>
          <p:blipFill>
            <a:blip r:embed="rId11"/>
            <a:stretch/>
          </p:blipFill>
          <p:spPr>
            <a:xfrm>
              <a:off x="3552840" y="4076640"/>
              <a:ext cx="230508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541680" y="4038480"/>
              <a:ext cx="2362320" cy="91440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95880" y="4038480"/>
            <a:ext cx="2361960" cy="899280"/>
            <a:chOff x="6095880" y="4038480"/>
            <a:chExt cx="2361960" cy="899280"/>
          </a:xfrm>
        </p:grpSpPr>
        <p:sp>
          <p:nvSpPr>
            <p:cNvPr id="209" name=""/>
            <p:cNvSpPr/>
            <p:nvPr/>
          </p:nvSpPr>
          <p:spPr>
            <a:xfrm>
              <a:off x="6171840" y="4114800"/>
              <a:ext cx="21337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Let </a:t>
              </a:r>
              <a:r>
                <a:rPr b="0" i="1" lang="en-US" sz="1800" spc="-1" strike="noStrike">
                  <a:solidFill>
                    <a:srgbClr val="000514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 = 7 x 4  = 2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Then </a:t>
              </a:r>
              <a:r>
                <a:rPr b="0" i="1" lang="en-US" sz="1800" spc="-1" strike="noStrike">
                  <a:solidFill>
                    <a:srgbClr val="000514"/>
                  </a:solidFill>
                  <a:latin typeface="Times New Roman"/>
                </a:rPr>
                <a:t>N</a:t>
              </a:r>
              <a:r>
                <a:rPr b="0" lang="en-US" sz="1800" spc="-1" strike="noStrike" baseline="-25000">
                  <a:solidFill>
                    <a:srgbClr val="000514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 = 4, </a:t>
              </a:r>
              <a:r>
                <a:rPr b="0" i="1" lang="en-US" sz="1800" spc="-1" strike="noStrike">
                  <a:solidFill>
                    <a:srgbClr val="000514"/>
                  </a:solidFill>
                  <a:latin typeface="Times New Roman"/>
                </a:rPr>
                <a:t>N</a:t>
              </a:r>
              <a:r>
                <a:rPr b="0" lang="en-US" sz="1800" spc="-1" strike="noStrike" baseline="-25000">
                  <a:solidFill>
                    <a:srgbClr val="000514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514"/>
                  </a:solidFill>
                  <a:latin typeface="Times New Roman"/>
                </a:rPr>
                <a:t> = 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5880" y="4038480"/>
              <a:ext cx="2361960" cy="890640"/>
            </a:xfrm>
            <a:prstGeom prst="rect">
              <a:avLst/>
            </a:prstGeom>
            <a:noFill/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0EB0-DE27-4179-977F-8289C8F396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AF1E6-840D-403C-A053-3E47E53159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6344-9787-4B9C-A037-20E6D7C91B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80508-52C9-48CD-A317-B38E3F85F1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53:41Z</dcterms:created>
  <dc:creator>Default</dc:creator>
  <dc:description/>
  <dc:language>en-US</dc:language>
  <cp:lastModifiedBy>ME Dept.</cp:lastModifiedBy>
  <dcterms:modified xsi:type="dcterms:W3CDTF">2005-10-06T13:56:25Z</dcterms:modified>
  <cp:revision>12</cp:revision>
  <dc:subject/>
  <dc:title>Gear Trains</dc:title>
</cp:coreProperties>
</file>