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png" ContentType="image/png"/>
  <Override PartName="/ppt/media/image11.wmf" ContentType="image/x-wmf"/>
  <Override PartName="/ppt/media/image7.png" ContentType="image/png"/>
  <Override PartName="/ppt/media/image10.wmf" ContentType="image/x-wmf"/>
  <Override PartName="/ppt/media/image6.png" ContentType="image/png"/>
  <Override PartName="/ppt/media/image14.wmf" ContentType="image/x-wmf"/>
  <Override PartName="/ppt/media/image5.wmf" ContentType="image/x-wmf"/>
  <Override PartName="/ppt/media/image23.wmf" ContentType="image/x-wmf"/>
  <Override PartName="/ppt/media/image22.png" ContentType="image/png"/>
  <Override PartName="/ppt/media/image21.wmf" ContentType="image/x-wmf"/>
  <Override PartName="/ppt/media/image4.wmf" ContentType="image/x-wmf"/>
  <Override PartName="/ppt/media/image20.wmf" ContentType="image/x-wmf"/>
  <Override PartName="/ppt/media/image3.wmf" ContentType="image/x-wmf"/>
  <Override PartName="/ppt/media/image19.png" ContentType="image/png"/>
  <Override PartName="/ppt/media/image18.png" ContentType="image/png"/>
  <Override PartName="/ppt/media/image17.wmf" ContentType="image/x-wmf"/>
  <Override PartName="/ppt/media/image16.wmf" ContentType="image/x-wmf"/>
  <Override PartName="/ppt/media/image15.png" ContentType="image/png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44B1D1-313D-427F-A194-4E0CC64B4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7AB140-0044-4E38-B2FD-0C756F983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830B99-4CBB-486D-9DC0-1A6D29B03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7A7EB5-C4FC-44DB-9DA7-38856EDB6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22479-7369-4A0B-A6B5-4842055A6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06C17-D298-4187-9F58-3DAE2DD83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FD67E-9498-4FCC-981F-75FC71602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C326D-EE9E-4BFB-BA4C-F2F756467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02E27-F5AC-450E-AECC-83A1C37B8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FC3A8-468C-4968-A0CB-48D74E6D0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CE2E9-92F6-4BCA-A71D-E562CC827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660FDD-6454-4A07-BC58-036886DBA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B400A-E918-4873-B281-C526938EF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176A2-D045-4BAF-9A3A-FA6971777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DFF5B-EC6B-4BE6-9ABB-BB313F944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A1D1F-626D-4E74-90B2-D51F94804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319F9-5937-4C43-AEDE-1905185D0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5331C9-F224-409E-8603-12CA73AC3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185666-FE20-454E-B493-10BBB7945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567C76-4B30-4152-A824-12B202381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5870DF-A201-4ED1-BDE6-7A8CA6304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A93A7E-63FC-4B6A-948B-127F402F5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455F11-D165-4955-A6C7-3CC1AA32C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F3EF51-B580-41E2-80E9-8DA52A2B0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5456F-3777-4669-A44A-E904CDC6C68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27911-75BD-4E73-9476-026C05044C2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png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png"/><Relationship Id="rId5" Type="http://schemas.openxmlformats.org/officeDocument/2006/relationships/image" Target="../media/image13.wmf"/><Relationship Id="rId6" Type="http://schemas.openxmlformats.org/officeDocument/2006/relationships/image" Target="../media/image14.wmf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Engine Kinematics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E 3311 Lecture 8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Effect of </a:t>
            </a:r>
            <a:r>
              <a:rPr b="1" i="1" lang="en-US" sz="6000" spc="-1" strike="noStrike">
                <a:solidFill>
                  <a:srgbClr val="e5e5ff"/>
                </a:solidFill>
                <a:latin typeface="Garamond"/>
              </a:rPr>
              <a:t>r/l</a:t>
            </a: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 Ratio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rogram Engine Demo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Gas For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523880" y="1295280"/>
            <a:ext cx="6100920" cy="190656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1066680" y="3352680"/>
            <a:ext cx="6943680" cy="33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28240" y="914040"/>
            <a:ext cx="20574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Gas Torqu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1198" t="0" r="3114" b="0"/>
          <a:stretch/>
        </p:blipFill>
        <p:spPr>
          <a:xfrm>
            <a:off x="2514600" y="4648320"/>
            <a:ext cx="6095880" cy="165420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2514600" y="533520"/>
            <a:ext cx="6100920" cy="39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62120" y="3809520"/>
            <a:ext cx="22096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Gas Torqu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3886200" y="380880"/>
            <a:ext cx="5054760" cy="101304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3886200" y="1447920"/>
            <a:ext cx="5121360" cy="520524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3"/>
          <a:stretch/>
        </p:blipFill>
        <p:spPr>
          <a:xfrm>
            <a:off x="228600" y="1447920"/>
            <a:ext cx="3505320" cy="196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Gas Torque Functio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304920" y="2286000"/>
            <a:ext cx="8462880" cy="261612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914400" y="510552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Four Stroke Eng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029200" y="510552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Two Stroke Eng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Program Engine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lider-Crank Mechanism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685800" y="1676520"/>
            <a:ext cx="778824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175248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The Otto Four-Stroke Cycl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209680" y="228600"/>
            <a:ext cx="6740640" cy="65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198108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The Clerk Two-Stroke Cycl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2895480" y="228600"/>
            <a:ext cx="550728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Gas Force Functio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685800" y="2438280"/>
            <a:ext cx="7719840" cy="29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495288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lider-Crank Kinematic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52280" y="2057400"/>
            <a:ext cx="5424480" cy="304632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1447920" y="5334120"/>
            <a:ext cx="403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These are exact expressions but their complexity hides their behavior from sight.  Would like to simplify them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5638680" y="609480"/>
            <a:ext cx="3353040" cy="5638680"/>
            <a:chOff x="5638680" y="609480"/>
            <a:chExt cx="3353040" cy="5638680"/>
          </a:xfrm>
        </p:grpSpPr>
        <p:sp>
          <p:nvSpPr>
            <p:cNvPr id="114" name=""/>
            <p:cNvSpPr/>
            <p:nvPr/>
          </p:nvSpPr>
          <p:spPr>
            <a:xfrm>
              <a:off x="5638680" y="609480"/>
              <a:ext cx="3353040" cy="5638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15" name="" descr=""/>
            <p:cNvPicPr/>
            <p:nvPr/>
          </p:nvPicPr>
          <p:blipFill>
            <a:blip r:embed="rId2"/>
            <a:stretch/>
          </p:blipFill>
          <p:spPr>
            <a:xfrm>
              <a:off x="6019920" y="685440"/>
              <a:ext cx="2657520" cy="3181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" name="" descr=""/>
            <p:cNvPicPr/>
            <p:nvPr/>
          </p:nvPicPr>
          <p:blipFill>
            <a:blip r:embed="rId3"/>
            <a:stretch/>
          </p:blipFill>
          <p:spPr>
            <a:xfrm>
              <a:off x="5715000" y="3962160"/>
              <a:ext cx="3265560" cy="216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5715000" y="3200040"/>
              <a:ext cx="3200400" cy="297180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implified Expression for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46779" t="0" r="0" b="0"/>
          <a:stretch/>
        </p:blipFill>
        <p:spPr>
          <a:xfrm>
            <a:off x="7010280" y="609480"/>
            <a:ext cx="1127160" cy="62388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1752480" y="1600200"/>
            <a:ext cx="5154840" cy="44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implified Expression for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rcRect l="-3587" t="0" r="0" b="0"/>
          <a:stretch/>
        </p:blipFill>
        <p:spPr>
          <a:xfrm>
            <a:off x="6553080" y="457200"/>
            <a:ext cx="2194200" cy="623880"/>
          </a:xfrm>
          <a:prstGeom prst="rect">
            <a:avLst/>
          </a:prstGeom>
          <a:ln w="0">
            <a:noFill/>
          </a:ln>
        </p:spPr>
      </p:pic>
      <p:grpSp>
        <p:nvGrpSpPr>
          <p:cNvPr id="123" name=""/>
          <p:cNvGrpSpPr/>
          <p:nvPr/>
        </p:nvGrpSpPr>
        <p:grpSpPr>
          <a:xfrm>
            <a:off x="380880" y="1219320"/>
            <a:ext cx="6172200" cy="5487840"/>
            <a:chOff x="380880" y="1219320"/>
            <a:chExt cx="6172200" cy="5487840"/>
          </a:xfrm>
        </p:grpSpPr>
        <p:sp>
          <p:nvSpPr>
            <p:cNvPr id="124" name=""/>
            <p:cNvSpPr/>
            <p:nvPr/>
          </p:nvSpPr>
          <p:spPr>
            <a:xfrm>
              <a:off x="382680" y="1219320"/>
              <a:ext cx="6170400" cy="5484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5" name=""/>
            <p:cNvGrpSpPr/>
            <p:nvPr/>
          </p:nvGrpSpPr>
          <p:grpSpPr>
            <a:xfrm>
              <a:off x="380880" y="1220760"/>
              <a:ext cx="6169320" cy="5486400"/>
              <a:chOff x="380880" y="1220760"/>
              <a:chExt cx="6169320" cy="5486400"/>
            </a:xfrm>
          </p:grpSpPr>
          <p:grpSp>
            <p:nvGrpSpPr>
              <p:cNvPr id="126" name=""/>
              <p:cNvGrpSpPr/>
              <p:nvPr/>
            </p:nvGrpSpPr>
            <p:grpSpPr>
              <a:xfrm>
                <a:off x="380880" y="1220760"/>
                <a:ext cx="6167520" cy="2668680"/>
                <a:chOff x="380880" y="1220760"/>
                <a:chExt cx="6167520" cy="2668680"/>
              </a:xfrm>
            </p:grpSpPr>
            <p:pic>
              <p:nvPicPr>
                <p:cNvPr id="127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380880" y="1906560"/>
                  <a:ext cx="6167520" cy="19828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676520" y="1220760"/>
                  <a:ext cx="4817880" cy="6238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12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80880" y="3871800"/>
                <a:ext cx="6169320" cy="28353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30" name=""/>
            <p:cNvSpPr/>
            <p:nvPr/>
          </p:nvSpPr>
          <p:spPr>
            <a:xfrm>
              <a:off x="457200" y="1830240"/>
              <a:ext cx="457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6629400" y="2895480"/>
            <a:ext cx="2362320" cy="1752480"/>
            <a:chOff x="6629400" y="2895480"/>
            <a:chExt cx="2362320" cy="1752480"/>
          </a:xfrm>
        </p:grpSpPr>
        <p:sp>
          <p:nvSpPr>
            <p:cNvPr id="132" name=""/>
            <p:cNvSpPr/>
            <p:nvPr/>
          </p:nvSpPr>
          <p:spPr>
            <a:xfrm>
              <a:off x="6629400" y="2895480"/>
              <a:ext cx="2362320" cy="1752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33" name="" descr=""/>
            <p:cNvPicPr/>
            <p:nvPr/>
          </p:nvPicPr>
          <p:blipFill>
            <a:blip r:embed="rId5"/>
            <a:stretch/>
          </p:blipFill>
          <p:spPr>
            <a:xfrm>
              <a:off x="6858000" y="3581280"/>
              <a:ext cx="1914480" cy="412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" name="" descr=""/>
            <p:cNvPicPr/>
            <p:nvPr/>
          </p:nvPicPr>
          <p:blipFill>
            <a:blip r:embed="rId6"/>
            <a:stretch/>
          </p:blipFill>
          <p:spPr>
            <a:xfrm>
              <a:off x="6629400" y="2971440"/>
              <a:ext cx="2320920" cy="514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" name="" descr=""/>
            <p:cNvPicPr/>
            <p:nvPr/>
          </p:nvPicPr>
          <p:blipFill>
            <a:blip r:embed="rId7"/>
            <a:stretch/>
          </p:blipFill>
          <p:spPr>
            <a:xfrm>
              <a:off x="6858000" y="4114440"/>
              <a:ext cx="2016000" cy="5065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3276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osition, Velocity, Acceleration of the Pist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3733920" y="152280"/>
            <a:ext cx="2860560" cy="6539040"/>
          </a:xfrm>
          <a:prstGeom prst="rect">
            <a:avLst/>
          </a:prstGeom>
          <a:ln w="0">
            <a:noFill/>
          </a:ln>
        </p:spPr>
      </p:pic>
      <p:grpSp>
        <p:nvGrpSpPr>
          <p:cNvPr id="138" name=""/>
          <p:cNvGrpSpPr/>
          <p:nvPr/>
        </p:nvGrpSpPr>
        <p:grpSpPr>
          <a:xfrm>
            <a:off x="6705720" y="152280"/>
            <a:ext cx="2286000" cy="6553440"/>
            <a:chOff x="6705720" y="152280"/>
            <a:chExt cx="2286000" cy="6553440"/>
          </a:xfrm>
        </p:grpSpPr>
        <p:sp>
          <p:nvSpPr>
            <p:cNvPr id="139" name=""/>
            <p:cNvSpPr/>
            <p:nvPr/>
          </p:nvSpPr>
          <p:spPr>
            <a:xfrm>
              <a:off x="6705720" y="152280"/>
              <a:ext cx="2286000" cy="6553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40" name="" descr=""/>
            <p:cNvPicPr/>
            <p:nvPr/>
          </p:nvPicPr>
          <p:blipFill>
            <a:blip r:embed="rId2"/>
            <a:stretch/>
          </p:blipFill>
          <p:spPr>
            <a:xfrm>
              <a:off x="6858000" y="2819520"/>
              <a:ext cx="1914480" cy="412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" name="" descr=""/>
            <p:cNvPicPr/>
            <p:nvPr/>
          </p:nvPicPr>
          <p:blipFill>
            <a:blip r:embed="rId3"/>
            <a:srcRect l="0" t="0" r="4794" b="11119"/>
            <a:stretch/>
          </p:blipFill>
          <p:spPr>
            <a:xfrm>
              <a:off x="6705720" y="838080"/>
              <a:ext cx="22096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" name="" descr=""/>
            <p:cNvPicPr/>
            <p:nvPr/>
          </p:nvPicPr>
          <p:blipFill>
            <a:blip r:embed="rId4"/>
            <a:stretch/>
          </p:blipFill>
          <p:spPr>
            <a:xfrm>
              <a:off x="6858000" y="5257800"/>
              <a:ext cx="2016000" cy="5065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4T16:44:26Z</dcterms:created>
  <dc:creator>R. L. Norton</dc:creator>
  <dc:description/>
  <dc:language>en-US</dc:language>
  <cp:lastModifiedBy>norton</cp:lastModifiedBy>
  <dcterms:modified xsi:type="dcterms:W3CDTF">2005-11-10T15:00:00Z</dcterms:modified>
  <cp:revision>8</cp:revision>
  <dc:subject/>
  <dc:title>Engine Kinematics</dc:title>
</cp:coreProperties>
</file>