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14.wmf" ContentType="image/x-wmf"/>
  <Override PartName="/ppt/media/image11.png" ContentType="image/png"/>
  <Override PartName="/ppt/media/image29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image7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1.wmf" ContentType="image/x-wmf"/>
  <Override PartName="/ppt/media/image15.wmf" ContentType="image/x-wmf"/>
  <Override PartName="/ppt/media/image16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3053-BAC6-47CB-853D-F130454C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BD8D-210B-4BE1-A3FF-390AB2D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93FE-6288-45E0-B01B-AF7B437F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5AB4-5576-4FBF-ABC3-CA831D4D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D035-7A1B-4A95-8CD3-4A778154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CD10-7DDE-4F19-8C93-C5A4AB7E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1F01-DE3A-4D30-9321-C431884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7CB-9ABA-4B47-AE1E-45948B45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4628-EA33-4834-B459-02A14BB8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71C-CB7F-4B63-9A70-00603F8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D07-3DC0-468C-9A2A-F1298957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2348-8653-413C-89FA-4E897D7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C8A1-51C6-47E3-8E70-4B34578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2B0-176F-47A3-84AA-84992C25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FF29-BFD8-4C8E-BD89-23B2A68F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98C-FBA7-431D-9014-D8AB9FA2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ED2B-DB55-4C75-A6E1-153A62D6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075D-2A8A-4670-915D-B7CFFC9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F5FA-D03A-49C6-BA48-6EDF83E3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78A4-9EC3-481F-9F2D-49EE572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5A3A-F7CC-424D-9299-1AC474E1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77D8-BAC9-4A37-A813-E391A443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9559-5E09-4109-8D43-D32D582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0DF1-5AC0-4789-9BE9-911C3F2A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35C6-B889-4E10-9A15-17F866901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143-F6BF-432D-A35B-A1D499329A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png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quivalent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ynamic Equiva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2708" r="0" b="0"/>
          <a:stretch/>
        </p:blipFill>
        <p:spPr>
          <a:xfrm>
            <a:off x="6781680" y="3124080"/>
            <a:ext cx="211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838080" y="1447920"/>
            <a:ext cx="5639040" cy="4952880"/>
            <a:chOff x="838080" y="1447920"/>
            <a:chExt cx="5639040" cy="4952880"/>
          </a:xfrm>
        </p:grpSpPr>
        <p:sp>
          <p:nvSpPr>
            <p:cNvPr id="105" name=""/>
            <p:cNvSpPr/>
            <p:nvPr/>
          </p:nvSpPr>
          <p:spPr>
            <a:xfrm>
              <a:off x="838080" y="1447920"/>
              <a:ext cx="563904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rcRect l="1237" t="9758" r="7360" b="17001"/>
            <a:stretch/>
          </p:blipFill>
          <p:spPr>
            <a:xfrm>
              <a:off x="838080" y="1447920"/>
              <a:ext cx="56390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1219320" y="2743200"/>
              <a:ext cx="4682880" cy="3571920"/>
              <a:chOff x="1219320" y="2743200"/>
              <a:chExt cx="4682880" cy="3571920"/>
            </a:xfrm>
          </p:grpSpPr>
          <p:pic>
            <p:nvPicPr>
              <p:cNvPr id="108" name="" descr=""/>
              <p:cNvPicPr/>
              <p:nvPr/>
            </p:nvPicPr>
            <p:blipFill>
              <a:blip r:embed="rId3"/>
              <a:srcRect l="0" t="0" r="0" b="63173"/>
              <a:stretch/>
            </p:blipFill>
            <p:spPr>
              <a:xfrm>
                <a:off x="1219320" y="2743200"/>
                <a:ext cx="4682880" cy="190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4"/>
              <a:srcRect l="0" t="67773" r="0" b="0"/>
              <a:stretch/>
            </p:blipFill>
            <p:spPr>
              <a:xfrm>
                <a:off x="1219320" y="4648320"/>
                <a:ext cx="468288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827360" y="4262400"/>
                <a:ext cx="1828800" cy="5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4572000"/>
                <a:ext cx="152424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05320" y="4343400"/>
                <a:ext cx="8380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38080" y="1523880"/>
              <a:ext cx="8384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38080" y="2666880"/>
            <a:ext cx="5715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495680"/>
            <a:ext cx="5715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4648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ing an Equivalent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5661000" cy="4184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095880" y="304920"/>
            <a:ext cx="2895840" cy="6324480"/>
            <a:chOff x="6095880" y="304920"/>
            <a:chExt cx="2895840" cy="6324480"/>
          </a:xfrm>
        </p:grpSpPr>
        <p:sp>
          <p:nvSpPr>
            <p:cNvPr id="119" name=""/>
            <p:cNvSpPr/>
            <p:nvPr/>
          </p:nvSpPr>
          <p:spPr>
            <a:xfrm>
              <a:off x="6095880" y="304920"/>
              <a:ext cx="2895840" cy="63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095880" y="380880"/>
              <a:ext cx="2894040" cy="6248520"/>
              <a:chOff x="6095880" y="380880"/>
              <a:chExt cx="2894040" cy="6248520"/>
            </a:xfrm>
          </p:grpSpPr>
          <p:pic>
            <p:nvPicPr>
              <p:cNvPr id="1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4480" y="380880"/>
                <a:ext cx="1476360" cy="84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"/>
              <p:cNvGrpSpPr/>
              <p:nvPr/>
            </p:nvGrpSpPr>
            <p:grpSpPr>
              <a:xfrm>
                <a:off x="7848720" y="533520"/>
                <a:ext cx="1104840" cy="609120"/>
                <a:chOff x="7848720" y="533520"/>
                <a:chExt cx="1104840" cy="609120"/>
              </a:xfrm>
            </p:grpSpPr>
            <p:pic>
              <p:nvPicPr>
                <p:cNvPr id="12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48720" y="761760"/>
                  <a:ext cx="1104840" cy="210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5040" y="931680"/>
                  <a:ext cx="969840" cy="210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48720" y="533520"/>
                  <a:ext cx="110484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" name=""/>
              <p:cNvGrpSpPr/>
              <p:nvPr/>
            </p:nvGrpSpPr>
            <p:grpSpPr>
              <a:xfrm>
                <a:off x="6477120" y="1371600"/>
                <a:ext cx="1752480" cy="457200"/>
                <a:chOff x="6477120" y="1371600"/>
                <a:chExt cx="1752480" cy="45720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6705720" y="1600200"/>
                  <a:ext cx="1166760" cy="228600"/>
                  <a:chOff x="6705720" y="1600200"/>
                  <a:chExt cx="1166760" cy="22860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609560"/>
                    <a:ext cx="29520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0920" y="1600200"/>
                    <a:ext cx="633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10760" y="1600200"/>
                    <a:ext cx="261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477120" y="1371600"/>
                  <a:ext cx="1752480" cy="152280"/>
                  <a:chOff x="6477120" y="1371600"/>
                  <a:chExt cx="1752480" cy="152280"/>
                </a:xfrm>
              </p:grpSpPr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77120" y="1371600"/>
                    <a:ext cx="9032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1280" y="1371600"/>
                    <a:ext cx="8683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3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05720" y="2057400"/>
                <a:ext cx="1442880" cy="116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5880" y="3352680"/>
                <a:ext cx="2894040" cy="1140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6" name=""/>
              <p:cNvGrpSpPr/>
              <p:nvPr/>
            </p:nvGrpSpPr>
            <p:grpSpPr>
              <a:xfrm>
                <a:off x="6553080" y="4648320"/>
                <a:ext cx="2086200" cy="515880"/>
                <a:chOff x="6553080" y="4648320"/>
                <a:chExt cx="2086200" cy="51588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6553080" y="4648320"/>
                  <a:ext cx="2086200" cy="252360"/>
                  <a:chOff x="6553080" y="4648320"/>
                  <a:chExt cx="2086200" cy="252360"/>
                </a:xfrm>
              </p:grpSpPr>
              <p:pic>
                <p:nvPicPr>
                  <p:cNvPr id="13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53080" y="4648320"/>
                    <a:ext cx="56520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62920" y="4648320"/>
                    <a:ext cx="147636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705720" y="4952880"/>
                  <a:ext cx="1611360" cy="211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58000" y="5295960"/>
                <a:ext cx="1374840" cy="13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"/>
          <p:cNvSpPr/>
          <p:nvPr/>
        </p:nvSpPr>
        <p:spPr>
          <a:xfrm>
            <a:off x="6400800" y="129528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98108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327672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449568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25780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er of Percu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oint on a body, which, when struck with a force, will have associated with it another point called the center of rotation at which there will be a zero reaction for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99480" cy="56023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28600" y="5867280"/>
            <a:ext cx="2286000" cy="762120"/>
            <a:chOff x="228600" y="5867280"/>
            <a:chExt cx="2286000" cy="762120"/>
          </a:xfrm>
        </p:grpSpPr>
        <p:sp>
          <p:nvSpPr>
            <p:cNvPr id="151" name=""/>
            <p:cNvSpPr/>
            <p:nvPr/>
          </p:nvSpPr>
          <p:spPr>
            <a:xfrm>
              <a:off x="228600" y="5867280"/>
              <a:ext cx="22860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1206720" cy="55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2819520" y="5867280"/>
            <a:ext cx="3276360" cy="762120"/>
            <a:chOff x="2819520" y="5867280"/>
            <a:chExt cx="3276360" cy="762120"/>
          </a:xfrm>
        </p:grpSpPr>
        <p:sp>
          <p:nvSpPr>
            <p:cNvPr id="154" name=""/>
            <p:cNvSpPr/>
            <p:nvPr/>
          </p:nvSpPr>
          <p:spPr>
            <a:xfrm>
              <a:off x="2819520" y="5867280"/>
              <a:ext cx="32763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048120" y="6095880"/>
              <a:ext cx="16794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4495680" y="6019920"/>
              <a:ext cx="127476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6477120" y="5867280"/>
            <a:ext cx="2514600" cy="762120"/>
            <a:chOff x="6477120" y="5867280"/>
            <a:chExt cx="2514600" cy="762120"/>
          </a:xfrm>
        </p:grpSpPr>
        <p:sp>
          <p:nvSpPr>
            <p:cNvPr id="158" name=""/>
            <p:cNvSpPr/>
            <p:nvPr/>
          </p:nvSpPr>
          <p:spPr>
            <a:xfrm>
              <a:off x="6477120" y="5867280"/>
              <a:ext cx="25146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6705720" y="5943600"/>
              <a:ext cx="11397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7848720" y="5943600"/>
              <a:ext cx="598320" cy="53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3880" y="1447920"/>
            <a:ext cx="57150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cally Equivalent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526000" cy="82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1746360" cy="4067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15447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mped Model of the Eng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97520" cy="2876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81280" y="5105520"/>
            <a:ext cx="175284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8:15:56Z</dcterms:created>
  <dc:creator>R. L. Norton</dc:creator>
  <dc:description/>
  <dc:language>en-US</dc:language>
  <cp:lastModifiedBy>norton</cp:lastModifiedBy>
  <dcterms:modified xsi:type="dcterms:W3CDTF">2005-11-11T17:59:40Z</dcterms:modified>
  <cp:revision>6</cp:revision>
  <dc:subject/>
  <dc:title>Equivalent Masses</dc:title>
</cp:coreProperties>
</file>