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B9070-1185-4929-AB78-2E872FE7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E437D-A254-45AF-87AB-85EC1C05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11451-87BD-4A44-A15F-459C277C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21946-2F9C-45B2-BEC0-5D4ABE76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02A2-3BFE-44F5-A244-F9366CD4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99A7-B62C-4881-ACCB-01297950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CB87-0C80-4143-84F7-3B199D9C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16D3-810E-41E0-BCA7-AAE18A17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0753-358A-4F0A-A1C7-A2329572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E280-9469-48B6-9F34-AF944806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8A61-EFB5-44D3-935E-D134F770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1D50-0C47-4569-93C4-3AA45457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2360-1D66-4E88-A27C-3D47E7A6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6F99-ECCF-4E14-A4B0-3EE0F0C2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DD30-74FD-4519-874C-27D9A0B3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26DA-695D-4361-8C50-EEC843ED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93E2-9E71-48CF-A97C-B24DF2DB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CC4B-624D-456C-BB24-F6C8E4EA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3DA1A-5AAB-42B4-A473-C27DD70A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05E3A-A7B4-4638-B26E-F45A0B1E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B37CA-AB04-43BF-9158-08CC46A6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15E4-34C4-4C57-91D6-33B7CA74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FF984-1FCD-4205-A732-CE2E4045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EA735-0E7B-432D-A63F-144BE2FA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D779-08E4-4763-8376-22AB2FF784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6F14-8D26-4538-BB22-512BDF6EA8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ven Firing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3311 Lecture 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19810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ur-Stroke Cycle Inline Four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0-180-0-18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59655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its Balance Stat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23556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n We Improve the Balanc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50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9810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ur-Stroke Cycle Inline Four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0-180-180-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95480" y="457200"/>
            <a:ext cx="589752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the Balance State with a Mirror-Symmetric Crankshaf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9324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Quiz 4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ogram Engin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Even Fir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wer pulses evenly spaced in ti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uneven-firing engine will run roug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quirements for inertia balance can be in conflict with those for even fi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y have to trade off one for the ot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gine designers often favor even firing over inertia bal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ertia effects can be compensated for with balanc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lancing forces track inertia forces with spe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wer pulses are as large at low speed as at high spe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2133720"/>
            <a:ext cx="6627960" cy="41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ditions for Even Firing and Inertia Bal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7960" y="3579840"/>
            <a:ext cx="6032520" cy="1189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01640" y="2284560"/>
            <a:ext cx="6099480" cy="11476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601640" y="4875120"/>
            <a:ext cx="6202440" cy="1139400"/>
            <a:chOff x="1601640" y="4875120"/>
            <a:chExt cx="6202440" cy="113940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1601640" y="5027400"/>
              <a:ext cx="620244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677960" y="4875120"/>
              <a:ext cx="1752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wer Stroke Ang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1426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e the angles at which the cylinders fi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d by a combination of the crank phase angles and the firing or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68061"/>
          <a:stretch/>
        </p:blipFill>
        <p:spPr>
          <a:xfrm>
            <a:off x="1676520" y="4419720"/>
            <a:ext cx="6302160" cy="838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76520" y="5334120"/>
            <a:ext cx="6167160" cy="1366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0" t="31952" r="0" b="0"/>
          <a:stretch/>
        </p:blipFill>
        <p:spPr>
          <a:xfrm>
            <a:off x="1676520" y="2514600"/>
            <a:ext cx="63021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22096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o-Stroke Cycle Inline Four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0-90-180-27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19520" y="685800"/>
            <a:ext cx="596412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213372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o-Stroke, 4-Cyl Inline Eng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038480" y="152280"/>
            <a:ext cx="3699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198108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ur-Stroke Cycle Inline Four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0-90-180-27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59310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ur-Stroke, 4-Cyl Inline Engine 0-90-180-270 Crankshaf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695920" cy="3408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4920" y="5943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same inertia balance as the two-stroke version but is uneven fi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Phase Angles are Needed for Even Firing in a 4-S, 4-cyl inlin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6019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 best delta phase ang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phase angles will wor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y 0 – 180 – 0 – 18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60325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20:41:12Z</dcterms:created>
  <dc:creator>R. L. Norton</dc:creator>
  <dc:description/>
  <dc:language>en-US</dc:language>
  <cp:lastModifiedBy>norton</cp:lastModifiedBy>
  <dcterms:modified xsi:type="dcterms:W3CDTF">2005-12-01T16:52:29Z</dcterms:modified>
  <cp:revision>11</cp:revision>
  <dc:subject/>
  <dc:title>Even Firing</dc:title>
</cp:coreProperties>
</file>