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D9EF-5C1B-4267-9365-5DDD0325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92D2-AFA9-4D06-9618-B95A9438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1376-235C-4E11-8776-75E15921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7BB7-DE8C-4B96-9029-50EBD3E5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36A7-D22E-440A-963A-973EBC31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E634-DFE3-42BD-9A62-99071D65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03AE-80B8-4ACC-93B9-DAFE4AF9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2594-F751-4C14-9947-5682F0F9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2567-86EB-4D2F-94C3-5470A3AB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26E2-30CB-426F-9791-10696A49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5487-274B-4655-96A8-99266FF4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0509-2029-407C-806B-6F541E26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5660-3F25-47BB-B715-1B097ED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B3CC-8571-4FC8-9DD7-6D642FD4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B295-D156-4278-88C9-D8964160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F46F-AEFA-4413-BC3E-F388274B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B2E1-CEB6-4D3B-AA5F-6D2D0A77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45E8-91A0-407B-88D3-083986FA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1470-BA1D-4577-B0FF-D4094382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C420-E181-40EB-A0B8-508ACF1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7A37-3384-4EE4-AFFE-07522C4A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6B36-E950-4896-9C03-66A8342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0A2A-D2D3-46D2-BAB9-A9CBE3AB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4A98-1EB6-4924-8BB8-9BD5FF1E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6B4E-4088-4BC5-A9AF-97F3B2A2F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E472-099D-44F9-A917-5A4E547C15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alancing the Single-Cylinder Engi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gram Engi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ynamic Model and Shaking For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523880"/>
            <a:ext cx="5796000" cy="479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3480" y="1604880"/>
            <a:ext cx="562788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19280" y="5186520"/>
            <a:ext cx="4378320" cy="1038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043520" y="4653000"/>
            <a:ext cx="107136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ing Assump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a single-plane device, so static balancing 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ing will have NO effect on gas fo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ing can “exactly” cancel inertial forces due to rotating ma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ing with rotating weights cannot exactly cancel translating inertial fo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219320"/>
            <a:ext cx="678204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ctly Balancing the Cran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629400" cy="4124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4378320" cy="1038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971800" y="5029200"/>
            <a:ext cx="164448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ank Exactly Balanc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773"/>
          <a:stretch/>
        </p:blipFill>
        <p:spPr>
          <a:xfrm>
            <a:off x="4724280" y="2133720"/>
            <a:ext cx="3703680" cy="32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3876" t="4434" r="31527" b="0"/>
          <a:stretch/>
        </p:blipFill>
        <p:spPr>
          <a:xfrm>
            <a:off x="609480" y="2133720"/>
            <a:ext cx="38102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219320"/>
            <a:ext cx="678204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n You Do Bet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629400" cy="4124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43783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71800" y="5029200"/>
            <a:ext cx="164448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5280" y="1219320"/>
            <a:ext cx="67057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balanced Cran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5562720"/>
            <a:ext cx="4378320" cy="1038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609588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ank OverBalanc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2817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1905120"/>
            <a:ext cx="62481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ffect of Balanc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n Main-Pin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1914480" cy="3822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1914480" cy="2336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867280" y="2895480"/>
            <a:ext cx="17128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14:25Z</dcterms:created>
  <dc:creator>R. L. Norton</dc:creator>
  <dc:description/>
  <dc:language>en-US</dc:language>
  <cp:lastModifiedBy>R. L. Norton</cp:lastModifiedBy>
  <dcterms:modified xsi:type="dcterms:W3CDTF">2005-10-24T21:51:01Z</dcterms:modified>
  <cp:revision>6</cp:revision>
  <dc:subject/>
  <dc:title>Balancing the Single-Cylinder Engine</dc:title>
</cp:coreProperties>
</file>