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21.jpeg" ContentType="image/jpeg"/>
  <Override PartName="/ppt/media/image20.wmf" ContentType="image/x-wmf"/>
  <Override PartName="/ppt/media/image3.wmf" ContentType="image/x-wmf"/>
  <Override PartName="/ppt/media/image19.wmf" ContentType="image/x-wmf"/>
  <Override PartName="/ppt/media/image1.wmf" ContentType="image/x-wmf"/>
  <Override PartName="/ppt/media/image18.png" ContentType="image/png"/>
  <Override PartName="/ppt/media/image17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2.wmf" ContentType="image/x-wmf"/>
  <Override PartName="/ppt/media/image11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55322-C271-4CDA-BE2E-219056AFD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0A6DA-9F6A-4117-A4D8-D8CC3739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344DD-C8C6-4CCF-95A7-DCD51291C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4DCC5-6748-4EE0-9856-F55D155C3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920E-383A-4003-ACEB-D73F6C49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91E2-3A3D-46D7-9E7D-DF8926F8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D6F0-52BA-4A17-BD66-F296152F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1088-2603-423A-8CC0-B95BDDB0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F65D-0A45-461B-90B9-C2568594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06F8-AF5D-40FF-9E19-7EF18CC6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1D7A-EB1C-44EA-BA85-D5B42955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0D0A6-54F4-492D-A06D-807A0E98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39DD-9E16-48D8-9485-9107802E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D97A-852B-47BD-B719-72156FB4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915D-C020-41AC-AEAD-8BC5698F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2F1A-C744-4B78-9328-29CB7C78A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B74C-203E-40CC-B5A6-419127AD9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A46A4-AE78-40DF-B94B-1AAED75A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494B2-218F-4E00-AB81-5C935A69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A20FB-A33D-45A5-AD36-D13C9696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FACA4-7382-47E9-A722-AE1662B4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3F3B8-2A54-4E02-A819-85F88F84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B6EB8-E35E-4907-B553-EE6D962A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0EEE8-963A-4E79-8D47-37609192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F7B5-6063-4536-BC6F-F87EC61479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768C-D5DF-4FBF-B707-ED25551F9C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Balancing Multicylinder engin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PI  ME33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. L. Nort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akamura Balanc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895480" y="1371600"/>
            <a:ext cx="6100920" cy="2346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895480" y="3809880"/>
            <a:ext cx="6067440" cy="2405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rcRect l="54409" t="0" r="4484" b="0"/>
          <a:stretch/>
        </p:blipFill>
        <p:spPr>
          <a:xfrm>
            <a:off x="152280" y="2057400"/>
            <a:ext cx="25909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akamura Balanc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248520" y="2286000"/>
            <a:ext cx="2725560" cy="36115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52280" y="2133720"/>
            <a:ext cx="6032520" cy="127476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152280" y="3500280"/>
            <a:ext cx="6026400" cy="2668680"/>
            <a:chOff x="152280" y="3500280"/>
            <a:chExt cx="6026400" cy="2668680"/>
          </a:xfrm>
        </p:grpSpPr>
        <p:sp>
          <p:nvSpPr>
            <p:cNvPr id="135" name=""/>
            <p:cNvSpPr/>
            <p:nvPr/>
          </p:nvSpPr>
          <p:spPr>
            <a:xfrm>
              <a:off x="154080" y="3500280"/>
              <a:ext cx="6024600" cy="266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rcRect l="0" t="0" r="783" b="0"/>
            <a:stretch/>
          </p:blipFill>
          <p:spPr>
            <a:xfrm>
              <a:off x="152280" y="3505320"/>
              <a:ext cx="6019920" cy="161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4"/>
            <a:stretch/>
          </p:blipFill>
          <p:spPr>
            <a:xfrm>
              <a:off x="152280" y="5105520"/>
              <a:ext cx="5999400" cy="1038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akamura Balanc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originally used in Mitsubishi engin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04512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nchester’s Perfect Eng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58000" y="1523880"/>
            <a:ext cx="1746360" cy="4438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09480" y="2438280"/>
            <a:ext cx="599940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am Dynamics Lab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066680" y="1295280"/>
            <a:ext cx="716292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b 3  - Cam Dynami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62940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b 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alyze a cam-follower system in Dynac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asure same parameters on real mach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are the results and report on th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ll need Dynacam Professional Edit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s on the Sunfire.wpi.edu serv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 all have accounts on that serv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les saved from Professional edition cannot be opened in Student edi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Dynacam Professional Demonstration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Vee-Eigh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Vee-8 with 0-90-270-180 crankshaft and 90 degree bank angle is balanced except for its primary mo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3124080"/>
            <a:ext cx="5932440" cy="34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lancing the Vee-8 Mo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te that it is constant magnitude at crank spe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can you balance i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52480" y="3124080"/>
            <a:ext cx="5932440" cy="34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monstr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e-eight crankshaf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ffect on Pin For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66880" y="1447920"/>
            <a:ext cx="60962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verbalancing of the crankshaft in a multicylinder engine will seldom affect overall bal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ever, modest overbalance can reduce the force on the mainpi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1779480" cy="3593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276720" y="4114800"/>
            <a:ext cx="1679400" cy="2025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019920" y="4191120"/>
            <a:ext cx="154440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14480" y="2293920"/>
            <a:ext cx="711360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nchester Balanc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711972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akamura Balanc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76520" y="1447560"/>
            <a:ext cx="6858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the four-cylinder inline eng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ncels secondary inertia force and torqu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proves on Lanchester’s 1913 desig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6134040" cy="2176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600200" y="5410080"/>
            <a:ext cx="616752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2666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Nakamura Balancer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90920" y="380880"/>
            <a:ext cx="6302160" cy="3603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743200" y="4191120"/>
            <a:ext cx="6032520" cy="396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743200" y="4572000"/>
            <a:ext cx="603252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02:55:36Z</dcterms:created>
  <dc:creator>R. L. Norton</dc:creator>
  <dc:description/>
  <dc:language>en-US</dc:language>
  <cp:lastModifiedBy>R. L. Norton</cp:lastModifiedBy>
  <dcterms:modified xsi:type="dcterms:W3CDTF">2005-12-04T14:15:48Z</dcterms:modified>
  <cp:revision>5</cp:revision>
  <dc:subject/>
  <dc:title>Balancing Multicylinder engines</dc:title>
</cp:coreProperties>
</file>