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1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3D4F3-D8B4-4DA0-9BB5-CE787DB44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064DD-9EB4-46D6-B296-D7425BAE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87854-4992-4400-A8CC-3E3AA94E7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908AA-590E-41A5-95B2-9AC9AC25A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72BBD-1362-4104-999A-E0767F8C6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D6080-32A8-4DB2-86B9-F685660E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0376-5EAE-4C08-94A5-FD23CFD8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5ED42-094C-4B9F-85D1-05E445C0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7245C-5D43-4624-93DB-606BBD18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B83D6-BAAF-4C1F-9D7E-216A2103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0488-E918-4401-8FF5-054C0708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923E8-B2C4-42AC-9BDC-A2DB24BD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FC67E-DB23-4435-887A-34FBA102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DC006-6B29-4D40-AAB0-C9037455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AFC0-6ABF-4B86-93DD-87E47EAB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637F-1D8D-4765-BAF7-609804F81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E440-BAC1-47FA-B777-FAEA87BEF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DFDEC-F4F3-4245-A7CC-13F935FE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1F0B5-06D9-4ED9-9B73-0DC18469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A45B8-5E38-43EA-9532-7A2E9778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2A071-DB88-4658-9DE5-E472B15D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110F3-5D29-4703-9325-1266121C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BE944-6BC2-4135-855D-F400958A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18E05-053C-47A9-82D9-4690045E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8F93-ADDA-45AD-B567-710D97FFB1BB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785E-D564-4895-A303-B6304EC3E7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913D-3477-49B3-97A4-FF0C34E229A2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7942-7E85-40B3-A274-1268686E17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png"/><Relationship Id="rId11" Type="http://schemas.openxmlformats.org/officeDocument/2006/relationships/image" Target="../media/image13.wmf"/><Relationship Id="rId1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6.png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Balancing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 3311 Lecture 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0880" y="228600"/>
            <a:ext cx="8229600" cy="6019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80880" y="3733920"/>
            <a:ext cx="8137440" cy="2485440"/>
            <a:chOff x="380880" y="3733920"/>
            <a:chExt cx="8137440" cy="248544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rcRect l="0" t="46487" r="0" b="0"/>
            <a:stretch/>
          </p:blipFill>
          <p:spPr>
            <a:xfrm>
              <a:off x="380880" y="4647960"/>
              <a:ext cx="1173240" cy="61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"/>
            <a:srcRect l="0" t="54892" r="0" b="0"/>
            <a:stretch/>
          </p:blipFill>
          <p:spPr>
            <a:xfrm>
              <a:off x="1676160" y="3733920"/>
              <a:ext cx="6842160" cy="137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3"/>
            <a:stretch/>
          </p:blipFill>
          <p:spPr>
            <a:xfrm>
              <a:off x="1904760" y="5105160"/>
              <a:ext cx="6370920" cy="111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1676520" y="380880"/>
            <a:ext cx="5715000" cy="332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 - WP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EE884-28C0-4A3B-A485-0BC3DF13A9CB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77FC08-1AC6-42AE-99C2-1BD5C5FDC0D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 - WP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20EAE-57DC-4B00-B329-AFAB7D25C08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5EEF84-96C3-4B84-ABFE-0EB279CF2C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Quiz 1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lanc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y system in pure rotation can be perfectly balanced (theoretically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actically, there will always be some erro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e can get close with care but only by chance achieve “perfect” balance due to toleran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wo typ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tic balance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 = 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ynamic balance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 = 0,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= 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 -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231D6-6F90-40F2-8A11-EA9330F8F97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47B79B-A04C-4A9D-8F47-7A5ECA592C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atic Balanc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spite the name, it does apply to things in mo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so is called “single-plane balance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sses must be in (or nearly in) the same plan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icycle or motorcycle whe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in gear, pulley, flywheel, sprocket, etc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irplane propell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urbine blad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ces the mass center of the link to be at its pivo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’Alembert form of Newton’s equations is use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 -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D7992-33A0-4BB6-A191-49310D57053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A71440-3FCE-445C-8204-24AD198FF0C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imple Rotating Syst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159760" cy="4808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200400" y="1523880"/>
            <a:ext cx="2657520" cy="3542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048120" y="1447920"/>
            <a:ext cx="297180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 -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09132-13A2-46E4-90FC-34DF7ADC491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6FE643-CFDF-488F-86E0-C1ED42280B1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5029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inding the mR produc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143000" y="1752480"/>
            <a:ext cx="4113000" cy="3272040"/>
            <a:chOff x="1143000" y="1752480"/>
            <a:chExt cx="4113000" cy="3272040"/>
          </a:xfrm>
        </p:grpSpPr>
        <p:sp>
          <p:nvSpPr>
            <p:cNvPr id="112" name=""/>
            <p:cNvSpPr/>
            <p:nvPr/>
          </p:nvSpPr>
          <p:spPr>
            <a:xfrm>
              <a:off x="1143000" y="1752480"/>
              <a:ext cx="4113000" cy="3272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1832040" y="1833480"/>
              <a:ext cx="2792160" cy="36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1222200" y="2367000"/>
              <a:ext cx="1544760" cy="3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3"/>
            <a:stretch/>
          </p:blipFill>
          <p:spPr>
            <a:xfrm>
              <a:off x="3203640" y="2367000"/>
              <a:ext cx="188100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4"/>
            <a:stretch/>
          </p:blipFill>
          <p:spPr>
            <a:xfrm>
              <a:off x="1146240" y="2824200"/>
              <a:ext cx="4108320" cy="1239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7" name=""/>
            <p:cNvGrpSpPr/>
            <p:nvPr/>
          </p:nvGrpSpPr>
          <p:grpSpPr>
            <a:xfrm>
              <a:off x="1755720" y="4195800"/>
              <a:ext cx="3029040" cy="727200"/>
              <a:chOff x="1755720" y="4195800"/>
              <a:chExt cx="3029040" cy="727200"/>
            </a:xfrm>
          </p:grpSpPr>
          <p:pic>
            <p:nvPicPr>
              <p:cNvPr id="11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755720" y="4195800"/>
                <a:ext cx="2960640" cy="2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212920" y="4424400"/>
                <a:ext cx="2049480" cy="33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755720" y="4729320"/>
                <a:ext cx="3029040" cy="193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21" name=""/>
          <p:cNvGrpSpPr/>
          <p:nvPr/>
        </p:nvGrpSpPr>
        <p:grpSpPr>
          <a:xfrm>
            <a:off x="5562720" y="228600"/>
            <a:ext cx="2835000" cy="4800600"/>
            <a:chOff x="5562720" y="228600"/>
            <a:chExt cx="2835000" cy="4800600"/>
          </a:xfrm>
        </p:grpSpPr>
        <p:sp>
          <p:nvSpPr>
            <p:cNvPr id="122" name=""/>
            <p:cNvSpPr/>
            <p:nvPr/>
          </p:nvSpPr>
          <p:spPr>
            <a:xfrm>
              <a:off x="5562720" y="228600"/>
              <a:ext cx="2819160" cy="480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6172200" y="304560"/>
              <a:ext cx="1679400" cy="439560"/>
              <a:chOff x="6172200" y="304560"/>
              <a:chExt cx="1679400" cy="439560"/>
            </a:xfrm>
          </p:grpSpPr>
          <p:pic>
            <p:nvPicPr>
              <p:cNvPr id="12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172200" y="304560"/>
                <a:ext cx="1679400" cy="28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248520" y="533160"/>
                <a:ext cx="1409760" cy="210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6" name="" descr=""/>
            <p:cNvPicPr/>
            <p:nvPr/>
          </p:nvPicPr>
          <p:blipFill>
            <a:blip r:embed="rId10"/>
            <a:stretch/>
          </p:blipFill>
          <p:spPr>
            <a:xfrm>
              <a:off x="5638680" y="761760"/>
              <a:ext cx="2759040" cy="4260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7" name="" descr=""/>
          <p:cNvPicPr/>
          <p:nvPr/>
        </p:nvPicPr>
        <p:blipFill>
          <a:blip r:embed="rId11"/>
          <a:srcRect l="-2301" t="0" r="-5148" b="0"/>
          <a:stretch/>
        </p:blipFill>
        <p:spPr>
          <a:xfrm>
            <a:off x="1139760" y="5181480"/>
            <a:ext cx="7245360" cy="1181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 -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AEBEF-568F-4967-8357-908950618BB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37434D-6A1E-4B64-B74A-E2730447249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ynamic Bala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so called “two-plane balance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quired if mass is not in a single pla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sses are axially distributed or in separated plan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haft, roll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ck gear, pulley, flywheel, sprocket, etc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utomobile or truck whe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urbine assembl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’Alembert form of Newton’s equations us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 -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92AD3-41C6-49F3-87D0-DD25744E14C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A8426D-BFC9-49CD-882C-D586CF962D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tatically Balanced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t Dynamically Unbalanced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6775560" cy="426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 -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55206-0EDF-4EBE-981A-13A79C29377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0D8021-8AD1-4AF2-AA5D-7BB944D3E29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dding Correction Pla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7821360" cy="454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 -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9CFFA-C267-4CB1-A035-620B1B6A901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36BAE5-2466-420B-9311-0824F2DFA7A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lving for Balance mR produc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46487" r="0" b="0"/>
          <a:stretch/>
        </p:blipFill>
        <p:spPr>
          <a:xfrm>
            <a:off x="457200" y="5105520"/>
            <a:ext cx="1173240" cy="6141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905120" y="1600200"/>
            <a:ext cx="6808680" cy="2286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rcRect l="0" t="0" r="0" b="53545"/>
          <a:stretch/>
        </p:blipFill>
        <p:spPr>
          <a:xfrm>
            <a:off x="533520" y="2438280"/>
            <a:ext cx="1172880" cy="5335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rcRect l="0" t="0" r="0" b="45120"/>
          <a:stretch/>
        </p:blipFill>
        <p:spPr>
          <a:xfrm>
            <a:off x="1905120" y="4038480"/>
            <a:ext cx="6842160" cy="167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 -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EC13D-56C6-44AE-A90A-864CBE92F52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54A0DF-BF4C-4F71-90A5-F1ED62CBAFB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3T19:06:53Z</dcterms:created>
  <dc:creator>R. L. Norton</dc:creator>
  <dc:description/>
  <dc:language>en-US</dc:language>
  <cp:lastModifiedBy>norton</cp:lastModifiedBy>
  <dcterms:modified xsi:type="dcterms:W3CDTF">2005-11-04T03:40:05Z</dcterms:modified>
  <cp:revision>11</cp:revision>
  <dc:subject/>
  <dc:title>Balancing</dc:title>
</cp:coreProperties>
</file>