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27.png" ContentType="image/png"/>
  <Override PartName="/ppt/media/image29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BD0E-F20C-4624-81B5-6949EB5E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04B9-E4D3-485B-8651-D5282191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0851-F2DD-4926-B4E6-0B988BB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0AB6-6043-4453-9473-5F4DD887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0A0-4648-4AE2-8252-76F2A94B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8A89-AAD9-4424-8452-2D61F34C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C417-6E78-4436-AC92-BBA61014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DAD-57F6-4DF9-AB8F-7167A423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3FEB-1E59-4195-8995-DBBE438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523B-93AB-4367-8432-AB495A7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A4A-728C-43B2-8E1C-899FA7A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918E-2A84-401E-9B87-D10440B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F8D2-8DCE-4DE0-A6C3-B5F084FB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C9C2-323D-4808-AADF-2F1EBD1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AD8-2754-4313-BB7E-C77A3BED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419F-CE51-4DE5-943B-14E64149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DDF-6A58-42B5-8B7C-F55910B1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E6AB-A99E-42A1-9913-08643632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A23C-6688-4D5E-BF9F-305AF49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35B0-BFD3-4D4B-88F1-6D4427D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8BDF-DA4E-4BA2-8B0E-6A43D4CF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1A67-F75B-483F-86F3-7B44EB74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4A00-F3BE-4241-94EB-1796918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5BC0-1BAA-45D4-958A-98CA4C5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A72-D392-48C8-8DE9-0D17AC276EF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0D2-5BEC-4D65-B5D5-1EE6FCB3B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FD0-9E61-40F4-901F-12055C9950A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C52-622B-4D45-80F7-94EDEBAA9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1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lancing Linkag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 Lecture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640560" cy="335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337440" cy="114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FA88-5354-4A5B-B4D5-B626AAADA2E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B7100-DF25-4674-9E0E-919FB0DC2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 the Balance M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78680" cy="36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6F44-AB9C-40D9-9E08-830EA679CC8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32E2B-0F18-4978-9AF9-552E457E3A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ult of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24840" cy="348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6B50-819E-4314-896F-B07D9D85DE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5B447-194D-4719-834D-FB93DE5202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n Forces on the Two Pivo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24840" cy="3602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057400" y="5715000"/>
            <a:ext cx="4919760" cy="2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C22D-35AD-447C-AE8D-36EF4BD9FB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7229F-64CE-4CBF-BB86-4A82CE097D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 on the Input Tor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dded mass at a radius to both links 2 and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does that do to the torque to drive linkag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73600" cy="35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C16F-EFAF-4355-8EB3-92E6B36D32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A0674-2114-4177-B33F-5415FB45C2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re is no “free lunch” in engineering!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4114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very gain there is a corresponding l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ment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more difficult to do than force balan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get exact moment balance but adds a lot of complex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also get approximate moment balance with less complex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also give up some force balance to improve moment bal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D4CA-C213-456D-9821-289FCFC8F1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B9164-7399-481B-9F9E-D39404825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ct Force &amp; Moment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coupler to be a ‘physical pendulum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40560" cy="35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DB27-DE91-4647-996C-C910178DEB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5CDC2-D030-470F-A889-3540EE925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ical Pendul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1447920"/>
            <a:ext cx="8001000" cy="4800600"/>
            <a:chOff x="609480" y="1447920"/>
            <a:chExt cx="8001000" cy="4800600"/>
          </a:xfrm>
        </p:grpSpPr>
        <p:sp>
          <p:nvSpPr>
            <p:cNvPr id="164" name=""/>
            <p:cNvSpPr/>
            <p:nvPr/>
          </p:nvSpPr>
          <p:spPr>
            <a:xfrm>
              <a:off x="609480" y="1447920"/>
              <a:ext cx="80010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rcRect l="1799" t="0" r="3658" b="4348"/>
            <a:stretch/>
          </p:blipFill>
          <p:spPr>
            <a:xfrm>
              <a:off x="609480" y="2362320"/>
              <a:ext cx="800100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371240" y="1524240"/>
              <a:ext cx="6572520" cy="8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0A05-3FFE-436F-A1B1-4B3FA52ADD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C3B3C-77EA-4FAB-ABB6-7C6D7FA6CC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ct Force &amp; Moment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64400" cy="37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B839-4563-4C45-A900-277856B66B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79DB7-0EEF-4494-9F55-A8DA3A5F0B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kage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ink in pure rotation can be balanced easi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mply force the mass center of the link to be at the fixed pivot, which is stationa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ks in complex motion present a challenge as they have no fixed pivo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methods exist for fourbar link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ct static balance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ct dynamic balance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roximate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00FD-A63A-466C-91C6-BE07DCEE3F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699AC-0A21-42B6-9A4C-88C19186C0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eld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18600" cy="43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3F3D-748F-4446-A656-A8D4424464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19AD0-9860-4197-8155-1DEBD36B81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urbar Linkage Force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make the Global Mass Center station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180200" cy="37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5123-FA8D-4F1B-9056-F049EDBF38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C148-0697-4125-A8A8-4F5BA0FEAE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14280" y="152280"/>
            <a:ext cx="6710400" cy="6026400"/>
            <a:chOff x="1214280" y="152280"/>
            <a:chExt cx="6710400" cy="6026400"/>
          </a:xfrm>
        </p:grpSpPr>
        <p:sp>
          <p:nvSpPr>
            <p:cNvPr id="108" name=""/>
            <p:cNvSpPr/>
            <p:nvPr/>
          </p:nvSpPr>
          <p:spPr>
            <a:xfrm>
              <a:off x="1214280" y="154080"/>
              <a:ext cx="6710400" cy="60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752480" y="2666880"/>
              <a:ext cx="562788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295280" y="3276720"/>
              <a:ext cx="6539040" cy="96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"/>
            <p:cNvGrpSpPr/>
            <p:nvPr/>
          </p:nvGrpSpPr>
          <p:grpSpPr>
            <a:xfrm>
              <a:off x="1523880" y="4191120"/>
              <a:ext cx="5892840" cy="514080"/>
              <a:chOff x="1523880" y="4191120"/>
              <a:chExt cx="5892840" cy="514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4267080"/>
                <a:ext cx="3535560" cy="35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4191120"/>
                <a:ext cx="238752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2133720" y="152280"/>
              <a:ext cx="4724280" cy="24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1523880" y="4648320"/>
              <a:ext cx="616932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975E-D59A-4F51-A15F-62056E5D329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0A907-4722-4CDA-B5EC-6912728BA3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4080"/>
            <a:ext cx="7162920" cy="602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2982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2795"/>
          <a:stretch/>
        </p:blipFill>
        <p:spPr>
          <a:xfrm>
            <a:off x="1066680" y="3352680"/>
            <a:ext cx="684216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B345-7222-42C5-844D-41CD7A0817C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8E61F-1D2B-4633-9042-D45C4A7F4D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80880"/>
            <a:ext cx="7162920" cy="579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476760" cy="338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6640560" cy="1122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52480" y="5181480"/>
            <a:ext cx="6134400" cy="75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A056-C8CC-487E-A41D-EF1000FBBD9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AF4B2-D029-456A-8069-E64CA05962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28600"/>
            <a:ext cx="69343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639040" cy="2941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0" r="0" b="86762"/>
          <a:stretch/>
        </p:blipFill>
        <p:spPr>
          <a:xfrm>
            <a:off x="1523880" y="4876920"/>
            <a:ext cx="6437520" cy="380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58283" r="0" b="1989"/>
          <a:stretch/>
        </p:blipFill>
        <p:spPr>
          <a:xfrm>
            <a:off x="1447920" y="5181480"/>
            <a:ext cx="643716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600200" y="3276720"/>
            <a:ext cx="6269040" cy="379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523880" y="3886200"/>
            <a:ext cx="6337440" cy="76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A036-3E4E-4264-9175-42AF2E0705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33F83-71DC-49B6-B3E2-A9C6ED3F3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5029200"/>
            <a:ext cx="30477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28600"/>
            <a:ext cx="71629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0" r="0" b="57331"/>
          <a:stretch/>
        </p:blipFill>
        <p:spPr>
          <a:xfrm>
            <a:off x="1066680" y="4038480"/>
            <a:ext cx="6842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447920" y="5029200"/>
            <a:ext cx="3047760" cy="1295280"/>
            <a:chOff x="1447920" y="5029200"/>
            <a:chExt cx="3047760" cy="129528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1600200" y="5105520"/>
              <a:ext cx="2792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447920" y="5029200"/>
              <a:ext cx="3047760" cy="1295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724280" y="5029200"/>
            <a:ext cx="2667240" cy="1295280"/>
            <a:chOff x="4724280" y="5029200"/>
            <a:chExt cx="2667240" cy="129528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800600" y="5105520"/>
              <a:ext cx="255744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724280" y="5029200"/>
              <a:ext cx="2667240" cy="1295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447920" y="3048120"/>
            <a:ext cx="6269040" cy="1030320"/>
            <a:chOff x="1447920" y="3048120"/>
            <a:chExt cx="6269040" cy="103032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1447920" y="3124080"/>
              <a:ext cx="626904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47920" y="3048120"/>
              <a:ext cx="6248160" cy="99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D992-2285-4A4D-86D6-58C225622B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AFE75-3A04-4054-94C5-AD901EAD7C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7160" cy="40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D3F2-1006-4447-B3F6-8FAB918793A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A6C9-336C-424E-B3A9-650F75621E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3:06:09Z</dcterms:created>
  <dc:creator>R. L. Norton</dc:creator>
  <dc:description/>
  <dc:language>en-US</dc:language>
  <cp:lastModifiedBy>norton</cp:lastModifiedBy>
  <dcterms:modified xsi:type="dcterms:W3CDTF">2005-11-07T19:04:58Z</dcterms:modified>
  <cp:revision>9</cp:revision>
  <dc:subject/>
  <dc:title>Balancing Linkages</dc:title>
</cp:coreProperties>
</file>