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4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0.wmf" ContentType="image/x-wmf"/>
  <Override PartName="/ppt/media/image33.wmf" ContentType="image/x-wmf"/>
  <Override PartName="/ppt/media/image32.png" ContentType="image/png"/>
  <Override PartName="/ppt/media/image30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38.wmf" ContentType="image/x-wmf"/>
  <Override PartName="/ppt/media/image15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58.wmf" ContentType="image/x-wmf"/>
  <Override PartName="/ppt/media/image59.wmf" ContentType="image/x-wmf"/>
  <Override PartName="/ppt/media/image22.wmf" ContentType="image/x-wmf"/>
  <Override PartName="/ppt/media/image65.png" ContentType="image/png"/>
  <Override PartName="/ppt/media/image60.wmf" ContentType="image/x-wmf"/>
  <Override PartName="/ppt/media/image1.wmf" ContentType="image/x-wmf"/>
  <Override PartName="/ppt/media/image70.png" ContentType="image/png"/>
  <Override PartName="/ppt/media/image31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23.png" ContentType="image/png"/>
  <Override PartName="/ppt/media/image63.wmf" ContentType="image/x-wmf"/>
  <Override PartName="/ppt/media/image78.wmf" ContentType="image/x-wmf"/>
  <Override PartName="/ppt/media/image66.wmf" ContentType="image/x-wmf"/>
  <Override PartName="/ppt/media/image77.wmf" ContentType="image/x-wmf"/>
  <Override PartName="/ppt/media/image76.wmf" ContentType="image/x-wmf"/>
  <Override PartName="/ppt/media/image64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26.wmf" ContentType="image/x-wmf"/>
  <Override PartName="/ppt/media/image69.png" ContentType="image/png"/>
  <Override PartName="/ppt/media/image71.png" ContentType="image/png"/>
  <Override PartName="/ppt/media/image67.wmf" ContentType="image/x-wmf"/>
  <Override PartName="/ppt/media/image29.wmf" ContentType="image/x-wmf"/>
  <Override PartName="/ppt/media/image68.png" ContentType="image/png"/>
  <Override PartName="/ppt/media/image25.wmf" ContentType="image/x-wmf"/>
  <Override PartName="/ppt/media/image57.png" ContentType="image/png"/>
  <Override PartName="/ppt/media/image2.wmf" ContentType="image/x-wmf"/>
  <Override PartName="/ppt/media/image14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FA03-ED92-4FBE-AB4B-43F60C68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917C-5B6C-400D-8144-A225E5FD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00AF-4724-48C9-B0D4-2A1C5D14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2AC2-71A7-4E2A-8EC4-E020D530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4C8B-8DD3-4940-8766-BF6097DA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17EB-5A30-4B28-AE31-041A5B8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CD02-6E98-48A3-B24B-41A9C5B6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6D9C-F725-4DF8-B68D-69F43EB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440E-64CF-46BB-9FFC-DB7DEDB0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1AAC-BF4E-4E7D-BD66-2ECE8721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1407-6597-407F-AF5A-3F075A6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180E-8214-4C6A-9C3C-35B16EF9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C48F-3692-4D7D-9CED-322B7BC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51D9-62F8-4315-89F1-B387852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ECF2-02D6-4796-AE54-6A0DA991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D606-29D8-4056-B27B-EBAAD750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14A6-EA0D-4703-8B1A-F60A476B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4CE3-D7D1-40C3-AECA-99FF13E2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6CF2-E34D-4D7A-8AD3-7958A691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BF01-ED39-4916-A321-2D6FF013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25B56-E36A-4635-8063-72F5573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D8AE2-00CF-424D-8D88-38E7ACF3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2AB0-37D2-4AE3-AB7E-DD84773C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3AFB-F2D4-486E-8E87-5637CAD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5CBA-CE55-4A44-9E30-9E4DC41C23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8ED3-CAC0-4DBC-B79E-6BA161AABB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png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image" Target="../media/image41.png"/><Relationship Id="rId10" Type="http://schemas.openxmlformats.org/officeDocument/2006/relationships/image" Target="../media/image42.wmf"/><Relationship Id="rId11" Type="http://schemas.openxmlformats.org/officeDocument/2006/relationships/image" Target="../media/image43.wmf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am Dynamic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damped Model of a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7171" t="0" r="0" b="13075"/>
          <a:stretch/>
        </p:blipFill>
        <p:spPr>
          <a:xfrm>
            <a:off x="1828800" y="1447920"/>
            <a:ext cx="5918040" cy="28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143000" y="4648320"/>
            <a:ext cx="2819520" cy="1523880"/>
            <a:chOff x="1143000" y="4648320"/>
            <a:chExt cx="2819520" cy="1523880"/>
          </a:xfrm>
        </p:grpSpPr>
        <p:sp>
          <p:nvSpPr>
            <p:cNvPr id="133" name=""/>
            <p:cNvSpPr/>
            <p:nvPr/>
          </p:nvSpPr>
          <p:spPr>
            <a:xfrm>
              <a:off x="1143000" y="4648320"/>
              <a:ext cx="281952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295280" y="4724280"/>
              <a:ext cx="252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1523880" y="5181480"/>
              <a:ext cx="2016360" cy="2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1600200" y="5562720"/>
              <a:ext cx="1914480" cy="5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4572000" y="4648320"/>
            <a:ext cx="3962520" cy="1539720"/>
            <a:chOff x="4572000" y="4648320"/>
            <a:chExt cx="3962520" cy="1539720"/>
          </a:xfrm>
        </p:grpSpPr>
        <p:sp>
          <p:nvSpPr>
            <p:cNvPr id="138" name=""/>
            <p:cNvSpPr/>
            <p:nvPr/>
          </p:nvSpPr>
          <p:spPr>
            <a:xfrm>
              <a:off x="4572000" y="4648320"/>
              <a:ext cx="396252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5867640" y="4724280"/>
              <a:ext cx="134136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6"/>
            <a:stretch/>
          </p:blipFill>
          <p:spPr>
            <a:xfrm>
              <a:off x="4648320" y="5029200"/>
              <a:ext cx="387360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5867640" y="5791320"/>
              <a:ext cx="1544400" cy="39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mped Model of a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027" t="0" r="0" b="14596"/>
          <a:stretch/>
        </p:blipFill>
        <p:spPr>
          <a:xfrm>
            <a:off x="1066680" y="1523880"/>
            <a:ext cx="7323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85800" y="4800600"/>
            <a:ext cx="1676160" cy="1371600"/>
            <a:chOff x="685800" y="4800600"/>
            <a:chExt cx="1676160" cy="1371600"/>
          </a:xfrm>
        </p:grpSpPr>
        <p:sp>
          <p:nvSpPr>
            <p:cNvPr id="145" name=""/>
            <p:cNvSpPr/>
            <p:nvPr/>
          </p:nvSpPr>
          <p:spPr>
            <a:xfrm>
              <a:off x="685800" y="4800600"/>
              <a:ext cx="16761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761760" y="5181480"/>
              <a:ext cx="154476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761760" y="5715000"/>
              <a:ext cx="154476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838080" y="4876560"/>
              <a:ext cx="144288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2514600" y="4800600"/>
            <a:ext cx="1676160" cy="1371600"/>
            <a:chOff x="2514600" y="4800600"/>
            <a:chExt cx="1676160" cy="1371600"/>
          </a:xfrm>
        </p:grpSpPr>
        <p:sp>
          <p:nvSpPr>
            <p:cNvPr id="150" name=""/>
            <p:cNvSpPr/>
            <p:nvPr/>
          </p:nvSpPr>
          <p:spPr>
            <a:xfrm>
              <a:off x="2514600" y="4800600"/>
              <a:ext cx="16761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2666880" y="4876560"/>
              <a:ext cx="1308240" cy="2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>
              <a:off x="2590560" y="5257800"/>
              <a:ext cx="1374840" cy="51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4343400" y="4800600"/>
            <a:ext cx="1676160" cy="1371600"/>
            <a:chOff x="4343400" y="4800600"/>
            <a:chExt cx="1676160" cy="1371600"/>
          </a:xfrm>
        </p:grpSpPr>
        <p:sp>
          <p:nvSpPr>
            <p:cNvPr id="154" name=""/>
            <p:cNvSpPr/>
            <p:nvPr/>
          </p:nvSpPr>
          <p:spPr>
            <a:xfrm>
              <a:off x="4343400" y="4800600"/>
              <a:ext cx="16761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419360" y="4876560"/>
              <a:ext cx="1579680" cy="210960"/>
              <a:chOff x="4419360" y="4876560"/>
              <a:chExt cx="1579680" cy="210960"/>
            </a:xfrm>
          </p:grpSpPr>
          <p:pic>
            <p:nvPicPr>
              <p:cNvPr id="1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19360" y="4876560"/>
                <a:ext cx="63360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029200" y="4876560"/>
                <a:ext cx="96984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" descr=""/>
            <p:cNvPicPr/>
            <p:nvPr/>
          </p:nvPicPr>
          <p:blipFill>
            <a:blip r:embed="rId9"/>
            <a:stretch/>
          </p:blipFill>
          <p:spPr>
            <a:xfrm>
              <a:off x="4572000" y="5181480"/>
              <a:ext cx="93636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0"/>
            <a:stretch/>
          </p:blipFill>
          <p:spPr>
            <a:xfrm>
              <a:off x="4572000" y="5562360"/>
              <a:ext cx="1038240" cy="49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6248520" y="4800600"/>
            <a:ext cx="2438280" cy="1371600"/>
            <a:chOff x="6248520" y="4800600"/>
            <a:chExt cx="2438280" cy="1371600"/>
          </a:xfrm>
        </p:grpSpPr>
        <p:sp>
          <p:nvSpPr>
            <p:cNvPr id="161" name=""/>
            <p:cNvSpPr/>
            <p:nvPr/>
          </p:nvSpPr>
          <p:spPr>
            <a:xfrm>
              <a:off x="6248520" y="4800600"/>
              <a:ext cx="2438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6248520" y="5105160"/>
              <a:ext cx="24206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2"/>
            <a:stretch/>
          </p:blipFill>
          <p:spPr>
            <a:xfrm>
              <a:off x="6858000" y="4800600"/>
              <a:ext cx="834480" cy="30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1066680" y="6324480"/>
            <a:ext cx="7315200" cy="304920"/>
            <a:chOff x="1066680" y="6324480"/>
            <a:chExt cx="7315200" cy="304920"/>
          </a:xfrm>
        </p:grpSpPr>
        <p:sp>
          <p:nvSpPr>
            <p:cNvPr id="165" name=""/>
            <p:cNvSpPr/>
            <p:nvPr/>
          </p:nvSpPr>
          <p:spPr>
            <a:xfrm>
              <a:off x="1066680" y="6324480"/>
              <a:ext cx="7315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218960" y="6400800"/>
              <a:ext cx="7013520" cy="185760"/>
              <a:chOff x="1218960" y="6400800"/>
              <a:chExt cx="7013520" cy="1857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8960" y="6400800"/>
                <a:ext cx="566100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7640" y="6400800"/>
                <a:ext cx="1374840" cy="185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mped Model of a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3027" t="0" r="0" b="14596"/>
          <a:stretch/>
        </p:blipFill>
        <p:spPr>
          <a:xfrm>
            <a:off x="1066680" y="1523880"/>
            <a:ext cx="7323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1066680" y="4800600"/>
            <a:ext cx="2057400" cy="1828800"/>
            <a:chOff x="1066680" y="4800600"/>
            <a:chExt cx="2057400" cy="1828800"/>
          </a:xfrm>
        </p:grpSpPr>
        <p:sp>
          <p:nvSpPr>
            <p:cNvPr id="172" name=""/>
            <p:cNvSpPr/>
            <p:nvPr/>
          </p:nvSpPr>
          <p:spPr>
            <a:xfrm>
              <a:off x="1066680" y="480060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1219320" y="4800600"/>
              <a:ext cx="154440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1523880" y="5410080"/>
              <a:ext cx="970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1143000" y="5791320"/>
              <a:ext cx="1914480" cy="80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3505320" y="4800600"/>
            <a:ext cx="2058480" cy="1828800"/>
            <a:chOff x="3505320" y="4800600"/>
            <a:chExt cx="2058480" cy="1828800"/>
          </a:xfrm>
        </p:grpSpPr>
        <p:sp>
          <p:nvSpPr>
            <p:cNvPr id="177" name=""/>
            <p:cNvSpPr/>
            <p:nvPr/>
          </p:nvSpPr>
          <p:spPr>
            <a:xfrm>
              <a:off x="3505320" y="4800600"/>
              <a:ext cx="205704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3581280" y="4876920"/>
              <a:ext cx="18810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6"/>
            <a:stretch/>
          </p:blipFill>
          <p:spPr>
            <a:xfrm>
              <a:off x="3581280" y="5105520"/>
              <a:ext cx="198252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5867280" y="4800600"/>
            <a:ext cx="2590920" cy="1828800"/>
            <a:chOff x="5867280" y="4800600"/>
            <a:chExt cx="2590920" cy="1828800"/>
          </a:xfrm>
        </p:grpSpPr>
        <p:sp>
          <p:nvSpPr>
            <p:cNvPr id="181" name=""/>
            <p:cNvSpPr/>
            <p:nvPr/>
          </p:nvSpPr>
          <p:spPr>
            <a:xfrm>
              <a:off x="5867280" y="4800600"/>
              <a:ext cx="259092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7"/>
            <a:stretch/>
          </p:blipFill>
          <p:spPr>
            <a:xfrm>
              <a:off x="5867280" y="4800600"/>
              <a:ext cx="25574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8"/>
            <a:stretch/>
          </p:blipFill>
          <p:spPr>
            <a:xfrm>
              <a:off x="6629400" y="5181480"/>
              <a:ext cx="76824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9"/>
            <a:stretch/>
          </p:blipFill>
          <p:spPr>
            <a:xfrm>
              <a:off x="5867280" y="5486400"/>
              <a:ext cx="164448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0"/>
            <a:stretch/>
          </p:blipFill>
          <p:spPr>
            <a:xfrm>
              <a:off x="7543800" y="5562720"/>
              <a:ext cx="80172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1"/>
            <a:stretch/>
          </p:blipFill>
          <p:spPr>
            <a:xfrm>
              <a:off x="6248160" y="6095880"/>
              <a:ext cx="1712880" cy="47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>
            <a:off x="7620120" y="6477120"/>
            <a:ext cx="127476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mped Model of a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3027" t="0" r="0" b="14596"/>
          <a:stretch/>
        </p:blipFill>
        <p:spPr>
          <a:xfrm>
            <a:off x="1066680" y="1523880"/>
            <a:ext cx="7323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914400" y="4800600"/>
            <a:ext cx="3657600" cy="1752480"/>
            <a:chOff x="914400" y="4800600"/>
            <a:chExt cx="3657600" cy="1752480"/>
          </a:xfrm>
        </p:grpSpPr>
        <p:sp>
          <p:nvSpPr>
            <p:cNvPr id="191" name=""/>
            <p:cNvSpPr/>
            <p:nvPr/>
          </p:nvSpPr>
          <p:spPr>
            <a:xfrm>
              <a:off x="914400" y="4800600"/>
              <a:ext cx="3657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914400" y="5562720"/>
              <a:ext cx="3568680" cy="895320"/>
              <a:chOff x="914400" y="5562720"/>
              <a:chExt cx="3568680" cy="8953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914400" y="5562720"/>
                <a:ext cx="3568680" cy="465120"/>
                <a:chOff x="914400" y="5562720"/>
                <a:chExt cx="3568680" cy="465120"/>
              </a:xfrm>
            </p:grpSpPr>
            <p:pic>
              <p:nvPicPr>
                <p:cNvPr id="1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14400" y="5562720"/>
                  <a:ext cx="356868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23880" y="5791320"/>
                  <a:ext cx="1578240" cy="236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24080" y="5791320"/>
                  <a:ext cx="363600" cy="236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6019920"/>
                <a:ext cx="289404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1600200" y="4800600"/>
              <a:ext cx="1847880" cy="75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4724280" y="4800600"/>
            <a:ext cx="4038480" cy="1752480"/>
            <a:chOff x="4724280" y="4800600"/>
            <a:chExt cx="4038480" cy="1752480"/>
          </a:xfrm>
        </p:grpSpPr>
        <p:sp>
          <p:nvSpPr>
            <p:cNvPr id="200" name=""/>
            <p:cNvSpPr/>
            <p:nvPr/>
          </p:nvSpPr>
          <p:spPr>
            <a:xfrm>
              <a:off x="4724280" y="4800600"/>
              <a:ext cx="403848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7"/>
            <a:stretch/>
          </p:blipFill>
          <p:spPr>
            <a:xfrm>
              <a:off x="4800240" y="4876920"/>
              <a:ext cx="38386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8"/>
            <a:stretch/>
          </p:blipFill>
          <p:spPr>
            <a:xfrm>
              <a:off x="5028840" y="5105520"/>
              <a:ext cx="86832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9"/>
            <a:stretch/>
          </p:blipFill>
          <p:spPr>
            <a:xfrm>
              <a:off x="6095880" y="5105520"/>
              <a:ext cx="90324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0"/>
            <a:stretch/>
          </p:blipFill>
          <p:spPr>
            <a:xfrm>
              <a:off x="7162560" y="5181480"/>
              <a:ext cx="1104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1"/>
            <a:stretch/>
          </p:blipFill>
          <p:spPr>
            <a:xfrm>
              <a:off x="5790960" y="6019920"/>
              <a:ext cx="161136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2"/>
            <a:stretch/>
          </p:blipFill>
          <p:spPr>
            <a:xfrm>
              <a:off x="5638680" y="5562720"/>
              <a:ext cx="2050920" cy="44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mped Response of a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3027" t="0" r="0" b="14596"/>
          <a:stretch/>
        </p:blipFill>
        <p:spPr>
          <a:xfrm>
            <a:off x="1066680" y="1523880"/>
            <a:ext cx="7323120" cy="3048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62690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-Damped Respon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38285"/>
          <a:stretch/>
        </p:blipFill>
        <p:spPr>
          <a:xfrm>
            <a:off x="1676520" y="1981080"/>
            <a:ext cx="6234120" cy="1676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5182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tically Damped Respon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505560" cy="1730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3535200" cy="193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75182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der-Damped Respon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00200" y="1600200"/>
            <a:ext cx="6095880" cy="2739960"/>
            <a:chOff x="1600200" y="1600200"/>
            <a:chExt cx="6095880" cy="273996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rcRect l="1211" t="0" r="2068" b="0"/>
            <a:stretch/>
          </p:blipFill>
          <p:spPr>
            <a:xfrm>
              <a:off x="1600200" y="1600200"/>
              <a:ext cx="6095880" cy="16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rcRect l="0" t="0" r="622" b="0"/>
            <a:stretch/>
          </p:blipFill>
          <p:spPr>
            <a:xfrm>
              <a:off x="1600200" y="3276360"/>
              <a:ext cx="6095880" cy="106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48332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21640" cy="60325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2895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Reson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lving th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netostatic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gebraic equ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namic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ial equ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29718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ical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ustrial  Cam-Follower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9880" y="609480"/>
            <a:ext cx="454824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inetoStatic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3027" t="0" r="0" b="14596"/>
          <a:stretch/>
        </p:blipFill>
        <p:spPr>
          <a:xfrm>
            <a:off x="1143000" y="1447920"/>
            <a:ext cx="7323120" cy="3047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120" y="5867280"/>
            <a:ext cx="2219040" cy="78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600200" y="4648320"/>
            <a:ext cx="606744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629400" y="5791320"/>
            <a:ext cx="1679400" cy="919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257800" y="5867280"/>
            <a:ext cx="819000" cy="771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581280" y="6019920"/>
            <a:ext cx="12002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8862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inetostatic Force and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844800" cy="2736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921120" cy="2747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85800" y="3695760"/>
            <a:ext cx="36036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ynamic Model and Solu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289480" cy="2530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124080" y="4800600"/>
            <a:ext cx="25574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5812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ynamic Sol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3838680" cy="3046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03680" cy="3062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rcRect l="0" t="4813" r="0" b="0"/>
          <a:stretch/>
        </p:blipFill>
        <p:spPr>
          <a:xfrm>
            <a:off x="4800600" y="3581280"/>
            <a:ext cx="3502080" cy="3011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25574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ynacam Demo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rse Eval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ngle DOF Model of th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d mass and stiffness of all pa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bine them using rules of series, parallel, and lever ratio combination into a single mass, spring and dam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0092" t="0" r="0" b="14596"/>
          <a:stretch/>
        </p:blipFill>
        <p:spPr>
          <a:xfrm>
            <a:off x="1066680" y="3048120"/>
            <a:ext cx="71708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vert Rotating Masses to Equivalent Translating M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6959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2971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mping the M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51544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ding the Stiff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067440" cy="267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3962520"/>
            <a:ext cx="620244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2971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mping the Spr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50878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ibrations and Resonanc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damped Model of a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7171" t="0" r="0" b="13075"/>
          <a:stretch/>
        </p:blipFill>
        <p:spPr>
          <a:xfrm>
            <a:off x="1752480" y="1371600"/>
            <a:ext cx="5918400" cy="2819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1746360" cy="174636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743200" y="4495680"/>
            <a:ext cx="2211120" cy="1672920"/>
            <a:chOff x="2743200" y="4495680"/>
            <a:chExt cx="2211120" cy="1672920"/>
          </a:xfrm>
        </p:grpSpPr>
        <p:sp>
          <p:nvSpPr>
            <p:cNvPr id="122" name=""/>
            <p:cNvSpPr/>
            <p:nvPr/>
          </p:nvSpPr>
          <p:spPr>
            <a:xfrm>
              <a:off x="2743200" y="4495680"/>
              <a:ext cx="2211120" cy="167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122640" y="4497120"/>
              <a:ext cx="14763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2894040" y="5563800"/>
              <a:ext cx="194940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5181480" y="4495680"/>
            <a:ext cx="3581280" cy="1752480"/>
            <a:chOff x="5181480" y="4495680"/>
            <a:chExt cx="3581280" cy="1752480"/>
          </a:xfrm>
        </p:grpSpPr>
        <p:sp>
          <p:nvSpPr>
            <p:cNvPr id="126" name=""/>
            <p:cNvSpPr/>
            <p:nvPr/>
          </p:nvSpPr>
          <p:spPr>
            <a:xfrm>
              <a:off x="5181480" y="4495680"/>
              <a:ext cx="358128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5257800" y="4571640"/>
              <a:ext cx="34336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5790960" y="5181480"/>
              <a:ext cx="245448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5715000" y="5638680"/>
              <a:ext cx="2455920" cy="51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3:41:37Z</dcterms:created>
  <dc:creator>R. L. Norton</dc:creator>
  <dc:description/>
  <dc:language>en-US</dc:language>
  <cp:lastModifiedBy>norton</cp:lastModifiedBy>
  <dcterms:modified xsi:type="dcterms:W3CDTF">2005-12-08T15:50:25Z</dcterms:modified>
  <cp:revision>11</cp:revision>
  <dc:subject/>
  <dc:title>Cam Dynamics</dc:title>
</cp:coreProperties>
</file>