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4.wmf" ContentType="image/x-wmf"/>
  <Override PartName="/ppt/media/image56.wmf" ContentType="image/x-wmf"/>
  <Override PartName="/ppt/media/image53.png" ContentType="image/png"/>
  <Override PartName="/ppt/media/image10.wmf" ContentType="image/x-wmf"/>
  <Override PartName="/ppt/media/image52.wmf" ContentType="image/x-wmf"/>
  <Override PartName="/ppt/media/image48.png" ContentType="image/png"/>
  <Override PartName="/ppt/media/image46.wmf" ContentType="image/x-wmf"/>
  <Override PartName="/ppt/media/image32.png" ContentType="image/png"/>
  <Override PartName="/ppt/media/image35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34.wmf" ContentType="image/x-wmf"/>
  <Override PartName="/ppt/media/image27.wmf" ContentType="image/x-wmf"/>
  <Override PartName="/ppt/media/image29.wmf" ContentType="image/x-wmf"/>
  <Override PartName="/ppt/media/image31.png" ContentType="image/png"/>
  <Override PartName="/ppt/media/image57.png" ContentType="image/png"/>
  <Override PartName="/ppt/media/image60.wmf" ContentType="image/x-wmf"/>
  <Override PartName="/ppt/media/image55.wmf" ContentType="image/x-wmf"/>
  <Override PartName="/ppt/media/image20.wmf" ContentType="image/x-wmf"/>
  <Override PartName="/ppt/media/image58.png" ContentType="image/png"/>
  <Override PartName="/ppt/media/image61.wmf" ContentType="image/x-wmf"/>
  <Override PartName="/ppt/media/image21.wmf" ContentType="image/x-wmf"/>
  <Override PartName="/ppt/media/image64.png" ContentType="image/png"/>
  <Override PartName="/ppt/media/image68.png" ContentType="image/png"/>
  <Override PartName="/ppt/media/image25.wmf" ContentType="image/x-wmf"/>
  <Override PartName="/ppt/media/image67.wmf" ContentType="image/x-wmf"/>
  <Override PartName="/ppt/media/image30.wmf" ContentType="image/x-wmf"/>
  <Override PartName="/ppt/media/image28.wmf" ContentType="image/x-wmf"/>
  <Override PartName="/ppt/media/image65.wmf" ContentType="image/x-wmf"/>
  <Override PartName="/ppt/media/image62.png" ContentType="image/png"/>
  <Override PartName="/ppt/media/image66.png" ContentType="image/png"/>
  <Override PartName="/ppt/media/image23.wmf" ContentType="image/x-wmf"/>
  <Override PartName="/ppt/media/image63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5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19.wmf" ContentType="image/x-wmf"/>
  <Override PartName="/ppt/media/image7.wmf" ContentType="image/x-wmf"/>
  <Override PartName="/ppt/media/image8.png" ContentType="image/png"/>
  <Override PartName="/ppt/media/image41.wmf" ContentType="image/x-wmf"/>
  <Override PartName="/ppt/media/image12.wmf" ContentType="image/x-wmf"/>
  <Override PartName="/ppt/media/image49.wmf" ContentType="image/x-wmf"/>
  <Override PartName="/ppt/media/image51.png" ContentType="image/png"/>
  <Override PartName="/ppt/media/image1.png" ContentType="image/png"/>
  <Override PartName="/ppt/media/image13.png" ContentType="image/png"/>
  <Override PartName="/ppt/media/image5.wmf" ContentType="image/x-wmf"/>
  <Override PartName="/ppt/media/image17.wmf" ContentType="image/x-wmf"/>
  <Override PartName="/ppt/media/image33.wmf" ContentType="image/x-wmf"/>
  <Override PartName="/ppt/media/image37.png" ContentType="image/png"/>
  <Override PartName="/ppt/media/image40.wmf" ContentType="image/x-wmf"/>
  <Override PartName="/ppt/media/image38.wmf" ContentType="image/x-wmf"/>
  <Override PartName="/ppt/media/image39.wmf" ContentType="image/x-wmf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9E40-DA6C-4DBE-AB30-BD114957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CD49-BB53-45E7-AE7A-4529F457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D521-4DE4-40A8-AF7B-5D57CAEB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A1A6-1F81-4BEF-9EEB-7622A160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B2F9-8E77-4ACC-BBCD-B1CC4B46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16E0-C623-41F3-88F8-33A145EB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F5F7-4421-4B72-88CC-737A2086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F38E-3DC3-4086-9E2E-8F081557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565B-FDFB-4650-B8BD-446161FC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3BAC-3F90-4F17-9F57-22DDA65C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B0DD-CAEC-4FBE-9886-BF967F1A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7EB9-0320-4E22-9A19-A619DC32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562C-C531-4DE5-A126-869A2C01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86B6-6123-4D9C-8FCA-9CCA5417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3172-FD37-491A-9E2D-FC38A022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A016-4176-4964-9C3D-937B45C5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25A6-306B-44DA-8161-9868268E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5817-60E5-4A1C-90A2-94F62444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554F-15BA-439C-AB0B-068B648D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FD3A-4554-48EE-A83E-6DB12CEC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5796-DF31-43EE-AC55-58397741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8757-8A9B-4211-B166-952F8F32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11F7-B4EA-4519-8423-7AC1A9EC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A6C9-9E66-47F1-8C09-77C1DDC4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5949-8F8E-4FBF-86D3-DD3933598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6F84-78F5-470F-AA04-743B3B35EE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wmf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wmf"/><Relationship Id="rId9" Type="http://schemas.openxmlformats.org/officeDocument/2006/relationships/image" Target="../media/image61.wmf"/><Relationship Id="rId10" Type="http://schemas.openxmlformats.org/officeDocument/2006/relationships/image" Target="../media/image62.png"/><Relationship Id="rId11" Type="http://schemas.openxmlformats.org/officeDocument/2006/relationships/image" Target="../media/image63.wmf"/><Relationship Id="rId12" Type="http://schemas.openxmlformats.org/officeDocument/2006/relationships/image" Target="../media/image64.png"/><Relationship Id="rId13" Type="http://schemas.openxmlformats.org/officeDocument/2006/relationships/image" Target="../media/image65.wmf"/><Relationship Id="rId14" Type="http://schemas.openxmlformats.org/officeDocument/2006/relationships/image" Target="../media/image66.png"/><Relationship Id="rId15" Type="http://schemas.openxmlformats.org/officeDocument/2006/relationships/image" Target="../media/image67.wmf"/><Relationship Id="rId16" Type="http://schemas.openxmlformats.org/officeDocument/2006/relationships/image" Target="../media/image68.png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Modeling Syste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3311  - Lecture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bining Springs in Se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594360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rings in series add like inductors in parall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1779480" cy="360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4614840" cy="1501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1562" t="0" r="4842" b="0"/>
          <a:stretch/>
        </p:blipFill>
        <p:spPr>
          <a:xfrm>
            <a:off x="3429000" y="3733920"/>
            <a:ext cx="4572000" cy="16113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867280" y="5943600"/>
            <a:ext cx="2298600" cy="438120"/>
            <a:chOff x="5867280" y="5943600"/>
            <a:chExt cx="2298600" cy="438120"/>
          </a:xfrm>
        </p:grpSpPr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5867280" y="5943600"/>
              <a:ext cx="10713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5"/>
            <a:stretch/>
          </p:blipFill>
          <p:spPr>
            <a:xfrm>
              <a:off x="7162560" y="5943600"/>
              <a:ext cx="100332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bining Springs in Parall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562720"/>
            <a:ext cx="5181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rings in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alle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dd like inductors in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43600" y="5562720"/>
            <a:ext cx="2298600" cy="438120"/>
            <a:chOff x="5943600" y="5562720"/>
            <a:chExt cx="2298600" cy="43812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5943600" y="5562720"/>
              <a:ext cx="10713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7238880" y="5562720"/>
              <a:ext cx="100332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905120" y="2133720"/>
            <a:ext cx="2016000" cy="2876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648320" y="2590920"/>
            <a:ext cx="2016000" cy="463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648320" y="3276720"/>
            <a:ext cx="20844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bining Dampers in Se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1509840" cy="3517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4209840" cy="1519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505320" y="3505320"/>
            <a:ext cx="4041720" cy="1974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019920" y="5867280"/>
            <a:ext cx="2455920" cy="582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594360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mpers in series add like resistors in parall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bining Dampers in Parall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43600" y="5410080"/>
            <a:ext cx="2455920" cy="582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4400" y="548640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mpers in parallel add like resistors in s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1949400" cy="2827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495680" y="2514600"/>
            <a:ext cx="22194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bining M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sses are always in parallel because their acceleration is referenced to grou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ss is analogous to capacitance so add as do capacitors in parall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0" y="4419720"/>
            <a:ext cx="2117880" cy="590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1206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ver and Gear Ratios</a:t>
            </a:r>
            <a:br>
              <a:rPr sz="4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inding Equivalent Mas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4176720" cy="26323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33520" y="4724280"/>
            <a:ext cx="4243320" cy="692280"/>
            <a:chOff x="533520" y="4724280"/>
            <a:chExt cx="4243320" cy="6922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33520" y="4724280"/>
              <a:ext cx="424332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1905120" y="4952880"/>
              <a:ext cx="144288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304920" y="5562720"/>
            <a:ext cx="4919400" cy="768240"/>
            <a:chOff x="304920" y="5562720"/>
            <a:chExt cx="4919400" cy="768240"/>
          </a:xfrm>
        </p:grpSpPr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304920" y="5562720"/>
              <a:ext cx="491940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1981080" y="5867280"/>
              <a:ext cx="140976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6248520" y="4876920"/>
            <a:ext cx="1544400" cy="1291680"/>
            <a:chOff x="6248520" y="4876920"/>
            <a:chExt cx="1544400" cy="1291680"/>
          </a:xfrm>
        </p:grpSpPr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6248520" y="4876920"/>
              <a:ext cx="103788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6248520" y="5105160"/>
              <a:ext cx="1544400" cy="106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5410080" y="1752480"/>
            <a:ext cx="30290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ver and Gear Ratios</a:t>
            </a:r>
            <a:br>
              <a:rPr sz="4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inding Equivalent Spring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4176720" cy="2632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130560" cy="29448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57200" y="4495680"/>
            <a:ext cx="4495680" cy="914400"/>
            <a:chOff x="457200" y="4495680"/>
            <a:chExt cx="4495680" cy="914400"/>
          </a:xfrm>
        </p:grpSpPr>
        <p:sp>
          <p:nvSpPr>
            <p:cNvPr id="174" name=""/>
            <p:cNvSpPr/>
            <p:nvPr/>
          </p:nvSpPr>
          <p:spPr>
            <a:xfrm>
              <a:off x="457200" y="4495680"/>
              <a:ext cx="44956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533160" y="4572000"/>
              <a:ext cx="427860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1981080" y="4800600"/>
              <a:ext cx="140976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457200" y="5562720"/>
            <a:ext cx="4724280" cy="914400"/>
            <a:chOff x="457200" y="5562720"/>
            <a:chExt cx="4724280" cy="914400"/>
          </a:xfrm>
        </p:grpSpPr>
        <p:sp>
          <p:nvSpPr>
            <p:cNvPr id="178" name=""/>
            <p:cNvSpPr/>
            <p:nvPr/>
          </p:nvSpPr>
          <p:spPr>
            <a:xfrm>
              <a:off x="457200" y="5562720"/>
              <a:ext cx="4724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5"/>
            <a:stretch/>
          </p:blipFill>
          <p:spPr>
            <a:xfrm>
              <a:off x="457200" y="5562720"/>
              <a:ext cx="471636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6"/>
            <a:stretch/>
          </p:blipFill>
          <p:spPr>
            <a:xfrm>
              <a:off x="2133720" y="5943600"/>
              <a:ext cx="1274760" cy="47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6248520" y="4876920"/>
            <a:ext cx="1752480" cy="1447560"/>
            <a:chOff x="6248520" y="4876920"/>
            <a:chExt cx="1752480" cy="1447560"/>
          </a:xfrm>
        </p:grpSpPr>
        <p:sp>
          <p:nvSpPr>
            <p:cNvPr id="182" name=""/>
            <p:cNvSpPr/>
            <p:nvPr/>
          </p:nvSpPr>
          <p:spPr>
            <a:xfrm>
              <a:off x="6248520" y="4876920"/>
              <a:ext cx="175248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7"/>
            <a:stretch/>
          </p:blipFill>
          <p:spPr>
            <a:xfrm>
              <a:off x="6553080" y="4952880"/>
              <a:ext cx="13748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8"/>
            <a:stretch/>
          </p:blipFill>
          <p:spPr>
            <a:xfrm>
              <a:off x="6400800" y="5257800"/>
              <a:ext cx="1476360" cy="97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eating Lumped Mod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1447" r="0" b="1714"/>
          <a:stretch/>
        </p:blipFill>
        <p:spPr>
          <a:xfrm>
            <a:off x="533520" y="1371600"/>
            <a:ext cx="3502080" cy="510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3973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ducing Lumped Mod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973680" cy="480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3062160" cy="2185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334120" y="3657600"/>
            <a:ext cx="30621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ynamic Versus Kinetostat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ton’s equation F = mA can be solved two way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netostatic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 the mass and an applied acceleration and solve for the for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yields an algebraic eq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amic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 the mass and an applied force and solve for accele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requires solving a differential equ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mped Parameter Mod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59760" cy="372132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533520" y="5334120"/>
            <a:ext cx="8153280" cy="901800"/>
            <a:chOff x="533520" y="5334120"/>
            <a:chExt cx="8153280" cy="901800"/>
          </a:xfrm>
        </p:grpSpPr>
        <p:sp>
          <p:nvSpPr>
            <p:cNvPr id="105" name=""/>
            <p:cNvSpPr/>
            <p:nvPr/>
          </p:nvSpPr>
          <p:spPr>
            <a:xfrm>
              <a:off x="533520" y="5334120"/>
              <a:ext cx="81532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5800" y="541044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514"/>
                  </a:solidFill>
                  <a:latin typeface="Symbol"/>
                  <a:ea typeface="Symbol"/>
                </a:rPr>
                <a:t></a:t>
              </a:r>
              <a:r>
                <a:rPr b="0" i="1" lang="en-US" sz="2400" spc="-1" strike="noStrike">
                  <a:solidFill>
                    <a:srgbClr val="000514"/>
                  </a:solidFill>
                  <a:latin typeface="Garamond"/>
                </a:rPr>
                <a:t>F</a:t>
              </a:r>
              <a:r>
                <a:rPr b="0" lang="en-US" sz="2400" spc="-1" strike="noStrike">
                  <a:solidFill>
                    <a:srgbClr val="000514"/>
                  </a:solidFill>
                  <a:latin typeface="Garamond"/>
                </a:rPr>
                <a:t> = </a:t>
              </a:r>
              <a:r>
                <a:rPr b="0" i="1" lang="en-US" sz="2400" spc="-1" strike="noStrike">
                  <a:solidFill>
                    <a:srgbClr val="000514"/>
                  </a:solidFill>
                  <a:latin typeface="Garamond"/>
                </a:rPr>
                <a:t>m</a:t>
              </a:r>
              <a:r>
                <a:rPr b="0" lang="en-US" sz="2400" spc="-1" strike="noStrike">
                  <a:solidFill>
                    <a:srgbClr val="000514"/>
                  </a:solidFill>
                  <a:latin typeface="Garamond"/>
                </a:rPr>
                <a:t>A:       </a:t>
              </a:r>
              <a:r>
                <a:rPr b="0" lang="en-US" sz="2400" spc="-1" strike="noStrike">
                  <a:solidFill>
                    <a:srgbClr val="000514"/>
                  </a:solidFill>
                  <a:latin typeface="Symbol"/>
                  <a:ea typeface="Symbol"/>
                </a:rPr>
                <a:t></a:t>
              </a:r>
              <a:r>
                <a:rPr b="0" i="1" lang="en-US" sz="2400" spc="-1" strike="noStrike">
                  <a:solidFill>
                    <a:srgbClr val="000514"/>
                  </a:solidFill>
                  <a:latin typeface="Garamond"/>
                </a:rPr>
                <a:t>F</a:t>
              </a:r>
              <a:r>
                <a:rPr b="0" lang="en-US" sz="2400" spc="-1" strike="noStrike">
                  <a:solidFill>
                    <a:srgbClr val="000514"/>
                  </a:solidFill>
                  <a:latin typeface="Garamond"/>
                </a:rPr>
                <a:t> = </a:t>
              </a:r>
              <a:r>
                <a:rPr b="0" i="1" lang="en-US" sz="2400" spc="-1" strike="noStrike">
                  <a:solidFill>
                    <a:srgbClr val="000514"/>
                  </a:solidFill>
                  <a:latin typeface="Garamond"/>
                </a:rPr>
                <a:t>Fc – Fs – Fd</a:t>
              </a:r>
              <a:r>
                <a:rPr b="0" lang="en-US" sz="2400" spc="-1" strike="noStrike">
                  <a:solidFill>
                    <a:srgbClr val="000514"/>
                  </a:solidFill>
                  <a:latin typeface="Garamond"/>
                </a:rPr>
                <a:t> = </a:t>
              </a:r>
              <a:r>
                <a:rPr b="0" i="1" lang="en-US" sz="2400" spc="-1" strike="noStrike">
                  <a:solidFill>
                    <a:srgbClr val="000514"/>
                  </a:solidFill>
                  <a:latin typeface="Garamond"/>
                </a:rPr>
                <a:t>m</a:t>
              </a:r>
              <a:r>
                <a:rPr b="0" lang="en-US" sz="2400" spc="-1" strike="noStrike">
                  <a:solidFill>
                    <a:srgbClr val="000514"/>
                  </a:solidFill>
                  <a:latin typeface="Garamond"/>
                </a:rPr>
                <a:t>A:        </a:t>
              </a:r>
              <a:r>
                <a:rPr b="0" i="1" lang="en-US" sz="2400" spc="-1" strike="noStrike">
                  <a:solidFill>
                    <a:srgbClr val="000514"/>
                  </a:solidFill>
                  <a:latin typeface="Garamond"/>
                </a:rPr>
                <a:t> Fc </a:t>
              </a:r>
              <a:r>
                <a:rPr b="0" lang="en-US" sz="2400" spc="-1" strike="noStrike">
                  <a:solidFill>
                    <a:srgbClr val="000514"/>
                  </a:solidFill>
                  <a:latin typeface="Garamond"/>
                </a:rPr>
                <a:t>= </a:t>
              </a:r>
              <a:r>
                <a:rPr b="0" i="1" lang="en-US" sz="2400" spc="-1" strike="noStrike">
                  <a:solidFill>
                    <a:srgbClr val="000514"/>
                  </a:solidFill>
                  <a:latin typeface="Garamond"/>
                </a:rPr>
                <a:t>m</a:t>
              </a:r>
              <a:r>
                <a:rPr b="0" lang="en-US" sz="2400" spc="-1" strike="noStrike">
                  <a:solidFill>
                    <a:srgbClr val="000514"/>
                  </a:solidFill>
                  <a:latin typeface="Garamond"/>
                </a:rPr>
                <a:t>A + </a:t>
              </a:r>
              <a:r>
                <a:rPr b="0" i="1" lang="en-US" sz="2400" spc="-1" strike="noStrike">
                  <a:solidFill>
                    <a:srgbClr val="000514"/>
                  </a:solidFill>
                  <a:latin typeface="Garamond"/>
                </a:rPr>
                <a:t>Fd + Fs</a:t>
              </a:r>
              <a:r>
                <a:rPr b="0" lang="en-US" sz="24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’Alembert’s Princi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sometimes convenient to rearrange Newton’s equation into D’Alembert’s for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ton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 = 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’Alembert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 – mA =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’Alembert form looks like a static probl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 = 0 ) where the “D’Alembert Force” ( - mA) or “inertial force” is included in the summ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e that 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nl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orks for the kinetostatic solution approac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rearrangement is useful for calculating balancing problems among oth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ipetal Versus Centrifug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ifugal force is a D’Alembert force = -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leration in rotation at constant angular velocity is only centripetal, not centrifug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5762520" cy="331632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6324480" y="5638680"/>
            <a:ext cx="2590920" cy="685800"/>
            <a:chOff x="6324480" y="5638680"/>
            <a:chExt cx="2590920" cy="685800"/>
          </a:xfrm>
        </p:grpSpPr>
        <p:sp>
          <p:nvSpPr>
            <p:cNvPr id="200" name=""/>
            <p:cNvSpPr/>
            <p:nvPr/>
          </p:nvSpPr>
          <p:spPr>
            <a:xfrm>
              <a:off x="6324480" y="5638680"/>
              <a:ext cx="2590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6629400" y="5715000"/>
              <a:ext cx="177948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6934320" y="5943600"/>
              <a:ext cx="1172880" cy="35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6248520" y="2971800"/>
            <a:ext cx="2666880" cy="1066680"/>
            <a:chOff x="6248520" y="2971800"/>
            <a:chExt cx="2666880" cy="1066680"/>
          </a:xfrm>
        </p:grpSpPr>
        <p:grpSp>
          <p:nvGrpSpPr>
            <p:cNvPr id="204" name=""/>
            <p:cNvGrpSpPr/>
            <p:nvPr/>
          </p:nvGrpSpPr>
          <p:grpSpPr>
            <a:xfrm>
              <a:off x="6248520" y="3352680"/>
              <a:ext cx="2666880" cy="685800"/>
              <a:chOff x="6248520" y="3352680"/>
              <a:chExt cx="2666880" cy="685800"/>
            </a:xfrm>
          </p:grpSpPr>
          <p:sp>
            <p:nvSpPr>
              <p:cNvPr id="205" name=""/>
              <p:cNvSpPr/>
              <p:nvPr/>
            </p:nvSpPr>
            <p:spPr>
              <a:xfrm>
                <a:off x="6248520" y="3352680"/>
                <a:ext cx="266688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24480" y="3352680"/>
                <a:ext cx="120672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67480" y="3428640"/>
                <a:ext cx="1274760" cy="26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58000" y="3733560"/>
                <a:ext cx="1374840" cy="210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"/>
            <p:cNvSpPr/>
            <p:nvPr/>
          </p:nvSpPr>
          <p:spPr>
            <a:xfrm>
              <a:off x="7010280" y="2971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Newt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324480" y="4191120"/>
            <a:ext cx="2514600" cy="1143000"/>
            <a:chOff x="6324480" y="4191120"/>
            <a:chExt cx="2514600" cy="1143000"/>
          </a:xfrm>
        </p:grpSpPr>
        <p:grpSp>
          <p:nvGrpSpPr>
            <p:cNvPr id="211" name=""/>
            <p:cNvGrpSpPr/>
            <p:nvPr/>
          </p:nvGrpSpPr>
          <p:grpSpPr>
            <a:xfrm>
              <a:off x="6324480" y="4572000"/>
              <a:ext cx="2514600" cy="762120"/>
              <a:chOff x="6324480" y="4572000"/>
              <a:chExt cx="2514600" cy="762120"/>
            </a:xfrm>
          </p:grpSpPr>
          <p:sp>
            <p:nvSpPr>
              <p:cNvPr id="212" name=""/>
              <p:cNvSpPr/>
              <p:nvPr/>
            </p:nvSpPr>
            <p:spPr>
              <a:xfrm>
                <a:off x="6324480" y="4572000"/>
                <a:ext cx="2514600" cy="76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629400" y="4572000"/>
                <a:ext cx="1847880" cy="73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"/>
            <p:cNvSpPr/>
            <p:nvPr/>
          </p:nvSpPr>
          <p:spPr>
            <a:xfrm>
              <a:off x="6858000" y="41911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’Alembe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2438280"/>
            <a:ext cx="876312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rtual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 energy meth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ves limited information with minimal calcul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misnamed: is actually a power eq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514600"/>
            <a:ext cx="8305560" cy="1219320"/>
            <a:chOff x="457200" y="2514600"/>
            <a:chExt cx="8305560" cy="1219320"/>
          </a:xfrm>
        </p:grpSpPr>
        <p:sp>
          <p:nvSpPr>
            <p:cNvPr id="219" name=""/>
            <p:cNvSpPr/>
            <p:nvPr/>
          </p:nvSpPr>
          <p:spPr>
            <a:xfrm>
              <a:off x="457200" y="2514600"/>
              <a:ext cx="830556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533160" y="2590920"/>
              <a:ext cx="437832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5105160" y="2590920"/>
              <a:ext cx="8683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533160" y="2971800"/>
              <a:ext cx="478476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5333760" y="2971800"/>
              <a:ext cx="11401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6553080" y="2971800"/>
              <a:ext cx="181440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533160" y="3353040"/>
              <a:ext cx="28609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3429000" y="3200400"/>
              <a:ext cx="86832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380880" y="3886200"/>
            <a:ext cx="6096240" cy="1523880"/>
            <a:chOff x="380880" y="3886200"/>
            <a:chExt cx="6096240" cy="1523880"/>
          </a:xfrm>
        </p:grpSpPr>
        <p:sp>
          <p:nvSpPr>
            <p:cNvPr id="228" name=""/>
            <p:cNvSpPr/>
            <p:nvPr/>
          </p:nvSpPr>
          <p:spPr>
            <a:xfrm>
              <a:off x="380880" y="3886200"/>
              <a:ext cx="609624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8"/>
            <a:stretch/>
          </p:blipFill>
          <p:spPr>
            <a:xfrm>
              <a:off x="380880" y="3886200"/>
              <a:ext cx="6067440" cy="144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6553080" y="3886200"/>
            <a:ext cx="1451160" cy="1523880"/>
            <a:chOff x="6553080" y="3886200"/>
            <a:chExt cx="1451160" cy="1523880"/>
          </a:xfrm>
        </p:grpSpPr>
        <p:sp>
          <p:nvSpPr>
            <p:cNvPr id="231" name=""/>
            <p:cNvSpPr/>
            <p:nvPr/>
          </p:nvSpPr>
          <p:spPr>
            <a:xfrm>
              <a:off x="6553080" y="3886200"/>
              <a:ext cx="144792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9"/>
            <a:stretch/>
          </p:blipFill>
          <p:spPr>
            <a:xfrm>
              <a:off x="6553080" y="3962520"/>
              <a:ext cx="140976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0"/>
            <a:stretch/>
          </p:blipFill>
          <p:spPr>
            <a:xfrm>
              <a:off x="6629400" y="4648320"/>
              <a:ext cx="1374840" cy="70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8077320" y="3886200"/>
            <a:ext cx="761760" cy="1523880"/>
            <a:chOff x="8077320" y="3886200"/>
            <a:chExt cx="761760" cy="1523880"/>
          </a:xfrm>
        </p:grpSpPr>
        <p:sp>
          <p:nvSpPr>
            <p:cNvPr id="235" name=""/>
            <p:cNvSpPr/>
            <p:nvPr/>
          </p:nvSpPr>
          <p:spPr>
            <a:xfrm>
              <a:off x="8077320" y="3886200"/>
              <a:ext cx="76176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11"/>
            <a:stretch/>
          </p:blipFill>
          <p:spPr>
            <a:xfrm>
              <a:off x="8153280" y="4191120"/>
              <a:ext cx="66636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2"/>
            <a:stretch/>
          </p:blipFill>
          <p:spPr>
            <a:xfrm>
              <a:off x="8153280" y="5029200"/>
              <a:ext cx="632880" cy="2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457200" y="5562720"/>
            <a:ext cx="3886200" cy="990360"/>
            <a:chOff x="457200" y="5562720"/>
            <a:chExt cx="3886200" cy="990360"/>
          </a:xfrm>
        </p:grpSpPr>
        <p:sp>
          <p:nvSpPr>
            <p:cNvPr id="239" name=""/>
            <p:cNvSpPr/>
            <p:nvPr/>
          </p:nvSpPr>
          <p:spPr>
            <a:xfrm>
              <a:off x="457200" y="5562720"/>
              <a:ext cx="38862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3"/>
            <a:stretch/>
          </p:blipFill>
          <p:spPr>
            <a:xfrm>
              <a:off x="609480" y="5867280"/>
              <a:ext cx="3670560" cy="61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4"/>
            <a:stretch/>
          </p:blipFill>
          <p:spPr>
            <a:xfrm>
              <a:off x="762120" y="5638680"/>
              <a:ext cx="1274760" cy="18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5"/>
            <a:stretch/>
          </p:blipFill>
          <p:spPr>
            <a:xfrm>
              <a:off x="2514600" y="5638680"/>
              <a:ext cx="164448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133720" y="5562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Garamond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572000" y="5562720"/>
            <a:ext cx="4267080" cy="914400"/>
            <a:chOff x="4572000" y="5562720"/>
            <a:chExt cx="4267080" cy="914400"/>
          </a:xfrm>
        </p:grpSpPr>
        <p:sp>
          <p:nvSpPr>
            <p:cNvPr id="245" name=""/>
            <p:cNvSpPr/>
            <p:nvPr/>
          </p:nvSpPr>
          <p:spPr>
            <a:xfrm>
              <a:off x="4572000" y="5562720"/>
              <a:ext cx="4267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6"/>
            <a:stretch/>
          </p:blipFill>
          <p:spPr>
            <a:xfrm>
              <a:off x="4800600" y="5867280"/>
              <a:ext cx="390672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791320" y="556272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514"/>
                  </a:solidFill>
                  <a:latin typeface="Garamond"/>
                </a:rPr>
                <a:t>D’Alembert fo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ynamic Equiva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a model of a rigid body to be dynamically equivalent to the original body, three things must be tru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 Mass of model is same as the origin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Center of gravity (CG) is in same loc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Mass moment of inertia about CG is same as     origin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ystem Compon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8840" y="2057040"/>
            <a:ext cx="2895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ff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mp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2590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iance and Stiff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physical elements have some compli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ffnes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reciprocal of complia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lectio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proportional to forc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inversely proportional to stiffnes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/k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k = F/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called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ring characteristi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ring consta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the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system is linear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 constant, otherwise it is a fun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mp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2468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mp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720200" cy="648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903240" cy="338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768240" cy="37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391520" y="533520"/>
            <a:ext cx="90324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valent Syst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864400" cy="1358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52480" y="3048120"/>
            <a:ext cx="5864400" cy="1392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52480" y="4648320"/>
            <a:ext cx="58644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ries and Parallel Conne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ments can be combined in serial or in parall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way to determine the type of connection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 through variable passes unchanged through multiple elements then they are in ser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  Two elements have the same force but different displacement or velocit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 through variable splits among multiple elements then they are in parall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  Two elements have different force but the same deflection or velocit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01:16:16Z</dcterms:created>
  <dc:creator>R. L. Norton</dc:creator>
  <dc:description/>
  <dc:language>en-US</dc:language>
  <cp:lastModifiedBy>norton</cp:lastModifiedBy>
  <dcterms:modified xsi:type="dcterms:W3CDTF">2005-11-03T15:35:31Z</dcterms:modified>
  <cp:revision>22</cp:revision>
  <dc:subject/>
  <dc:title>Slide 1</dc:title>
</cp:coreProperties>
</file>