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D96B-F286-44E3-9744-5B64C340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C221-5176-4611-AC63-DC42D404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F574-AB1D-4BDC-B76B-2861D2AC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BD27-D632-4BE3-9ECB-28838C83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016-44E7-49AE-9C0B-B06168B2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E06-B85A-4750-9233-BD0E8522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448-C1F3-4FB8-97A3-C9239FD3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ABB4-1FB9-4558-B8C1-95A3B067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6747-FACE-4EA2-9691-32058B9D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C3E0-10C6-4B26-817D-87F00E0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D56D-5267-4EF7-AED6-3439D076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FFF5-98F0-4F6C-9BB6-CE4C17B9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B35-0A05-4CFA-AF95-E809DF2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5D2D-C064-4C1B-AC6F-77A0939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C430-3929-4338-A96E-3BD647F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6ED4-C4A4-4A1F-AB7A-F18EB73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54D8-4848-41BC-B9BE-FD1EF605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268F-648F-4DBC-9594-3F57E6D2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92E9-A8C2-4C7C-AB1C-AEE8D875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2F04-DD07-43D7-BCF0-08899577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A72E-9279-4503-AB7B-369A1002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C185-F631-410E-85B8-D30CC25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238A-E486-49A6-908B-F6E1ECE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284A-DE58-4D59-8367-E74967B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E309-1756-4664-8804-62290060AE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81ED-4508-405B-83C5-F48E0D46E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png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ine Flywhee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1523880"/>
            <a:ext cx="3886200" cy="3290760"/>
            <a:chOff x="380880" y="1523880"/>
            <a:chExt cx="3886200" cy="3290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5356" t="2266" r="3575" b="0"/>
            <a:stretch/>
          </p:blipFill>
          <p:spPr>
            <a:xfrm>
              <a:off x="380880" y="1523880"/>
              <a:ext cx="3886200" cy="32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rcRect l="17948" t="0" r="0" b="0"/>
            <a:stretch/>
          </p:blipFill>
          <p:spPr>
            <a:xfrm>
              <a:off x="457200" y="1599840"/>
              <a:ext cx="1046160" cy="78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495680" y="1523880"/>
            <a:ext cx="4496040" cy="4800600"/>
            <a:chOff x="4495680" y="1523880"/>
            <a:chExt cx="4496040" cy="4800600"/>
          </a:xfrm>
        </p:grpSpPr>
        <p:sp>
          <p:nvSpPr>
            <p:cNvPr id="107" name=""/>
            <p:cNvSpPr/>
            <p:nvPr/>
          </p:nvSpPr>
          <p:spPr>
            <a:xfrm>
              <a:off x="4495680" y="1523880"/>
              <a:ext cx="449604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15000" y="160020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5715000" y="2438280"/>
              <a:ext cx="144288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5715000" y="3200400"/>
              <a:ext cx="2117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4952880" y="2438280"/>
              <a:ext cx="801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5334120" y="2743200"/>
              <a:ext cx="36324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8"/>
            <a:stretch/>
          </p:blipFill>
          <p:spPr>
            <a:xfrm>
              <a:off x="4648320" y="3429000"/>
              <a:ext cx="1038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9"/>
            <a:stretch/>
          </p:blipFill>
          <p:spPr>
            <a:xfrm>
              <a:off x="5029200" y="4267080"/>
              <a:ext cx="59832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0"/>
            <a:stretch/>
          </p:blipFill>
          <p:spPr>
            <a:xfrm>
              <a:off x="5715000" y="3886200"/>
              <a:ext cx="1814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1"/>
            <a:stretch/>
          </p:blipFill>
          <p:spPr>
            <a:xfrm>
              <a:off x="4724280" y="5486400"/>
              <a:ext cx="970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2"/>
            <a:stretch/>
          </p:blipFill>
          <p:spPr>
            <a:xfrm>
              <a:off x="5715000" y="4952880"/>
              <a:ext cx="323208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grating the Torque 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598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657600"/>
            <a:ext cx="8001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efficient of Fluct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1295280"/>
            <a:ext cx="8001000" cy="2133720"/>
            <a:chOff x="685800" y="1295280"/>
            <a:chExt cx="8001000" cy="2133720"/>
          </a:xfrm>
        </p:grpSpPr>
        <p:sp>
          <p:nvSpPr>
            <p:cNvPr id="123" name=""/>
            <p:cNvSpPr/>
            <p:nvPr/>
          </p:nvSpPr>
          <p:spPr>
            <a:xfrm>
              <a:off x="685800" y="1295280"/>
              <a:ext cx="800100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429000" y="1447920"/>
              <a:ext cx="17463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10040" y="1523880"/>
              <a:ext cx="1104840" cy="2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990720" y="2286000"/>
              <a:ext cx="22860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429000" y="2057400"/>
              <a:ext cx="1814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5410440" y="2286000"/>
              <a:ext cx="316368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2133720" y="2971800"/>
              <a:ext cx="4446720" cy="26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838080" y="3733920"/>
            <a:ext cx="2624400" cy="725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rcRect l="13535" t="0" r="0" b="0"/>
          <a:stretch/>
        </p:blipFill>
        <p:spPr>
          <a:xfrm>
            <a:off x="3429000" y="3733920"/>
            <a:ext cx="1947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57800" y="3733920"/>
            <a:ext cx="2962440" cy="674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2209680" y="4572000"/>
            <a:ext cx="1982880" cy="68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4572000" y="4572000"/>
            <a:ext cx="1814400" cy="758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1981080" y="5486400"/>
            <a:ext cx="2489400" cy="59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4724280" y="5486400"/>
            <a:ext cx="1341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1680" y="1370160"/>
            <a:ext cx="8683560" cy="51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827440" cy="235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52680" y="3809880"/>
            <a:ext cx="2792520" cy="2336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72200" y="3809880"/>
            <a:ext cx="2759040" cy="2336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80880" y="1447920"/>
            <a:ext cx="2827440" cy="232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725920" cy="2311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172200" y="1447920"/>
            <a:ext cx="2759040" cy="2320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 of a Flywheel with Spe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61722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340c"/>
                </a:solidFill>
                <a:latin typeface="Garamond"/>
              </a:rPr>
              <a:t>800 RP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6172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340c"/>
                </a:solidFill>
                <a:latin typeface="Garamond"/>
              </a:rPr>
              <a:t>3400 RP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6172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340c"/>
                </a:solidFill>
                <a:latin typeface="Garamond"/>
              </a:rPr>
              <a:t>6000 RP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05:10Z</dcterms:created>
  <dc:creator>R. L. Norton</dc:creator>
  <dc:description/>
  <dc:language>en-US</dc:language>
  <cp:lastModifiedBy>R. L. Norton</cp:lastModifiedBy>
  <dcterms:modified xsi:type="dcterms:W3CDTF">2005-10-24T20:20:42Z</dcterms:modified>
  <cp:revision>4</cp:revision>
  <dc:subject/>
  <dc:title>Engine Flywheels</dc:title>
</cp:coreProperties>
</file>