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png" ContentType="image/png"/>
  <Override PartName="/ppt/media/image24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40.png" ContentType="image/png"/>
  <Override PartName="/ppt/media/image38.wmf" ContentType="image/x-wmf"/>
  <Override PartName="/ppt/media/image8.wmf" ContentType="image/x-wmf"/>
  <Override PartName="/ppt/media/image13.wmf" ContentType="image/x-wmf"/>
  <Override PartName="/ppt/media/image32.png" ContentType="image/png"/>
  <Override PartName="/ppt/media/image35.png" ContentType="image/png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1.wmf" ContentType="image/x-wmf"/>
  <Override PartName="/ppt/media/image31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F9F9A-F3AF-4B89-B2CF-53AAC15C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D87F2-B056-418D-90AA-B927A5C3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AAAF2-AE4F-4C19-9145-81FBABAB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8ED91-2096-4382-B96A-B81560A3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1C0D-707D-4712-BECE-3A32801B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7C22-5A3E-464D-BB76-66F38467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DFAE-22EF-407E-91CA-6F330763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1307-D29F-4899-8FAC-9416BEF4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72D2-BDD3-4E2F-B14A-D59A93E8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C1CF-BC6B-422E-BC25-49FA1543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05D2-7A3D-46EF-AD84-B904FBAC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81FDB-7F35-4A87-8BA4-5025E82C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B1B8-4B52-4205-BD39-B590FE2A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D863-473D-40C9-9220-F58D8934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5401-A3E2-4904-837E-2A780436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839B-4333-4436-B221-B53FBDEE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F9EC-A8BF-44B0-9341-82BCF817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0D960-57FB-4ABC-A243-ECFC25EB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CB988-E124-4784-B5B8-838943EF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DCBB6-5E9E-4B8D-8480-7457BF41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6DB2A-0DBB-44A1-96DA-C848972F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324B6-187E-42FE-A2E3-EC0C2D3E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FB691-72A8-4AA0-9D45-9C88CD23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B9DCB-D4F8-49E9-8810-40AEA856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5CD5-00A1-45CC-97E8-8602DEA104A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1674-4DD7-43AE-BBC3-27AEAEA6DA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E509-C26C-4CDE-964E-EA203E4F2D8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851E-1339-4D66-9FDD-36556B36FF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png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image" Target="../media/image37.wmf"/><Relationship Id="rId13" Type="http://schemas.openxmlformats.org/officeDocument/2006/relationships/image" Target="../media/image38.wmf"/><Relationship Id="rId1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nergy Method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 3311 Lecture 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grating the Torque Fun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59840" cy="381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AE4E4-1CEB-444F-929E-2CC13E27885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37C81-9ECA-4614-87B0-43754028A4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3657600"/>
            <a:ext cx="80010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efficient of Fluctu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85800" y="1295280"/>
            <a:ext cx="8001000" cy="2133720"/>
            <a:chOff x="685800" y="1295280"/>
            <a:chExt cx="8001000" cy="2133720"/>
          </a:xfrm>
        </p:grpSpPr>
        <p:sp>
          <p:nvSpPr>
            <p:cNvPr id="159" name=""/>
            <p:cNvSpPr/>
            <p:nvPr/>
          </p:nvSpPr>
          <p:spPr>
            <a:xfrm>
              <a:off x="685800" y="1295280"/>
              <a:ext cx="8001000" cy="213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429000" y="1447920"/>
              <a:ext cx="174636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2210040" y="1523880"/>
              <a:ext cx="1104840" cy="2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990720" y="2286000"/>
              <a:ext cx="228600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3429000" y="2057400"/>
              <a:ext cx="181476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5"/>
            <a:stretch/>
          </p:blipFill>
          <p:spPr>
            <a:xfrm>
              <a:off x="5410440" y="2286000"/>
              <a:ext cx="3163680" cy="2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2133720" y="2971800"/>
              <a:ext cx="4446720" cy="262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838080" y="3733920"/>
            <a:ext cx="2624400" cy="725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rcRect l="13535" t="0" r="0" b="0"/>
          <a:stretch/>
        </p:blipFill>
        <p:spPr>
          <a:xfrm>
            <a:off x="3429000" y="3733920"/>
            <a:ext cx="1947960" cy="682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5257800" y="3733920"/>
            <a:ext cx="2962440" cy="674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2209680" y="4572000"/>
            <a:ext cx="1982880" cy="682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4572000" y="4572000"/>
            <a:ext cx="1814400" cy="758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2"/>
          <a:stretch/>
        </p:blipFill>
        <p:spPr>
          <a:xfrm>
            <a:off x="1981080" y="5486400"/>
            <a:ext cx="2489400" cy="590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3"/>
          <a:stretch/>
        </p:blipFill>
        <p:spPr>
          <a:xfrm>
            <a:off x="4724280" y="5486400"/>
            <a:ext cx="1341720" cy="66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1E8C0-2766-4695-AACE-4A67EF0F2AC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4ECFD-56A2-43BF-BA48-FF828C807E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7162920" cy="2635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7162920" cy="330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38CD1-8FE3-4C1B-9466-E3C8C32ED18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FE59E-3BE7-4ADF-9562-215DCE90EF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lywheel Smooth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4402080" cy="2604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025880" cy="30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5BEA5-9429-4EE9-8F1E-8D3EE133CE5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22C2B-9853-404C-BB3C-5FBBB8CFF5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CA5F5-0582-442E-A5CF-2EF7F250A22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E1408-47C9-4D40-961D-F88E0A925C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Demonstra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b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tri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nergy Metho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generally called Lagrangian metho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quick and easy to u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give limited information compared to Newtonian metho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grangian methods give no information on internal fo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calculate for the input torq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70665-A43D-4E4E-B63D-7F9D6E3C8A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A4776-D0D0-4858-A9AE-1FA781C3DE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od of Virtual 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an energy (work) method from its na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is misnamed as actually uses a power equ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8058240" cy="104616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609480" y="3809880"/>
            <a:ext cx="8124840" cy="2565360"/>
            <a:chOff x="609480" y="3809880"/>
            <a:chExt cx="8124840" cy="256536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609480" y="3809880"/>
              <a:ext cx="8124840" cy="25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800600" y="5943600"/>
              <a:ext cx="38098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0AEAF-1406-4F54-915C-C764F208A1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A3280-F18F-46FC-9D25-1A1EF3742C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19320" y="1600200"/>
            <a:ext cx="6858000" cy="43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wer Equ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51040" y="1676520"/>
            <a:ext cx="5766840" cy="750600"/>
            <a:chOff x="1751040" y="1676520"/>
            <a:chExt cx="5766840" cy="75060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751040" y="1905120"/>
              <a:ext cx="3939840" cy="3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5636880" y="1676520"/>
              <a:ext cx="1881000" cy="75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1905120" y="2590920"/>
            <a:ext cx="5219280" cy="2892240"/>
            <a:chOff x="1905120" y="2590920"/>
            <a:chExt cx="5219280" cy="2892240"/>
          </a:xfrm>
        </p:grpSpPr>
        <p:sp>
          <p:nvSpPr>
            <p:cNvPr id="116" name=""/>
            <p:cNvSpPr/>
            <p:nvPr/>
          </p:nvSpPr>
          <p:spPr>
            <a:xfrm>
              <a:off x="1905120" y="259092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514"/>
                  </a:solidFill>
                  <a:latin typeface="Garamond"/>
                </a:rPr>
                <a:t>Kinetic Energ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62320" y="35053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Garamond"/>
                </a:rPr>
                <a:t>Line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2320" y="48006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Garamond"/>
                </a:rPr>
                <a:t>Angul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3581640" y="3124080"/>
              <a:ext cx="3408120" cy="1122480"/>
              <a:chOff x="3581640" y="3124080"/>
              <a:chExt cx="3408120" cy="1122480"/>
            </a:xfrm>
          </p:grpSpPr>
          <p:pic>
            <p:nvPicPr>
              <p:cNvPr id="12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191120" y="3124080"/>
                <a:ext cx="2219400" cy="112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4"/>
              <a:srcRect l="41848" t="0" r="0" b="4940"/>
              <a:stretch/>
            </p:blipFill>
            <p:spPr>
              <a:xfrm>
                <a:off x="6248520" y="3581280"/>
                <a:ext cx="741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" descr=""/>
              <p:cNvPicPr/>
              <p:nvPr/>
            </p:nvPicPr>
            <p:blipFill>
              <a:blip r:embed="rId5"/>
              <a:srcRect l="0" t="0" r="46228" b="4940"/>
              <a:stretch/>
            </p:blipFill>
            <p:spPr>
              <a:xfrm>
                <a:off x="3581640" y="3581280"/>
                <a:ext cx="6858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" name=""/>
            <p:cNvGrpSpPr/>
            <p:nvPr/>
          </p:nvGrpSpPr>
          <p:grpSpPr>
            <a:xfrm>
              <a:off x="3810240" y="4419720"/>
              <a:ext cx="3314160" cy="1063440"/>
              <a:chOff x="3810240" y="4419720"/>
              <a:chExt cx="3314160" cy="1063440"/>
            </a:xfrm>
          </p:grpSpPr>
          <p:pic>
            <p:nvPicPr>
              <p:cNvPr id="12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343400" y="4419720"/>
                <a:ext cx="1949040" cy="106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7"/>
              <a:srcRect l="34495" t="0" r="0" b="-20341"/>
              <a:stretch/>
            </p:blipFill>
            <p:spPr>
              <a:xfrm>
                <a:off x="6400800" y="4800600"/>
                <a:ext cx="72360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8"/>
              <a:srcRect l="0" t="0" r="46228" b="4940"/>
              <a:stretch/>
            </p:blipFill>
            <p:spPr>
              <a:xfrm>
                <a:off x="3810240" y="4800600"/>
                <a:ext cx="68544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26C1E-E206-407F-80A3-D2EA0958C0B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E313F-A683-4673-8AEE-93301EC8A5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0" b="27546"/>
          <a:stretch/>
        </p:blipFill>
        <p:spPr>
          <a:xfrm>
            <a:off x="380880" y="1752480"/>
            <a:ext cx="8429760" cy="4267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“Virtual Work” Equ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0752C-ECEE-414C-ADD7-2012820C27E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8B446-E1FB-4350-9714-59C28BC210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“Virtual Work” Equ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6360" cy="477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74E6F-CCAD-4FEC-94FC-28FAE4AAC41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C8031-52CE-4F85-BE52-407B7F727F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lywhe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rque typically varies widely over the cyc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tors must change speed to change torq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usually want constant spe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 – a dilemma:  How maintain constant speed in the face of a time-varying torqu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0B2CE-D3CE-4D03-9956-1E65BB7E86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CC2F6-AD77-4E99-A4FE-49E6543342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rque-Time 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ypical torque fun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tor torque-speed cur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2743200"/>
            <a:ext cx="4267080" cy="2892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4025880" cy="3005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6BAFB-EEC7-48B5-8368-67B2AEFBA89B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D845B-50AA-4EDB-8ADD-51A7166079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lywhe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80880" y="1523880"/>
            <a:ext cx="3886200" cy="3290760"/>
            <a:chOff x="380880" y="1523880"/>
            <a:chExt cx="3886200" cy="329076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rcRect l="5356" t="2266" r="3575" b="0"/>
            <a:stretch/>
          </p:blipFill>
          <p:spPr>
            <a:xfrm>
              <a:off x="380880" y="1523880"/>
              <a:ext cx="3886200" cy="32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rcRect l="17948" t="0" r="0" b="0"/>
            <a:stretch/>
          </p:blipFill>
          <p:spPr>
            <a:xfrm>
              <a:off x="457200" y="1599840"/>
              <a:ext cx="1046160" cy="78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4495680" y="1523880"/>
            <a:ext cx="4496040" cy="4800600"/>
            <a:chOff x="4495680" y="1523880"/>
            <a:chExt cx="4496040" cy="4800600"/>
          </a:xfrm>
        </p:grpSpPr>
        <p:sp>
          <p:nvSpPr>
            <p:cNvPr id="143" name=""/>
            <p:cNvSpPr/>
            <p:nvPr/>
          </p:nvSpPr>
          <p:spPr>
            <a:xfrm>
              <a:off x="4495680" y="1523880"/>
              <a:ext cx="4496040" cy="48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5715000" y="1600200"/>
              <a:ext cx="113976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5715000" y="2438280"/>
              <a:ext cx="1442880" cy="5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5"/>
            <a:stretch/>
          </p:blipFill>
          <p:spPr>
            <a:xfrm>
              <a:off x="5715000" y="3200400"/>
              <a:ext cx="21178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4952880" y="2438280"/>
              <a:ext cx="8017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7"/>
            <a:stretch/>
          </p:blipFill>
          <p:spPr>
            <a:xfrm>
              <a:off x="5334120" y="2743200"/>
              <a:ext cx="363240" cy="2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8"/>
            <a:stretch/>
          </p:blipFill>
          <p:spPr>
            <a:xfrm>
              <a:off x="4648320" y="3429000"/>
              <a:ext cx="10382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9"/>
            <a:stretch/>
          </p:blipFill>
          <p:spPr>
            <a:xfrm>
              <a:off x="5029200" y="4267080"/>
              <a:ext cx="598320" cy="2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0"/>
            <a:stretch/>
          </p:blipFill>
          <p:spPr>
            <a:xfrm>
              <a:off x="5715000" y="3886200"/>
              <a:ext cx="18144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1"/>
            <a:stretch/>
          </p:blipFill>
          <p:spPr>
            <a:xfrm>
              <a:off x="4724280" y="5486400"/>
              <a:ext cx="97020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2"/>
            <a:stretch/>
          </p:blipFill>
          <p:spPr>
            <a:xfrm>
              <a:off x="5715000" y="4952880"/>
              <a:ext cx="3232080" cy="13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obert L. Norton - W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D0133-90B4-46FA-88CC-32D722CFB24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39320-E897-4755-AA52-B768BDC5B6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6:54:09Z</dcterms:created>
  <dc:creator>R. L. Norton</dc:creator>
  <dc:description/>
  <dc:language>en-US</dc:language>
  <cp:lastModifiedBy>norton</cp:lastModifiedBy>
  <dcterms:modified xsi:type="dcterms:W3CDTF">2005-11-03T17:00:15Z</dcterms:modified>
  <cp:revision>11</cp:revision>
  <dc:subject/>
  <dc:title>Energy Methods</dc:title>
</cp:coreProperties>
</file>