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24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33.png" ContentType="image/png"/>
  <Override PartName="/ppt/media/image36.png" ContentType="image/png"/>
  <Override PartName="/ppt/media/image39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2FC0-04B9-4EF6-B297-A9ABA05B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596D-4619-4B09-9929-2ACBDF4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5E7C-CE20-49C1-B359-E689BC3E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6EB3-EABF-494C-B78B-79EA3653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EF9-31FF-4A18-8641-030A5F3C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AF1-165A-4222-B61C-AA3789FB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25A-8398-41AB-8A77-77F22B2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13A8-60BD-4B2F-A050-C5902543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4B5-3EC7-4859-B0D6-27C0957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465-5FD4-452F-9144-23E08C2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C41A-AAB2-4C38-BCDD-4E82707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997B-E640-4EC9-97B6-259DACFF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4E7-4E76-4A9B-A844-B9C5244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158-0CBE-49FD-9539-E590C67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45AD-7701-4AD9-BBE5-B4976D77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4CD2-17CC-4B6C-BA70-2A40F266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371-DE48-444F-A93D-41540B38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6B50-82BC-4AD1-9BC7-02F5CF76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4DD6-FDB6-4E64-B562-A9BC0D72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121A-A114-4CC8-AB64-BA764378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EBD7-45F5-43C8-8E91-D76EA73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A0A4-6A49-4F91-978B-1BD832A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4640-B6AC-48DA-8E71-A928F718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7130-C0B2-4D2C-8062-E7484A2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850C-EA70-4C66-9EBD-2C015D5B767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A620-4FD8-4757-864F-C31F5DDE0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F47A-C8AA-453E-AE3D-BA6F8C25063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57BD-E304-4AAA-B449-58488CBC9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png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ergy Metho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grating the Torqu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5984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02DF-C154-41E4-82D4-E7AAD11C55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0BDA4-6F53-45A6-AF4C-5E1679ED94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162920" cy="2635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162920" cy="33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ADF5-D09D-44F3-832F-9886CE5906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E122-C18D-4502-9D77-B169FD9102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3657600"/>
            <a:ext cx="8001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efficient of Fluct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85800" y="1295280"/>
            <a:ext cx="8001000" cy="2133720"/>
            <a:chOff x="685800" y="1295280"/>
            <a:chExt cx="8001000" cy="2133720"/>
          </a:xfrm>
        </p:grpSpPr>
        <p:sp>
          <p:nvSpPr>
            <p:cNvPr id="161" name=""/>
            <p:cNvSpPr/>
            <p:nvPr/>
          </p:nvSpPr>
          <p:spPr>
            <a:xfrm>
              <a:off x="685800" y="1295280"/>
              <a:ext cx="800100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429000" y="1447920"/>
              <a:ext cx="17463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2210040" y="1523880"/>
              <a:ext cx="1104840" cy="2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990720" y="2286000"/>
              <a:ext cx="2286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3429000" y="2057400"/>
              <a:ext cx="1814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5410440" y="2286000"/>
              <a:ext cx="316368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2133720" y="2971800"/>
              <a:ext cx="4446720" cy="26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3733920"/>
            <a:ext cx="2624400" cy="72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rcRect l="13535" t="0" r="0" b="0"/>
          <a:stretch/>
        </p:blipFill>
        <p:spPr>
          <a:xfrm>
            <a:off x="3429000" y="3733920"/>
            <a:ext cx="1947960" cy="682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5257800" y="3733920"/>
            <a:ext cx="2962440" cy="674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209680" y="4572000"/>
            <a:ext cx="1982880" cy="682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572000" y="4572000"/>
            <a:ext cx="181440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981080" y="5486400"/>
            <a:ext cx="2489400" cy="590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4724280" y="5486400"/>
            <a:ext cx="13417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531D-FEDF-44C1-B7BD-4724982F64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EAC80-63D1-4EEE-B204-8EEA8B0226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 Smoot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402080" cy="2604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025880" cy="30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08DF-F985-43CC-91CB-3C095EFAEA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7B087-B8DF-43A3-8208-1AFBCEF8A0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172A-91C0-46A8-ADCA-2324966D94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DF247-1828-4DA7-B7D5-18332FD110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ergy Metho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generally called Lagrangian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quick and easy to 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give limited information compared to Newtonian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grangian methods give no information on internal fo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calculate for the input torq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B3A9-FD60-47E5-B812-E04A65315A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8BD42-6BCC-4BCA-BD16-77C0374E0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 of Virtual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an energy (work) method from its n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is misnamed as actually uses a power eq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058240" cy="104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09480" y="3809880"/>
            <a:ext cx="8124840" cy="2565360"/>
            <a:chOff x="609480" y="3809880"/>
            <a:chExt cx="8124840" cy="256536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9480" y="3809880"/>
              <a:ext cx="81248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800600" y="5943600"/>
              <a:ext cx="3809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D35D-80E3-44C7-B57E-383C19F31D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D20B6-429C-4869-B5C9-A0CCF808F1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1600200"/>
            <a:ext cx="6858000" cy="43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wer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1040" y="1676520"/>
            <a:ext cx="5766840" cy="750600"/>
            <a:chOff x="1751040" y="1676520"/>
            <a:chExt cx="5766840" cy="7506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51040" y="1905120"/>
              <a:ext cx="39398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636880" y="1676520"/>
              <a:ext cx="1881000" cy="75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05120" y="2590920"/>
            <a:ext cx="5219280" cy="2892240"/>
            <a:chOff x="1905120" y="2590920"/>
            <a:chExt cx="5219280" cy="2892240"/>
          </a:xfrm>
        </p:grpSpPr>
        <p:sp>
          <p:nvSpPr>
            <p:cNvPr id="116" name=""/>
            <p:cNvSpPr/>
            <p:nvPr/>
          </p:nvSpPr>
          <p:spPr>
            <a:xfrm>
              <a:off x="1905120" y="25909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514"/>
                  </a:solidFill>
                  <a:latin typeface="Garamond"/>
                </a:rPr>
                <a:t>Kinetic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3505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Lin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8006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Ang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581640" y="3124080"/>
              <a:ext cx="3408120" cy="1122480"/>
              <a:chOff x="3581640" y="3124080"/>
              <a:chExt cx="3408120" cy="11224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3124080"/>
                <a:ext cx="2219400" cy="11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4"/>
              <a:srcRect l="41848" t="0" r="0" b="4940"/>
              <a:stretch/>
            </p:blipFill>
            <p:spPr>
              <a:xfrm>
                <a:off x="6248520" y="3581280"/>
                <a:ext cx="741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5"/>
              <a:srcRect l="0" t="0" r="46228" b="4940"/>
              <a:stretch/>
            </p:blipFill>
            <p:spPr>
              <a:xfrm>
                <a:off x="3581640" y="3581280"/>
                <a:ext cx="6858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3810240" y="4419720"/>
              <a:ext cx="3314160" cy="1063440"/>
              <a:chOff x="3810240" y="4419720"/>
              <a:chExt cx="3314160" cy="1063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43400" y="4419720"/>
                <a:ext cx="1949040" cy="10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rcRect l="34495" t="0" r="0" b="-20341"/>
              <a:stretch/>
            </p:blipFill>
            <p:spPr>
              <a:xfrm>
                <a:off x="6400800" y="4800600"/>
                <a:ext cx="72360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8"/>
              <a:srcRect l="0" t="0" r="46228" b="4940"/>
              <a:stretch/>
            </p:blipFill>
            <p:spPr>
              <a:xfrm>
                <a:off x="3810240" y="4800600"/>
                <a:ext cx="68544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B216-92EB-4907-92AB-D1F5D5466F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FF67-9A6F-40E9-B685-586BB684A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7546"/>
          <a:stretch/>
        </p:blipFill>
        <p:spPr>
          <a:xfrm>
            <a:off x="380880" y="1752480"/>
            <a:ext cx="8429760" cy="426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“Virtual Work”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C4B7-2A14-436E-B59B-0F3BDCCCEB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C3335-074F-4E35-9F35-2E57C5EF5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“Virtual Work”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636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1175-A6FC-4797-9CEC-D14E16DD36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07B8E-B919-43F5-B946-42A15646C2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que typically varies widely over the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ors must change speed to change tor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usually want constant sp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– a dilemma:  How maintain constant speed in the face of a time-varying torqu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5441-47C1-4214-9DF7-2C07C5DA1F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A8A40-1DF4-4A64-B57E-7E60431171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rque-Tim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al torqu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or torque-speed cur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4267080" cy="2892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4025880" cy="3005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F098-652C-4944-AD39-45BDBDEB76D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D68FE-D62A-4372-B76E-BB289F11C5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1523880"/>
            <a:ext cx="3886200" cy="3290760"/>
            <a:chOff x="380880" y="1523880"/>
            <a:chExt cx="3886200" cy="32907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5356" t="2266" r="3575" b="0"/>
            <a:stretch/>
          </p:blipFill>
          <p:spPr>
            <a:xfrm>
              <a:off x="380880" y="1523880"/>
              <a:ext cx="3886200" cy="32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rcRect l="17948" t="0" r="0" b="0"/>
            <a:stretch/>
          </p:blipFill>
          <p:spPr>
            <a:xfrm>
              <a:off x="457200" y="1599840"/>
              <a:ext cx="104616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495680" y="1523880"/>
            <a:ext cx="4496040" cy="4800600"/>
            <a:chOff x="4495680" y="1523880"/>
            <a:chExt cx="4496040" cy="4800600"/>
          </a:xfrm>
        </p:grpSpPr>
        <p:sp>
          <p:nvSpPr>
            <p:cNvPr id="143" name=""/>
            <p:cNvSpPr/>
            <p:nvPr/>
          </p:nvSpPr>
          <p:spPr>
            <a:xfrm>
              <a:off x="4495680" y="1523880"/>
              <a:ext cx="449604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715000" y="160020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715000" y="2438280"/>
              <a:ext cx="144288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5715000" y="3200400"/>
              <a:ext cx="2117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4952880" y="2438280"/>
              <a:ext cx="801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5334120" y="2743200"/>
              <a:ext cx="36324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4648320" y="3429000"/>
              <a:ext cx="1038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5029200" y="4267080"/>
              <a:ext cx="59832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715000" y="3886200"/>
              <a:ext cx="1814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4724280" y="5486400"/>
              <a:ext cx="970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2"/>
            <a:stretch/>
          </p:blipFill>
          <p:spPr>
            <a:xfrm>
              <a:off x="5715000" y="4952880"/>
              <a:ext cx="3232080" cy="13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B361-5ED6-433D-B7F5-C0C1DCFEC2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4E5B1-676A-4FFA-B8B3-D3DB94910A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6:54:09Z</dcterms:created>
  <dc:creator>R. L. Norton</dc:creator>
  <dc:description/>
  <dc:language>en-US</dc:language>
  <cp:lastModifiedBy>Academic Technology Center</cp:lastModifiedBy>
  <dcterms:modified xsi:type="dcterms:W3CDTF">2005-11-03T17:56:41Z</dcterms:modified>
  <cp:revision>12</cp:revision>
  <dc:subject/>
  <dc:title>Energy Methods</dc:title>
</cp:coreProperties>
</file>