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DFEFD-C00A-4F4D-BA63-80E5B4F5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98F3F-30F2-4F09-ABD5-394ADBEF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2F68C-D800-482B-B5BB-F68F0D71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15DBD-C4B4-4B46-A950-C4D36E00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851B-63B0-457F-B34C-B939597B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E68A-9677-4B99-AD34-A68A9B85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5829-3221-44E4-AE14-2659A717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3C4F-4651-4281-A129-04F4B3DB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C06E-3F93-442C-AD9C-E413AC1D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CD5F-AEC8-4F94-BB1D-4C8DBC0D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7E16-98C6-40CC-AB78-ACF2F0D6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C9110-E2E8-4BE4-B820-7DC0C86F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A9A2-D9EF-4678-8645-440EF494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0501-B9F6-4397-BF8C-F9B396A7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FAD4-C976-4E4A-97A7-A862F8A4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36AD-52F4-4DB2-A3BD-9A91C113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9B03-52C8-4528-956B-6A54FD81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CBAAC-4BDF-4F3A-998C-973A3DAE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65C7D-1BB7-4011-9A40-44BBD044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20184-E93D-427A-AFF8-601A5AE9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3CC18-8C3A-4C4F-94D6-789BEF09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4700B-9088-496E-9081-0D8F5E24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E540E-F88A-442D-83B5-9651DC16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B4807-712E-41FE-8FD4-66C77169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DD87-DF40-4644-ABD5-C1E871B557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74F6-75D3-4CB7-AAC4-5B2A1D5CAC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roject 2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11 Lecture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9:12:54Z</dcterms:created>
  <dc:creator>R. L. Norton</dc:creator>
  <dc:description/>
  <dc:language>en-US</dc:language>
  <cp:lastModifiedBy>R. L. Norton</cp:lastModifiedBy>
  <dcterms:modified xsi:type="dcterms:W3CDTF">2005-10-24T19:15:55Z</dcterms:modified>
  <cp:revision>1</cp:revision>
  <dc:subject/>
  <dc:title>Project 2</dc:title>
</cp:coreProperties>
</file>