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28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9.wmf" ContentType="image/x-wmf"/>
  <Override PartName="/ppt/media/image17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3.jpeg" ContentType="image/jpeg"/>
  <Override PartName="/ppt/media/image15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D8564-8A8C-4AF0-BA54-3FB4E977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F32B9-8279-4FAD-9276-480F9627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5BE9-50E8-42BA-9FAE-98C831AE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8D539-63B9-48F5-8DD6-DBAFBCF9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22F3-EEF0-4A0F-83E4-33482483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2BAE-1527-4752-B9FC-02A2D2FE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F146-4FA6-4969-BD0A-0844B671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F65E-7FFB-432B-82C5-C28CE7A3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C453-8301-4ABE-8AF5-AF4A7A5C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924C-280B-4AA7-8D0E-39D705FB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0253-E170-4789-95B6-33B67CC7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81FA6-2BEE-4876-8B6C-104F9765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131D-12B2-4292-8078-85B59CCF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AB4E-5775-46AD-A821-E55DA710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DFE1-8A5D-4937-A9BD-527F0FF6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D4C5-43FA-4905-A21F-A1974C33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CE20-214D-414F-8418-202D945D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EADCF-9A68-41E9-A6B5-665C5623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F8D61-ADDC-4B6C-BC78-0A026661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F4420-A05C-4EC8-8F79-2ADC40D5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56946-A676-47F1-8F16-964AD369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783B4-D2F5-42F3-B77E-08293DAC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34689-0E8D-4969-A07A-CCB0645D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6FFC7-1A0B-4BF7-865E-A9C7E89B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B91D-468C-4554-B007-06A42E217B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FA89-39A4-4178-AC38-06C992DF58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Multicylinder Engin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11 Lecture 1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aking For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a single cylinder we found tha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exactly balanced crank throws, it becom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a multicylinder engine of n cylinder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the phase angles of each cyli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087880" cy="522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057400" y="3429000"/>
            <a:ext cx="2624040" cy="488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0" t="0" r="0" b="10877"/>
          <a:stretch/>
        </p:blipFill>
        <p:spPr>
          <a:xfrm>
            <a:off x="2057400" y="4572000"/>
            <a:ext cx="36370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aking For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4216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ce Balance for 0-90-180-270 Crankshaft Phase Ang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660708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ertia Torqu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a single cylinder, inertia torque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 all cylinders to g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the phase angles of each cyli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3703680" cy="514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057400" y="3352680"/>
            <a:ext cx="515448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19810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ertia Torqu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653904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aking Mo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ments are transverse to crank axis.  Torques are about crank axis.  (Same math - different nam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57290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2057400"/>
            <a:ext cx="86868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aking Mo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400560" cy="3459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343400" y="2286000"/>
            <a:ext cx="1509840" cy="565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019920" y="2362320"/>
            <a:ext cx="1611360" cy="244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6019920" y="2590920"/>
            <a:ext cx="2692440" cy="185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rcRect l="11180" t="0" r="14285" b="0"/>
          <a:stretch/>
        </p:blipFill>
        <p:spPr>
          <a:xfrm>
            <a:off x="4191120" y="3200400"/>
            <a:ext cx="45720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ment Balance for 0-90-180-270 Crankshaft Phase Ang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39800" y="2550960"/>
            <a:ext cx="5864400" cy="17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haking Moments for 0-90-180-270 Crankshaft Phase Angl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1532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ogram Engin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ngine Configur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2594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ry Engines (WW I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5981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dial Engines (WW II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28600" y="1371600"/>
            <a:ext cx="8553600" cy="2857320"/>
            <a:chOff x="228600" y="1371600"/>
            <a:chExt cx="8553600" cy="285732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228600" y="1371600"/>
              <a:ext cx="2971800" cy="28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3200400" y="1371600"/>
              <a:ext cx="2705040" cy="28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"/>
            <a:stretch/>
          </p:blipFill>
          <p:spPr>
            <a:xfrm>
              <a:off x="5791320" y="1371600"/>
              <a:ext cx="2990880" cy="285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1981080" y="4343400"/>
            <a:ext cx="5419800" cy="2381400"/>
            <a:chOff x="1981080" y="4343400"/>
            <a:chExt cx="5419800" cy="2381400"/>
          </a:xfrm>
        </p:grpSpPr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1981080" y="4343400"/>
              <a:ext cx="2362320" cy="238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5"/>
            <a:stretch/>
          </p:blipFill>
          <p:spPr>
            <a:xfrm>
              <a:off x="4495680" y="4343400"/>
              <a:ext cx="2905200" cy="238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Inline Engin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1560" y="1214280"/>
            <a:ext cx="6856200" cy="5484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ankshaft Phase Ang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707160" cy="1096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6707160" cy="1425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905120" y="3809880"/>
            <a:ext cx="535752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ple – 4-Stroke, 4-cyl Inl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ccw rotation, phase angles are negative as each cylinder lags the one befo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pite their signs, are stated as absolute val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a 4-cyl, 4-S inline engine, what do you think the phase angles should b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3886200"/>
            <a:ext cx="60325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2286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ank Phase Dia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19520" y="457200"/>
            <a:ext cx="603252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24386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implified Crank Phase Diagra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971800" y="762120"/>
            <a:ext cx="58644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1:51:50Z</dcterms:created>
  <dc:creator>R. L. Norton</dc:creator>
  <dc:description/>
  <dc:language>en-US</dc:language>
  <cp:lastModifiedBy>norton</cp:lastModifiedBy>
  <dcterms:modified xsi:type="dcterms:W3CDTF">2005-11-28T15:32:56Z</dcterms:modified>
  <cp:revision>12</cp:revision>
  <dc:subject/>
  <dc:title>Multicylinder Engines</dc:title>
</cp:coreProperties>
</file>