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665A0-0300-41FC-82D3-ACD90D5A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F320C-A253-4855-9871-EC2357F4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FDB17-CC08-41C5-A17A-DEB4B414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8F1FA-3A05-468F-BAEA-08D11065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4995-8734-484B-ABF3-CFA93EDE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2F34-95F3-4061-9C36-FCD69058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F5D9-3829-4052-8489-68B07F13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F991-D9A4-4358-B081-EDD56B84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2B2A-A7C6-4D64-A8FD-7359B9F2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A1A9-A0BB-4E79-B226-71B1E077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939B-FEA9-4E83-81AF-4E87E71E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9F925-0729-497A-A354-F35151D9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B6C3-4B9B-43D0-BE4D-D29684C6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2333-1145-44B0-A392-9F30FA6A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B158-95AD-4BAE-8113-200AFDFD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EFF0-CDA1-484F-81B7-D1A47519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80C0-EC13-4865-B15A-22D502B4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F1C43-BA78-4D52-8FF4-A8C3165B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B42D0-A211-4908-AC8E-36D3AF67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B798C-2B28-4DB5-A4E2-4CABB065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FECD9-3F4D-4ED8-B5C5-7C0D8B79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E38EC-C0A0-4706-A171-4494B3CC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CB3E3-D073-4EE4-B5FD-196FBE7F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A7218-3728-4A98-AB51-F010BA83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554F-6AF9-40C0-962E-FF58483A6B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1275-F122-423F-B3B3-D875DE298D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Inertia Effect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11  Lecture 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ertia Torqu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83010" r="0" b="0"/>
          <a:stretch/>
        </p:blipFill>
        <p:spPr>
          <a:xfrm>
            <a:off x="1143000" y="1447920"/>
            <a:ext cx="6943680" cy="639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143000" y="2209680"/>
            <a:ext cx="67420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2860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ertia Torqu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18086" t="24407" r="31057" b="10506"/>
          <a:stretch/>
        </p:blipFill>
        <p:spPr>
          <a:xfrm>
            <a:off x="3581280" y="609480"/>
            <a:ext cx="3429000" cy="1828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905120" y="2590920"/>
            <a:ext cx="6842160" cy="3922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352680" y="5105520"/>
            <a:ext cx="381024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197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ertia Torque Fun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66100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4267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otal Torqu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495680" cy="2789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181480" y="1371600"/>
            <a:ext cx="3637080" cy="2320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27841" t="0" r="15362" b="73603"/>
          <a:stretch/>
        </p:blipFill>
        <p:spPr>
          <a:xfrm>
            <a:off x="5029200" y="380880"/>
            <a:ext cx="3886200" cy="762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rcRect l="1589" t="0" r="4511" b="-1282"/>
          <a:stretch/>
        </p:blipFill>
        <p:spPr>
          <a:xfrm>
            <a:off x="457200" y="3962520"/>
            <a:ext cx="4495680" cy="2743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257800" y="3962520"/>
            <a:ext cx="3276720" cy="27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rogram Engin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2133360"/>
            <a:ext cx="243864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ynamic Mod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6202440" cy="3171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743200" y="3505320"/>
            <a:ext cx="61689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53320" cy="57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ertia For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505320" y="1600200"/>
            <a:ext cx="2057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66680" y="2133720"/>
            <a:ext cx="694368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haking For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87708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437920"/>
            <a:ext cx="22860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haking For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895480" y="228600"/>
            <a:ext cx="5897520" cy="3433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895480" y="3657600"/>
            <a:ext cx="58676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Inertia Torqu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753320" cy="5721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27437" t="54664" r="0" b="33196"/>
          <a:stretch/>
        </p:blipFill>
        <p:spPr>
          <a:xfrm>
            <a:off x="2286000" y="6095880"/>
            <a:ext cx="50385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ertia Torqu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94368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9:23:55Z</dcterms:created>
  <dc:creator>R. L. Norton</dc:creator>
  <dc:description/>
  <dc:language>en-US</dc:language>
  <cp:lastModifiedBy>norton</cp:lastModifiedBy>
  <dcterms:modified xsi:type="dcterms:W3CDTF">2005-11-17T16:51:45Z</dcterms:modified>
  <cp:revision>5</cp:revision>
  <dc:subject/>
  <dc:title>Inertia Effects</dc:title>
</cp:coreProperties>
</file>