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png" ContentType="image/png"/>
  <Override PartName="/ppt/media/image3.wmf" ContentType="image/x-wmf"/>
  <Override PartName="/ppt/media/image26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A95B-7604-428D-8EF4-42E87875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9E06-1243-41D4-9D06-CDA0A32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F4F8-28B7-4D14-AC62-A15E6D12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BEDD-BE34-48C4-8DA3-74D20796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95AF-D64B-4873-A5B9-8133184F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851-1410-4959-80C7-79D60B66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701-363B-4C79-9F8A-6B24108D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8D8F-C218-4504-9B2F-B710CC9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A645-7C3C-469B-B1AA-D82FABC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A4FE-F3FF-4348-8120-CF1A9471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AF4E-7D0F-46CB-9A0D-E4DCE49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5D9B-B4B6-4DFD-8FE5-65FB7B6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0908-3C02-4B2E-85BC-E89577C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3D57-1A4A-4DCE-9FF0-69D7A47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806-C38B-45B1-8BA6-0FF6316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14B-1E1C-41D5-BC3F-28FF7B89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1BF9-C685-4EF6-A349-F40D5118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1811-ACCB-43BC-A30D-239C1B2C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0342-A919-479C-AC42-A32AEF21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1AED-95B3-46FA-8676-C07DE4E7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7A8A-D309-43D0-BCF3-10D6F288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8DD3-4BD1-4E99-A6F1-A4614F27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5ECE-678D-4390-BDBB-B488713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BDCA-DADB-497C-8707-970863D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5A2-59BA-44E9-AC08-C0D684EEC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9093-D4F6-415B-8580-0F0252931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in Forc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 Lecture 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22096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s on Pin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Local Coord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15754" b="0"/>
          <a:stretch/>
        </p:blipFill>
        <p:spPr>
          <a:xfrm>
            <a:off x="2666880" y="152280"/>
            <a:ext cx="61074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lancing the Single-Cylinder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Model and Shaking For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523880"/>
            <a:ext cx="5796000" cy="479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33480" y="1604880"/>
            <a:ext cx="5627880" cy="2835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19280" y="518652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43520" y="4653000"/>
            <a:ext cx="10713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 Assum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a single-plane device, so static balancing 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will have NO effect on gas fo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can “exactly” cancel inertial forces due to rotating ma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with rotating weights cannot exactly cancel translating inertial fo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95280" y="1219320"/>
            <a:ext cx="678204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ctly Balancing the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124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16444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 Exactly Balanc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7773"/>
          <a:stretch/>
        </p:blipFill>
        <p:spPr>
          <a:xfrm>
            <a:off x="4724280" y="2133720"/>
            <a:ext cx="3703680" cy="32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876" t="4434" r="31527" b="0"/>
          <a:stretch/>
        </p:blipFill>
        <p:spPr>
          <a:xfrm>
            <a:off x="609480" y="2133720"/>
            <a:ext cx="38102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1219320"/>
            <a:ext cx="678204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n You Do Be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124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16444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95280" y="1219320"/>
            <a:ext cx="67057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balanced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09680" y="556272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60958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 OverBalanc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2817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n Force Compon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842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s Acting on a P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4724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n feels the conrod pulling on one side and the piston pulling the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, cannot lump piston and conrod mass together to find the pin for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223" t="0" r="1314" b="0"/>
          <a:stretch/>
        </p:blipFill>
        <p:spPr>
          <a:xfrm>
            <a:off x="2133720" y="1523880"/>
            <a:ext cx="5029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s Due to Piston M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1676520"/>
            <a:ext cx="8839440" cy="4954320"/>
            <a:chOff x="152280" y="1676520"/>
            <a:chExt cx="8839440" cy="4954320"/>
          </a:xfrm>
        </p:grpSpPr>
        <p:sp>
          <p:nvSpPr>
            <p:cNvPr id="109" name=""/>
            <p:cNvSpPr/>
            <p:nvPr/>
          </p:nvSpPr>
          <p:spPr>
            <a:xfrm>
              <a:off x="154080" y="1676520"/>
              <a:ext cx="8837640" cy="49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2280" y="1757160"/>
              <a:ext cx="6477120" cy="46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867280" y="4653000"/>
              <a:ext cx="3029040" cy="15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791320" y="4576680"/>
              <a:ext cx="3124080" cy="167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rcRect l="0" t="13047" r="0" b="70656"/>
          <a:stretch/>
        </p:blipFill>
        <p:spPr>
          <a:xfrm>
            <a:off x="1143000" y="1143000"/>
            <a:ext cx="6842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ces Due to C.R. Mass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m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3</a:t>
            </a:r>
            <a:r>
              <a:rPr b="1" i="1" lang="en-US" sz="4400" spc="-1" strike="noStrike" baseline="-25000">
                <a:solidFill>
                  <a:srgbClr val="e5e5ff"/>
                </a:solidFill>
                <a:latin typeface="Garamond"/>
              </a:rPr>
              <a:t>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914400"/>
            <a:ext cx="8458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551720" cy="37641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62120" y="4952880"/>
            <a:ext cx="3276360" cy="1676520"/>
            <a:chOff x="762120" y="4952880"/>
            <a:chExt cx="3276360" cy="1676520"/>
          </a:xfrm>
        </p:grpSpPr>
        <p:sp>
          <p:nvSpPr>
            <p:cNvPr id="118" name=""/>
            <p:cNvSpPr/>
            <p:nvPr/>
          </p:nvSpPr>
          <p:spPr>
            <a:xfrm>
              <a:off x="762120" y="4952880"/>
              <a:ext cx="3276360" cy="167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838080" y="5029200"/>
              <a:ext cx="3130200" cy="15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" descr=""/>
          <p:cNvPicPr/>
          <p:nvPr/>
        </p:nvPicPr>
        <p:blipFill>
          <a:blip r:embed="rId3"/>
          <a:srcRect l="0" t="29359" r="0" b="47828"/>
          <a:stretch/>
        </p:blipFill>
        <p:spPr>
          <a:xfrm>
            <a:off x="1447920" y="914400"/>
            <a:ext cx="6842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ces Due to Masses at Crankp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066680" y="1600200"/>
            <a:ext cx="3351240" cy="5029200"/>
            <a:chOff x="1066680" y="1600200"/>
            <a:chExt cx="3351240" cy="5029200"/>
          </a:xfrm>
        </p:grpSpPr>
        <p:sp>
          <p:nvSpPr>
            <p:cNvPr id="123" name=""/>
            <p:cNvSpPr/>
            <p:nvPr/>
          </p:nvSpPr>
          <p:spPr>
            <a:xfrm>
              <a:off x="1066680" y="1600200"/>
              <a:ext cx="335124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7520" y="6019920"/>
              <a:ext cx="29718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293840" y="6095880"/>
              <a:ext cx="286056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446120" y="1600200"/>
              <a:ext cx="2691000" cy="434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952880" y="1600200"/>
            <a:ext cx="2971800" cy="5029200"/>
            <a:chOff x="4952880" y="1600200"/>
            <a:chExt cx="2971800" cy="5029200"/>
          </a:xfrm>
        </p:grpSpPr>
        <p:sp>
          <p:nvSpPr>
            <p:cNvPr id="128" name=""/>
            <p:cNvSpPr/>
            <p:nvPr/>
          </p:nvSpPr>
          <p:spPr>
            <a:xfrm>
              <a:off x="4952880" y="1600200"/>
              <a:ext cx="297180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257800" y="6095880"/>
              <a:ext cx="22525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57800" y="6019920"/>
              <a:ext cx="22860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5257800" y="1600200"/>
              <a:ext cx="2657520" cy="421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5"/>
          <a:srcRect l="0" t="75015" r="0" b="0"/>
          <a:stretch/>
        </p:blipFill>
        <p:spPr>
          <a:xfrm>
            <a:off x="1066680" y="914400"/>
            <a:ext cx="684216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0" t="52187" r="0" b="25000"/>
          <a:stretch/>
        </p:blipFill>
        <p:spPr>
          <a:xfrm>
            <a:off x="1066680" y="914400"/>
            <a:ext cx="6842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2096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 the Forces at Each P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244" t="12429" r="0" b="0"/>
          <a:stretch/>
        </p:blipFill>
        <p:spPr>
          <a:xfrm>
            <a:off x="2743200" y="457200"/>
            <a:ext cx="6058080" cy="1611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6067440" cy="406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43200" y="6248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te the presence of gas force as well as inertia forc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0481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rist Pin Force at Various Spee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421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905120"/>
            <a:ext cx="8839440" cy="3352680"/>
          </a:xfrm>
          <a:prstGeom prst="rect">
            <a:avLst/>
          </a:prstGeom>
          <a:solidFill>
            <a:srgbClr val="00051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 of Speed on Pin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057400"/>
            <a:ext cx="4114800" cy="3047760"/>
            <a:chOff x="304920" y="2057400"/>
            <a:chExt cx="4114800" cy="3047760"/>
          </a:xfrm>
        </p:grpSpPr>
        <p:sp>
          <p:nvSpPr>
            <p:cNvPr id="143" name=""/>
            <p:cNvSpPr/>
            <p:nvPr/>
          </p:nvSpPr>
          <p:spPr>
            <a:xfrm>
              <a:off x="304920" y="2057400"/>
              <a:ext cx="4114800" cy="30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81240" y="2209680"/>
              <a:ext cx="3927240" cy="2743200"/>
              <a:chOff x="381240" y="2209680"/>
              <a:chExt cx="3927240" cy="274320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1240" y="2209680"/>
                <a:ext cx="2106360" cy="27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2286000"/>
                <a:ext cx="2022480" cy="266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"/>
          <p:cNvGrpSpPr/>
          <p:nvPr/>
        </p:nvGrpSpPr>
        <p:grpSpPr>
          <a:xfrm>
            <a:off x="4495680" y="2057400"/>
            <a:ext cx="4343400" cy="3047760"/>
            <a:chOff x="4495680" y="2057400"/>
            <a:chExt cx="4343400" cy="3047760"/>
          </a:xfrm>
        </p:grpSpPr>
        <p:sp>
          <p:nvSpPr>
            <p:cNvPr id="148" name=""/>
            <p:cNvSpPr/>
            <p:nvPr/>
          </p:nvSpPr>
          <p:spPr>
            <a:xfrm>
              <a:off x="4495680" y="2057400"/>
              <a:ext cx="4343400" cy="30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495680" y="2133360"/>
              <a:ext cx="4307040" cy="2743200"/>
              <a:chOff x="4495680" y="2133360"/>
              <a:chExt cx="4307040" cy="274320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2286000"/>
                <a:ext cx="2244960" cy="25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05720" y="2133360"/>
                <a:ext cx="2097000" cy="274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20:58Z</dcterms:created>
  <dc:creator>R. L. Norton</dc:creator>
  <dc:description/>
  <dc:language>en-US</dc:language>
  <cp:lastModifiedBy>norton</cp:lastModifiedBy>
  <dcterms:modified xsi:type="dcterms:W3CDTF">2005-11-21T16:10:58Z</dcterms:modified>
  <cp:revision>10</cp:revision>
  <dc:subject/>
  <dc:title>Pin Forces</dc:title>
</cp:coreProperties>
</file>