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71CE-5AE2-41FD-BDA4-E3944458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C389-C65A-484B-A067-C37D2C3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1A26-D169-40ED-907A-6B278568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959D-8A58-43FB-AF25-4FFC7F28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3193-55F3-4DF8-9477-F395CE2E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3B38-3A8D-483C-B972-FD6F43E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48F1-1ACE-4916-AE7A-ECB896B3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95D-3C36-458F-A6F0-E74F1F09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8CB0-B530-4BFF-A55F-3064090C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8A25-1E1F-4B1E-967C-84DCFCAF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4620-E226-4E1A-AC4B-32614A1F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7E37-44D2-4EAA-A4A1-A7509F9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1BA2-156D-4FF8-8A74-8180AC9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433F-713B-4802-B662-319B867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432E-DD80-4774-9AD3-80A541F3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CE1B-2BC3-4298-84F0-94E2A096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7EC4-E5F9-43A9-B3BD-1425503A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35A7-785F-4333-9161-574C665C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8CDE-9FE3-42CD-8945-1FCEC1B5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6622-83ED-4DB7-8431-CA5E87F7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ADEF-0B6A-4B31-907B-80C565EF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4B89-D511-4EA8-BA06-F34926DE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AC44-C66A-4D04-8AE8-139DF703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3F7F-9491-4504-8847-9DECB724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6639-280A-4ECF-874D-3622D22EEC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423-59E5-49F6-8AB1-0CC6B2636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ee Engi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PI ME33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. Nor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02080" cy="2008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11311" t="8362" r="0" b="0"/>
          <a:stretch/>
        </p:blipFill>
        <p:spPr>
          <a:xfrm>
            <a:off x="4648320" y="3886200"/>
            <a:ext cx="4182840" cy="250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9625" t="10414" r="0" b="0"/>
          <a:stretch/>
        </p:blipFill>
        <p:spPr>
          <a:xfrm>
            <a:off x="152280" y="3809880"/>
            <a:ext cx="4292640" cy="2622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14600" y="1219320"/>
            <a:ext cx="41148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35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Shaking Mo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629320" cy="3949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13404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Shaking Mo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3276" t="2835" r="1673" b="950"/>
          <a:stretch/>
        </p:blipFill>
        <p:spPr>
          <a:xfrm>
            <a:off x="152280" y="16765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311360" cy="2362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623412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Inertia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99040" cy="2606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600200" y="3962520"/>
            <a:ext cx="59990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Inertia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10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-Eight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optimum delta firing angle for 8 cylin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s:  720/8 = 9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a vee engine takes on the inertia characteristics of its individual banks, what is the best delta phase angle to us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s:  360/4 = 9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optimum set of phase angl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s:  0-90-270-180 to get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oment cancel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ce and Moment Bal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04880" y="1947960"/>
            <a:ext cx="59324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Eng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bine two inline engines (banks) on a common crankshaf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nks are arranged at a particular bank angl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vee angle is twice the bank ang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bank angle will usually be optimum for N cylind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ylinders in opposite banks can share crankpins or no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Vee engine will usually have the same inertia balance conditions as its inline banks alo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rare cases, the vee angle can serve to cancel some inertia effects present in the inline ban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e engines are more compact than inline equival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oosing the Bank Ang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t even firing if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the Vee-8 bank angle be with a 0-90-270-180 crankshaf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the firing order b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6100920" cy="161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600200" y="5334120"/>
            <a:ext cx="60325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Eight Power Dia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2905" t="0" r="0" b="0"/>
          <a:stretch/>
        </p:blipFill>
        <p:spPr>
          <a:xfrm>
            <a:off x="304920" y="2133720"/>
            <a:ext cx="4343400" cy="343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13214" t="0" r="0" b="2947"/>
          <a:stretch/>
        </p:blipFill>
        <p:spPr>
          <a:xfrm>
            <a:off x="4724280" y="1981080"/>
            <a:ext cx="4191120" cy="3706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14400" y="5867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ight Bank (refer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58672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eft Bank (shifted by bank ang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rque in Vee-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459400" cy="3087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320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ertia torque is z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Observ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-stroke vee-twins are not even fir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vee angles used (mainly motorcycl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-stroke opposed twin is even fir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e-fours are used in motorcy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line four is the most produced eng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e-sixes and vee-eights are quite comm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-engines use 3 or 4 ban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-12s are in production (Bentley, VW/Aud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Vee Eng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402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rod Arrang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959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Geo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818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Geome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72428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61005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724280" cy="331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1009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72428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41807"/>
          <a:stretch/>
        </p:blipFill>
        <p:spPr>
          <a:xfrm>
            <a:off x="1219320" y="1219320"/>
            <a:ext cx="6337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e 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13730" r="0" b="0"/>
          <a:stretch/>
        </p:blipFill>
        <p:spPr>
          <a:xfrm>
            <a:off x="1447920" y="1676520"/>
            <a:ext cx="620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1:23:13Z</dcterms:created>
  <dc:creator>R. L. Norton</dc:creator>
  <dc:description/>
  <dc:language>en-US</dc:language>
  <cp:lastModifiedBy>norton</cp:lastModifiedBy>
  <dcterms:modified xsi:type="dcterms:W3CDTF">2005-12-01T16:52:14Z</dcterms:modified>
  <cp:revision>10</cp:revision>
  <dc:subject/>
  <dc:title>Vee Engines</dc:title>
</cp:coreProperties>
</file>