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4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6.png" ContentType="image/png"/>
  <Override PartName="/ppt/media/image5.png" ContentType="image/png"/>
  <Override PartName="/ppt/media/image4.wmf" ContentType="image/x-wmf"/>
  <Override PartName="/ppt/media/image26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4DB-6A54-4F26-A2F0-7C283BCD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C5B-ECC6-4E40-A3FF-0995A730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A16-7667-4207-90C8-823F1BC8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D58-3C56-4027-8963-1EB4EAF3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9A5A4-06E3-4C79-867D-BBB10825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9307D-2F18-479A-8A2C-6840552A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08556-B024-458F-8CE6-A8E2F8C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F136D-6EE6-4519-BCA4-786B24A0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706DD-563B-44E9-B7D0-8A0795D9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391FA-E799-435F-BB21-D79B4A3F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D7D31-EFBB-4DC2-A1F0-F24E4982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157-19FC-4567-973D-B3157946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B641A-3B55-40C0-9A1C-6E64DE48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3EBA6-0F18-4431-8F44-0E8A2FB6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E5C2E-9740-4209-9332-D5CBCF60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7F688-AB83-4BA1-86E9-48C03EB6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2C573-E002-4B3E-8A9D-954E7EAE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C178C-C5EF-4396-BC1E-5122ED8D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69DA-24EA-4E90-A65E-1327877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6757-B3D0-4C32-BD25-2EE14A1E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E171-4CA5-42F4-AB39-E979300B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AEDD6-9487-4149-A35F-26D16AC1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5B9-2F7B-49F2-BE22-4F30910F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E36E-1824-4A90-92C5-9F8BB72C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4290-8A6C-4FFF-AB2B-F384EA30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1201-C3BC-4796-B79D-26DE8293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48A9-6C91-4760-A144-EC995FE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152B-CDBC-4B99-A679-0251DB86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400CD-78D7-48FB-A532-70937C4B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2FE0-0015-4AE0-A974-24DE9169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79F-F4D2-4859-87D2-F95051AC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0AB-E9B6-48B9-AB97-19D2082A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2DC-8184-4E7C-8CB4-3406481A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4AD-5428-47F2-8B37-92812620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263-B635-4ABA-BAC9-1AFFE527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244-F750-4673-976B-91499B68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7061-5687-47C5-A008-E150FD976D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C17D-20D3-4D43-9B14-F516B8B2A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6082-D3E9-4768-98AC-E9009AE03F8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7667-8889-4224-AC9A-0E6DFB5ED0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5C3C-9AD5-434D-B2D7-D7901FF553B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DD30-8957-4F0B-B0C0-DD812BE12E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60480"/>
            <a:ext cx="6705720" cy="6324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3111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647640" y="457200"/>
            <a:ext cx="7848720" cy="2514600"/>
            <a:chOff x="647640" y="457200"/>
            <a:chExt cx="7848720" cy="2514600"/>
          </a:xfrm>
        </p:grpSpPr>
        <p:sp>
          <p:nvSpPr>
            <p:cNvPr id="194" name=""/>
            <p:cNvSpPr/>
            <p:nvPr/>
          </p:nvSpPr>
          <p:spPr>
            <a:xfrm>
              <a:off x="647640" y="457200"/>
              <a:ext cx="7848720" cy="2514600"/>
            </a:xfrm>
            <a:prstGeom prst="rect">
              <a:avLst/>
            </a:prstGeom>
            <a:solidFill>
              <a:srgbClr val="00051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3960" y="533520"/>
              <a:ext cx="7543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5e5ff"/>
                  </a:solidFill>
                  <a:latin typeface="Times New Roman"/>
                </a:rPr>
                <a:t>You are expected to approach this course with the WPI philosophy of education in mind, as described in the undergraduate catalog,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“...WPI educated people should be able to cope with change, to learn by themselves, to think for themselves, to analyze and deal with problems in a confident and realistic manner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47640" y="3276720"/>
            <a:ext cx="7848720" cy="3028680"/>
            <a:chOff x="647640" y="3276720"/>
            <a:chExt cx="7848720" cy="3028680"/>
          </a:xfrm>
        </p:grpSpPr>
        <p:sp>
          <p:nvSpPr>
            <p:cNvPr id="197" name=""/>
            <p:cNvSpPr/>
            <p:nvPr/>
          </p:nvSpPr>
          <p:spPr>
            <a:xfrm>
              <a:off x="647640" y="3276720"/>
              <a:ext cx="7848720" cy="3028680"/>
            </a:xfrm>
            <a:prstGeom prst="rect">
              <a:avLst/>
            </a:prstGeom>
            <a:solidFill>
              <a:srgbClr val="00051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3960" y="3276720"/>
              <a:ext cx="7543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5e5ff"/>
                  </a:solidFill>
                  <a:latin typeface="Times New Roman"/>
                </a:rPr>
                <a:t>Dynamics is a very broad and interesting subject, and a moderately difficult one.  It is not possible to cover all of its varied aspects in only seven-weeks of lectures.  Therefore, the readings, quizzes, and projects may deal with topics NOT specifically covered in class lectures.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Nevertheless, you are expected,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n the spirit of the WPI Pla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, to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xtend yourself,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learn on your own, and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ise to the challenge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of the course objectiv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yllab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32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ign of Machinery, 3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unk &amp; White, “The Elements of Style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ign Notebook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bar, Fivebar, Sixbar, Slider, Dynacam (on CD and myWPI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thcad, TKSolver, Matla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yWP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gnments, Projects, and Quizz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range yourselves in project groups of 3 to 4 by 10/2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not in a group by that date – will be assigned to 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939680"/>
            <a:ext cx="77724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ntroductory Topic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of ES2503 Dynam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ton’s La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3818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ations to Memoriz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se express Newton’s second l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Mas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s mass the same as weight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Yes             N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a mass unit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In the SI system?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In the U.S. inch-pound-second (ips) system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a weight unit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In the SI system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In the U.S. inch-pound-second (ips) system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ss is NOT weight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ss is the property of a body that causes it to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have weight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in a gravitational field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W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MEMBER that 1 lbm = 1 lbf  - so lbm is NOT a true mass unit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ss in the SI system is expressed in kilograms (kg) ONLY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ss in the ips system is expressed as (lb-sec^2/in) or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blob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(bl) ONLY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ss in the fps system is expressed as (lb-sec^2/ft) or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slug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(sl) ONLY!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o NOT use SLUGS unless your dimensions are in feet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o NOT use lbm as a mass unit unless you divide it by g in proper unit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47920" y="5791320"/>
            <a:ext cx="670536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2841480" cy="5562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its are the Bane of an Engineer’s Ex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71760" y="495360"/>
            <a:ext cx="599904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ize these Fact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ues for gravitational acceler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   9.8 m/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ps  386 in/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ps   32.2 ft/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ver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 lbf = 4.45 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 lbm = 1 lb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 kg = 2.2 l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 blob = 386 l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eight dens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e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28 lbf/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10 lbf/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irst and Second Moments of Mas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enter of gravity (or center of mass) is the point where the summation of first moments is zero.  For one dimension,                   =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-called “moment of inertia” is better called the “second moment of mass” because it sums the squares of the distances to the mass el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1524240" cy="436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657600" y="4876920"/>
            <a:ext cx="17463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55944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ment of Inert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appreciate the physical meaning of this term, consider the rotational form of Newton’s second la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says that the moment of inerti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coefficient of proportionality between torque and angular acceleration.  It is the angular analog of mass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also kinetic ener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lation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76720" y="6019920"/>
            <a:ext cx="1307880" cy="531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010280" y="5943600"/>
            <a:ext cx="12067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nsfer Theor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so called the Parallel Axis Theor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2133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dius of Gy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adius (call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at which an equivalent point mass must be placed to have the same moment of inertia as the original bod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1374840" cy="565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13748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ling Rotating Link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539040" cy="3308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048120" y="5715000"/>
            <a:ext cx="1274760" cy="480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257800" y="5715000"/>
            <a:ext cx="11048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er of Percu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point on a body, which, when struck with a force, will have associated with it another point called the center of rotation at which there will be a zero reaction for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99480" cy="560232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228600" y="5867280"/>
            <a:ext cx="2286000" cy="762120"/>
            <a:chOff x="228600" y="5867280"/>
            <a:chExt cx="2286000" cy="762120"/>
          </a:xfrm>
        </p:grpSpPr>
        <p:sp>
          <p:nvSpPr>
            <p:cNvPr id="238" name=""/>
            <p:cNvSpPr/>
            <p:nvPr/>
          </p:nvSpPr>
          <p:spPr>
            <a:xfrm>
              <a:off x="228600" y="5867280"/>
              <a:ext cx="22860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838080" y="6019920"/>
              <a:ext cx="1206720" cy="55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2819520" y="5867280"/>
            <a:ext cx="3276360" cy="762120"/>
            <a:chOff x="2819520" y="5867280"/>
            <a:chExt cx="3276360" cy="762120"/>
          </a:xfrm>
        </p:grpSpPr>
        <p:sp>
          <p:nvSpPr>
            <p:cNvPr id="241" name=""/>
            <p:cNvSpPr/>
            <p:nvPr/>
          </p:nvSpPr>
          <p:spPr>
            <a:xfrm>
              <a:off x="2819520" y="5867280"/>
              <a:ext cx="32763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95880"/>
              <a:ext cx="16794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4495680" y="6019920"/>
              <a:ext cx="1274760" cy="5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"/>
          <p:cNvGrpSpPr/>
          <p:nvPr/>
        </p:nvGrpSpPr>
        <p:grpSpPr>
          <a:xfrm>
            <a:off x="6477120" y="5867280"/>
            <a:ext cx="2514600" cy="762120"/>
            <a:chOff x="6477120" y="5867280"/>
            <a:chExt cx="2514600" cy="762120"/>
          </a:xfrm>
        </p:grpSpPr>
        <p:sp>
          <p:nvSpPr>
            <p:cNvPr id="245" name=""/>
            <p:cNvSpPr/>
            <p:nvPr/>
          </p:nvSpPr>
          <p:spPr>
            <a:xfrm>
              <a:off x="6477120" y="5867280"/>
              <a:ext cx="25146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6705720" y="5943600"/>
              <a:ext cx="113976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7848720" y="5943600"/>
              <a:ext cx="598320" cy="53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86e0"/>
                </a:solidFill>
                <a:latin typeface="Garamond"/>
              </a:rPr>
              <a:t>ME 3311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95280" y="2819160"/>
            <a:ext cx="65534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Dynamics of Machine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f. R. L. Nort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P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rse Objec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ct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ory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Robert L. Norton, W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0F613-FFF8-4746-9C7A-10542E743D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0DFE839-7923-4555-8DC6-738FFA0190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5972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021040" y="228600"/>
            <a:ext cx="5162400" cy="6122160"/>
            <a:chOff x="2021040" y="228600"/>
            <a:chExt cx="5162400" cy="61221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280120" y="1503360"/>
              <a:ext cx="190332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021040" y="22860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12480" y="228600"/>
              <a:ext cx="1361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ESIG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86960" y="228600"/>
              <a:ext cx="556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55760" y="228600"/>
              <a:ext cx="2027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</a:rPr>
                <a:t>KINETICS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38960" y="22860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77040" y="22860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56360" y="1015920"/>
              <a:ext cx="296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55880" y="10746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54600" y="1015920"/>
              <a:ext cx="892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3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69960" y="18241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8520" y="1824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60280" y="1824120"/>
              <a:ext cx="2292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o  Design Projec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9960" y="23907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8520" y="2390760"/>
              <a:ext cx="22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9560" y="2390760"/>
              <a:ext cx="158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eekly Quizz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9960" y="29703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30680" y="2970360"/>
              <a:ext cx="2318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lenty of Homewor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69960" y="35370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2120" y="3537000"/>
              <a:ext cx="234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Three Lab Exercis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11040" y="4114800"/>
              <a:ext cx="389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So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7720" y="4413240"/>
              <a:ext cx="2935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iss the boy or girl friend bye-bye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8800" y="4622760"/>
              <a:ext cx="268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nd back the party invitation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22760" y="4842000"/>
              <a:ext cx="21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ock up on the No-Doze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23480" y="5060880"/>
              <a:ext cx="185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re up  the Comp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0720" y="5060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26000" y="5270400"/>
              <a:ext cx="119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gage Brai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69600" y="5699160"/>
              <a:ext cx="31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26360" y="6137280"/>
              <a:ext cx="76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t's G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11400" y="1722600"/>
              <a:ext cx="4044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11400" y="3935520"/>
              <a:ext cx="4156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752480" y="4114800"/>
            <a:ext cx="48006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The Principal Objectives of the Course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300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develop your understanding of the fundamentals of dynamics of mach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300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 you practice in solving real-life, unstructured engineering design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300"/>
              </a:spcBef>
              <a:spcAft>
                <a:spcPts val="3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improve your ability to communicate your understanding of the subject through preparation of professional quality technical repor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What is expected of you in this course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wnload all handouts from MyWPI and check it frequentl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end all lectur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end all section meetings (where homework is collected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ad the assigned portions of the book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72040" indent="-2102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The lectures ar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a substitute for reading the book!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 all homework on time (no late homework is accepted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 all projects and submit them in the form defined in the handout ‘Project Report Specifications.’ (on myWPI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ally must start the projects when assigned - you cannot throw them together at the last minute and have a good result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 your work must be your own or your group’s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F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81080" y="3962520"/>
            <a:ext cx="5639040" cy="2286000"/>
            <a:chOff x="1981080" y="3962520"/>
            <a:chExt cx="5639040" cy="2286000"/>
          </a:xfrm>
        </p:grpSpPr>
        <p:sp>
          <p:nvSpPr>
            <p:cNvPr id="188" name=""/>
            <p:cNvSpPr/>
            <p:nvPr/>
          </p:nvSpPr>
          <p:spPr>
            <a:xfrm>
              <a:off x="1981080" y="3962520"/>
              <a:ext cx="56390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2154240" y="4115160"/>
              <a:ext cx="5291280" cy="19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914400" y="23623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not be allowed in this cour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64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ute Force and Igno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31384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insist, then this career awaits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ton</cp:lastModifiedBy>
  <dcterms:modified xsi:type="dcterms:W3CDTF">2005-10-25T15:24:51Z</dcterms:modified>
  <cp:revision>46</cp:revision>
  <dc:subject/>
  <dc:title>PowerPoint Presentation</dc:title>
</cp:coreProperties>
</file>