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10.wmf" ContentType="image/x-wmf"/>
  <Override PartName="/ppt/media/image25.jpeg" ContentType="image/jpeg"/>
  <Override PartName="/ppt/media/image32.png" ContentType="image/png"/>
  <Override PartName="/ppt/media/image1.jpeg" ContentType="image/jpeg"/>
  <Override PartName="/ppt/media/image17.wmf" ContentType="image/x-wmf"/>
  <Override PartName="/ppt/media/image31.png" ContentType="image/png"/>
  <Override PartName="/ppt/media/image13.jpeg" ContentType="image/jpeg"/>
  <Override PartName="/ppt/media/image33.png" ContentType="image/png"/>
  <Override PartName="/ppt/media/image34.png" ContentType="image/png"/>
  <Override PartName="/ppt/media/image12.jpeg" ContentType="image/jpeg"/>
  <Override PartName="/ppt/media/image4.jpeg" ContentType="image/jpeg"/>
  <Override PartName="/ppt/media/image8.wmf" ContentType="image/x-wmf"/>
  <Override PartName="/ppt/media/image35.png" ContentType="image/png"/>
  <Override PartName="/ppt/media/image5.jpeg" ContentType="image/jpeg"/>
  <Override PartName="/ppt/media/image26.jpeg" ContentType="image/jpeg"/>
  <Override PartName="/ppt/media/image2.jpeg" ContentType="image/jpeg"/>
  <Override PartName="/ppt/media/image18.wmf" ContentType="image/x-wmf"/>
  <Override PartName="/ppt/media/image36.png" ContentType="image/png"/>
  <Override PartName="/ppt/media/image38.png" ContentType="image/png"/>
  <Override PartName="/ppt/media/image11.jpeg" ContentType="image/jpeg"/>
  <Override PartName="/ppt/media/image7.png" ContentType="image/png"/>
  <Override PartName="/ppt/media/image37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6.jpeg" ContentType="image/jpeg"/>
  <Override PartName="/ppt/media/image2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A51-0AF2-4CAE-982A-122BEA08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08AE-CB4B-4661-81D0-85A72EF8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EB8E-2180-4881-B91E-414EAE02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C48-274C-418A-84BA-21B1DB81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05717-9FBD-4CF9-870E-34020BBA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B48D3-5C96-418B-A516-CC958E57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2C830-E227-403D-B340-2804166D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D73F6-8E3E-4A4D-AEA0-5A175A0E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6E213-D9EF-4272-A845-178ACAD9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FE7C2-058C-45D5-8D09-0BB0EBD1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2DA01-E70D-4BE9-BDC8-924CC697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0F30-A6CB-4EE1-9476-97D0DA34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C5680-DD60-46D3-AD25-B98178F3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1C13B-7CC4-4217-AF11-5D92F311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A299A-7A90-4F8D-847F-3AA03B99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4AFD3-4F16-4C09-A10D-E383CB3D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90549-13ED-4C02-89D3-8414FD93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EA6C7-FD09-481F-B57F-EACF0112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C8794-3E42-4AA7-B1E2-D40D3A10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35BC2-ADC1-4122-B4FD-4858667E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73C72-8212-4741-8F87-D3B16197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D40E7-0D90-4E0E-9738-661A457A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B35E-C818-4010-90CA-94660A82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28398-5ACB-4B1E-8670-00E7EDE1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5B857-B429-4A36-8D2F-B02E6180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694CA-4355-4BE2-8DB1-EF5441BE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A2499-C2CD-4F34-8C13-449F0519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093DF-D86E-48F2-B815-DECAC4FD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CF3C1-BBD6-4F9A-A864-BEECCF4E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C3550-495F-4ABB-85F6-A798A9A2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0504-87FD-46A7-878C-B7E19E67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602A-D243-4424-A4BC-5E673FB4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D75A-7B69-4D31-9DFC-DB05FE6F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020-8B55-4B9E-9AFC-FBA597B9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3C3C-F47E-49D7-927D-4B763CC0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678D-3A57-44BB-82AA-FBC09108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1245-DA47-4337-81BD-42D5B7BE4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1D2E-19BD-4679-821F-6C4DC4871C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1D00-D664-4832-BE82-3A0FB80958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939680"/>
            <a:ext cx="777240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Gear Design I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20 Lecture 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. L. Nor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22120" y="1335240"/>
            <a:ext cx="8793360" cy="482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ur g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AGMA specif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351080" y="2394000"/>
            <a:ext cx="2128680" cy="3165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095720" y="2373480"/>
            <a:ext cx="2097000" cy="3173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6656400" y="2400480"/>
            <a:ext cx="2127240" cy="3127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187280" y="1506600"/>
            <a:ext cx="69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Standard full-depth gears (pinion and gear) have equal addendum and larger dedendum for clea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06760" y="2777400"/>
            <a:ext cx="3206160" cy="407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83" y="5171"/>
                </a:moveTo>
                <a:arcTo wR="10800" hR="10800" stAng="-8915335" swAng="2493357"/>
                <a:lnTo>
                  <a:pt x="10800" y="10800"/>
                </a:lnTo>
                <a:close/>
              </a:path>
              <a:path fill="none" w="21600" h="21600">
                <a:moveTo>
                  <a:pt x="1583" y="5171"/>
                </a:moveTo>
                <a:arcTo wR="10800" hR="10800" stAng="-8915335" swAng="2493357"/>
              </a:path>
            </a:pathLst>
          </a:cu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0600" y="3501360"/>
            <a:ext cx="3206160" cy="620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887" y="3450"/>
                </a:moveTo>
                <a:arcTo wR="10800" hR="10800" stAng="-8226592" swAng="1804614"/>
                <a:lnTo>
                  <a:pt x="10800" y="10800"/>
                </a:lnTo>
                <a:close/>
              </a:path>
              <a:path fill="none" w="21600" h="21600">
                <a:moveTo>
                  <a:pt x="2887" y="3450"/>
                </a:moveTo>
                <a:arcTo wR="10800" hR="10800" stAng="-8226592" swAng="1804614"/>
              </a:path>
            </a:pathLst>
          </a:cu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3560" y="4228920"/>
            <a:ext cx="3206160" cy="80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292" y="3036"/>
                </a:moveTo>
                <a:arcTo wR="10800" hR="10800" stAng="-8042423" swAng="1620446"/>
                <a:lnTo>
                  <a:pt x="10800" y="10800"/>
                </a:lnTo>
                <a:close/>
              </a:path>
              <a:path fill="none" w="21600" h="21600">
                <a:moveTo>
                  <a:pt x="3292" y="3036"/>
                </a:moveTo>
                <a:arcTo wR="10800" hR="10800" stAng="-8042423" swAng="1620446"/>
              </a:path>
            </a:pathLst>
          </a:cu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95560" y="2838600"/>
            <a:ext cx="80640" cy="73152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76200" y="3570120"/>
            <a:ext cx="90720" cy="704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65120" y="4286160"/>
            <a:ext cx="50760" cy="43668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306216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Comic Sans MS"/>
              </a:rPr>
              <a:t>Addend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7680" y="3884760"/>
            <a:ext cx="10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Comic Sans MS"/>
              </a:rPr>
              <a:t>Dedend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185280" y="2890800"/>
            <a:ext cx="1317600" cy="1400040"/>
            <a:chOff x="3185280" y="2890800"/>
            <a:chExt cx="1317600" cy="1400040"/>
          </a:xfrm>
        </p:grpSpPr>
        <p:sp>
          <p:nvSpPr>
            <p:cNvPr id="235" name=""/>
            <p:cNvSpPr/>
            <p:nvPr/>
          </p:nvSpPr>
          <p:spPr>
            <a:xfrm>
              <a:off x="3185280" y="2890800"/>
              <a:ext cx="1317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Comic Sans MS"/>
                </a:rPr>
                <a:t>Note radius 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Comic Sans MS"/>
                </a:rPr>
                <a:t>the tooth 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59040" y="3429000"/>
              <a:ext cx="619200" cy="861840"/>
            </a:xfrm>
            <a:custGeom>
              <a:avLst/>
              <a:gdLst/>
              <a:ahLst/>
              <a:rect l="l" t="t" r="r" b="b"/>
              <a:pathLst>
                <a:path w="307" h="518">
                  <a:moveTo>
                    <a:pt x="0" y="0"/>
                  </a:moveTo>
                  <a:cubicBezTo>
                    <a:pt x="25" y="100"/>
                    <a:pt x="51" y="201"/>
                    <a:pt x="77" y="230"/>
                  </a:cubicBezTo>
                  <a:cubicBezTo>
                    <a:pt x="103" y="259"/>
                    <a:pt x="116" y="125"/>
                    <a:pt x="154" y="173"/>
                  </a:cubicBezTo>
                  <a:cubicBezTo>
                    <a:pt x="192" y="221"/>
                    <a:pt x="278" y="461"/>
                    <a:pt x="307" y="51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31920" y="1376280"/>
            <a:ext cx="8470800" cy="481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ur g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Contact geometry: involute (cycloidal) gear-tee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28760" y="1569960"/>
            <a:ext cx="8148600" cy="4336200"/>
            <a:chOff x="428760" y="1569960"/>
            <a:chExt cx="8148600" cy="4336200"/>
          </a:xfrm>
        </p:grpSpPr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428760" y="1569960"/>
              <a:ext cx="8148600" cy="433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729360" y="5568840"/>
              <a:ext cx="119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Comic Sans MS"/>
                </a:rPr>
                <a:t>Figure 11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41200" y="2049480"/>
            <a:ext cx="6612120" cy="3174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Interference and Undercutting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2423" t="3574" r="1155" b="0"/>
          <a:stretch/>
        </p:blipFill>
        <p:spPr>
          <a:xfrm>
            <a:off x="298440" y="2125800"/>
            <a:ext cx="6510240" cy="295596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6945480" y="2039760"/>
            <a:ext cx="2058840" cy="3184560"/>
            <a:chOff x="6945480" y="2039760"/>
            <a:chExt cx="2058840" cy="3184560"/>
          </a:xfrm>
        </p:grpSpPr>
        <p:sp>
          <p:nvSpPr>
            <p:cNvPr id="246" name=""/>
            <p:cNvSpPr/>
            <p:nvPr/>
          </p:nvSpPr>
          <p:spPr>
            <a:xfrm>
              <a:off x="6945480" y="2039760"/>
              <a:ext cx="2058840" cy="318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7012080" y="2146320"/>
              <a:ext cx="1914480" cy="2827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206360" y="2019240"/>
            <a:ext cx="6612120" cy="3175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Profile-Shifted Teeth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To avoid interference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442880" y="2122560"/>
            <a:ext cx="609948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61800" y="1095480"/>
            <a:ext cx="8571240" cy="5486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ur g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Length of action: involute (cycloidal) gear-tee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5040" y="1224000"/>
            <a:ext cx="7935840" cy="337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Comic Sans MS"/>
              </a:rPr>
              <a:t>Normals at leaving contact and beginning contact points are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114560" y="2598840"/>
            <a:ext cx="7510320" cy="38671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095840" y="611028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Comic Sans MS"/>
              </a:rPr>
              <a:t>Figure 11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30360" y="1738440"/>
            <a:ext cx="7954920" cy="539640"/>
            <a:chOff x="630360" y="1738440"/>
            <a:chExt cx="7954920" cy="539640"/>
          </a:xfrm>
        </p:grpSpPr>
        <p:grpSp>
          <p:nvGrpSpPr>
            <p:cNvPr id="257" name=""/>
            <p:cNvGrpSpPr/>
            <p:nvPr/>
          </p:nvGrpSpPr>
          <p:grpSpPr>
            <a:xfrm>
              <a:off x="664920" y="1803600"/>
              <a:ext cx="7894800" cy="404640"/>
              <a:chOff x="664920" y="1803600"/>
              <a:chExt cx="7894800" cy="404640"/>
            </a:xfrm>
          </p:grpSpPr>
          <mc:AlternateContent>
            <mc:Choice xmlns:a14="http://schemas.microsoft.com/office/drawing/2010/main" Requires="a14">
              <p:sp>
                <p:nvSpPr>
                  <p:cNvPr id="258" name=""/>
                  <p:cNvSpPr txBox="1"/>
                  <p:nvPr/>
                </p:nvSpPr>
                <p:spPr>
                  <a:xfrm>
                    <a:off x="2602080" y="1803600"/>
                    <a:ext cx="5957640" cy="404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9" name=""/>
              <p:cNvSpPr/>
              <p:nvPr/>
            </p:nvSpPr>
            <p:spPr>
              <a:xfrm>
                <a:off x="664920" y="1837080"/>
                <a:ext cx="169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99"/>
                    </a:solidFill>
                    <a:uFillTx/>
                    <a:latin typeface="Comic Sans MS"/>
                  </a:rPr>
                  <a:t>Length of action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630360" y="1738440"/>
              <a:ext cx="7954920" cy="539640"/>
            </a:xfrm>
            <a:prstGeom prst="rect">
              <a:avLst/>
            </a:prstGeom>
            <a:noFill/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30360" y="3233880"/>
            <a:ext cx="2539800" cy="1082160"/>
            <a:chOff x="630360" y="3233880"/>
            <a:chExt cx="2539800" cy="1082160"/>
          </a:xfrm>
        </p:grpSpPr>
        <p:grpSp>
          <p:nvGrpSpPr>
            <p:cNvPr id="262" name=""/>
            <p:cNvGrpSpPr/>
            <p:nvPr/>
          </p:nvGrpSpPr>
          <p:grpSpPr>
            <a:xfrm>
              <a:off x="707040" y="3233880"/>
              <a:ext cx="2439000" cy="541080"/>
              <a:chOff x="707040" y="3233880"/>
              <a:chExt cx="2439000" cy="541080"/>
            </a:xfrm>
          </p:grpSpPr>
          <mc:AlternateContent>
            <mc:Choice xmlns:a14="http://schemas.microsoft.com/office/drawing/2010/main" Requires="a14">
              <p:sp>
                <p:nvSpPr>
                  <p:cNvPr id="263" name=""/>
                  <p:cNvSpPr txBox="1"/>
                  <p:nvPr/>
                </p:nvSpPr>
                <p:spPr>
                  <a:xfrm>
                    <a:off x="2279520" y="3233880"/>
                    <a:ext cx="866520" cy="54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4" name=""/>
              <p:cNvSpPr/>
              <p:nvPr/>
            </p:nvSpPr>
            <p:spPr>
              <a:xfrm>
                <a:off x="707040" y="333504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99"/>
                    </a:solidFill>
                    <a:uFillTx/>
                    <a:latin typeface="Comic Sans MS"/>
                  </a:rPr>
                  <a:t>Contact ratio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630360" y="3249360"/>
              <a:ext cx="2539800" cy="1066680"/>
            </a:xfrm>
            <a:prstGeom prst="rect">
              <a:avLst/>
            </a:prstGeom>
            <a:noFill/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014120" y="3778200"/>
              <a:ext cx="1756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99"/>
                  </a:solidFill>
                  <a:latin typeface="Comic Sans MS"/>
                </a:rPr>
                <a:t>(Number of teeth 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99"/>
                  </a:solidFill>
                  <a:latin typeface="Comic Sans MS"/>
                </a:rPr>
                <a:t>contact at one tim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53920" y="1085760"/>
            <a:ext cx="7355160" cy="552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ur g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Center distance: affects pressure angle and pitch diame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201680" y="1457280"/>
            <a:ext cx="6621480" cy="48927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974880" y="1106640"/>
            <a:ext cx="69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Changing center distance affects pressure angle and pitch dia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004760" y="1074600"/>
            <a:ext cx="7296120" cy="5426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ur g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AGMA specif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290600" y="1592280"/>
            <a:ext cx="4751280" cy="4265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203880" y="1206360"/>
            <a:ext cx="175284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ars: main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01480" y="1044720"/>
            <a:ext cx="8271000" cy="5456160"/>
            <a:chOff x="501480" y="1044720"/>
            <a:chExt cx="8271000" cy="5456160"/>
          </a:xfrm>
        </p:grpSpPr>
        <p:sp>
          <p:nvSpPr>
            <p:cNvPr id="277" name=""/>
            <p:cNvSpPr/>
            <p:nvPr/>
          </p:nvSpPr>
          <p:spPr>
            <a:xfrm>
              <a:off x="501480" y="1044720"/>
              <a:ext cx="8271000" cy="54561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8" name="" descr=""/>
            <p:cNvPicPr/>
            <p:nvPr/>
          </p:nvPicPr>
          <p:blipFill>
            <a:blip r:embed="rId1"/>
            <a:stretch/>
          </p:blipFill>
          <p:spPr>
            <a:xfrm>
              <a:off x="666720" y="1389240"/>
              <a:ext cx="2700360" cy="18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2"/>
            <a:stretch/>
          </p:blipFill>
          <p:spPr>
            <a:xfrm>
              <a:off x="3700440" y="1585800"/>
              <a:ext cx="2403360" cy="16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3"/>
            <a:stretch/>
          </p:blipFill>
          <p:spPr>
            <a:xfrm>
              <a:off x="6232680" y="1585800"/>
              <a:ext cx="2403360" cy="16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4"/>
            <a:stretch/>
          </p:blipFill>
          <p:spPr>
            <a:xfrm>
              <a:off x="668160" y="4162320"/>
              <a:ext cx="213048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5"/>
            <a:stretch/>
          </p:blipFill>
          <p:spPr>
            <a:xfrm>
              <a:off x="3005280" y="4162320"/>
              <a:ext cx="1984320" cy="182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6"/>
            <a:stretch/>
          </p:blipFill>
          <p:spPr>
            <a:xfrm>
              <a:off x="5616720" y="3716280"/>
              <a:ext cx="2458800" cy="26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6840" y="107172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Comic Sans MS"/>
                </a:rPr>
                <a:t>Spu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61080" y="1270080"/>
              <a:ext cx="7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Comic Sans MS"/>
                </a:rPr>
                <a:t>Hel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96120" y="3832200"/>
              <a:ext cx="147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Comic Sans MS"/>
                </a:rPr>
                <a:t>Straight beve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60600" y="3832200"/>
              <a:ext cx="127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Comic Sans MS"/>
                </a:rPr>
                <a:t>Spiral beve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51560" y="3384720"/>
              <a:ext cx="25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Comic Sans MS"/>
                </a:rPr>
                <a:t>Worm and worm gear p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Spur Gears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755520" y="1868040"/>
            <a:ext cx="5164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eeth are parallel to axi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Least expensive typ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oisier than other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igh efficiency (99% / set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an be disengage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acklash can be a proble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1981080"/>
            <a:ext cx="2819520" cy="3353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2370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1640" y="380520"/>
            <a:ext cx="3886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Helical Gears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352400" y="1855800"/>
            <a:ext cx="434340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eeth not parallel to axi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ore expensive than spur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Quieter than other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xial force component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arallel or crossed axe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tronger tooth sectio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Harder to disengag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5" name=""/>
          <p:cNvSpPr/>
          <p:nvPr/>
        </p:nvSpPr>
        <p:spPr>
          <a:xfrm>
            <a:off x="152280" y="228600"/>
            <a:ext cx="4010040" cy="653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rcRect l="0" t="2593" r="0" b="4207"/>
          <a:stretch/>
        </p:blipFill>
        <p:spPr>
          <a:xfrm>
            <a:off x="2133720" y="380880"/>
            <a:ext cx="1697040" cy="30178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2057400" y="3241800"/>
            <a:ext cx="1795320" cy="30906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28600" y="1447920"/>
            <a:ext cx="1882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llel a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 = 96 - 98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4038480"/>
            <a:ext cx="1963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ed a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 = 50 - 90%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0680" y="1760400"/>
            <a:ext cx="8721720" cy="4129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ar T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Fundamental law of gea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35080" y="2379600"/>
            <a:ext cx="1819080" cy="3149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25760" y="2913120"/>
            <a:ext cx="2147760" cy="2595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77600" y="2344680"/>
            <a:ext cx="207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Comic Sans MS"/>
              </a:rPr>
              <a:t>External and in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Comic Sans MS"/>
              </a:rPr>
              <a:t>gear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506920" y="2576520"/>
                <a:ext cx="2173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519440" y="1886040"/>
            <a:ext cx="44118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99"/>
                </a:solidFill>
                <a:latin typeface="Comic Sans MS"/>
              </a:rPr>
              <a:t>Angular velocity ratio</a:t>
            </a:r>
            <a:r>
              <a:rPr b="0" i="1" lang="en-US" sz="1700" spc="-1" strike="noStrike">
                <a:solidFill>
                  <a:srgbClr val="000099"/>
                </a:solidFill>
                <a:latin typeface="Comic Sans MS"/>
              </a:rPr>
              <a:t> between the gears of a gear set must remain constant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907320" y="3195720"/>
            <a:ext cx="1884240" cy="882360"/>
            <a:chOff x="6907320" y="3195720"/>
            <a:chExt cx="1884240" cy="882360"/>
          </a:xfrm>
        </p:grpSpPr>
        <p:sp>
          <p:nvSpPr>
            <p:cNvPr id="151" name=""/>
            <p:cNvSpPr/>
            <p:nvPr/>
          </p:nvSpPr>
          <p:spPr>
            <a:xfrm>
              <a:off x="6907320" y="3557880"/>
              <a:ext cx="188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99"/>
                  </a:solidFill>
                  <a:latin typeface="Comic Sans MS"/>
                </a:rPr>
                <a:t>Use negative sign for external s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126200" y="3195720"/>
              <a:ext cx="274320" cy="385920"/>
            </a:xfrm>
            <a:custGeom>
              <a:avLst/>
              <a:gdLst/>
              <a:ahLst/>
              <a:rect l="l" t="t" r="r" b="b"/>
              <a:pathLst>
                <a:path w="173" h="243">
                  <a:moveTo>
                    <a:pt x="173" y="243"/>
                  </a:moveTo>
                  <a:cubicBezTo>
                    <a:pt x="156" y="179"/>
                    <a:pt x="140" y="115"/>
                    <a:pt x="122" y="102"/>
                  </a:cubicBezTo>
                  <a:cubicBezTo>
                    <a:pt x="104" y="89"/>
                    <a:pt x="84" y="183"/>
                    <a:pt x="64" y="166"/>
                  </a:cubicBezTo>
                  <a:cubicBezTo>
                    <a:pt x="44" y="149"/>
                    <a:pt x="22" y="74"/>
                    <a:pt x="0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676760" y="4235400"/>
            <a:ext cx="42879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99"/>
                </a:solidFill>
                <a:latin typeface="Comic Sans MS"/>
              </a:rPr>
              <a:t>Torque ratio </a:t>
            </a:r>
            <a:r>
              <a:rPr b="0" i="1" lang="en-US" sz="1700" spc="-1" strike="noStrike">
                <a:solidFill>
                  <a:srgbClr val="000099"/>
                </a:solidFill>
                <a:latin typeface="Comic Sans MS"/>
              </a:rPr>
              <a:t>or </a:t>
            </a:r>
            <a:r>
              <a:rPr b="1" i="1" lang="en-US" sz="1700" spc="-1" strike="noStrike">
                <a:solidFill>
                  <a:srgbClr val="000099"/>
                </a:solidFill>
                <a:latin typeface="Comic Sans MS"/>
              </a:rPr>
              <a:t>mechanical advantage </a:t>
            </a:r>
            <a:r>
              <a:rPr b="0" i="1" lang="en-US" sz="1700" spc="-1" strike="noStrike">
                <a:solidFill>
                  <a:srgbClr val="000099"/>
                </a:solidFill>
                <a:latin typeface="Comic Sans MS"/>
              </a:rPr>
              <a:t>is reciprocal to the velocity ratio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289480" y="5025960"/>
                <a:ext cx="28735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447920" y="1295280"/>
            <a:ext cx="6248160" cy="2590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Herringbone Gears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30120" y="4174920"/>
            <a:ext cx="6978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wo opposite-hand helicals back to back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ancels axial force component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s quiet as helical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Very expensive to mak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7909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Worm and Wheel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768760" y="1514520"/>
            <a:ext cx="5790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orm has single tooth or “thread”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Ratio = no. of teeth on whe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orm is “helical” with big helix angle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eeth are not involute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ade and installed as matched pair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on-intersecting orthogonal axe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ingle or double enveloping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Very expensive to make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an design them to prevent “backdriving”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oor efficiency (40 - 85%)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igh ratios obtainable in single stage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igh torque capacity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1828800"/>
            <a:ext cx="2209680" cy="3657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19051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57200" y="1066680"/>
            <a:ext cx="8534520" cy="241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Rack and Pinion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6720" y="379728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Rotary to linear motio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an be spur, helical, or herringbon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volute becomes a straight line – trapezoidal teeth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sed in “rack and pinion” steering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sed as a cutter to make circular gear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09480" y="1233360"/>
            <a:ext cx="3581640" cy="21956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421956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Bevel Gears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41280" y="1658880"/>
            <a:ext cx="4953240" cy="37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ased on rolling cone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ne apices must intersect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o, axes intersect also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an turn any corner angl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Low power capacity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eeth are not involute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traight bevels are “spur”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piral bevels are “helical”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1295280"/>
            <a:ext cx="3429000" cy="4648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19810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ght B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676520" y="1504800"/>
            <a:ext cx="1895400" cy="17719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1676520" y="3657600"/>
            <a:ext cx="1885680" cy="20574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80880" y="426708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ral B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52280" y="1523880"/>
            <a:ext cx="5823000" cy="3810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Hypoid Gears</a:t>
            </a:r>
            <a:endParaRPr b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19280" y="1981080"/>
            <a:ext cx="2971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Based on roll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yperboloid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on-intersecting axe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on-involute teeth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igh torque capacity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Used in automotiv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ifferential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04920" y="1657440"/>
            <a:ext cx="55386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05040" y="1376280"/>
            <a:ext cx="7426080" cy="5075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ar T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Simple gear trai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11200" y="1577880"/>
            <a:ext cx="1346400" cy="4724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786120" y="1855800"/>
                <a:ext cx="32115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9" name=""/>
          <p:cNvGrpSpPr/>
          <p:nvPr/>
        </p:nvGrpSpPr>
        <p:grpSpPr>
          <a:xfrm>
            <a:off x="6473880" y="2587680"/>
            <a:ext cx="1884240" cy="669240"/>
            <a:chOff x="6473880" y="2587680"/>
            <a:chExt cx="1884240" cy="669240"/>
          </a:xfrm>
        </p:grpSpPr>
        <p:sp>
          <p:nvSpPr>
            <p:cNvPr id="160" name=""/>
            <p:cNvSpPr/>
            <p:nvPr/>
          </p:nvSpPr>
          <p:spPr>
            <a:xfrm>
              <a:off x="6473880" y="2949840"/>
              <a:ext cx="188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99"/>
                  </a:solidFill>
                  <a:latin typeface="Comic Sans MS"/>
                </a:rPr>
                <a:t>Number of tee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92760" y="2587680"/>
              <a:ext cx="274320" cy="385920"/>
            </a:xfrm>
            <a:custGeom>
              <a:avLst/>
              <a:gdLst/>
              <a:ahLst/>
              <a:rect l="l" t="t" r="r" b="b"/>
              <a:pathLst>
                <a:path w="173" h="243">
                  <a:moveTo>
                    <a:pt x="173" y="243"/>
                  </a:moveTo>
                  <a:cubicBezTo>
                    <a:pt x="156" y="179"/>
                    <a:pt x="140" y="115"/>
                    <a:pt x="122" y="102"/>
                  </a:cubicBezTo>
                  <a:cubicBezTo>
                    <a:pt x="104" y="89"/>
                    <a:pt x="84" y="183"/>
                    <a:pt x="64" y="166"/>
                  </a:cubicBezTo>
                  <a:cubicBezTo>
                    <a:pt x="44" y="149"/>
                    <a:pt x="22" y="74"/>
                    <a:pt x="0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372920" y="343548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99"/>
                </a:solidFill>
                <a:uFillTx/>
                <a:latin typeface="Comic Sans MS"/>
              </a:rPr>
              <a:t>Train velocity rat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959200" y="3882960"/>
                <a:ext cx="51912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14240" y="1496880"/>
            <a:ext cx="7867800" cy="496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80880"/>
            <a:ext cx="91440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ear Tr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Compound gear trai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92080" y="2776680"/>
            <a:ext cx="7340760" cy="3485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436200" y="153504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99"/>
                </a:solidFill>
                <a:uFillTx/>
                <a:latin typeface="Comic Sans MS"/>
              </a:rPr>
              <a:t>Train velocity rat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349800" y="1982880"/>
                <a:ext cx="25351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3160" y="1547640"/>
            <a:ext cx="8797680" cy="347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ar T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Planetary gear trai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39760" y="1693800"/>
            <a:ext cx="86565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ar T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Planetary gear trains: 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Comic Sans MS"/>
              </a:rPr>
              <a:t>review Example 11-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04880" y="963720"/>
            <a:ext cx="7726320" cy="5757840"/>
            <a:chOff x="704880" y="963720"/>
            <a:chExt cx="7726320" cy="5757840"/>
          </a:xfrm>
        </p:grpSpPr>
        <p:sp>
          <p:nvSpPr>
            <p:cNvPr id="174" name=""/>
            <p:cNvSpPr/>
            <p:nvPr/>
          </p:nvSpPr>
          <p:spPr>
            <a:xfrm>
              <a:off x="704880" y="963720"/>
              <a:ext cx="7726320" cy="5757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1579680" y="2955960"/>
              <a:ext cx="6511680" cy="3724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"/>
            <p:cNvGrpSpPr/>
            <p:nvPr/>
          </p:nvGrpSpPr>
          <p:grpSpPr>
            <a:xfrm>
              <a:off x="1054080" y="2495880"/>
              <a:ext cx="2143080" cy="663480"/>
              <a:chOff x="1054080" y="2495880"/>
              <a:chExt cx="2143080" cy="663480"/>
            </a:xfrm>
          </p:grpSpPr>
          <mc:AlternateContent>
            <mc:Choice xmlns:a14="http://schemas.microsoft.com/office/drawing/2010/main" Requires="a14">
              <p:sp>
                <p:nvSpPr>
                  <p:cNvPr id="177" name=""/>
                  <p:cNvSpPr txBox="1"/>
                  <p:nvPr/>
                </p:nvSpPr>
                <p:spPr>
                  <a:xfrm>
                    <a:off x="1054080" y="2811600"/>
                    <a:ext cx="2143080" cy="347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in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lanet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8" name=""/>
              <p:cNvSpPr/>
              <p:nvPr/>
            </p:nvSpPr>
            <p:spPr>
              <a:xfrm>
                <a:off x="1272240" y="2495880"/>
                <a:ext cx="1706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99"/>
                    </a:solidFill>
                    <a:uFillTx/>
                    <a:latin typeface="Comic Sans MS"/>
                  </a:rPr>
                  <a:t>Number of teeth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912600" y="2519640"/>
              <a:ext cx="2387880" cy="637920"/>
            </a:xfrm>
            <a:prstGeom prst="rect">
              <a:avLst/>
            </a:prstGeom>
            <a:noFill/>
            <a:ln cap="rnd" w="38160">
              <a:solidFill>
                <a:srgbClr val="00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4259160" y="963720"/>
              <a:ext cx="3465720" cy="342000"/>
              <a:chOff x="4259160" y="963720"/>
              <a:chExt cx="3465720" cy="342000"/>
            </a:xfrm>
          </p:grpSpPr>
          <mc:AlternateContent>
            <mc:Choice xmlns:a14="http://schemas.microsoft.com/office/drawing/2010/main" Requires="a14">
              <p:sp>
                <p:nvSpPr>
                  <p:cNvPr id="181" name=""/>
                  <p:cNvSpPr txBox="1"/>
                  <p:nvPr/>
                </p:nvSpPr>
                <p:spPr>
                  <a:xfrm>
                    <a:off x="5465880" y="963720"/>
                    <a:ext cx="2259000" cy="306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rs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First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arm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2" name=""/>
              <p:cNvSpPr/>
              <p:nvPr/>
            </p:nvSpPr>
            <p:spPr>
              <a:xfrm>
                <a:off x="4259160" y="968400"/>
                <a:ext cx="1082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99"/>
                    </a:solidFill>
                    <a:uFillTx/>
                    <a:latin typeface="Comic Sans MS"/>
                  </a:rPr>
                  <a:t>First gear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4320000" y="1281240"/>
              <a:ext cx="3396960" cy="342000"/>
              <a:chOff x="4320000" y="1281240"/>
              <a:chExt cx="3396960" cy="342000"/>
            </a:xfrm>
          </p:grpSpPr>
          <mc:AlternateContent>
            <mc:Choice xmlns:a14="http://schemas.microsoft.com/office/drawing/2010/main" Requires="a14">
              <p:sp>
                <p:nvSpPr>
                  <p:cNvPr id="184" name=""/>
                  <p:cNvSpPr txBox="1"/>
                  <p:nvPr/>
                </p:nvSpPr>
                <p:spPr>
                  <a:xfrm>
                    <a:off x="5516640" y="1281240"/>
                    <a:ext cx="2200320" cy="306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as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Last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arm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5" name=""/>
              <p:cNvSpPr/>
              <p:nvPr/>
            </p:nvSpPr>
            <p:spPr>
              <a:xfrm>
                <a:off x="4320000" y="1285920"/>
                <a:ext cx="106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99"/>
                    </a:solidFill>
                    <a:uFillTx/>
                    <a:latin typeface="Comic Sans MS"/>
                  </a:rPr>
                  <a:t>Last gear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2071800" y="1800360"/>
              <a:ext cx="139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Velocity ratio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8080" y="1033560"/>
              <a:ext cx="323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Velocity difference-equation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3668760" y="1716120"/>
                  <a:ext cx="2895480" cy="5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ast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rm</m:t>
                                  </m:r>
                                </m:den>
                              </m:f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irst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rm</m:t>
                                  </m:r>
                                </m:den>
                              </m:f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ast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rm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Final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rm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3693960" y="2324160"/>
                  <a:ext cx="449748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refer to previous lecture 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for simple gear train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471760" y="210960"/>
            <a:ext cx="6380280" cy="238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66400" y="696600"/>
            <a:ext cx="226044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Gear Tooth Shape</a:t>
            </a: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606760" y="289080"/>
            <a:ext cx="620244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480960" y="2805120"/>
            <a:ext cx="8390160" cy="3908520"/>
            <a:chOff x="480960" y="2805120"/>
            <a:chExt cx="8390160" cy="3908520"/>
          </a:xfrm>
        </p:grpSpPr>
        <p:sp>
          <p:nvSpPr>
            <p:cNvPr id="194" name=""/>
            <p:cNvSpPr/>
            <p:nvPr/>
          </p:nvSpPr>
          <p:spPr>
            <a:xfrm>
              <a:off x="480960" y="2805120"/>
              <a:ext cx="8390160" cy="390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2"/>
            <a:srcRect l="0" t="5447" r="0" b="0"/>
            <a:stretch/>
          </p:blipFill>
          <p:spPr>
            <a:xfrm>
              <a:off x="763560" y="2932200"/>
              <a:ext cx="1949400" cy="366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830680" y="3875040"/>
            <a:ext cx="1814400" cy="176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191200" y="3322800"/>
            <a:ext cx="3298680" cy="28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4560" y="993600"/>
            <a:ext cx="7777080" cy="563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08160" y="2732040"/>
            <a:ext cx="6807240" cy="3765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ur g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Nomencla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957400" y="1174680"/>
                <a:ext cx="8859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1395360" y="125748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Comic Sans MS"/>
              </a:rPr>
              <a:t>Circular pitc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957400" y="1760400"/>
                <a:ext cx="125424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1500120" y="1755720"/>
            <a:ext cx="13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Comic Sans MS"/>
              </a:rPr>
              <a:t>Base pitc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804000" y="1174680"/>
                <a:ext cx="792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5011200" y="1257480"/>
            <a:ext cx="16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Comic Sans MS"/>
              </a:rPr>
              <a:t>Diametral pitc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804000" y="1671480"/>
                <a:ext cx="7142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5300640" y="1755720"/>
            <a:ext cx="13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Comic Sans MS"/>
              </a:rPr>
              <a:t>Modu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39000" y="2235240"/>
            <a:ext cx="43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600" spc="-1" strike="noStrike">
                <a:solidFill>
                  <a:srgbClr val="000099"/>
                </a:solidFill>
                <a:latin typeface="Comic Sans MS"/>
              </a:rPr>
              <a:t> is pitch diameter,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600" spc="-1" strike="noStrike">
                <a:solidFill>
                  <a:srgbClr val="000099"/>
                </a:solidFill>
                <a:latin typeface="Comic Sans MS"/>
              </a:rPr>
              <a:t> is number of tee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529400" y="4676760"/>
            <a:ext cx="1141560" cy="807840"/>
            <a:chOff x="7529400" y="4676760"/>
            <a:chExt cx="1141560" cy="807840"/>
          </a:xfrm>
        </p:grpSpPr>
        <p:sp>
          <p:nvSpPr>
            <p:cNvPr id="211" name=""/>
            <p:cNvSpPr/>
            <p:nvPr/>
          </p:nvSpPr>
          <p:spPr>
            <a:xfrm>
              <a:off x="7629480" y="4676760"/>
              <a:ext cx="10414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 u="sng">
                  <a:solidFill>
                    <a:srgbClr val="000099"/>
                  </a:solidFill>
                  <a:uFillTx/>
                  <a:latin typeface="Comic Sans MS"/>
                </a:rPr>
                <a:t>Defines diametral pit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29400" y="5119560"/>
              <a:ext cx="223920" cy="365040"/>
            </a:xfrm>
            <a:custGeom>
              <a:avLst/>
              <a:gdLst/>
              <a:ahLst/>
              <a:rect l="l" t="t" r="r" b="b"/>
              <a:pathLst>
                <a:path w="141" h="230">
                  <a:moveTo>
                    <a:pt x="141" y="0"/>
                  </a:moveTo>
                  <a:cubicBezTo>
                    <a:pt x="95" y="38"/>
                    <a:pt x="50" y="76"/>
                    <a:pt x="45" y="96"/>
                  </a:cubicBezTo>
                  <a:cubicBezTo>
                    <a:pt x="40" y="116"/>
                    <a:pt x="116" y="100"/>
                    <a:pt x="109" y="122"/>
                  </a:cubicBezTo>
                  <a:cubicBezTo>
                    <a:pt x="102" y="144"/>
                    <a:pt x="17" y="212"/>
                    <a:pt x="0" y="23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694480" y="2668680"/>
            <a:ext cx="1137960" cy="304560"/>
          </a:xfrm>
          <a:prstGeom prst="rect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16440" y="6254640"/>
            <a:ext cx="965520" cy="304920"/>
          </a:xfrm>
          <a:prstGeom prst="rect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81160" y="1176480"/>
            <a:ext cx="6624720" cy="141264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78680" y="5513400"/>
            <a:ext cx="965160" cy="304920"/>
          </a:xfrm>
          <a:prstGeom prst="rect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31720" y="1467000"/>
            <a:ext cx="8199360" cy="483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ur g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AGMA specif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0" t="3383" r="0" b="0"/>
          <a:stretch/>
        </p:blipFill>
        <p:spPr>
          <a:xfrm>
            <a:off x="696960" y="1670040"/>
            <a:ext cx="780552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2:00:34Z</dcterms:created>
  <dc:creator>Cosme Furlong</dc:creator>
  <dc:description>Second lecture on gears: spurs</dc:description>
  <dc:language>en-US</dc:language>
  <cp:lastModifiedBy>R. L. Norton</cp:lastModifiedBy>
  <cp:lastPrinted>2003-02-10T14:43:48Z</cp:lastPrinted>
  <dcterms:modified xsi:type="dcterms:W3CDTF">2006-01-05T21:00:18Z</dcterms:modified>
  <cp:revision>607</cp:revision>
  <dc:subject/>
  <dc:title>Lect23-24-2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wpi.edu/~cfurlong/es-2501.html</vt:lpwstr>
  </property>
  <property fmtid="{D5CDD505-2E9C-101B-9397-08002B2CF9AE}" pid="9" name="LinkColor">
    <vt:r8>16711782</vt:r8>
  </property>
  <property fmtid="{D5CDD505-2E9C-101B-9397-08002B2CF9AE}" pid="10" name="MailAddress">
    <vt:lpwstr>cfurlong@wpi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