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5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33.wmf" ContentType="image/x-wmf"/>
  <Override PartName="/ppt/media/image50.png" ContentType="image/png"/>
  <Override PartName="/ppt/media/image45.wmf" ContentType="image/x-wmf"/>
  <Override PartName="/ppt/media/image34.wmf" ContentType="image/x-wmf"/>
  <Override PartName="/ppt/media/image46.wmf" ContentType="image/x-wmf"/>
  <Override PartName="/ppt/media/image38.wmf" ContentType="image/x-wmf"/>
  <Override PartName="/ppt/media/image7.png" ContentType="image/png"/>
  <Override PartName="/ppt/media/image40.wmf" ContentType="image/x-wmf"/>
  <Override PartName="/ppt/media/image53.wmf" ContentType="image/x-wmf"/>
  <Override PartName="/ppt/media/image16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14.png" ContentType="image/png"/>
  <Override PartName="/ppt/media/image54.wmf" ContentType="image/x-wmf"/>
  <Override PartName="/ppt/media/image49.png" ContentType="image/png"/>
  <Override PartName="/ppt/media/image12.png" ContentType="image/png"/>
  <Override PartName="/ppt/media/image5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2EB-42F0-43C4-B70D-D03D6C5D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61B-ADD6-49F0-AFE7-32B42EA9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FAB-7C34-45EB-8CF2-E89DD385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054-1D75-4752-BB49-B85709EB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BF2D3-7285-41E4-8E17-A77A9287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7E7C5-D0B4-412B-A9AD-6E4665B1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42ABC-9E34-48D5-A309-7EFE9BDB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AE595-7E65-4C73-B594-57AC9BBD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7F7B3-7B1C-49F7-8F80-8E4896E8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D9091-AA12-476A-9C9E-79D44C2A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AB336-9C7B-4AF4-B5D0-30D0BA83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9D7-2306-42C5-BB38-30B27113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7ED31-3515-4E26-8F51-E148EE2F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D8A91-440F-4330-AECD-20FC2D3E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91ED5-799E-46B2-BBEE-F9ABBBFE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EBB13-5321-4EC9-940D-EB54CC98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FCEE0-6082-4AE5-AC30-2879B5AE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8ECD6-58B7-465F-AF09-83F96EED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1EE71-44F7-4D34-B0BD-19166ADE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5DC5-987A-4497-BAAD-7846B541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D3D99-C129-44BF-A2D2-01DFCF22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67D8-61E8-49B1-A49E-72060DF4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1A0-0469-488C-90FA-522D147E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D802-DF6B-4316-95D4-B3EB46A5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B6B6-2C11-4472-9184-8BDAA7BF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D5D0-6011-425E-BEDA-7092C7D4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7812-309F-45C5-B505-29EDFBBF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6DA86-1E5E-46CF-A079-B7B5C1E2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3BB2-52AE-4DAB-B994-8BEF3A07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C6CD-AB12-4263-96C3-73FAB61E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18B-CF51-4107-9430-56C76077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83C-F784-4D67-B66C-51D7CAA0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9AE-2366-4470-B243-D67D6864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02B-2B73-4A94-B114-2C470870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CA6-A678-45F3-8099-8918FB45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736-356C-4294-A56E-A705FFCF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D9A8-FD26-42BA-9704-B88EDB2D7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07360" y="711504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29C3-5947-4310-BF66-857AF26FE6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407360" y="711504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9AF0-E36A-4C71-BD54-85FAF11C4A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407360" y="7115040"/>
            <a:ext cx="1255680" cy="615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lure Specimen B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iler Hi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28800" y="1317600"/>
            <a:ext cx="5794200" cy="535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: brittl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Modified-Mohr theory: </a:t>
            </a:r>
            <a:r>
              <a:rPr b="0" i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are only two quadrants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57440" y="1392120"/>
            <a:ext cx="2058840" cy="511200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4150800" y="1838160"/>
            <a:ext cx="2812320" cy="574920"/>
            <a:chOff x="4150800" y="1838160"/>
            <a:chExt cx="2812320" cy="574920"/>
          </a:xfrm>
        </p:grpSpPr>
        <p:sp>
          <p:nvSpPr>
            <p:cNvPr id="213" name=""/>
            <p:cNvSpPr/>
            <p:nvPr/>
          </p:nvSpPr>
          <p:spPr>
            <a:xfrm>
              <a:off x="5167080" y="1838160"/>
              <a:ext cx="179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(+,+) quadr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150440" y="2028600"/>
              <a:ext cx="965160" cy="38448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31800" y="3755880"/>
            <a:ext cx="2748600" cy="473400"/>
            <a:chOff x="4231800" y="3755880"/>
            <a:chExt cx="2748600" cy="473400"/>
          </a:xfrm>
        </p:grpSpPr>
        <p:sp>
          <p:nvSpPr>
            <p:cNvPr id="216" name=""/>
            <p:cNvSpPr/>
            <p:nvPr/>
          </p:nvSpPr>
          <p:spPr>
            <a:xfrm>
              <a:off x="5248080" y="3830400"/>
              <a:ext cx="173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(+,-) quadr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4231440" y="3755880"/>
              <a:ext cx="965160" cy="26496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214800" y="2292480"/>
            <a:ext cx="485640" cy="2085480"/>
            <a:chOff x="3214800" y="2292480"/>
            <a:chExt cx="485640" cy="2085480"/>
          </a:xfrm>
        </p:grpSpPr>
        <p:sp>
          <p:nvSpPr>
            <p:cNvPr id="219" name=""/>
            <p:cNvSpPr/>
            <p:nvPr/>
          </p:nvSpPr>
          <p:spPr>
            <a:xfrm>
              <a:off x="3214800" y="2306520"/>
              <a:ext cx="4759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90720" y="2292480"/>
              <a:ext cx="9720" cy="96012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223800" y="3235320"/>
              <a:ext cx="476280" cy="114264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: brittl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Modified-Mohr the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01640" y="1179360"/>
            <a:ext cx="7835760" cy="1978200"/>
            <a:chOff x="701640" y="1179360"/>
            <a:chExt cx="7835760" cy="1978200"/>
          </a:xfrm>
        </p:grpSpPr>
        <p:sp>
          <p:nvSpPr>
            <p:cNvPr id="224" name=""/>
            <p:cNvSpPr/>
            <p:nvPr/>
          </p:nvSpPr>
          <p:spPr>
            <a:xfrm>
              <a:off x="701640" y="1179360"/>
              <a:ext cx="7835760" cy="1978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29520" y="1258920"/>
              <a:ext cx="22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333399"/>
                  </a:solidFill>
                  <a:uFillTx/>
                  <a:latin typeface="Arial"/>
                </a:rPr>
                <a:t>Safety factor: zone I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032280" y="2049480"/>
                  <a:ext cx="154440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F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27" name=""/>
            <p:cNvGrpSpPr/>
            <p:nvPr/>
          </p:nvGrpSpPr>
          <p:grpSpPr>
            <a:xfrm>
              <a:off x="4675320" y="1827360"/>
              <a:ext cx="3546360" cy="580680"/>
              <a:chOff x="4675320" y="1827360"/>
              <a:chExt cx="3546360" cy="5806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4675320" y="1978200"/>
                <a:ext cx="588960" cy="141120"/>
              </a:xfrm>
              <a:custGeom>
                <a:avLst/>
                <a:gdLst/>
                <a:ahLst/>
                <a:rect l="l" t="t" r="r" b="b"/>
                <a:pathLst>
                  <a:path w="857" h="395">
                    <a:moveTo>
                      <a:pt x="0" y="24"/>
                    </a:moveTo>
                    <a:cubicBezTo>
                      <a:pt x="131" y="80"/>
                      <a:pt x="263" y="136"/>
                      <a:pt x="320" y="139"/>
                    </a:cubicBezTo>
                    <a:cubicBezTo>
                      <a:pt x="377" y="142"/>
                      <a:pt x="256" y="0"/>
                      <a:pt x="345" y="43"/>
                    </a:cubicBezTo>
                    <a:cubicBezTo>
                      <a:pt x="434" y="86"/>
                      <a:pt x="769" y="315"/>
                      <a:pt x="857" y="395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76880" y="1827360"/>
                <a:ext cx="2944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Ultimate strength of the material in ten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633920" y="2711160"/>
              <a:ext cx="3423600" cy="408960"/>
              <a:chOff x="4633920" y="2711160"/>
              <a:chExt cx="3423600" cy="408960"/>
            </a:xfrm>
          </p:grpSpPr>
          <p:sp>
            <p:nvSpPr>
              <p:cNvPr id="231" name=""/>
              <p:cNvSpPr/>
              <p:nvPr/>
            </p:nvSpPr>
            <p:spPr>
              <a:xfrm>
                <a:off x="5347080" y="2782800"/>
                <a:ext cx="271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Max. principal normal str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4633920" y="2710800"/>
                <a:ext cx="588960" cy="183960"/>
              </a:xfrm>
              <a:custGeom>
                <a:avLst/>
                <a:gdLst/>
                <a:ahLst/>
                <a:rect l="l" t="t" r="r" b="b"/>
                <a:pathLst>
                  <a:path w="857" h="395">
                    <a:moveTo>
                      <a:pt x="0" y="24"/>
                    </a:moveTo>
                    <a:cubicBezTo>
                      <a:pt x="131" y="80"/>
                      <a:pt x="263" y="136"/>
                      <a:pt x="320" y="139"/>
                    </a:cubicBezTo>
                    <a:cubicBezTo>
                      <a:pt x="377" y="142"/>
                      <a:pt x="256" y="0"/>
                      <a:pt x="345" y="43"/>
                    </a:cubicBezTo>
                    <a:cubicBezTo>
                      <a:pt x="434" y="86"/>
                      <a:pt x="769" y="315"/>
                      <a:pt x="857" y="395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852640" y="1954080"/>
              <a:ext cx="1717920" cy="893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9640" y="2103480"/>
              <a:ext cx="147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Modified-Mo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theor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06560" y="3252960"/>
            <a:ext cx="5730840" cy="3466800"/>
            <a:chOff x="2806560" y="3252960"/>
            <a:chExt cx="5730840" cy="3466800"/>
          </a:xfrm>
        </p:grpSpPr>
        <p:sp>
          <p:nvSpPr>
            <p:cNvPr id="236" name=""/>
            <p:cNvSpPr/>
            <p:nvPr/>
          </p:nvSpPr>
          <p:spPr>
            <a:xfrm>
              <a:off x="2806560" y="3252960"/>
              <a:ext cx="5730840" cy="3466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592440" y="3613320"/>
              <a:ext cx="2049480" cy="2465280"/>
              <a:chOff x="3592440" y="3613320"/>
              <a:chExt cx="2049480" cy="2465280"/>
            </a:xfrm>
          </p:grpSpPr>
          <p:sp>
            <p:nvSpPr>
              <p:cNvPr id="238" name=""/>
              <p:cNvSpPr/>
              <p:nvPr/>
            </p:nvSpPr>
            <p:spPr>
              <a:xfrm flipV="1">
                <a:off x="3936960" y="3895200"/>
                <a:ext cx="0" cy="203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92440" y="5032440"/>
                <a:ext cx="174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36960" y="4363920"/>
                <a:ext cx="762120" cy="0"/>
              </a:xfrm>
              <a:prstGeom prst="line">
                <a:avLst/>
              </a:prstGeom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08440" y="4363920"/>
                <a:ext cx="0" cy="1379520"/>
              </a:xfrm>
              <a:prstGeom prst="line">
                <a:avLst/>
              </a:prstGeom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36960" y="5735520"/>
                <a:ext cx="762120" cy="0"/>
              </a:xfrm>
              <a:prstGeom prst="line">
                <a:avLst/>
              </a:prstGeom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4432320" y="3983040"/>
                    <a:ext cx="858960" cy="32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4" name=""/>
              <p:cNvSpPr/>
              <p:nvPr/>
            </p:nvSpPr>
            <p:spPr>
              <a:xfrm>
                <a:off x="4653000" y="4314960"/>
                <a:ext cx="92160" cy="9180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5" name=""/>
                  <p:cNvSpPr txBox="1"/>
                  <p:nvPr/>
                </p:nvSpPr>
                <p:spPr>
                  <a:xfrm>
                    <a:off x="4432320" y="5757840"/>
                    <a:ext cx="952560" cy="32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6" name=""/>
              <p:cNvSpPr/>
              <p:nvPr/>
            </p:nvSpPr>
            <p:spPr>
              <a:xfrm>
                <a:off x="4653000" y="5678640"/>
                <a:ext cx="92160" cy="9180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7" name=""/>
                  <p:cNvSpPr txBox="1"/>
                  <p:nvPr/>
                </p:nvSpPr>
                <p:spPr>
                  <a:xfrm>
                    <a:off x="5376960" y="4862520"/>
                    <a:ext cx="264960" cy="3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8" name=""/>
                  <p:cNvSpPr txBox="1"/>
                  <p:nvPr/>
                </p:nvSpPr>
                <p:spPr>
                  <a:xfrm>
                    <a:off x="3803760" y="3613320"/>
                    <a:ext cx="287280" cy="30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9" name=""/>
              <p:cNvSpPr/>
              <p:nvPr/>
            </p:nvSpPr>
            <p:spPr>
              <a:xfrm flipH="1">
                <a:off x="3936600" y="4361040"/>
                <a:ext cx="250920" cy="26640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3944880" y="4361040"/>
                <a:ext cx="540000" cy="55548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3936600" y="4444920"/>
                <a:ext cx="754200" cy="79236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3936600" y="4757760"/>
                <a:ext cx="768600" cy="77616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4044600" y="5032440"/>
                <a:ext cx="654120" cy="70164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341960" y="5353200"/>
                <a:ext cx="357120" cy="38088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428720" y="4210200"/>
              <a:ext cx="3913200" cy="525240"/>
              <a:chOff x="4428720" y="4210200"/>
              <a:chExt cx="3913200" cy="525240"/>
            </a:xfrm>
          </p:grpSpPr>
          <p:sp>
            <p:nvSpPr>
              <p:cNvPr id="256" name=""/>
              <p:cNvSpPr/>
              <p:nvPr/>
            </p:nvSpPr>
            <p:spPr>
              <a:xfrm>
                <a:off x="6105240" y="4210200"/>
                <a:ext cx="2236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Arial"/>
                  </a:rPr>
                  <a:t>Modified-Mohr theory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Arial"/>
                  </a:rPr>
                  <a:t>applicable inside this are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428360" y="4440240"/>
                <a:ext cx="1796760" cy="295200"/>
              </a:xfrm>
              <a:custGeom>
                <a:avLst/>
                <a:gdLst/>
                <a:ahLst/>
                <a:rect l="l" t="t" r="r" b="b"/>
                <a:pathLst>
                  <a:path w="857" h="395">
                    <a:moveTo>
                      <a:pt x="0" y="24"/>
                    </a:moveTo>
                    <a:cubicBezTo>
                      <a:pt x="131" y="80"/>
                      <a:pt x="263" y="136"/>
                      <a:pt x="320" y="139"/>
                    </a:cubicBezTo>
                    <a:cubicBezTo>
                      <a:pt x="377" y="142"/>
                      <a:pt x="256" y="0"/>
                      <a:pt x="345" y="43"/>
                    </a:cubicBezTo>
                    <a:cubicBezTo>
                      <a:pt x="434" y="86"/>
                      <a:pt x="769" y="315"/>
                      <a:pt x="857" y="395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673200" y="3241800"/>
            <a:ext cx="2011320" cy="3468600"/>
            <a:chOff x="673200" y="3241800"/>
            <a:chExt cx="2011320" cy="3468600"/>
          </a:xfrm>
        </p:grpSpPr>
        <p:sp>
          <p:nvSpPr>
            <p:cNvPr id="259" name=""/>
            <p:cNvSpPr/>
            <p:nvPr/>
          </p:nvSpPr>
          <p:spPr>
            <a:xfrm>
              <a:off x="673200" y="3241800"/>
              <a:ext cx="2011320" cy="346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785880" y="3335400"/>
              <a:ext cx="1746360" cy="3332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58800" y="1138320"/>
            <a:ext cx="7962840" cy="1573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: brittl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Modified-Mohr the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32680" y="123840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afety factor: zon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79680" y="1741320"/>
                <a:ext cx="34480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c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c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290760" y="1703520"/>
            <a:ext cx="3699000" cy="89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10720" y="1852560"/>
            <a:ext cx="14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odified-Mo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o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763720" y="2763720"/>
            <a:ext cx="5857920" cy="3934080"/>
            <a:chOff x="2763720" y="2763720"/>
            <a:chExt cx="5857920" cy="3934080"/>
          </a:xfrm>
        </p:grpSpPr>
        <p:sp>
          <p:nvSpPr>
            <p:cNvPr id="268" name=""/>
            <p:cNvSpPr/>
            <p:nvPr/>
          </p:nvSpPr>
          <p:spPr>
            <a:xfrm>
              <a:off x="2763720" y="2763720"/>
              <a:ext cx="5857920" cy="3934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362480" y="5433480"/>
              <a:ext cx="4131000" cy="560160"/>
              <a:chOff x="4362480" y="5433480"/>
              <a:chExt cx="4131000" cy="560160"/>
            </a:xfrm>
          </p:grpSpPr>
          <p:sp>
            <p:nvSpPr>
              <p:cNvPr id="270" name=""/>
              <p:cNvSpPr/>
              <p:nvPr/>
            </p:nvSpPr>
            <p:spPr>
              <a:xfrm>
                <a:off x="6256800" y="5473440"/>
                <a:ext cx="2236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Arial"/>
                  </a:rPr>
                  <a:t>Modified-Mohr theory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Arial"/>
                  </a:rPr>
                  <a:t>applicable inside this are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4362480" y="5433120"/>
                <a:ext cx="1797120" cy="314280"/>
              </a:xfrm>
              <a:custGeom>
                <a:avLst/>
                <a:gdLst/>
                <a:ahLst/>
                <a:rect l="l" t="t" r="r" b="b"/>
                <a:pathLst>
                  <a:path w="857" h="395">
                    <a:moveTo>
                      <a:pt x="0" y="24"/>
                    </a:moveTo>
                    <a:cubicBezTo>
                      <a:pt x="131" y="80"/>
                      <a:pt x="263" y="136"/>
                      <a:pt x="320" y="139"/>
                    </a:cubicBezTo>
                    <a:cubicBezTo>
                      <a:pt x="377" y="142"/>
                      <a:pt x="256" y="0"/>
                      <a:pt x="345" y="43"/>
                    </a:cubicBezTo>
                    <a:cubicBezTo>
                      <a:pt x="434" y="86"/>
                      <a:pt x="769" y="315"/>
                      <a:pt x="857" y="395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203640" y="2874960"/>
              <a:ext cx="2755800" cy="3716280"/>
              <a:chOff x="3203640" y="2874960"/>
              <a:chExt cx="2755800" cy="3716280"/>
            </a:xfrm>
          </p:grpSpPr>
          <p:sp>
            <p:nvSpPr>
              <p:cNvPr id="273" name=""/>
              <p:cNvSpPr/>
              <p:nvPr/>
            </p:nvSpPr>
            <p:spPr>
              <a:xfrm>
                <a:off x="3762360" y="4294440"/>
                <a:ext cx="174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06880" y="3625920"/>
                <a:ext cx="762120" cy="0"/>
              </a:xfrm>
              <a:prstGeom prst="line">
                <a:avLst/>
              </a:prstGeom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78360" y="3625920"/>
                <a:ext cx="0" cy="1379520"/>
              </a:xfrm>
              <a:prstGeom prst="line">
                <a:avLst/>
              </a:prstGeom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06880" y="4997520"/>
                <a:ext cx="762120" cy="0"/>
              </a:xfrm>
              <a:prstGeom prst="line">
                <a:avLst/>
              </a:prstGeom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4602240" y="3245040"/>
                    <a:ext cx="858960" cy="32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8" name=""/>
              <p:cNvSpPr/>
              <p:nvPr/>
            </p:nvSpPr>
            <p:spPr>
              <a:xfrm>
                <a:off x="4822920" y="3576600"/>
                <a:ext cx="92160" cy="921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9" name=""/>
                  <p:cNvSpPr txBox="1"/>
                  <p:nvPr/>
                </p:nvSpPr>
                <p:spPr>
                  <a:xfrm>
                    <a:off x="5007240" y="4807080"/>
                    <a:ext cx="952200" cy="32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0" name=""/>
              <p:cNvSpPr/>
              <p:nvPr/>
            </p:nvSpPr>
            <p:spPr>
              <a:xfrm>
                <a:off x="4822920" y="4940280"/>
                <a:ext cx="92160" cy="921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1" name=""/>
                  <p:cNvSpPr txBox="1"/>
                  <p:nvPr/>
                </p:nvSpPr>
                <p:spPr>
                  <a:xfrm>
                    <a:off x="5546880" y="4124520"/>
                    <a:ext cx="264960" cy="3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2" name=""/>
                  <p:cNvSpPr txBox="1"/>
                  <p:nvPr/>
                </p:nvSpPr>
                <p:spPr>
                  <a:xfrm>
                    <a:off x="3973680" y="2874960"/>
                    <a:ext cx="287280" cy="3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3" name=""/>
              <p:cNvSpPr/>
              <p:nvPr/>
            </p:nvSpPr>
            <p:spPr>
              <a:xfrm flipV="1">
                <a:off x="4108680" y="4976640"/>
                <a:ext cx="769680" cy="1290600"/>
              </a:xfrm>
              <a:prstGeom prst="line">
                <a:avLst/>
              </a:prstGeom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4" name=""/>
                  <p:cNvSpPr txBox="1"/>
                  <p:nvPr/>
                </p:nvSpPr>
                <p:spPr>
                  <a:xfrm>
                    <a:off x="3203640" y="6066000"/>
                    <a:ext cx="819360" cy="32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5" name=""/>
              <p:cNvSpPr/>
              <p:nvPr/>
            </p:nvSpPr>
            <p:spPr>
              <a:xfrm flipV="1">
                <a:off x="4098960" y="5002200"/>
                <a:ext cx="555840" cy="94608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4097520" y="4992480"/>
                <a:ext cx="331920" cy="56988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097520" y="3157560"/>
                <a:ext cx="9360" cy="343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60800" y="6197760"/>
                <a:ext cx="92160" cy="921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671400" y="2762280"/>
            <a:ext cx="2011320" cy="3935160"/>
            <a:chOff x="671400" y="2762280"/>
            <a:chExt cx="2011320" cy="3935160"/>
          </a:xfrm>
        </p:grpSpPr>
        <p:sp>
          <p:nvSpPr>
            <p:cNvPr id="290" name=""/>
            <p:cNvSpPr/>
            <p:nvPr/>
          </p:nvSpPr>
          <p:spPr>
            <a:xfrm>
              <a:off x="671400" y="2762280"/>
              <a:ext cx="2011320" cy="393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20720" y="3141720"/>
              <a:ext cx="1746000" cy="3332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541840" y="1147680"/>
            <a:ext cx="2500560" cy="530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65080" y="1166760"/>
            <a:ext cx="4286520" cy="5340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: brittl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Modified-Mohr the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18520" y="153504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afety factor: zon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35160" y="2700360"/>
            <a:ext cx="3698640" cy="893520"/>
            <a:chOff x="1235160" y="2700360"/>
            <a:chExt cx="3698640" cy="89352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1323720" y="2738160"/>
                  <a:ext cx="3448080" cy="82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F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t</m:t>
                              </m:r>
                            </m:sub>
                          </m:sSub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c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c</m:t>
                                  </m:r>
                                </m:sub>
                              </m:sSub>
                            </m:e>
                          </m:d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t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1235160" y="2700360"/>
              <a:ext cx="3698640" cy="893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093680" y="2320920"/>
            <a:ext cx="22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odified-Mohr theo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743440" y="1251000"/>
            <a:ext cx="205920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6167520" y="1992240"/>
            <a:ext cx="485640" cy="2086200"/>
            <a:chOff x="6167520" y="1992240"/>
            <a:chExt cx="485640" cy="2086200"/>
          </a:xfrm>
        </p:grpSpPr>
        <p:sp>
          <p:nvSpPr>
            <p:cNvPr id="302" name=""/>
            <p:cNvSpPr/>
            <p:nvPr/>
          </p:nvSpPr>
          <p:spPr>
            <a:xfrm>
              <a:off x="6167520" y="2006640"/>
              <a:ext cx="4759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43440" y="1992240"/>
              <a:ext cx="9720" cy="9604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176520" y="2935440"/>
              <a:ext cx="476280" cy="11430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647800" y="4017960"/>
            <a:ext cx="2265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nderstand: state of stresses at points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and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at do points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A’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B’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and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C’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represen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27120" y="1349280"/>
            <a:ext cx="8028000" cy="482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: brittl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Effective stress: </a:t>
            </a: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Dowling inde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198520" y="2117880"/>
                <a:ext cx="4343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c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c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962000" y="2025720"/>
            <a:ext cx="5081760" cy="103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165400" y="3489480"/>
                <a:ext cx="4410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c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c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962000" y="3397320"/>
            <a:ext cx="5081760" cy="103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198520" y="4870440"/>
                <a:ext cx="4343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c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c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1962000" y="4778280"/>
            <a:ext cx="5081760" cy="1036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29160" y="1452600"/>
            <a:ext cx="73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(Similar concept as the equivalent von Mises stress in ductile materi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49240" y="1677960"/>
            <a:ext cx="7475760" cy="42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: brittl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Modified-Mohr theory: </a:t>
            </a: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effective st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18720" y="18748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afety fact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421080" y="2676600"/>
                <a:ext cx="1544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672720" y="406872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Effective stress.  Obtained 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4797360" y="3357000"/>
            <a:ext cx="416160" cy="672840"/>
          </a:xfrm>
          <a:custGeom>
            <a:avLst/>
            <a:gdLst/>
            <a:ahLst/>
            <a:rect l="l" t="t" r="r" b="b"/>
            <a:pathLst>
              <a:path w="857" h="395">
                <a:moveTo>
                  <a:pt x="0" y="24"/>
                </a:moveTo>
                <a:cubicBezTo>
                  <a:pt x="131" y="80"/>
                  <a:pt x="263" y="136"/>
                  <a:pt x="320" y="139"/>
                </a:cubicBezTo>
                <a:cubicBezTo>
                  <a:pt x="377" y="142"/>
                  <a:pt x="256" y="0"/>
                  <a:pt x="345" y="43"/>
                </a:cubicBezTo>
                <a:cubicBezTo>
                  <a:pt x="434" y="86"/>
                  <a:pt x="769" y="315"/>
                  <a:pt x="857" y="395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08400" y="2570040"/>
            <a:ext cx="1717560" cy="89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37520" y="2719440"/>
            <a:ext cx="215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odified-Mohr theo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ffective st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854600" y="2481120"/>
            <a:ext cx="3546360" cy="580680"/>
            <a:chOff x="4854600" y="2481120"/>
            <a:chExt cx="3546360" cy="580680"/>
          </a:xfrm>
        </p:grpSpPr>
        <p:sp>
          <p:nvSpPr>
            <p:cNvPr id="324" name=""/>
            <p:cNvSpPr/>
            <p:nvPr/>
          </p:nvSpPr>
          <p:spPr>
            <a:xfrm flipH="1">
              <a:off x="4854600" y="2631960"/>
              <a:ext cx="588960" cy="14112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56160" y="2481120"/>
              <a:ext cx="294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Ultimate strength of the material in 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341520" y="4505400"/>
                <a:ext cx="34704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690720" y="4923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398760" y="5313240"/>
                <a:ext cx="67176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4301280" y="529416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if MAX &lt;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315120" y="233280"/>
            <a:ext cx="2690640" cy="641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4602" t="0" r="0" b="0"/>
          <a:stretch/>
        </p:blipFill>
        <p:spPr>
          <a:xfrm>
            <a:off x="6507000" y="358920"/>
            <a:ext cx="2382840" cy="1630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01600" y="225360"/>
            <a:ext cx="6006960" cy="642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rcRect l="0" t="0" r="2655" b="0"/>
          <a:stretch/>
        </p:blipFill>
        <p:spPr>
          <a:xfrm>
            <a:off x="243000" y="312840"/>
            <a:ext cx="5871960" cy="250668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201600" y="3486240"/>
            <a:ext cx="5925960" cy="2488680"/>
            <a:chOff x="201600" y="3486240"/>
            <a:chExt cx="5925960" cy="2488680"/>
          </a:xfrm>
        </p:grpSpPr>
        <p:pic>
          <p:nvPicPr>
            <p:cNvPr id="335" name="" descr=""/>
            <p:cNvPicPr/>
            <p:nvPr/>
          </p:nvPicPr>
          <p:blipFill>
            <a:blip r:embed="rId3"/>
            <a:srcRect l="1222" t="0" r="1924" b="0"/>
            <a:stretch/>
          </p:blipFill>
          <p:spPr>
            <a:xfrm>
              <a:off x="201600" y="3486240"/>
              <a:ext cx="5908680" cy="19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4"/>
            <a:srcRect l="0" t="0" r="1980" b="0"/>
            <a:stretch/>
          </p:blipFill>
          <p:spPr>
            <a:xfrm>
              <a:off x="1404720" y="5292720"/>
              <a:ext cx="4722840" cy="68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6770520" y="2073240"/>
            <a:ext cx="1663920" cy="21193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6737400" y="4262400"/>
            <a:ext cx="17334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25520" y="2562120"/>
            <a:ext cx="6219720" cy="403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4360" y="149400"/>
            <a:ext cx="6219720" cy="232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4602" t="0" r="0" b="0"/>
          <a:stretch/>
        </p:blipFill>
        <p:spPr>
          <a:xfrm>
            <a:off x="817560" y="316080"/>
            <a:ext cx="2860560" cy="19573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4451400" y="264960"/>
            <a:ext cx="1628640" cy="2151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rcRect l="2920" t="0" r="1532" b="0"/>
          <a:stretch/>
        </p:blipFill>
        <p:spPr>
          <a:xfrm>
            <a:off x="514440" y="2662200"/>
            <a:ext cx="5925960" cy="2278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rcRect l="1547" t="0" r="2084" b="0"/>
          <a:stretch/>
        </p:blipFill>
        <p:spPr>
          <a:xfrm>
            <a:off x="498600" y="5081760"/>
            <a:ext cx="5943600" cy="141732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6740640" y="138240"/>
            <a:ext cx="2201760" cy="6443640"/>
            <a:chOff x="6740640" y="138240"/>
            <a:chExt cx="2201760" cy="6443640"/>
          </a:xfrm>
        </p:grpSpPr>
        <p:sp>
          <p:nvSpPr>
            <p:cNvPr id="346" name=""/>
            <p:cNvSpPr/>
            <p:nvPr/>
          </p:nvSpPr>
          <p:spPr>
            <a:xfrm>
              <a:off x="6740640" y="138240"/>
              <a:ext cx="2201760" cy="644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5"/>
            <a:stretch/>
          </p:blipFill>
          <p:spPr>
            <a:xfrm>
              <a:off x="6802560" y="1278000"/>
              <a:ext cx="1982520" cy="45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942240" y="576360"/>
              <a:ext cx="173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ified Mohr Dia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550200" y="149400"/>
            <a:ext cx="2466720" cy="655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8240" y="138240"/>
            <a:ext cx="6273720" cy="659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4602" t="0" r="0" b="0"/>
          <a:stretch/>
        </p:blipFill>
        <p:spPr>
          <a:xfrm>
            <a:off x="6654960" y="271440"/>
            <a:ext cx="2198520" cy="150480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6759720" y="1886040"/>
            <a:ext cx="2052000" cy="4686480"/>
            <a:chOff x="6759720" y="1886040"/>
            <a:chExt cx="2052000" cy="468648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6759720" y="1886040"/>
              <a:ext cx="1982520" cy="45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837120" y="6296040"/>
              <a:ext cx="197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ified Mohr Dia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47600" y="174600"/>
            <a:ext cx="6167160" cy="4265640"/>
            <a:chOff x="147600" y="174600"/>
            <a:chExt cx="6167160" cy="426564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147600" y="174600"/>
              <a:ext cx="6167160" cy="310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4"/>
            <a:stretch/>
          </p:blipFill>
          <p:spPr>
            <a:xfrm>
              <a:off x="431640" y="3073320"/>
              <a:ext cx="5830920" cy="136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174600" y="4334040"/>
            <a:ext cx="6202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708600" y="244440"/>
            <a:ext cx="2243160" cy="644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1080" y="223920"/>
            <a:ext cx="6389640" cy="648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159680" y="361800"/>
            <a:ext cx="1351080" cy="20559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589040" y="1795320"/>
            <a:ext cx="4749840" cy="5065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214200" y="299880"/>
            <a:ext cx="6099120" cy="12826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44440" y="2516040"/>
            <a:ext cx="6100920" cy="12574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247680" y="3951360"/>
            <a:ext cx="6202440" cy="26319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6821640" y="2486160"/>
            <a:ext cx="200340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tic Failure of Brittle Materi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5360" y="2638440"/>
            <a:ext cx="6242040" cy="3913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2120" y="392040"/>
            <a:ext cx="6242040" cy="217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245120" y="457200"/>
            <a:ext cx="1336680" cy="203508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6567480" y="407880"/>
            <a:ext cx="2371680" cy="6156360"/>
            <a:chOff x="6567480" y="407880"/>
            <a:chExt cx="2371680" cy="6156360"/>
          </a:xfrm>
        </p:grpSpPr>
        <p:sp>
          <p:nvSpPr>
            <p:cNvPr id="371" name=""/>
            <p:cNvSpPr/>
            <p:nvPr/>
          </p:nvSpPr>
          <p:spPr>
            <a:xfrm>
              <a:off x="6567480" y="407880"/>
              <a:ext cx="2371680" cy="615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6661080" y="1189080"/>
              <a:ext cx="2185920" cy="444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249120" y="2668680"/>
            <a:ext cx="6134040" cy="15606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rcRect l="2844" t="0" r="2193" b="0"/>
          <a:stretch/>
        </p:blipFill>
        <p:spPr>
          <a:xfrm>
            <a:off x="324000" y="4168800"/>
            <a:ext cx="5984640" cy="22446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rcRect l="4602" t="0" r="0" b="0"/>
          <a:stretch/>
        </p:blipFill>
        <p:spPr>
          <a:xfrm>
            <a:off x="519120" y="496800"/>
            <a:ext cx="28605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racture Mechanic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acture Mechan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ified Mohr type theory assumes material is homogeneous and isotropic with no fla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materials contain microcracks which raise local stre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rp cracks have stress concentration approaching infin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examples exist of sudden, catastrophic, rupture of parts with disastrous conseq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acture Mechanics Theory explains these fail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Famous Example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446120" y="2360520"/>
            <a:ext cx="6316560" cy="4357800"/>
            <a:chOff x="1446120" y="2360520"/>
            <a:chExt cx="6316560" cy="4357800"/>
          </a:xfrm>
        </p:grpSpPr>
        <p:sp>
          <p:nvSpPr>
            <p:cNvPr id="382" name=""/>
            <p:cNvSpPr/>
            <p:nvPr/>
          </p:nvSpPr>
          <p:spPr>
            <a:xfrm>
              <a:off x="1446120" y="2360520"/>
              <a:ext cx="6316560" cy="43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"/>
            <a:srcRect l="514" t="-501" r="0" b="4135"/>
            <a:stretch/>
          </p:blipFill>
          <p:spPr>
            <a:xfrm>
              <a:off x="1496880" y="2387520"/>
              <a:ext cx="6135480" cy="421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1459080" y="830160"/>
            <a:ext cx="6316560" cy="1455840"/>
            <a:chOff x="1459080" y="830160"/>
            <a:chExt cx="6316560" cy="1455840"/>
          </a:xfrm>
        </p:grpSpPr>
        <p:sp>
          <p:nvSpPr>
            <p:cNvPr id="385" name=""/>
            <p:cNvSpPr/>
            <p:nvPr/>
          </p:nvSpPr>
          <p:spPr>
            <a:xfrm>
              <a:off x="1459080" y="830160"/>
              <a:ext cx="6316560" cy="1455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1554480" y="938160"/>
              <a:ext cx="603216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3"/>
            <a:stretch/>
          </p:blipFill>
          <p:spPr>
            <a:xfrm>
              <a:off x="1546200" y="1579680"/>
              <a:ext cx="613440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551240" y="911160"/>
              <a:ext cx="147780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94520" y="2008080"/>
              <a:ext cx="56376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6040" y="167760"/>
            <a:ext cx="822960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Famous Example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457280" y="1009800"/>
            <a:ext cx="6453360" cy="5624280"/>
            <a:chOff x="1457280" y="1009800"/>
            <a:chExt cx="6453360" cy="5624280"/>
          </a:xfrm>
        </p:grpSpPr>
        <p:sp>
          <p:nvSpPr>
            <p:cNvPr id="392" name=""/>
            <p:cNvSpPr/>
            <p:nvPr/>
          </p:nvSpPr>
          <p:spPr>
            <a:xfrm>
              <a:off x="1457280" y="1009800"/>
              <a:ext cx="6453360" cy="562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1528920" y="1123920"/>
              <a:ext cx="6235560" cy="46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1623960" y="5873760"/>
              <a:ext cx="6067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1647720" y="5816520"/>
              <a:ext cx="136044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4683240" y="1353960"/>
            <a:ext cx="4157640" cy="5027760"/>
            <a:chOff x="4683240" y="1353960"/>
            <a:chExt cx="4157640" cy="5027760"/>
          </a:xfrm>
        </p:grpSpPr>
        <p:sp>
          <p:nvSpPr>
            <p:cNvPr id="397" name=""/>
            <p:cNvSpPr/>
            <p:nvPr/>
          </p:nvSpPr>
          <p:spPr>
            <a:xfrm>
              <a:off x="4683240" y="1353960"/>
              <a:ext cx="4157640" cy="5027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11680" y="1380960"/>
              <a:ext cx="3583080" cy="7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Boston, January 21, 19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NPR “Morning Edition,” on WB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The Great Molasses Flood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04640" y="1349280"/>
            <a:ext cx="4157640" cy="5040360"/>
            <a:chOff x="404640" y="1349280"/>
            <a:chExt cx="4157640" cy="5040360"/>
          </a:xfrm>
        </p:grpSpPr>
        <p:sp>
          <p:nvSpPr>
            <p:cNvPr id="401" name=""/>
            <p:cNvSpPr/>
            <p:nvPr/>
          </p:nvSpPr>
          <p:spPr>
            <a:xfrm>
              <a:off x="404640" y="1349280"/>
              <a:ext cx="4157640" cy="504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6680" y="1444680"/>
              <a:ext cx="3508560" cy="42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Boston, January 21, 191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A 2.3 million gallon storage tank full of warm molasses explosively ruptured on Cobb’s Hill, flooding the North End, drowning 21 people and over a hundred horses, and destroying several hom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" name="" descr=""/>
          <p:cNvPicPr/>
          <p:nvPr/>
        </p:nvPicPr>
        <p:blipFill>
          <a:blip r:embed="rId1"/>
          <a:srcRect l="0" t="0" r="0" b="5316"/>
          <a:stretch/>
        </p:blipFill>
        <p:spPr>
          <a:xfrm>
            <a:off x="5237280" y="2066760"/>
            <a:ext cx="2916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rack Propagation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9760" y="157752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ree modes of crack displaceme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95440" y="2668680"/>
            <a:ext cx="7983360" cy="2913120"/>
            <a:chOff x="595440" y="2668680"/>
            <a:chExt cx="7983360" cy="2913120"/>
          </a:xfrm>
        </p:grpSpPr>
        <p:sp>
          <p:nvSpPr>
            <p:cNvPr id="407" name=""/>
            <p:cNvSpPr/>
            <p:nvPr/>
          </p:nvSpPr>
          <p:spPr>
            <a:xfrm>
              <a:off x="595440" y="2668680"/>
              <a:ext cx="7921440" cy="291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8" name="" descr=""/>
            <p:cNvPicPr/>
            <p:nvPr/>
          </p:nvPicPr>
          <p:blipFill>
            <a:blip r:embed="rId1"/>
            <a:stretch/>
          </p:blipFill>
          <p:spPr>
            <a:xfrm>
              <a:off x="1346040" y="2838600"/>
              <a:ext cx="18147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3801960" y="3035160"/>
              <a:ext cx="1814760" cy="17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3"/>
            <a:stretch/>
          </p:blipFill>
          <p:spPr>
            <a:xfrm>
              <a:off x="6195960" y="3002040"/>
              <a:ext cx="198288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987480" y="4997520"/>
              <a:ext cx="250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s crack in t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98720" y="4978440"/>
              <a:ext cx="250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-plane sh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68880" y="4983120"/>
              <a:ext cx="250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-of-plane sh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511520" y="1469880"/>
            <a:ext cx="4370400" cy="488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40" y="1477800"/>
            <a:ext cx="4039920" cy="488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Stress Intensity Factor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rack in tens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resses at crack tip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42960" y="1978200"/>
            <a:ext cx="1814400" cy="34765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2365200" y="2246400"/>
            <a:ext cx="1949760" cy="25574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208480" y="2241720"/>
            <a:ext cx="3062520" cy="1839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5208480" y="4184640"/>
            <a:ext cx="2894040" cy="2113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5753160" y="4487760"/>
            <a:ext cx="1679400" cy="4557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6"/>
          <a:stretch/>
        </p:blipFill>
        <p:spPr>
          <a:xfrm>
            <a:off x="4546440" y="4883040"/>
            <a:ext cx="1341720" cy="6825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7"/>
          <a:stretch/>
        </p:blipFill>
        <p:spPr>
          <a:xfrm>
            <a:off x="5940360" y="5100480"/>
            <a:ext cx="2894040" cy="2700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8"/>
          <a:srcRect l="0" t="0" r="23013" b="0"/>
          <a:stretch/>
        </p:blipFill>
        <p:spPr>
          <a:xfrm>
            <a:off x="1339920" y="5543640"/>
            <a:ext cx="16048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00040" y="1989000"/>
            <a:ext cx="8313840" cy="373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Variation of Stress at Crack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573120" y="2143080"/>
            <a:ext cx="7956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51000" y="1328760"/>
            <a:ext cx="8505720" cy="500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Fracture Toughnes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480960" y="1400040"/>
            <a:ext cx="8226360" cy="3780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584280" y="5549760"/>
            <a:ext cx="82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ies subject to this type of failure (such as aircraft) must be regularly inspected for cracks, the stress intensity factor and FM safety factor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7280" y="957240"/>
            <a:ext cx="8485200" cy="536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4720" y="297000"/>
            <a:ext cx="76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3120" y="1057320"/>
            <a:ext cx="8631360" cy="2175480"/>
            <a:chOff x="303120" y="1057320"/>
            <a:chExt cx="8631360" cy="2175480"/>
          </a:xfrm>
        </p:grpSpPr>
        <p:sp>
          <p:nvSpPr>
            <p:cNvPr id="151" name=""/>
            <p:cNvSpPr/>
            <p:nvPr/>
          </p:nvSpPr>
          <p:spPr>
            <a:xfrm>
              <a:off x="303120" y="1057320"/>
              <a:ext cx="86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Failure theories that can apply to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uctile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material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46320" y="1487520"/>
              <a:ext cx="6156360" cy="174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otal strain energy theory (unsaf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istortion energy theory (most accura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ure shear-stress theory (unsaf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ximum shear-stress theory (conservativ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ximum normal stress theory (unsaf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94000" y="2011320"/>
              <a:ext cx="588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94000" y="2658960"/>
              <a:ext cx="588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04920" y="3344760"/>
            <a:ext cx="8642160" cy="1587960"/>
            <a:chOff x="304920" y="3344760"/>
            <a:chExt cx="8642160" cy="1587960"/>
          </a:xfrm>
        </p:grpSpPr>
        <p:sp>
          <p:nvSpPr>
            <p:cNvPr id="156" name=""/>
            <p:cNvSpPr/>
            <p:nvPr/>
          </p:nvSpPr>
          <p:spPr>
            <a:xfrm>
              <a:off x="304920" y="3344760"/>
              <a:ext cx="864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Failure theories that can apply to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rittle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material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47760" y="3860640"/>
              <a:ext cx="641196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ximum normal stress theory (unsaf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ulomb-Mohr theory (conservativ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odified Mohr theory (most accura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06600" y="4390920"/>
              <a:ext cx="588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06600" y="4753080"/>
              <a:ext cx="588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38120" y="5154480"/>
            <a:ext cx="84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rrows point to theories that correctly predict failure within reasonable err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3960" y="5657760"/>
            <a:ext cx="84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 NOT use any that are not indicated with red arrows in each ca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Fracture Toughnes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27120" y="1773360"/>
            <a:ext cx="8110440" cy="3786120"/>
            <a:chOff x="627120" y="1773360"/>
            <a:chExt cx="8110440" cy="3786120"/>
          </a:xfrm>
        </p:grpSpPr>
        <p:sp>
          <p:nvSpPr>
            <p:cNvPr id="436" name=""/>
            <p:cNvSpPr/>
            <p:nvPr/>
          </p:nvSpPr>
          <p:spPr>
            <a:xfrm>
              <a:off x="627120" y="1773360"/>
              <a:ext cx="8110440" cy="378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1"/>
            <a:srcRect l="0" t="4885" r="1175" b="3786"/>
            <a:stretch/>
          </p:blipFill>
          <p:spPr>
            <a:xfrm>
              <a:off x="652320" y="1870200"/>
              <a:ext cx="7996320" cy="355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Example of FM Failure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46040" y="1563840"/>
            <a:ext cx="8240760" cy="4348080"/>
            <a:chOff x="446040" y="1563840"/>
            <a:chExt cx="8240760" cy="4348080"/>
          </a:xfrm>
        </p:grpSpPr>
        <p:sp>
          <p:nvSpPr>
            <p:cNvPr id="440" name=""/>
            <p:cNvSpPr/>
            <p:nvPr/>
          </p:nvSpPr>
          <p:spPr>
            <a:xfrm>
              <a:off x="446040" y="1563840"/>
              <a:ext cx="8240760" cy="434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84280" y="1659240"/>
              <a:ext cx="7956360" cy="409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2760" y="1371600"/>
            <a:ext cx="8729640" cy="437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Brittle materials: even and uneven mate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16080" y="1460520"/>
            <a:ext cx="85644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923080" y="1488960"/>
            <a:ext cx="2614320" cy="489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0560" y="1477800"/>
            <a:ext cx="5210280" cy="490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3320" y="372960"/>
            <a:ext cx="7709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Brittle mate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84080" y="1650960"/>
            <a:ext cx="4689720" cy="2125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5556" t="0" r="0" b="-2057"/>
          <a:stretch/>
        </p:blipFill>
        <p:spPr>
          <a:xfrm>
            <a:off x="6229440" y="1832040"/>
            <a:ext cx="2158920" cy="4243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334200" y="2581200"/>
            <a:ext cx="691920" cy="717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75040" y="4027320"/>
            <a:ext cx="2144520" cy="2214720"/>
            <a:chOff x="2075040" y="4027320"/>
            <a:chExt cx="2144520" cy="2214720"/>
          </a:xfrm>
        </p:grpSpPr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2075040" y="4027320"/>
              <a:ext cx="2144520" cy="22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762640" y="425952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99"/>
                  </a:solidFill>
                  <a:latin typeface="Arial"/>
                </a:rPr>
                <a:t>Tensile 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57240" y="1095480"/>
            <a:ext cx="7367760" cy="292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12920" y="1233360"/>
            <a:ext cx="6475320" cy="2266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Brittle mate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73320" y="2120760"/>
            <a:ext cx="754200" cy="7686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8440" y="2889360"/>
            <a:ext cx="327240" cy="739800"/>
          </a:xfrm>
          <a:custGeom>
            <a:avLst/>
            <a:gdLst/>
            <a:ahLst/>
            <a:rect l="l" t="t" r="r" b="b"/>
            <a:pathLst>
              <a:path w="250" h="710">
                <a:moveTo>
                  <a:pt x="67" y="0"/>
                </a:moveTo>
                <a:cubicBezTo>
                  <a:pt x="36" y="144"/>
                  <a:pt x="6" y="289"/>
                  <a:pt x="3" y="352"/>
                </a:cubicBezTo>
                <a:cubicBezTo>
                  <a:pt x="0" y="415"/>
                  <a:pt x="10" y="384"/>
                  <a:pt x="47" y="378"/>
                </a:cubicBezTo>
                <a:cubicBezTo>
                  <a:pt x="84" y="372"/>
                  <a:pt x="204" y="259"/>
                  <a:pt x="227" y="314"/>
                </a:cubicBezTo>
                <a:cubicBezTo>
                  <a:pt x="250" y="369"/>
                  <a:pt x="218" y="623"/>
                  <a:pt x="188" y="71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3701880"/>
            <a:ext cx="267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ure shear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1880" y="2120760"/>
            <a:ext cx="753840" cy="7686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7000" y="2889360"/>
            <a:ext cx="327240" cy="739800"/>
          </a:xfrm>
          <a:custGeom>
            <a:avLst/>
            <a:gdLst/>
            <a:ahLst/>
            <a:rect l="l" t="t" r="r" b="b"/>
            <a:pathLst>
              <a:path w="250" h="710">
                <a:moveTo>
                  <a:pt x="67" y="0"/>
                </a:moveTo>
                <a:cubicBezTo>
                  <a:pt x="36" y="144"/>
                  <a:pt x="6" y="289"/>
                  <a:pt x="3" y="352"/>
                </a:cubicBezTo>
                <a:cubicBezTo>
                  <a:pt x="0" y="415"/>
                  <a:pt x="10" y="384"/>
                  <a:pt x="47" y="378"/>
                </a:cubicBezTo>
                <a:cubicBezTo>
                  <a:pt x="84" y="372"/>
                  <a:pt x="204" y="259"/>
                  <a:pt x="227" y="314"/>
                </a:cubicBezTo>
                <a:cubicBezTo>
                  <a:pt x="250" y="369"/>
                  <a:pt x="218" y="623"/>
                  <a:pt x="188" y="71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14920" y="3701880"/>
            <a:ext cx="267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ure shear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60480" y="4181400"/>
            <a:ext cx="7367400" cy="2467080"/>
            <a:chOff x="960480" y="4181400"/>
            <a:chExt cx="7367400" cy="2467080"/>
          </a:xfrm>
        </p:grpSpPr>
        <p:sp>
          <p:nvSpPr>
            <p:cNvPr id="184" name=""/>
            <p:cNvSpPr/>
            <p:nvPr/>
          </p:nvSpPr>
          <p:spPr>
            <a:xfrm>
              <a:off x="960480" y="4181400"/>
              <a:ext cx="7367400" cy="246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577880" y="4229280"/>
              <a:ext cx="2886840" cy="2366640"/>
              <a:chOff x="1577880" y="4229280"/>
              <a:chExt cx="2886840" cy="2366640"/>
            </a:xfrm>
          </p:grpSpPr>
          <p:pic>
            <p:nvPicPr>
              <p:cNvPr id="1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7880" y="4229280"/>
                <a:ext cx="2582640" cy="23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3240000" y="4297320"/>
                <a:ext cx="122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99"/>
                    </a:solidFill>
                    <a:latin typeface="Arial"/>
                  </a:rPr>
                  <a:t>Torsional lo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5059440" y="4807080"/>
            <a:ext cx="24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the break surfaces different for ductile and brittle material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03240" y="1670040"/>
            <a:ext cx="7709040" cy="459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667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Brittle materials: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Coulomb-Mohr, modified-Mohr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and normal stress theo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95480" y="1824120"/>
            <a:ext cx="7334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ory vs. Experime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85720" y="4538160"/>
            <a:ext cx="628308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Questions: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ich theory best fits experimental data?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s any theory unsafe?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ich is the most conservative?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01600" y="1328760"/>
            <a:ext cx="5257800" cy="2903400"/>
            <a:chOff x="201600" y="1328760"/>
            <a:chExt cx="5257800" cy="2903400"/>
          </a:xfrm>
        </p:grpSpPr>
        <p:sp>
          <p:nvSpPr>
            <p:cNvPr id="195" name=""/>
            <p:cNvSpPr/>
            <p:nvPr/>
          </p:nvSpPr>
          <p:spPr>
            <a:xfrm>
              <a:off x="201600" y="1328760"/>
              <a:ext cx="5257800" cy="2903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240480" y="1357560"/>
              <a:ext cx="5177160" cy="281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5624640" y="1328760"/>
            <a:ext cx="3319200" cy="2913120"/>
            <a:chOff x="5624640" y="1328760"/>
            <a:chExt cx="3319200" cy="2913120"/>
          </a:xfrm>
        </p:grpSpPr>
        <p:sp>
          <p:nvSpPr>
            <p:cNvPr id="198" name=""/>
            <p:cNvSpPr/>
            <p:nvPr/>
          </p:nvSpPr>
          <p:spPr>
            <a:xfrm>
              <a:off x="5624640" y="1328760"/>
              <a:ext cx="3319200" cy="291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5674320" y="1340640"/>
              <a:ext cx="3269160" cy="286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765000" y="4954680"/>
            <a:ext cx="7815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00080" y="1595520"/>
            <a:ext cx="7166160" cy="502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667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: brittl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Coulomb-Mohr, modified-Mohr, and normal stress theo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Experimental observ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81080" y="1749600"/>
            <a:ext cx="6975360" cy="471960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5224320" y="2500200"/>
            <a:ext cx="658800" cy="2746440"/>
            <a:chOff x="5224320" y="2500200"/>
            <a:chExt cx="658800" cy="2746440"/>
          </a:xfrm>
        </p:grpSpPr>
        <p:sp>
          <p:nvSpPr>
            <p:cNvPr id="205" name=""/>
            <p:cNvSpPr/>
            <p:nvPr/>
          </p:nvSpPr>
          <p:spPr>
            <a:xfrm>
              <a:off x="5263920" y="25192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3400" y="2500200"/>
              <a:ext cx="9720" cy="1265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224320" y="3741480"/>
              <a:ext cx="658800" cy="1505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134040" y="2435400"/>
            <a:ext cx="16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odified-Mo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/>
  <dc:language>en-US</dc:language>
  <cp:lastModifiedBy>norton</cp:lastModifiedBy>
  <cp:lastPrinted>2005-01-31T15:49:15Z</cp:lastPrinted>
  <dcterms:modified xsi:type="dcterms:W3CDTF">2006-01-08T00:18:25Z</dcterms:modified>
  <cp:revision>338</cp:revision>
  <dc:subject/>
  <dc:title>Lect10-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