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6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4CA1-E619-4A6D-B2E1-27318D99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644-7BBD-4617-9112-BC68A731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1F2-C5A6-4B90-B135-EDB7B3E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A69-AE57-456A-99B0-6A9A584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89A-6226-4777-A6D4-352F6798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09C-6E83-49D3-A52C-94A5D152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9A464-D1BD-4A4A-8AF5-784F3B15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B29E8-41C9-4177-A918-E009F8D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6B067-1908-4203-8FB3-64940CF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ABD0A-7F81-47D0-A7E7-BD377A0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AAC39-89B4-4B82-80EA-876ED00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65473-BC2F-4E99-B5D9-CEBAD25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DCC3-0AAA-4E84-BC06-AEC1F93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598-2D72-415D-B81E-3B8211B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94B11-1680-4A2C-9454-14D2208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99B3-CFB1-44EA-95D4-1E0CC36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8FBE0-AD49-4C40-AD99-26923EE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972FB-CC5D-4534-8E4D-D5A4D0E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88FD-BAE7-479D-8304-EF5835D0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CC33-A97F-4663-9462-A6925608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6454-E82F-45D9-85C5-C159B673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CCCE-4BAD-4B6F-9D46-59CD2A2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DF83-CEFB-4079-A27F-09434672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EA6A-3207-4E3A-B827-80738E3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26D-8138-49EE-A732-B5B67FC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9751-1634-48A3-AF3C-76AE142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9F08-2058-49EC-9EBC-E7A32A0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1916-D5F7-47BF-96EB-06367DB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ABC5-FD7F-4E7F-B198-538A4F7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7A6B-FF3D-4B28-B5A0-E0B0414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CF7E-7089-4D9A-97F9-18F2BBD8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F942-251A-4042-A449-695B4DBF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D17-C089-4F28-969A-1E9DB81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B35-D987-4FC5-A690-5FF0BF4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7D6-20E5-4696-88C5-D30CD3E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9CB-2A92-49C6-BCBF-0CE53A8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EE1-8D66-42B9-8417-629FD54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8AD-558E-4A61-A3F6-009F144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9C9-E98D-4DE8-8BDB-87706EBC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EC3-4777-47A7-A2E5-CDBBD85D5B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EE3-5BF7-42C5-9843-AD05E6ACC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88320" y="7167600"/>
            <a:ext cx="1255680" cy="61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aft Design 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20 Lectur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74560" y="1276200"/>
            <a:ext cx="8388360" cy="501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ailure envelope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atigue failure is taken into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26920" y="1461960"/>
            <a:ext cx="3400560" cy="4705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976640" y="2147760"/>
            <a:ext cx="3546720" cy="4010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184640" y="1360440"/>
            <a:ext cx="478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Comic Sans MS"/>
              </a:rPr>
              <a:t>Experimental data and fatigue failure envelope.  See ANSI/ASME standard B106.1M-1985 on “design of transmission shafting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" y="1190520"/>
            <a:ext cx="8102520" cy="537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ailure Envelop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97040" y="2717640"/>
            <a:ext cx="7821360" cy="376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560680" y="1306440"/>
            <a:ext cx="262404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319720" y="1549440"/>
            <a:ext cx="1881360" cy="633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43040" y="1285920"/>
            <a:ext cx="4699080" cy="1170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8680" y="1476360"/>
            <a:ext cx="8539200" cy="517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ASME method: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ully-reversed bending and constant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 do NOT recommend using this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" y="156528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Gough ellipse failure envelope (shown befor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afety factor: </a:t>
            </a:r>
            <a:r>
              <a:rPr b="1" i="1" lang="en-US" sz="1800" spc="-1" strike="noStrike">
                <a:solidFill>
                  <a:srgbClr val="000066"/>
                </a:solidFill>
                <a:latin typeface="Arial Rounded MT Bold"/>
              </a:rPr>
              <a:t>N</a:t>
            </a:r>
            <a:r>
              <a:rPr b="1" i="1" lang="en-US" sz="1800" spc="-1" strike="noStrike" baseline="-14000">
                <a:solidFill>
                  <a:srgbClr val="000066"/>
                </a:solidFill>
                <a:latin typeface="Arial Rounded MT Bol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stress in bending and mean torsional stresses: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406680" y="1914480"/>
                <a:ext cx="1846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743880" y="2932200"/>
                <a:ext cx="912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442280" y="3689280"/>
                <a:ext cx="71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157640" y="4303800"/>
                <a:ext cx="43750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f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fsm</m:t>
                                                </m:r>
                                              </m:sub>
                                            </m:sSub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S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y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450800" y="5607000"/>
            <a:ext cx="60325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46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this more conservative, more general meth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520" y="1616040"/>
            <a:ext cx="8388360" cy="491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960" y="169380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ased on von Mises stresses (alternating and mea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dified Goodman Line failure envelope is given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on Mises stress in shear (strain-energy theo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Amplitude and mean stress components in bending and shear: (corrected for fatigue stress-concentratio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haft diameter is calculat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791400" y="2225520"/>
                <a:ext cx="157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σ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775560" y="3097080"/>
                <a:ext cx="9126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999120" y="4102200"/>
                <a:ext cx="1576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95440" y="5118120"/>
                <a:ext cx="6486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f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a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M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4</m:t>
                                            </m:r>
                                          </m:den>
                                        </m:f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fsm</m:t>
                                                    </m:r>
                                                  </m:sub>
                                                </m:sSub>
                                                <m:sSub>
                                                  <m:e>
                                                    <m:r>
                                                      <m:t xml:space="preserve">T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m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189920" y="1700280"/>
                <a:ext cx="839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0200" y="1298520"/>
            <a:ext cx="8856720" cy="543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2001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luctuating bending and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39760" y="2049480"/>
            <a:ext cx="7445160" cy="4492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202360" y="1332000"/>
            <a:ext cx="394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ean and alter. torque are both 74 lb-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afety factor: 2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Infinite lif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aterial: SAE1020 (good notch sensitivit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Operating conditions: room 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Power: 2HP at 1750 r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814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CF of 3.5 for radii in bending, 2 in torsion, and 4 at the key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1480" y="1449360"/>
            <a:ext cx="3042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ee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: Example 9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57240" y="1519200"/>
            <a:ext cx="7346880" cy="46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44720" y="156996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ple shafts: refer to notes from previous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44720" y="214164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epped shafts: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calculations become more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679400" y="2867040"/>
                <a:ext cx="5619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ment function determined using singularity fun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522440" y="382428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t is required the integration of equ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649760" y="3745080"/>
                <a:ext cx="2143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op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649760" y="4414680"/>
                <a:ext cx="33242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flectio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lop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593720" y="5146560"/>
            <a:ext cx="619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umerical integration is prefer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see MathCad or TK Example EX09-03 and EX09-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33320" y="1231920"/>
            <a:ext cx="7815240" cy="525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eflection: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930920" y="5653080"/>
                <a:ext cx="235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162320" y="144936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541840" y="1855800"/>
                <a:ext cx="874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162320" y="24336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rsional spring constant (simple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235480" y="3075120"/>
                <a:ext cx="1482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162320" y="392256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gular deflection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280040" y="4313160"/>
                <a:ext cx="3827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4162320" y="492912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ffective torsional spring constant (stepped shaf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05360" y="139860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05360" y="3884760"/>
            <a:ext cx="4297320" cy="24177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49440" y="1944720"/>
            <a:ext cx="3208320" cy="3661920"/>
            <a:chOff x="649440" y="1944720"/>
            <a:chExt cx="3208320" cy="3661920"/>
          </a:xfrm>
        </p:grpSpPr>
        <p:grpSp>
          <p:nvGrpSpPr>
            <p:cNvPr id="366" name=""/>
            <p:cNvGrpSpPr/>
            <p:nvPr/>
          </p:nvGrpSpPr>
          <p:grpSpPr>
            <a:xfrm>
              <a:off x="649440" y="1944720"/>
              <a:ext cx="3208320" cy="3463200"/>
              <a:chOff x="649440" y="1944720"/>
              <a:chExt cx="3208320" cy="3463200"/>
            </a:xfrm>
          </p:grpSpPr>
          <p:pic>
            <p:nvPicPr>
              <p:cNvPr id="3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200" y="2036520"/>
                <a:ext cx="2409840" cy="33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649440" y="1944720"/>
                <a:ext cx="320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mic Sans MS"/>
                  </a:rPr>
                  <a:t>Single di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67200" y="4152600"/>
              <a:ext cx="122040" cy="1454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76560" y="4151160"/>
              <a:ext cx="1381320" cy="74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640240" y="5000400"/>
                  <a:ext cx="3110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Natural Frequenc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7920" y="1158840"/>
            <a:ext cx="8643960" cy="547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6496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82600" y="1515960"/>
            <a:ext cx="3006720" cy="2059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253120" y="1558800"/>
            <a:ext cx="3006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542880" y="3660840"/>
            <a:ext cx="4684680" cy="2889000"/>
            <a:chOff x="542880" y="3660840"/>
            <a:chExt cx="4684680" cy="2889000"/>
          </a:xfrm>
        </p:grpSpPr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542880" y="3660840"/>
              <a:ext cx="468468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flipH="1">
              <a:off x="4320720" y="508464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320720" y="51991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320720" y="5427720"/>
              <a:ext cx="669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383160" y="4813200"/>
                <a:ext cx="1270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5580000" y="4172040"/>
            <a:ext cx="32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FEM model solves the discrete version of eq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0" y="537696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Also written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76960" y="5805360"/>
                <a:ext cx="156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069920" y="125892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A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76640" y="123840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omain discre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43560" y="4035600"/>
            <a:ext cx="3262320" cy="22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3960" y="1295280"/>
            <a:ext cx="7878600" cy="538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Natural frequencies of vibration: FEM model of gear-sh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240" y="125568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presentativ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432080" y="1973160"/>
            <a:ext cx="254160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607000" y="197316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380960" y="4470480"/>
            <a:ext cx="2541600" cy="2054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5597640" y="4470480"/>
            <a:ext cx="2541600" cy="2054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7080" y="1690560"/>
            <a:ext cx="41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1 (fundamental) ~ 10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76800" y="169056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2 ~ 12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7476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3 ~ 134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76800" y="4195800"/>
            <a:ext cx="32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Mode shape #4 ~ 5320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8960" y="1308240"/>
            <a:ext cx="8453520" cy="537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tapered roller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629160" y="1501920"/>
            <a:ext cx="4889520" cy="5018040"/>
            <a:chOff x="3629160" y="1501920"/>
            <a:chExt cx="4889520" cy="5018040"/>
          </a:xfrm>
        </p:grpSpPr>
        <p:sp>
          <p:nvSpPr>
            <p:cNvPr id="156" name=""/>
            <p:cNvSpPr/>
            <p:nvPr/>
          </p:nvSpPr>
          <p:spPr>
            <a:xfrm>
              <a:off x="3629160" y="1501920"/>
              <a:ext cx="488952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360" y="1658880"/>
              <a:ext cx="4532400" cy="4708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897360" y="1776240"/>
              <a:ext cx="4327560" cy="44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584280" y="1509840"/>
            <a:ext cx="2882880" cy="5018040"/>
            <a:chOff x="584280" y="1509840"/>
            <a:chExt cx="2882880" cy="5018040"/>
          </a:xfrm>
        </p:grpSpPr>
        <p:sp>
          <p:nvSpPr>
            <p:cNvPr id="160" name=""/>
            <p:cNvSpPr/>
            <p:nvPr/>
          </p:nvSpPr>
          <p:spPr>
            <a:xfrm>
              <a:off x="584280" y="1509840"/>
              <a:ext cx="2882880" cy="501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12720" y="1568520"/>
              <a:ext cx="2770200" cy="4779720"/>
              <a:chOff x="612720" y="1568520"/>
              <a:chExt cx="2770200" cy="4779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12720" y="1568520"/>
                <a:ext cx="2770200" cy="174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Comic Sans MS"/>
                  </a:rPr>
                  <a:t>Double reduction spur gear: </a:t>
                </a:r>
                <a:r>
                  <a:rPr b="0" lang="en-US" sz="1400" spc="-1" strike="noStrike">
                    <a:solidFill>
                      <a:srgbClr val="000066"/>
                    </a:solidFill>
                    <a:latin typeface="Comic Sans MS"/>
                  </a:rPr>
                  <a:t>maximum shaft diameter (largest bearing location) is 180 mm.  Input power is 1500 HP at maximum speed of 1500 rpm.  Gear ratio is 8: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349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040" y="3589200"/>
                <a:ext cx="2376360" cy="275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65400" y="1882800"/>
            <a:ext cx="6559560" cy="437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ransvers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ransvers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300400" y="1962000"/>
            <a:ext cx="5025960" cy="2681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04920" y="525456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ing Rayleigh’s metho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498920" y="4826160"/>
                <a:ext cx="19652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38320" y="2104920"/>
            <a:ext cx="7111800" cy="391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523880" y="2284560"/>
            <a:ext cx="2409840" cy="33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156360" y="2490840"/>
                <a:ext cx="115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014720" y="263520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ple sha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976640" y="3301920"/>
                <a:ext cx="2686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175280" y="4140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 stepped shaf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05440" y="34416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48280" y="4576680"/>
                <a:ext cx="17906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284120" y="2192400"/>
            <a:ext cx="32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ngle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77720" y="2041560"/>
            <a:ext cx="8239320" cy="416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stimation of fundamental 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torsional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irst natur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819520" y="5259240"/>
                <a:ext cx="21603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746440" y="476100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atural frequen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91360" y="4137120"/>
                <a:ext cx="1812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ective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5907240" y="2357280"/>
            <a:ext cx="2771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e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1)                  are mass moment of iner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2) Effective torsional stiffness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286680" y="2774880"/>
                <a:ext cx="102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1349280" y="210492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wo disk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20640" y="2438280"/>
            <a:ext cx="4929120" cy="2159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946840" y="48322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(when two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steps define shaft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46280" y="1477800"/>
            <a:ext cx="7951680" cy="506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71560" y="1427040"/>
            <a:ext cx="3009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ee: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Example 9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19080" y="1805040"/>
            <a:ext cx="7701120" cy="4646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: transverse &amp; torsional modes of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Keyway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(review Examples 9-4 and 9-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Keys and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330720" y="1627200"/>
            <a:ext cx="5599080" cy="13096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936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ction of shaft with g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27600" y="128412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865600" y="3105000"/>
            <a:ext cx="6148080" cy="30434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709560" y="1627200"/>
            <a:ext cx="2715840" cy="3684600"/>
            <a:chOff x="709560" y="1627200"/>
            <a:chExt cx="2715840" cy="3684600"/>
          </a:xfrm>
        </p:grpSpPr>
        <p:sp>
          <p:nvSpPr>
            <p:cNvPr id="438" name=""/>
            <p:cNvSpPr/>
            <p:nvPr/>
          </p:nvSpPr>
          <p:spPr>
            <a:xfrm>
              <a:off x="1901880" y="2014560"/>
              <a:ext cx="54936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09560" y="1946160"/>
              <a:ext cx="1834920" cy="3365640"/>
              <a:chOff x="709560" y="1946160"/>
              <a:chExt cx="1834920" cy="33656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709560" y="1946160"/>
                <a:ext cx="1834920" cy="3301920"/>
                <a:chOff x="709560" y="1946160"/>
                <a:chExt cx="1834920" cy="3301920"/>
              </a:xfrm>
            </p:grpSpPr>
            <p:pic>
              <p:nvPicPr>
                <p:cNvPr id="44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9560" y="1946160"/>
                  <a:ext cx="1834920" cy="330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>
                  <a:off x="1949400" y="2043000"/>
                  <a:ext cx="549000" cy="265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92000" y="4753080"/>
                <a:ext cx="72252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513160" y="2550960"/>
              <a:ext cx="912240" cy="509760"/>
              <a:chOff x="2513160" y="2550960"/>
              <a:chExt cx="912240" cy="509760"/>
            </a:xfrm>
          </p:grpSpPr>
          <p:sp>
            <p:nvSpPr>
              <p:cNvPr id="445" name=""/>
              <p:cNvSpPr/>
              <p:nvPr/>
            </p:nvSpPr>
            <p:spPr>
              <a:xfrm>
                <a:off x="2513160" y="2857320"/>
                <a:ext cx="549000" cy="20340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33400" y="255096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Sha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874880" y="1627200"/>
              <a:ext cx="934920" cy="509400"/>
              <a:chOff x="1874880" y="1627200"/>
              <a:chExt cx="934920" cy="509400"/>
            </a:xfrm>
          </p:grpSpPr>
          <p:sp>
            <p:nvSpPr>
              <p:cNvPr id="448" name=""/>
              <p:cNvSpPr/>
              <p:nvPr/>
            </p:nvSpPr>
            <p:spPr>
              <a:xfrm>
                <a:off x="1874880" y="1933560"/>
                <a:ext cx="549360" cy="203040"/>
              </a:xfrm>
              <a:custGeom>
                <a:avLst/>
                <a:gdLst/>
                <a:ahLst/>
                <a:rect l="l" t="t" r="r" b="b"/>
                <a:pathLst>
                  <a:path w="346" h="128">
                    <a:moveTo>
                      <a:pt x="0" y="128"/>
                    </a:moveTo>
                    <a:cubicBezTo>
                      <a:pt x="65" y="79"/>
                      <a:pt x="130" y="31"/>
                      <a:pt x="160" y="25"/>
                    </a:cubicBezTo>
                    <a:cubicBezTo>
                      <a:pt x="190" y="19"/>
                      <a:pt x="148" y="93"/>
                      <a:pt x="179" y="89"/>
                    </a:cubicBezTo>
                    <a:cubicBezTo>
                      <a:pt x="210" y="85"/>
                      <a:pt x="320" y="14"/>
                      <a:pt x="346" y="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19320" y="1627200"/>
                <a:ext cx="69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Ge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Stress concentration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83040" y="1263600"/>
            <a:ext cx="28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veral styles of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6120" y="366228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tress-concentration in double-ended milled key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558800" y="1563840"/>
            <a:ext cx="6070680" cy="18032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46040" y="3925800"/>
            <a:ext cx="79074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3808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Comic Sans MS"/>
              </a:rPr>
              <a:t>Determination of safety factors in key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46040" y="1378080"/>
            <a:ext cx="2957760" cy="1409040"/>
            <a:chOff x="1346040" y="1378080"/>
            <a:chExt cx="2957760" cy="1409040"/>
          </a:xfrm>
        </p:grpSpPr>
        <p:grpSp>
          <p:nvGrpSpPr>
            <p:cNvPr id="457" name=""/>
            <p:cNvGrpSpPr/>
            <p:nvPr/>
          </p:nvGrpSpPr>
          <p:grpSpPr>
            <a:xfrm>
              <a:off x="1412640" y="1378080"/>
              <a:ext cx="2824200" cy="1409040"/>
              <a:chOff x="1412640" y="1378080"/>
              <a:chExt cx="2824200" cy="1409040"/>
            </a:xfrm>
          </p:grpSpPr>
          <p:sp>
            <p:nvSpPr>
              <p:cNvPr id="458" name=""/>
              <p:cNvSpPr/>
              <p:nvPr/>
            </p:nvSpPr>
            <p:spPr>
              <a:xfrm>
                <a:off x="1412640" y="137808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tangential forces acting on keyway: (alternating and mea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9" name=""/>
                  <p:cNvSpPr txBox="1"/>
                  <p:nvPr/>
                </p:nvSpPr>
                <p:spPr>
                  <a:xfrm>
                    <a:off x="1863360" y="2198520"/>
                    <a:ext cx="1924200" cy="58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0" name=""/>
            <p:cNvSpPr/>
            <p:nvPr/>
          </p:nvSpPr>
          <p:spPr>
            <a:xfrm>
              <a:off x="1346040" y="1403280"/>
              <a:ext cx="2957760" cy="13615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346040" y="2814480"/>
            <a:ext cx="2957760" cy="1812960"/>
            <a:chOff x="1346040" y="2814480"/>
            <a:chExt cx="2957760" cy="1812960"/>
          </a:xfrm>
        </p:grpSpPr>
        <p:sp>
          <p:nvSpPr>
            <p:cNvPr id="462" name=""/>
            <p:cNvSpPr/>
            <p:nvPr/>
          </p:nvSpPr>
          <p:spPr>
            <a:xfrm>
              <a:off x="2825640" y="2814480"/>
              <a:ext cx="0" cy="40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412640" y="3225600"/>
              <a:ext cx="2824200" cy="1401840"/>
              <a:chOff x="1412640" y="3225600"/>
              <a:chExt cx="2824200" cy="1401840"/>
            </a:xfrm>
          </p:grpSpPr>
          <p:sp>
            <p:nvSpPr>
              <p:cNvPr id="464" name=""/>
              <p:cNvSpPr/>
              <p:nvPr/>
            </p:nvSpPr>
            <p:spPr>
              <a:xfrm>
                <a:off x="1412640" y="3225600"/>
                <a:ext cx="2824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etermine shear stresses on keyway (alternating and mean)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566720" y="4016160"/>
                    <a:ext cx="2514600" cy="61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hear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6" name=""/>
            <p:cNvSpPr/>
            <p:nvPr/>
          </p:nvSpPr>
          <p:spPr>
            <a:xfrm>
              <a:off x="1346040" y="3260520"/>
              <a:ext cx="295776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336680" y="4729320"/>
            <a:ext cx="2957400" cy="1293120"/>
            <a:chOff x="1336680" y="4729320"/>
            <a:chExt cx="2957400" cy="1293120"/>
          </a:xfrm>
        </p:grpSpPr>
        <p:sp>
          <p:nvSpPr>
            <p:cNvPr id="468" name=""/>
            <p:cNvSpPr/>
            <p:nvPr/>
          </p:nvSpPr>
          <p:spPr>
            <a:xfrm>
              <a:off x="1412640" y="5162400"/>
              <a:ext cx="2824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von Mises stresses on keyway: (alternating and mea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25640" y="4729320"/>
              <a:ext cx="0" cy="40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36680" y="5189400"/>
              <a:ext cx="2957400" cy="8330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343400" y="5162400"/>
            <a:ext cx="3475080" cy="860400"/>
            <a:chOff x="4343400" y="5162400"/>
            <a:chExt cx="3475080" cy="860400"/>
          </a:xfrm>
        </p:grpSpPr>
        <p:sp>
          <p:nvSpPr>
            <p:cNvPr id="472" name=""/>
            <p:cNvSpPr/>
            <p:nvPr/>
          </p:nvSpPr>
          <p:spPr>
            <a:xfrm>
              <a:off x="4343400" y="5574960"/>
              <a:ext cx="476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9960" y="5162400"/>
              <a:ext cx="249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using modified Goodman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0720" y="5189400"/>
              <a:ext cx="2957760" cy="83340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862520" y="3265560"/>
            <a:ext cx="2957400" cy="1851120"/>
            <a:chOff x="4862520" y="3265560"/>
            <a:chExt cx="2957400" cy="1851120"/>
          </a:xfrm>
        </p:grpSpPr>
        <p:sp>
          <p:nvSpPr>
            <p:cNvPr id="476" name=""/>
            <p:cNvSpPr/>
            <p:nvPr/>
          </p:nvSpPr>
          <p:spPr>
            <a:xfrm>
              <a:off x="6326280" y="4395960"/>
              <a:ext cx="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17960" y="3292560"/>
              <a:ext cx="282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Determine bearing stres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356080" y="3670560"/>
                  <a:ext cx="19465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9" name=""/>
            <p:cNvSpPr/>
            <p:nvPr/>
          </p:nvSpPr>
          <p:spPr>
            <a:xfrm>
              <a:off x="4862520" y="3265560"/>
              <a:ext cx="2957400" cy="10778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851360" y="1378080"/>
            <a:ext cx="2957400" cy="1830240"/>
            <a:chOff x="4851360" y="1378080"/>
            <a:chExt cx="2957400" cy="183024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367240" y="1992600"/>
                  <a:ext cx="19242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arin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earin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6329160" y="2814840"/>
              <a:ext cx="1800" cy="39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8960" y="1378080"/>
              <a:ext cx="266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etermine safety factors for bearing failur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51360" y="1403640"/>
              <a:ext cx="2957400" cy="136188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39840" y="1063800"/>
            <a:ext cx="8528040" cy="538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0960" y="1227240"/>
            <a:ext cx="82533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99"/>
              </a:spcBef>
              <a:buClr>
                <a:srgbClr val="3333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Some design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Shafts can be designed to minimize both stresses and deflections: use the shortest shaft possible to reduce bending mo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Cantilever configurations typically have larger def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Sometimes, hollow shafts are utilized (better stiffness/mass ratio), however, may be more expen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Minimize stress-concentration features -- particularly in regions subjected to high bending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Use low-carbon steels when designing shafts subjected to minimum deflection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When using gears, shaft deflections at gear locations cannot exceed 0.005 in (127 µm) and slopes cannot exceed 0.03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If plain bearings are used, slopes at gear locations cannot exceed 0.04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If plain bearings are used, deflections at gear locations should be less than the oil-film thickness in the 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First natural frequency should be at least 3-times larger than the highest frequency expected 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… </a:t>
            </a:r>
            <a:r>
              <a:rPr b="0" lang="en-US" sz="1600" spc="-1" strike="noStrike">
                <a:solidFill>
                  <a:srgbClr val="000066"/>
                </a:solidFill>
                <a:latin typeface="Arial Rounded MT Bold"/>
              </a:rPr>
              <a:t>Consult standards for additional considerations… (ASME, AGMA…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8840" y="380880"/>
            <a:ext cx="67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ample of rotating machinery: self-aligning ball 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3840" y="1222200"/>
            <a:ext cx="9020160" cy="5508720"/>
            <a:chOff x="123840" y="1222200"/>
            <a:chExt cx="9020160" cy="5508720"/>
          </a:xfrm>
        </p:grpSpPr>
        <p:sp>
          <p:nvSpPr>
            <p:cNvPr id="166" name=""/>
            <p:cNvSpPr/>
            <p:nvPr/>
          </p:nvSpPr>
          <p:spPr>
            <a:xfrm>
              <a:off x="174600" y="1222200"/>
              <a:ext cx="8878680" cy="550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12720" y="1855800"/>
              <a:ext cx="806292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43040" y="5099040"/>
              <a:ext cx="60199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Cutting shaft of a planer: </a:t>
              </a:r>
              <a:r>
                <a:rPr b="0" lang="en-US" sz="1400" spc="-1" strike="noStrike">
                  <a:solidFill>
                    <a:srgbClr val="000066"/>
                  </a:solidFill>
                  <a:latin typeface="Comic Sans MS"/>
                </a:rPr>
                <a:t>shaft diameter (bearings locations) is 40 mm.  Input power is 12 HP at maximum speed of 4500 r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985840" y="1257480"/>
              <a:ext cx="2854440" cy="1263600"/>
              <a:chOff x="2985840" y="1257480"/>
              <a:chExt cx="2854440" cy="1263600"/>
            </a:xfrm>
          </p:grpSpPr>
          <p:sp>
            <p:nvSpPr>
              <p:cNvPr id="170" name=""/>
              <p:cNvSpPr/>
              <p:nvPr/>
            </p:nvSpPr>
            <p:spPr>
              <a:xfrm>
                <a:off x="4836960" y="1824120"/>
                <a:ext cx="372960" cy="6969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85840" y="1257480"/>
                <a:ext cx="285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haft: used for transmission of power and as a machining 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078680" y="1461960"/>
              <a:ext cx="1420560" cy="741600"/>
              <a:chOff x="7078680" y="1461960"/>
              <a:chExt cx="1420560" cy="741600"/>
            </a:xfrm>
          </p:grpSpPr>
          <p:sp>
            <p:nvSpPr>
              <p:cNvPr id="173" name=""/>
              <p:cNvSpPr/>
              <p:nvPr/>
            </p:nvSpPr>
            <p:spPr>
              <a:xfrm>
                <a:off x="7078680" y="1461960"/>
                <a:ext cx="14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Input pull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34240" y="1762200"/>
                <a:ext cx="178920" cy="44136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rcRect l="0" t="0" r="0" b="8382"/>
            <a:stretch/>
          </p:blipFill>
          <p:spPr>
            <a:xfrm>
              <a:off x="244440" y="4451400"/>
              <a:ext cx="22431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30000" y="154476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Loc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less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19640" y="4348080"/>
              <a:ext cx="17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Floating bearing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Comic Sans MS"/>
                </a:rPr>
                <a:t>(heavier 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067520" y="3163680"/>
              <a:ext cx="1108080" cy="1463040"/>
              <a:chOff x="7067520" y="3163680"/>
              <a:chExt cx="1108080" cy="1463040"/>
            </a:xfrm>
          </p:grpSpPr>
          <p:sp>
            <p:nvSpPr>
              <p:cNvPr id="179" name=""/>
              <p:cNvSpPr/>
              <p:nvPr/>
            </p:nvSpPr>
            <p:spPr>
              <a:xfrm flipH="1" flipV="1">
                <a:off x="7623000" y="3163320"/>
                <a:ext cx="246240" cy="118260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67520" y="4319640"/>
                <a:ext cx="110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500440" y="1660680"/>
              <a:ext cx="1971720" cy="679320"/>
              <a:chOff x="5500440" y="1660680"/>
              <a:chExt cx="1971720" cy="679320"/>
            </a:xfrm>
          </p:grpSpPr>
          <p:sp>
            <p:nvSpPr>
              <p:cNvPr id="182" name=""/>
              <p:cNvSpPr/>
              <p:nvPr/>
            </p:nvSpPr>
            <p:spPr>
              <a:xfrm>
                <a:off x="5500440" y="1660680"/>
                <a:ext cx="1971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Lubrication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24560" y="1930320"/>
                <a:ext cx="160200" cy="40968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405640" y="2249640"/>
              <a:ext cx="738360" cy="779400"/>
              <a:chOff x="8405640" y="2249640"/>
              <a:chExt cx="738360" cy="779400"/>
            </a:xfrm>
          </p:grpSpPr>
          <p:sp>
            <p:nvSpPr>
              <p:cNvPr id="185" name=""/>
              <p:cNvSpPr/>
              <p:nvPr/>
            </p:nvSpPr>
            <p:spPr>
              <a:xfrm>
                <a:off x="8405640" y="224964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C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45600" y="2549520"/>
                <a:ext cx="25236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23840" y="2033640"/>
              <a:ext cx="890640" cy="971640"/>
              <a:chOff x="123840" y="2033640"/>
              <a:chExt cx="890640" cy="971640"/>
            </a:xfrm>
          </p:grpSpPr>
          <p:sp>
            <p:nvSpPr>
              <p:cNvPr id="188" name=""/>
              <p:cNvSpPr/>
              <p:nvPr/>
            </p:nvSpPr>
            <p:spPr>
              <a:xfrm>
                <a:off x="123840" y="2033640"/>
                <a:ext cx="89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99"/>
                    </a:solidFill>
                    <a:latin typeface="Comic Sans MS"/>
                  </a:rPr>
                  <a:t>Sealed bearin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21720" y="2525760"/>
                <a:ext cx="285480" cy="479520"/>
              </a:xfrm>
              <a:custGeom>
                <a:avLst/>
                <a:gdLst/>
                <a:ahLst/>
                <a:rect l="l" t="t" r="r" b="b"/>
                <a:pathLst>
                  <a:path w="319" h="676">
                    <a:moveTo>
                      <a:pt x="18" y="659"/>
                    </a:moveTo>
                    <a:cubicBezTo>
                      <a:pt x="9" y="667"/>
                      <a:pt x="0" y="676"/>
                      <a:pt x="44" y="620"/>
                    </a:cubicBezTo>
                    <a:cubicBezTo>
                      <a:pt x="88" y="564"/>
                      <a:pt x="273" y="370"/>
                      <a:pt x="281" y="320"/>
                    </a:cubicBezTo>
                    <a:cubicBezTo>
                      <a:pt x="289" y="270"/>
                      <a:pt x="89" y="373"/>
                      <a:pt x="95" y="320"/>
                    </a:cubicBezTo>
                    <a:cubicBezTo>
                      <a:pt x="101" y="267"/>
                      <a:pt x="284" y="52"/>
                      <a:pt x="319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50560" y="4927680"/>
              <a:ext cx="1960560" cy="5983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12760" y="179280"/>
            <a:ext cx="84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ages of crack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71520" y="1073160"/>
            <a:ext cx="8507520" cy="5657760"/>
            <a:chOff x="371520" y="1073160"/>
            <a:chExt cx="8507520" cy="5657760"/>
          </a:xfrm>
        </p:grpSpPr>
        <p:sp>
          <p:nvSpPr>
            <p:cNvPr id="492" name=""/>
            <p:cNvSpPr/>
            <p:nvPr/>
          </p:nvSpPr>
          <p:spPr>
            <a:xfrm>
              <a:off x="371520" y="1073160"/>
              <a:ext cx="8507520" cy="5657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40160" y="1219320"/>
              <a:ext cx="3583080" cy="28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There are three stages of fatigue failure:</a:t>
              </a: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ack initiation: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ack propagation: 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dden fracture: 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51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mic Sans MS"/>
                </a:rPr>
                <a:t>Crack growth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ff0000"/>
                </a:buClr>
                <a:buSzPct val="150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Valid only in Region II (Paris-equation)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7000"/>
                </a:lnSpc>
                <a:spcBef>
                  <a:spcPts val="349"/>
                </a:spcBef>
                <a:buClr>
                  <a:srgbClr val="00cc00"/>
                </a:buClr>
                <a:buSzPct val="150000"/>
                <a:buFont typeface="Monotype Sorts" charset="2"/>
                <a:buChar char="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349"/>
                </a:spcBef>
                <a:buClr>
                  <a:srgbClr val="000000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58960" y="1179360"/>
              <a:ext cx="4192200" cy="3584520"/>
              <a:chOff x="858960" y="1179360"/>
              <a:chExt cx="4192200" cy="358452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58960" y="1179360"/>
                <a:ext cx="3822480" cy="35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1574640" y="276984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66960" y="2570040"/>
                <a:ext cx="139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59040" y="2568240"/>
                <a:ext cx="139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Reg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151680" y="3397320"/>
                  <a:ext cx="167796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Δ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65760" y="4178160"/>
                  <a:ext cx="299880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K</m:t>
                      </m:r>
                      <m:r>
                        <m:t xml:space="preserve">=</m:t>
                      </m:r>
                      <m:r>
                        <m:t xml:space="preserve">β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π</m:t>
                          </m:r>
                          <m:r>
                            <m:t xml:space="preserve">a</m:t>
                          </m:r>
                        </m:e>
                      </m:rad>
                      <m:r>
                        <m:t xml:space="preserve">(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1" name=""/>
            <p:cNvGrpSpPr/>
            <p:nvPr/>
          </p:nvGrpSpPr>
          <p:grpSpPr>
            <a:xfrm>
              <a:off x="6100920" y="4692600"/>
              <a:ext cx="2697120" cy="1278000"/>
              <a:chOff x="6100920" y="4692600"/>
              <a:chExt cx="2697120" cy="1278000"/>
            </a:xfrm>
          </p:grpSpPr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6289560" y="4692600"/>
                    <a:ext cx="15714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rack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3" name=""/>
                  <p:cNvSpPr txBox="1"/>
                  <p:nvPr/>
                </p:nvSpPr>
                <p:spPr>
                  <a:xfrm>
                    <a:off x="6232320" y="4943520"/>
                    <a:ext cx="180324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umber of cycle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4" name=""/>
                  <p:cNvSpPr txBox="1"/>
                  <p:nvPr/>
                </p:nvSpPr>
                <p:spPr>
                  <a:xfrm>
                    <a:off x="6100920" y="5181480"/>
                    <a:ext cx="26971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is-equation parameters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5" name=""/>
                  <p:cNvSpPr txBox="1"/>
                  <p:nvPr/>
                </p:nvSpPr>
                <p:spPr>
                  <a:xfrm>
                    <a:off x="6126120" y="5441760"/>
                    <a:ext cx="21999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tress intensity facto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6" name=""/>
                  <p:cNvSpPr txBox="1"/>
                  <p:nvPr/>
                </p:nvSpPr>
                <p:spPr>
                  <a:xfrm>
                    <a:off x="6254640" y="5708520"/>
                    <a:ext cx="213336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eometry-load fact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07" name=""/>
            <p:cNvGrpSpPr/>
            <p:nvPr/>
          </p:nvGrpSpPr>
          <p:grpSpPr>
            <a:xfrm>
              <a:off x="520560" y="4826160"/>
              <a:ext cx="5211720" cy="1753920"/>
              <a:chOff x="520560" y="4826160"/>
              <a:chExt cx="5211720" cy="1753920"/>
            </a:xfrm>
          </p:grpSpPr>
          <p:pic>
            <p:nvPicPr>
              <p:cNvPr id="508" name="" descr=""/>
              <p:cNvPicPr/>
              <p:nvPr/>
            </p:nvPicPr>
            <p:blipFill>
              <a:blip r:embed="rId2"/>
              <a:srcRect l="0" t="7808" r="0" b="3899"/>
              <a:stretch/>
            </p:blipFill>
            <p:spPr>
              <a:xfrm>
                <a:off x="520560" y="4862520"/>
                <a:ext cx="5211720" cy="16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539640" y="4826160"/>
                <a:ext cx="5168880" cy="175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 and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2960" y="2970360"/>
            <a:ext cx="76993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atigue failur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Stress-life (S-N) approac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used in HCF.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tress based model.  In this model, we seek to obtain designs in which the maximum cyclic stress induced in the component is lower than the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fatigue strengt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and/or </a:t>
            </a:r>
            <a:r>
              <a:rPr b="1" i="1" lang="en-US" sz="1400" spc="-1" strike="noStrike">
                <a:solidFill>
                  <a:srgbClr val="333399"/>
                </a:solidFill>
                <a:latin typeface="Comic Sans MS"/>
              </a:rPr>
              <a:t>endurance limit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of the material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rain-life 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-N) approach: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d in LCF.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Strain based model.  Used when the cyclic load is high enough to cause local yielding.  Also used when cyclic and thermal loads are considered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near-elastic fracture-mechanics (LEFM) approach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used in LCF and finite life situations.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 Used to design and model in the crack propagation stage (Region II).  Used when the cyclic load is high enough to cause the formation of cr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333399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2960" y="1828800"/>
            <a:ext cx="7677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atigue reg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-cycle fatigue (LC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igh-cycle fatigue (HCF)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Comic Sans MS"/>
              </a:rPr>
              <a:t>when number of cycles, 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Rounded MT Bold"/>
              </a:rPr>
              <a:t>N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 Rounded MT Bold"/>
              </a:rPr>
              <a:t> &gt; 10</a:t>
            </a:r>
            <a:r>
              <a:rPr b="0" lang="en-US" sz="1400" spc="-1" strike="noStrike" u="sng" baseline="30000">
                <a:solidFill>
                  <a:srgbClr val="333399"/>
                </a:solidFill>
                <a:uFillTx/>
                <a:latin typeface="Arial Rounded MT Bold"/>
              </a:rPr>
              <a:t>3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Comic Sans MS"/>
              </a:rPr>
              <a:t> cycles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rankshafts of cars rotate about </a:t>
            </a:r>
            <a:r>
              <a:rPr b="0" lang="en-US" sz="1400" spc="-1" strike="noStrike">
                <a:solidFill>
                  <a:srgbClr val="333399"/>
                </a:solidFill>
                <a:latin typeface="Arial Rounded MT Bold"/>
              </a:rPr>
              <a:t>2.5x10</a:t>
            </a:r>
            <a:r>
              <a:rPr b="0" lang="en-US" sz="1400" spc="-1" strike="noStrike" baseline="30000">
                <a:solidFill>
                  <a:srgbClr val="333399"/>
                </a:solidFill>
                <a:latin typeface="Arial Rounded MT Bold"/>
              </a:rPr>
              <a:t>8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cycles in </a:t>
            </a:r>
            <a:r>
              <a:rPr b="0" lang="en-US" sz="1400" spc="-1" strike="noStrike">
                <a:solidFill>
                  <a:srgbClr val="333399"/>
                </a:solidFill>
                <a:latin typeface="Arial Rounded MT Bold"/>
              </a:rPr>
              <a:t>100,000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m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00cc00"/>
              </a:buClr>
              <a:buSzPct val="15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22320" y="1190520"/>
            <a:ext cx="7677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Our design should minimize stress concentrations -- to minimize effects of c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1960" y="2898720"/>
            <a:ext cx="7864200" cy="1371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14360" y="1011240"/>
            <a:ext cx="8345520" cy="5667480"/>
            <a:chOff x="414360" y="1011240"/>
            <a:chExt cx="8345520" cy="5667480"/>
          </a:xfrm>
        </p:grpSpPr>
        <p:sp>
          <p:nvSpPr>
            <p:cNvPr id="517" name=""/>
            <p:cNvSpPr/>
            <p:nvPr/>
          </p:nvSpPr>
          <p:spPr>
            <a:xfrm>
              <a:off x="414360" y="1011240"/>
              <a:ext cx="8345520" cy="566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16160" y="1025640"/>
              <a:ext cx="53402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Wohler strength-life or S-N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1190520" y="2211480"/>
              <a:ext cx="7515360" cy="246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"/>
            <p:cNvGrpSpPr/>
            <p:nvPr/>
          </p:nvGrpSpPr>
          <p:grpSpPr>
            <a:xfrm>
              <a:off x="1770120" y="1438560"/>
              <a:ext cx="5902200" cy="666720"/>
              <a:chOff x="1770120" y="1438560"/>
              <a:chExt cx="5902200" cy="666720"/>
            </a:xfrm>
          </p:grpSpPr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7269120" y="1481400"/>
                    <a:ext cx="40320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"/>
              <p:cNvSpPr/>
              <p:nvPr/>
            </p:nvSpPr>
            <p:spPr>
              <a:xfrm>
                <a:off x="1770120" y="1438560"/>
                <a:ext cx="554184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Theoretical </a:t>
                </a:r>
                <a:r>
                  <a:rPr b="1" i="1" lang="en-US" sz="1600" spc="-1" strike="noStrike" u="sng">
                    <a:solidFill>
                      <a:srgbClr val="000066"/>
                    </a:solidFill>
                    <a:uFillTx/>
                    <a:latin typeface="Comic Sans MS"/>
                  </a:rPr>
                  <a:t>or uncorrected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 fatigue strength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1770120" y="1876680"/>
              <a:ext cx="5735520" cy="666720"/>
              <a:chOff x="1770120" y="1876680"/>
              <a:chExt cx="5735520" cy="666720"/>
            </a:xfrm>
          </p:grpSpPr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7149960" y="1924200"/>
                    <a:ext cx="35568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770120" y="1876680"/>
                <a:ext cx="554184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Theoretical </a:t>
                </a:r>
                <a:r>
                  <a:rPr b="1" i="1" lang="en-US" sz="1600" spc="-1" strike="noStrike" u="sng">
                    <a:solidFill>
                      <a:srgbClr val="000066"/>
                    </a:solidFill>
                    <a:uFillTx/>
                    <a:latin typeface="Comic Sans MS"/>
                  </a:rPr>
                  <a:t>or uncorrected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 endurance limi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571680" y="4432320"/>
              <a:ext cx="2995560" cy="2190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27" name=""/>
            <p:cNvGrpSpPr/>
            <p:nvPr/>
          </p:nvGrpSpPr>
          <p:grpSpPr>
            <a:xfrm>
              <a:off x="995400" y="2556000"/>
              <a:ext cx="1716840" cy="3839760"/>
              <a:chOff x="995400" y="2556000"/>
              <a:chExt cx="1716840" cy="3839760"/>
            </a:xfrm>
          </p:grpSpPr>
          <p:sp>
            <p:nvSpPr>
              <p:cNvPr id="528" name=""/>
              <p:cNvSpPr/>
              <p:nvPr/>
            </p:nvSpPr>
            <p:spPr>
              <a:xfrm>
                <a:off x="1944720" y="2556000"/>
                <a:ext cx="365040" cy="3650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95400" y="4759560"/>
                <a:ext cx="293760" cy="30456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331280" y="2881800"/>
                <a:ext cx="1380600" cy="351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21" y="817"/>
                    </a:moveTo>
                    <a:arcTo wR="10800" hR="10800" stAng="-4054259" swAng="331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21" y="817"/>
                    </a:moveTo>
                    <a:arcTo wR="10800" hR="10800" stAng="-4054259" swAng="3315257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92480" y="2683080"/>
                <a:ext cx="95040" cy="11412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Importan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00240" y="1204920"/>
            <a:ext cx="534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with a “knee”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54200" y="1617840"/>
            <a:ext cx="616248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Many low-strength carbon and alloy st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I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Molybd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itanium, and some poly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Knee typically appears at nearly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 Rounded MT Bold"/>
              </a:rPr>
              <a:t>6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Endurance limit a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 Rounded MT Bold"/>
              </a:rPr>
              <a:t>6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00240" y="3881520"/>
            <a:ext cx="7016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terial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without a “knee”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in the S-N cur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44480" y="4294080"/>
            <a:ext cx="68011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Aluminum, magnesium, 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Nickel all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ome stainless st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High-strength carbon and alloy ste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Fatigue strength a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5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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10</a:t>
            </a:r>
            <a:r>
              <a:rPr b="1" lang="en-US" sz="1600" spc="-1" strike="noStrike" u="sng" baseline="30000">
                <a:solidFill>
                  <a:srgbClr val="ff0000"/>
                </a:solidFill>
                <a:uFillTx/>
                <a:latin typeface="Arial Rounded MT Bold"/>
              </a:rPr>
              <a:t>8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mic Sans MS"/>
              </a:rPr>
              <a:t> cycles is typically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27120" y="2039760"/>
            <a:ext cx="7978680" cy="3668760"/>
            <a:chOff x="627120" y="2039760"/>
            <a:chExt cx="7978680" cy="3668760"/>
          </a:xfrm>
        </p:grpSpPr>
        <p:sp>
          <p:nvSpPr>
            <p:cNvPr id="539" name=""/>
            <p:cNvSpPr/>
            <p:nvPr/>
          </p:nvSpPr>
          <p:spPr>
            <a:xfrm>
              <a:off x="627120" y="2039760"/>
              <a:ext cx="7921440" cy="3668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807840" y="2182680"/>
              <a:ext cx="6603840" cy="2759040"/>
              <a:chOff x="807840" y="2182680"/>
              <a:chExt cx="6603840" cy="2759040"/>
            </a:xfrm>
          </p:grpSpPr>
          <p:pic>
            <p:nvPicPr>
              <p:cNvPr id="5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7840" y="2182680"/>
                <a:ext cx="6603840" cy="27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641240" y="3916080"/>
                <a:ext cx="258120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rought steel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1600" spc="-1" strike="noStrike" baseline="-14000">
                    <a:solidFill>
                      <a:srgbClr val="000000"/>
                    </a:solidFill>
                    <a:latin typeface="Times New Roman"/>
                  </a:rPr>
                  <a:t>ut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 &lt; 200 ks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943240" y="4709520"/>
              <a:ext cx="1565640" cy="643320"/>
              <a:chOff x="5943240" y="4709520"/>
              <a:chExt cx="1565640" cy="643320"/>
            </a:xfrm>
          </p:grpSpPr>
          <p:cxnSp>
            <p:nvCxnSpPr>
              <p:cNvPr id="544" name=""/>
              <p:cNvCxnSpPr/>
              <p:nvPr/>
            </p:nvCxnSpPr>
            <p:spPr>
              <a:xfrm rot="10800000">
                <a:off x="5942880" y="4709160"/>
                <a:ext cx="518400" cy="457920"/>
              </a:xfrm>
              <a:prstGeom prst="curvedConnector5">
                <a:avLst>
                  <a:gd name="adj1" fmla="val 77553"/>
                  <a:gd name="adj2" fmla="val 49960"/>
                  <a:gd name="adj3" fmla="val 77553"/>
                </a:avLst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</p:cxnSp>
          <p:sp>
            <p:nvSpPr>
              <p:cNvPr id="545" name=""/>
              <p:cNvSpPr/>
              <p:nvPr/>
            </p:nvSpPr>
            <p:spPr>
              <a:xfrm>
                <a:off x="6258240" y="4984560"/>
                <a:ext cx="12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“</a:t>
                </a:r>
                <a:r>
                  <a:rPr b="1" i="1" lang="en-US" sz="1800" spc="-1" strike="noStrike">
                    <a:solidFill>
                      <a:srgbClr val="333399"/>
                    </a:solidFill>
                    <a:latin typeface="Comic Sans MS"/>
                  </a:rPr>
                  <a:t>Knee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130880" y="3359160"/>
              <a:ext cx="1474920" cy="630000"/>
              <a:chOff x="7130880" y="3359160"/>
              <a:chExt cx="1474920" cy="630000"/>
            </a:xfrm>
          </p:grpSpPr>
          <p:sp>
            <p:nvSpPr>
              <p:cNvPr id="547" name=""/>
              <p:cNvSpPr/>
              <p:nvPr/>
            </p:nvSpPr>
            <p:spPr>
              <a:xfrm>
                <a:off x="7130880" y="3359160"/>
                <a:ext cx="147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333399"/>
                    </a:solidFill>
                    <a:latin typeface="Comic Sans MS"/>
                  </a:rPr>
                  <a:t>Endurance lim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2400" y="3889440"/>
                <a:ext cx="345960" cy="9972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218" y="0"/>
                    </a:moveTo>
                    <a:cubicBezTo>
                      <a:pt x="184" y="25"/>
                      <a:pt x="151" y="51"/>
                      <a:pt x="122" y="57"/>
                    </a:cubicBezTo>
                    <a:cubicBezTo>
                      <a:pt x="93" y="63"/>
                      <a:pt x="65" y="47"/>
                      <a:pt x="45" y="38"/>
                    </a:cubicBezTo>
                    <a:cubicBezTo>
                      <a:pt x="25" y="29"/>
                      <a:pt x="12" y="1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Experimental observations: materials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without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a “kne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06640" y="1339920"/>
            <a:ext cx="7027560" cy="4879800"/>
            <a:chOff x="1106640" y="1339920"/>
            <a:chExt cx="7027560" cy="4879800"/>
          </a:xfrm>
        </p:grpSpPr>
        <p:sp>
          <p:nvSpPr>
            <p:cNvPr id="551" name=""/>
            <p:cNvSpPr/>
            <p:nvPr/>
          </p:nvSpPr>
          <p:spPr>
            <a:xfrm>
              <a:off x="1106640" y="1339920"/>
              <a:ext cx="7027560" cy="48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1"/>
            <a:stretch/>
          </p:blipFill>
          <p:spPr>
            <a:xfrm>
              <a:off x="1355760" y="1452600"/>
              <a:ext cx="6580080" cy="459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88880" y="1616040"/>
            <a:ext cx="8410680" cy="479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imating fatigue failur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Based on experimental observations (bending, torsion, axial fatigue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52320" y="2108160"/>
            <a:ext cx="7596360" cy="809640"/>
            <a:chOff x="652320" y="2108160"/>
            <a:chExt cx="7596360" cy="809640"/>
          </a:xfrm>
        </p:grpSpPr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2016000" y="2108160"/>
                  <a:ext cx="273528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5110200" y="2124000"/>
                  <a:ext cx="31384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58" name=""/>
            <p:cNvSpPr/>
            <p:nvPr/>
          </p:nvSpPr>
          <p:spPr>
            <a:xfrm>
              <a:off x="652320" y="232884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steel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52320" y="3013200"/>
            <a:ext cx="7326360" cy="809640"/>
            <a:chOff x="652320" y="3013200"/>
            <a:chExt cx="7326360" cy="809640"/>
          </a:xfrm>
        </p:grpSpPr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016000" y="3013200"/>
                  <a:ext cx="262440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5110200" y="30290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"/>
            <p:cNvSpPr/>
            <p:nvPr/>
          </p:nvSpPr>
          <p:spPr>
            <a:xfrm>
              <a:off x="652320" y="322416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iro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85840" y="4363920"/>
            <a:ext cx="8389800" cy="851040"/>
            <a:chOff x="285840" y="436392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016000" y="436392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5807160" y="440064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66" name=""/>
            <p:cNvSpPr/>
            <p:nvPr/>
          </p:nvSpPr>
          <p:spPr>
            <a:xfrm>
              <a:off x="285840" y="4605480"/>
              <a:ext cx="16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aluminum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543040" y="163980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33680" y="3944880"/>
            <a:ext cx="42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me materials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withou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a “kne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85840" y="5383080"/>
            <a:ext cx="8389800" cy="851040"/>
            <a:chOff x="285840" y="5383080"/>
            <a:chExt cx="8389800" cy="851040"/>
          </a:xfrm>
        </p:grpSpPr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2016000" y="5383080"/>
                  <a:ext cx="349740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@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8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ksi 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 MPa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5807160" y="5419800"/>
                  <a:ext cx="2868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s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0 MPa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285840" y="5510160"/>
              <a:ext cx="16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For copper alloy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res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43080" y="1874880"/>
            <a:ext cx="3768480" cy="3021120"/>
            <a:chOff x="343080" y="1874880"/>
            <a:chExt cx="3768480" cy="3021120"/>
          </a:xfrm>
        </p:grpSpPr>
        <p:pic>
          <p:nvPicPr>
            <p:cNvPr id="575" name="" descr=""/>
            <p:cNvPicPr/>
            <p:nvPr/>
          </p:nvPicPr>
          <p:blipFill>
            <a:blip r:embed="rId1"/>
            <a:stretch/>
          </p:blipFill>
          <p:spPr>
            <a:xfrm>
              <a:off x="344520" y="2184480"/>
              <a:ext cx="376560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43080" y="1874880"/>
              <a:ext cx="37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Shaft and rotor of a turb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208400" y="1170000"/>
            <a:ext cx="4606920" cy="4960800"/>
            <a:chOff x="4208400" y="1170000"/>
            <a:chExt cx="4606920" cy="49608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208400" y="1482840"/>
              <a:ext cx="46069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552640" y="117000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99"/>
                  </a:solidFill>
                  <a:latin typeface="Comic Sans MS"/>
                </a:rPr>
                <a:t>CAE model of sh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492800" y="2865600"/>
            <a:ext cx="4003560" cy="1950840"/>
            <a:chOff x="4492800" y="2865600"/>
            <a:chExt cx="4003560" cy="1950840"/>
          </a:xfrm>
        </p:grpSpPr>
        <p:sp>
          <p:nvSpPr>
            <p:cNvPr id="581" name=""/>
            <p:cNvSpPr/>
            <p:nvPr/>
          </p:nvSpPr>
          <p:spPr>
            <a:xfrm>
              <a:off x="4492800" y="318276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88480" y="4208400"/>
              <a:ext cx="374400" cy="608040"/>
            </a:xfrm>
            <a:custGeom>
              <a:avLst/>
              <a:gdLst/>
              <a:ahLst/>
              <a:rect l="l" t="t" r="r" b="b"/>
              <a:pathLst>
                <a:path w="236" h="383">
                  <a:moveTo>
                    <a:pt x="236" y="56"/>
                  </a:moveTo>
                  <a:cubicBezTo>
                    <a:pt x="222" y="33"/>
                    <a:pt x="209" y="10"/>
                    <a:pt x="184" y="5"/>
                  </a:cubicBezTo>
                  <a:cubicBezTo>
                    <a:pt x="159" y="0"/>
                    <a:pt x="111" y="9"/>
                    <a:pt x="88" y="24"/>
                  </a:cubicBezTo>
                  <a:cubicBezTo>
                    <a:pt x="65" y="39"/>
                    <a:pt x="58" y="63"/>
                    <a:pt x="44" y="94"/>
                  </a:cubicBezTo>
                  <a:cubicBezTo>
                    <a:pt x="30" y="125"/>
                    <a:pt x="10" y="172"/>
                    <a:pt x="5" y="209"/>
                  </a:cubicBezTo>
                  <a:cubicBezTo>
                    <a:pt x="0" y="246"/>
                    <a:pt x="5" y="290"/>
                    <a:pt x="12" y="318"/>
                  </a:cubicBezTo>
                  <a:cubicBezTo>
                    <a:pt x="19" y="346"/>
                    <a:pt x="38" y="369"/>
                    <a:pt x="50" y="376"/>
                  </a:cubicBezTo>
                  <a:cubicBezTo>
                    <a:pt x="62" y="383"/>
                    <a:pt x="78" y="368"/>
                    <a:pt x="88" y="363"/>
                  </a:cubicBezTo>
                </a:path>
              </a:pathLst>
            </a:custGeom>
            <a:noFill/>
            <a:ln w="19080">
              <a:solidFill>
                <a:srgbClr val="00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3280" y="28656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28000" y="387180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906800" y="3759120"/>
            <a:ext cx="2898720" cy="1656360"/>
            <a:chOff x="4906800" y="3759120"/>
            <a:chExt cx="2898720" cy="1656360"/>
          </a:xfrm>
        </p:grpSpPr>
        <p:sp>
          <p:nvSpPr>
            <p:cNvPr id="586" name=""/>
            <p:cNvSpPr/>
            <p:nvPr/>
          </p:nvSpPr>
          <p:spPr>
            <a:xfrm flipH="1">
              <a:off x="4930920" y="3759120"/>
              <a:ext cx="936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795800" y="4572000"/>
              <a:ext cx="9720" cy="77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06800" y="42879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35720" y="5067360"/>
              <a:ext cx="468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14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689440" y="2884320"/>
            <a:ext cx="1686240" cy="1074960"/>
            <a:chOff x="5689440" y="2884320"/>
            <a:chExt cx="1686240" cy="1074960"/>
          </a:xfrm>
        </p:grpSpPr>
        <p:sp>
          <p:nvSpPr>
            <p:cNvPr id="591" name=""/>
            <p:cNvSpPr/>
            <p:nvPr/>
          </p:nvSpPr>
          <p:spPr>
            <a:xfrm>
              <a:off x="5689440" y="292572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42080" y="29638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4360" y="3011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46640" y="30592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9280" y="3097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51560" y="31449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13560" y="320184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5840" y="32400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18480" y="3287880"/>
              <a:ext cx="0" cy="5378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70760" y="333540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23040" y="337356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75680" y="3421080"/>
              <a:ext cx="0" cy="5382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89440" y="2916360"/>
              <a:ext cx="1686240" cy="50796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31040" y="288432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8039160" y="4419360"/>
            <a:ext cx="468360" cy="963000"/>
            <a:chOff x="8039160" y="4419360"/>
            <a:chExt cx="468360" cy="963000"/>
          </a:xfrm>
        </p:grpSpPr>
        <p:sp>
          <p:nvSpPr>
            <p:cNvPr id="606" name=""/>
            <p:cNvSpPr/>
            <p:nvPr/>
          </p:nvSpPr>
          <p:spPr>
            <a:xfrm flipV="1">
              <a:off x="8263080" y="4419360"/>
              <a:ext cx="10800" cy="67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39160" y="5045040"/>
              <a:ext cx="4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igue failur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Finite element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17600" y="3881520"/>
            <a:ext cx="2324160" cy="2614680"/>
            <a:chOff x="417600" y="3881520"/>
            <a:chExt cx="2324160" cy="261468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444600" y="4208400"/>
              <a:ext cx="22669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1760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77720" y="1174680"/>
            <a:ext cx="2266920" cy="2614320"/>
            <a:chOff x="477720" y="1174680"/>
            <a:chExt cx="2266920" cy="26143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77720" y="150156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063440" y="1174680"/>
              <a:ext cx="109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197160" y="1501920"/>
            <a:ext cx="2266920" cy="228744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170160" y="3881520"/>
            <a:ext cx="2324160" cy="2624040"/>
            <a:chOff x="3170160" y="3881520"/>
            <a:chExt cx="2324160" cy="2624040"/>
          </a:xfrm>
        </p:grpSpPr>
        <p:pic>
          <p:nvPicPr>
            <p:cNvPr id="617" name="" descr=""/>
            <p:cNvPicPr/>
            <p:nvPr/>
          </p:nvPicPr>
          <p:blipFill>
            <a:blip r:embed="rId4"/>
            <a:stretch/>
          </p:blipFill>
          <p:spPr>
            <a:xfrm>
              <a:off x="3198960" y="4218120"/>
              <a:ext cx="22669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170160" y="3881520"/>
              <a:ext cx="23241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Deflection due to load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400" spc="-1" strike="noStrike" baseline="-14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686560" y="1547640"/>
            <a:ext cx="329724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Loa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ime var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ully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peated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luctuating load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teri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tigue str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nsile streng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durance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ycles to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vironment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esign (geometr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ress concent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ype of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rface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sidual st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05000" y="1214280"/>
            <a:ext cx="30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Parameters to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79800" y="118440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oad levels increase/de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3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ads and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8720" y="1673280"/>
            <a:ext cx="81723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Refer to previous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Bending stresses: mean, amplitude, maximum (appropriately corrected for stress concentration factors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Comic Sans MS"/>
              </a:rPr>
              <a:t>f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, K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Comic Sans MS"/>
              </a:rPr>
              <a:t>f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hear stresses: mean, amplitude, maximum (appropriately corrected for stress concentration factors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Comic Sans MS"/>
              </a:rPr>
              <a:t>f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and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i="1" lang="en-US" sz="1600" spc="-1" strike="noStrike" baseline="-14000">
                <a:solidFill>
                  <a:srgbClr val="000066"/>
                </a:solidFill>
                <a:latin typeface="Comic Sans MS"/>
              </a:rPr>
              <a:t>fs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irect shear, bearing, and tear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ypical Shaft Lo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Note that constant applied moment = fully reverse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68360" y="1371600"/>
            <a:ext cx="8304120" cy="4859280"/>
            <a:chOff x="468360" y="1371600"/>
            <a:chExt cx="8304120" cy="4859280"/>
          </a:xfrm>
        </p:grpSpPr>
        <p:sp>
          <p:nvSpPr>
            <p:cNvPr id="193" name=""/>
            <p:cNvSpPr/>
            <p:nvPr/>
          </p:nvSpPr>
          <p:spPr>
            <a:xfrm>
              <a:off x="468360" y="1371600"/>
              <a:ext cx="8304120" cy="4859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71680" y="1662120"/>
              <a:ext cx="2361960" cy="19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3343320" y="1681200"/>
              <a:ext cx="217800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026040" y="1606680"/>
              <a:ext cx="2476440" cy="200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1450800" y="3911760"/>
              <a:ext cx="4203720" cy="666720"/>
              <a:chOff x="1450800" y="3911760"/>
              <a:chExt cx="4203720" cy="666720"/>
            </a:xfrm>
          </p:grpSpPr>
          <mc:AlternateContent>
            <mc:Choice xmlns:a14="http://schemas.microsoft.com/office/drawing/2010/main" Requires="a14">
              <p:sp>
                <p:nvSpPr>
                  <p:cNvPr id="198" name=""/>
                  <p:cNvSpPr txBox="1"/>
                  <p:nvPr/>
                </p:nvSpPr>
                <p:spPr>
                  <a:xfrm>
                    <a:off x="3706920" y="3948480"/>
                    <a:ext cx="1947600" cy="35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9" name=""/>
              <p:cNvSpPr/>
              <p:nvPr/>
            </p:nvSpPr>
            <p:spPr>
              <a:xfrm>
                <a:off x="1450800" y="3911760"/>
                <a:ext cx="235296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Stress range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450800" y="4621320"/>
              <a:ext cx="6612120" cy="785880"/>
              <a:chOff x="1450800" y="4621320"/>
              <a:chExt cx="6612120" cy="785880"/>
            </a:xfrm>
          </p:grpSpPr>
          <p:sp>
            <p:nvSpPr>
              <p:cNvPr id="201" name=""/>
              <p:cNvSpPr/>
              <p:nvPr/>
            </p:nvSpPr>
            <p:spPr>
              <a:xfrm>
                <a:off x="1450800" y="4740120"/>
                <a:ext cx="3936960" cy="6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Alternating stress componen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2" name=""/>
                  <p:cNvSpPr txBox="1"/>
                  <p:nvPr/>
                </p:nvSpPr>
                <p:spPr>
                  <a:xfrm>
                    <a:off x="5419800" y="4621320"/>
                    <a:ext cx="26431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σ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03" name=""/>
            <p:cNvGrpSpPr/>
            <p:nvPr/>
          </p:nvGrpSpPr>
          <p:grpSpPr>
            <a:xfrm>
              <a:off x="1450800" y="5430960"/>
              <a:ext cx="5561280" cy="785160"/>
              <a:chOff x="1450800" y="5430960"/>
              <a:chExt cx="5561280" cy="785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450800" y="5549760"/>
                <a:ext cx="393696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37160" bIns="44280" anchor="t">
                <a:normAutofit/>
              </a:bodyPr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2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mic Sans MS"/>
                  </a:rPr>
                  <a:t>Mean stress component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77000"/>
                  </a:lnSpc>
                  <a:spcBef>
                    <a:spcPts val="400"/>
                  </a:spcBef>
                  <a:buClr>
                    <a:srgbClr val="000066"/>
                  </a:buClr>
                  <a:buSzPct val="150000"/>
                  <a:buFont typeface="Monotype Sorts" charset="2"/>
                  <a:buChar char="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5040360" y="5430960"/>
                    <a:ext cx="197172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Fully-reversed bending and constant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27080" y="1244520"/>
            <a:ext cx="8856720" cy="5454720"/>
            <a:chOff x="127080" y="1244520"/>
            <a:chExt cx="8856720" cy="5454720"/>
          </a:xfrm>
        </p:grpSpPr>
        <p:sp>
          <p:nvSpPr>
            <p:cNvPr id="626" name=""/>
            <p:cNvSpPr/>
            <p:nvPr/>
          </p:nvSpPr>
          <p:spPr>
            <a:xfrm>
              <a:off x="127080" y="1244520"/>
              <a:ext cx="8856720" cy="545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5800" y="1352520"/>
              <a:ext cx="32860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37160" bIns="44280" anchor="t">
              <a:normAutofit/>
            </a:bodyPr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2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See</a:t>
              </a:r>
              <a:r>
                <a:rPr b="1" lang="en-US" sz="1600" spc="-1" strike="noStrike">
                  <a:solidFill>
                    <a:srgbClr val="000066"/>
                  </a:solidFill>
                  <a:latin typeface="Comic Sans MS"/>
                </a:rPr>
                <a:t>: Example 9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7000"/>
                </a:lnSpc>
                <a:spcBef>
                  <a:spcPts val="400"/>
                </a:spcBef>
                <a:buClr>
                  <a:srgbClr val="000066"/>
                </a:buClr>
                <a:buSzPct val="150000"/>
                <a:buFont typeface="Monotype Sort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98360" y="2011320"/>
              <a:ext cx="7701120" cy="46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5425920" y="1247760"/>
              <a:ext cx="354492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Safety factor: 2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Infinite lif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Material: SAE1020 (good notch sensitivit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Operating conditions: room tempera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Power: 2HP at 1750 rp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spcBef>
                  <a:spcPts val="814"/>
                </a:spcBef>
                <a:buClr>
                  <a:srgbClr val="ff0000"/>
                </a:buClr>
                <a:buFont typeface="Monotype Sort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Comic Sans MS"/>
                </a:rPr>
                <a:t>SCF of 3.5 for radii in bending, 2 in torsion, and 4 at the key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4200" y="1425600"/>
            <a:ext cx="4762440" cy="462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B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21160" y="1447920"/>
            <a:ext cx="34369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Bending (normal)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21160" y="498780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b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1160" y="2887560"/>
            <a:ext cx="34369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fully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reversed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bending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  See point A: stress varies from tension to compression as a function of time (as shaft ro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476360" y="3624120"/>
            <a:ext cx="3306600" cy="2291040"/>
            <a:chOff x="1476360" y="3624120"/>
            <a:chExt cx="3306600" cy="2291040"/>
          </a:xfrm>
        </p:grpSpPr>
        <p:grpSp>
          <p:nvGrpSpPr>
            <p:cNvPr id="212" name=""/>
            <p:cNvGrpSpPr/>
            <p:nvPr/>
          </p:nvGrpSpPr>
          <p:grpSpPr>
            <a:xfrm>
              <a:off x="1920960" y="3624120"/>
              <a:ext cx="2862000" cy="2291040"/>
              <a:chOff x="1920960" y="3624120"/>
              <a:chExt cx="2862000" cy="22910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960" y="3624120"/>
                <a:ext cx="2413080" cy="229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2436840" y="3919680"/>
                <a:ext cx="234612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rmal stress at point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655640" y="459108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476360" y="4100400"/>
                  <a:ext cx="7542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476360" y="494028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2278080" y="511020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8360" y="425592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39720" y="1562040"/>
            <a:ext cx="4415040" cy="1882800"/>
            <a:chOff x="639720" y="1562040"/>
            <a:chExt cx="4415040" cy="18828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639720" y="1562040"/>
              <a:ext cx="4415040" cy="183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23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27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903840" y="1766880"/>
                  <a:ext cx="75384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895560" y="3182760"/>
                  <a:ext cx="7398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36680" y="1371600"/>
            <a:ext cx="4879800" cy="489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ransvers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21160" y="1447920"/>
            <a:ext cx="3436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Transverse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vary over time, however,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even if constant, shaft will see reversed stress due to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21160" y="4940280"/>
            <a:ext cx="34369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tress variations, at any point A, may induce fatigue failure by sh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2820960"/>
            <a:ext cx="34369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s shaft rotates (at a specific speed), sections are subjected to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repeated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transverse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  See point A: stress varies from zero to maximum as a function of time (as shaft ro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95360" y="3881520"/>
            <a:ext cx="3697200" cy="2268360"/>
            <a:chOff x="1395360" y="3881520"/>
            <a:chExt cx="3697200" cy="22683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076480" y="3881520"/>
              <a:ext cx="20588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208240" y="3948120"/>
              <a:ext cx="2884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verse shear stress at point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654200" y="4905360"/>
                  <a:ext cx="458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395360" y="4110120"/>
                  <a:ext cx="6732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2639880" y="426708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7800" y="1460520"/>
            <a:ext cx="4446720" cy="2117880"/>
            <a:chOff x="577800" y="1460520"/>
            <a:chExt cx="4446720" cy="211788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77800" y="1546200"/>
              <a:ext cx="4446720" cy="181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2678040" y="1901880"/>
              <a:ext cx="591840" cy="495000"/>
              <a:chOff x="2678040" y="1901880"/>
              <a:chExt cx="591840" cy="495000"/>
            </a:xfrm>
          </p:grpSpPr>
          <p:sp>
            <p:nvSpPr>
              <p:cNvPr id="250" name=""/>
              <p:cNvSpPr/>
              <p:nvPr/>
            </p:nvSpPr>
            <p:spPr>
              <a:xfrm>
                <a:off x="2678040" y="2150280"/>
                <a:ext cx="3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5440" y="2311200"/>
                <a:ext cx="856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3320" y="1901880"/>
                <a:ext cx="286560" cy="451080"/>
              </a:xfrm>
              <a:custGeom>
                <a:avLst/>
                <a:gdLst/>
                <a:ahLst/>
                <a:rect l="l" t="t" r="r" b="b"/>
                <a:pathLst>
                  <a:path w="157" h="247">
                    <a:moveTo>
                      <a:pt x="157" y="0"/>
                    </a:moveTo>
                    <a:cubicBezTo>
                      <a:pt x="146" y="6"/>
                      <a:pt x="135" y="13"/>
                      <a:pt x="125" y="20"/>
                    </a:cubicBezTo>
                    <a:cubicBezTo>
                      <a:pt x="115" y="27"/>
                      <a:pt x="105" y="34"/>
                      <a:pt x="96" y="42"/>
                    </a:cubicBezTo>
                    <a:cubicBezTo>
                      <a:pt x="87" y="50"/>
                      <a:pt x="79" y="58"/>
                      <a:pt x="70" y="71"/>
                    </a:cubicBezTo>
                    <a:cubicBezTo>
                      <a:pt x="61" y="84"/>
                      <a:pt x="51" y="101"/>
                      <a:pt x="42" y="119"/>
                    </a:cubicBezTo>
                    <a:cubicBezTo>
                      <a:pt x="33" y="137"/>
                      <a:pt x="23" y="159"/>
                      <a:pt x="16" y="180"/>
                    </a:cubicBezTo>
                    <a:cubicBezTo>
                      <a:pt x="9" y="201"/>
                      <a:pt x="4" y="224"/>
                      <a:pt x="0" y="24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747880" y="2354400"/>
              <a:ext cx="367920" cy="682560"/>
              <a:chOff x="2747880" y="2354400"/>
              <a:chExt cx="367920" cy="682560"/>
            </a:xfrm>
          </p:grpSpPr>
          <p:sp>
            <p:nvSpPr>
              <p:cNvPr id="254" name=""/>
              <p:cNvSpPr/>
              <p:nvPr/>
            </p:nvSpPr>
            <p:spPr>
              <a:xfrm>
                <a:off x="2950200" y="2354400"/>
                <a:ext cx="120240" cy="579240"/>
              </a:xfrm>
              <a:custGeom>
                <a:avLst/>
                <a:gdLst/>
                <a:ahLst/>
                <a:rect l="l" t="t" r="r" b="b"/>
                <a:pathLst>
                  <a:path w="45" h="282">
                    <a:moveTo>
                      <a:pt x="10" y="0"/>
                    </a:moveTo>
                    <a:cubicBezTo>
                      <a:pt x="6" y="15"/>
                      <a:pt x="2" y="31"/>
                      <a:pt x="1" y="55"/>
                    </a:cubicBezTo>
                    <a:cubicBezTo>
                      <a:pt x="0" y="79"/>
                      <a:pt x="1" y="116"/>
                      <a:pt x="4" y="144"/>
                    </a:cubicBezTo>
                    <a:cubicBezTo>
                      <a:pt x="7" y="172"/>
                      <a:pt x="13" y="198"/>
                      <a:pt x="20" y="221"/>
                    </a:cubicBezTo>
                    <a:cubicBezTo>
                      <a:pt x="27" y="244"/>
                      <a:pt x="37" y="264"/>
                      <a:pt x="45" y="28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47880" y="2790720"/>
                <a:ext cx="36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15360" y="2890080"/>
                <a:ext cx="85680" cy="892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073320" y="2962440"/>
              <a:ext cx="377640" cy="455760"/>
              <a:chOff x="3073320" y="2962440"/>
              <a:chExt cx="377640" cy="455760"/>
            </a:xfrm>
          </p:grpSpPr>
          <p:sp>
            <p:nvSpPr>
              <p:cNvPr id="258" name=""/>
              <p:cNvSpPr/>
              <p:nvPr/>
            </p:nvSpPr>
            <p:spPr>
              <a:xfrm>
                <a:off x="3073320" y="2962440"/>
                <a:ext cx="298800" cy="23328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0" y="0"/>
                    </a:moveTo>
                    <a:cubicBezTo>
                      <a:pt x="4" y="9"/>
                      <a:pt x="9" y="19"/>
                      <a:pt x="13" y="26"/>
                    </a:cubicBezTo>
                    <a:cubicBezTo>
                      <a:pt x="17" y="33"/>
                      <a:pt x="20" y="36"/>
                      <a:pt x="25" y="42"/>
                    </a:cubicBezTo>
                    <a:cubicBezTo>
                      <a:pt x="30" y="48"/>
                      <a:pt x="38" y="57"/>
                      <a:pt x="45" y="64"/>
                    </a:cubicBezTo>
                    <a:cubicBezTo>
                      <a:pt x="52" y="71"/>
                      <a:pt x="59" y="80"/>
                      <a:pt x="67" y="87"/>
                    </a:cubicBezTo>
                    <a:cubicBezTo>
                      <a:pt x="75" y="94"/>
                      <a:pt x="86" y="98"/>
                      <a:pt x="93" y="103"/>
                    </a:cubicBezTo>
                    <a:cubicBezTo>
                      <a:pt x="100" y="108"/>
                      <a:pt x="101" y="111"/>
                      <a:pt x="109" y="115"/>
                    </a:cubicBezTo>
                    <a:cubicBezTo>
                      <a:pt x="117" y="119"/>
                      <a:pt x="139" y="124"/>
                      <a:pt x="144" y="12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92480" y="317196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17400" y="3150000"/>
                <a:ext cx="89280" cy="8568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247760" y="2622600"/>
              <a:ext cx="1641240" cy="631800"/>
              <a:chOff x="1247760" y="2622600"/>
              <a:chExt cx="1641240" cy="6318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1247760" y="2992320"/>
                    <a:ext cx="67320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3" name=""/>
              <p:cNvSpPr/>
              <p:nvPr/>
            </p:nvSpPr>
            <p:spPr>
              <a:xfrm flipH="1">
                <a:off x="1791720" y="2622600"/>
                <a:ext cx="1096920" cy="333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7160" y="1460520"/>
              <a:ext cx="1058760" cy="380880"/>
              <a:chOff x="3467160" y="1460520"/>
              <a:chExt cx="1058760" cy="38088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4067280" y="1460520"/>
                    <a:ext cx="458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6" name=""/>
              <p:cNvSpPr/>
              <p:nvPr/>
            </p:nvSpPr>
            <p:spPr>
              <a:xfrm flipV="1">
                <a:off x="3467160" y="1646280"/>
                <a:ext cx="579240" cy="19512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467160" y="3273480"/>
              <a:ext cx="1089000" cy="304920"/>
              <a:chOff x="3467160" y="3273480"/>
              <a:chExt cx="1089000" cy="304920"/>
            </a:xfrm>
          </p:grpSpPr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4097160" y="3349800"/>
                    <a:ext cx="4590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" name=""/>
              <p:cNvSpPr/>
              <p:nvPr/>
            </p:nvSpPr>
            <p:spPr>
              <a:xfrm>
                <a:off x="3467160" y="3273480"/>
                <a:ext cx="579240" cy="171360"/>
              </a:xfrm>
              <a:custGeom>
                <a:avLst/>
                <a:gdLst/>
                <a:ahLst/>
                <a:rect l="l" t="t" r="r" b="b"/>
                <a:pathLst>
                  <a:path w="340" h="177">
                    <a:moveTo>
                      <a:pt x="4" y="0"/>
                    </a:moveTo>
                    <a:cubicBezTo>
                      <a:pt x="2" y="1"/>
                      <a:pt x="0" y="3"/>
                      <a:pt x="18" y="24"/>
                    </a:cubicBezTo>
                    <a:cubicBezTo>
                      <a:pt x="36" y="45"/>
                      <a:pt x="88" y="110"/>
                      <a:pt x="110" y="124"/>
                    </a:cubicBezTo>
                    <a:cubicBezTo>
                      <a:pt x="132" y="138"/>
                      <a:pt x="144" y="127"/>
                      <a:pt x="153" y="110"/>
                    </a:cubicBezTo>
                    <a:cubicBezTo>
                      <a:pt x="162" y="93"/>
                      <a:pt x="131" y="13"/>
                      <a:pt x="162" y="24"/>
                    </a:cubicBezTo>
                    <a:cubicBezTo>
                      <a:pt x="193" y="35"/>
                      <a:pt x="311" y="152"/>
                      <a:pt x="340" y="177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200" y="1349280"/>
            <a:ext cx="5187960" cy="477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4200" y="1654200"/>
            <a:ext cx="3759120" cy="160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in To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Stress analysis: rotating s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4720" y="2101680"/>
            <a:ext cx="3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6920" y="2236680"/>
            <a:ext cx="85680" cy="856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14440" y="1916280"/>
            <a:ext cx="317520" cy="361800"/>
          </a:xfrm>
          <a:custGeom>
            <a:avLst/>
            <a:gdLst/>
            <a:ahLst/>
            <a:rect l="l" t="t" r="r" b="b"/>
            <a:pathLst>
              <a:path w="157" h="247">
                <a:moveTo>
                  <a:pt x="157" y="0"/>
                </a:moveTo>
                <a:cubicBezTo>
                  <a:pt x="146" y="6"/>
                  <a:pt x="135" y="13"/>
                  <a:pt x="125" y="20"/>
                </a:cubicBezTo>
                <a:cubicBezTo>
                  <a:pt x="115" y="27"/>
                  <a:pt x="105" y="34"/>
                  <a:pt x="96" y="42"/>
                </a:cubicBezTo>
                <a:cubicBezTo>
                  <a:pt x="87" y="50"/>
                  <a:pt x="79" y="58"/>
                  <a:pt x="70" y="71"/>
                </a:cubicBezTo>
                <a:cubicBezTo>
                  <a:pt x="61" y="84"/>
                  <a:pt x="51" y="101"/>
                  <a:pt x="42" y="119"/>
                </a:cubicBezTo>
                <a:cubicBezTo>
                  <a:pt x="33" y="137"/>
                  <a:pt x="23" y="159"/>
                  <a:pt x="16" y="180"/>
                </a:cubicBezTo>
                <a:cubicBezTo>
                  <a:pt x="9" y="201"/>
                  <a:pt x="4" y="224"/>
                  <a:pt x="0" y="24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1320" y="2279520"/>
            <a:ext cx="112680" cy="541440"/>
          </a:xfrm>
          <a:custGeom>
            <a:avLst/>
            <a:gdLst/>
            <a:ahLst/>
            <a:rect l="l" t="t" r="r" b="b"/>
            <a:pathLst>
              <a:path w="45" h="282">
                <a:moveTo>
                  <a:pt x="10" y="0"/>
                </a:moveTo>
                <a:cubicBezTo>
                  <a:pt x="6" y="15"/>
                  <a:pt x="2" y="31"/>
                  <a:pt x="1" y="55"/>
                </a:cubicBezTo>
                <a:cubicBezTo>
                  <a:pt x="0" y="79"/>
                  <a:pt x="1" y="116"/>
                  <a:pt x="4" y="144"/>
                </a:cubicBezTo>
                <a:cubicBezTo>
                  <a:pt x="7" y="172"/>
                  <a:pt x="13" y="198"/>
                  <a:pt x="20" y="221"/>
                </a:cubicBezTo>
                <a:cubicBezTo>
                  <a:pt x="27" y="244"/>
                  <a:pt x="37" y="264"/>
                  <a:pt x="45" y="282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7240" y="27957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55840" y="2768760"/>
            <a:ext cx="85680" cy="88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827440"/>
            <a:ext cx="300240" cy="209520"/>
          </a:xfrm>
          <a:custGeom>
            <a:avLst/>
            <a:gdLst/>
            <a:ahLst/>
            <a:rect l="l" t="t" r="r" b="b"/>
            <a:pathLst>
              <a:path w="144" h="125">
                <a:moveTo>
                  <a:pt x="0" y="0"/>
                </a:moveTo>
                <a:cubicBezTo>
                  <a:pt x="4" y="9"/>
                  <a:pt x="9" y="19"/>
                  <a:pt x="13" y="26"/>
                </a:cubicBezTo>
                <a:cubicBezTo>
                  <a:pt x="17" y="33"/>
                  <a:pt x="20" y="36"/>
                  <a:pt x="25" y="42"/>
                </a:cubicBezTo>
                <a:cubicBezTo>
                  <a:pt x="30" y="48"/>
                  <a:pt x="38" y="57"/>
                  <a:pt x="45" y="64"/>
                </a:cubicBezTo>
                <a:cubicBezTo>
                  <a:pt x="52" y="71"/>
                  <a:pt x="59" y="80"/>
                  <a:pt x="67" y="87"/>
                </a:cubicBezTo>
                <a:cubicBezTo>
                  <a:pt x="75" y="94"/>
                  <a:pt x="86" y="98"/>
                  <a:pt x="93" y="103"/>
                </a:cubicBezTo>
                <a:cubicBezTo>
                  <a:pt x="100" y="108"/>
                  <a:pt x="101" y="111"/>
                  <a:pt x="109" y="115"/>
                </a:cubicBezTo>
                <a:cubicBezTo>
                  <a:pt x="117" y="119"/>
                  <a:pt x="139" y="124"/>
                  <a:pt x="144" y="12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80120" y="304956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81280" y="2995560"/>
            <a:ext cx="81000" cy="777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5600" y="1882800"/>
            <a:ext cx="34372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60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Torsional shear 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ay be constant with time, or more likely, fluctuate about a mean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7800" y="4344840"/>
            <a:ext cx="3436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Fluctuations in torsional stress may induce fatigue failure by sh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5600" y="3084480"/>
            <a:ext cx="343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orsional shear stress varies with time only if applied torque fluctuates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: </a:t>
            </a:r>
            <a:r>
              <a:rPr b="0" i="1" lang="en-US" sz="1600" spc="-1" strike="noStrike" u="sng">
                <a:solidFill>
                  <a:srgbClr val="000066"/>
                </a:solidFill>
                <a:uFillTx/>
                <a:latin typeface="Comic Sans MS"/>
              </a:rPr>
              <a:t>alternating </a:t>
            </a: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stress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50920" y="3665520"/>
            <a:ext cx="3792600" cy="2358720"/>
            <a:chOff x="250920" y="3665520"/>
            <a:chExt cx="3792600" cy="235872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787680" y="3862080"/>
              <a:ext cx="21337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159200" y="3665520"/>
              <a:ext cx="28843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rsional shear stress at point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.  Obtained when only the applied torque (load) changes,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lease note pre-load/mean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50920" y="4424040"/>
                  <a:ext cx="7416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a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252720" y="4714560"/>
                  <a:ext cx="65700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1022760" y="48891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250920" y="4119480"/>
                  <a:ext cx="6750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>
              <a:off x="1024200" y="427176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189240" y="4759200"/>
            <a:ext cx="20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Fluctuation of t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(wrt to mean va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25760" y="4730760"/>
            <a:ext cx="673200" cy="231840"/>
          </a:xfrm>
          <a:custGeom>
            <a:avLst/>
            <a:gdLst/>
            <a:ahLst/>
            <a:rect l="l" t="t" r="r" b="b"/>
            <a:pathLst>
              <a:path w="340" h="177">
                <a:moveTo>
                  <a:pt x="4" y="0"/>
                </a:moveTo>
                <a:cubicBezTo>
                  <a:pt x="2" y="1"/>
                  <a:pt x="0" y="3"/>
                  <a:pt x="18" y="24"/>
                </a:cubicBezTo>
                <a:cubicBezTo>
                  <a:pt x="36" y="45"/>
                  <a:pt x="88" y="110"/>
                  <a:pt x="110" y="124"/>
                </a:cubicBezTo>
                <a:cubicBezTo>
                  <a:pt x="132" y="138"/>
                  <a:pt x="144" y="127"/>
                  <a:pt x="153" y="110"/>
                </a:cubicBezTo>
                <a:cubicBezTo>
                  <a:pt x="162" y="93"/>
                  <a:pt x="131" y="13"/>
                  <a:pt x="162" y="24"/>
                </a:cubicBezTo>
                <a:cubicBezTo>
                  <a:pt x="193" y="35"/>
                  <a:pt x="311" y="152"/>
                  <a:pt x="340" y="177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19440" y="4299120"/>
            <a:ext cx="1799640" cy="307080"/>
            <a:chOff x="2719440" y="4299120"/>
            <a:chExt cx="1799640" cy="307080"/>
          </a:xfrm>
        </p:grpSpPr>
        <p:sp>
          <p:nvSpPr>
            <p:cNvPr id="296" name=""/>
            <p:cNvSpPr/>
            <p:nvPr/>
          </p:nvSpPr>
          <p:spPr>
            <a:xfrm>
              <a:off x="3209400" y="4299120"/>
              <a:ext cx="13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99"/>
                  </a:solidFill>
                  <a:latin typeface="Comic Sans MS"/>
                </a:rPr>
                <a:t>Mean tor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719440" y="4484160"/>
              <a:ext cx="539280" cy="74520"/>
            </a:xfrm>
            <a:custGeom>
              <a:avLst/>
              <a:gdLst/>
              <a:ahLst/>
              <a:rect l="l" t="t" r="r" b="b"/>
              <a:pathLst>
                <a:path w="340" h="177">
                  <a:moveTo>
                    <a:pt x="4" y="0"/>
                  </a:moveTo>
                  <a:cubicBezTo>
                    <a:pt x="2" y="1"/>
                    <a:pt x="0" y="3"/>
                    <a:pt x="18" y="24"/>
                  </a:cubicBezTo>
                  <a:cubicBezTo>
                    <a:pt x="36" y="45"/>
                    <a:pt x="88" y="110"/>
                    <a:pt x="110" y="124"/>
                  </a:cubicBezTo>
                  <a:cubicBezTo>
                    <a:pt x="132" y="138"/>
                    <a:pt x="144" y="127"/>
                    <a:pt x="153" y="110"/>
                  </a:cubicBezTo>
                  <a:cubicBezTo>
                    <a:pt x="162" y="93"/>
                    <a:pt x="131" y="13"/>
                    <a:pt x="162" y="24"/>
                  </a:cubicBezTo>
                  <a:cubicBezTo>
                    <a:pt x="193" y="35"/>
                    <a:pt x="311" y="152"/>
                    <a:pt x="340" y="177"/>
                  </a:cubicBezTo>
                </a:path>
              </a:pathLst>
            </a:custGeom>
            <a:noFill/>
            <a:ln w="25560">
              <a:solidFill>
                <a:srgbClr val="8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09760" y="380880"/>
            <a:ext cx="842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s Fail in Combined-Stress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ost shafts have bending and torque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1292400"/>
            <a:ext cx="747252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atigue failures always begin at a c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present in raw material used for fabrication (crystallographic defects; inclusions;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may be introduced during fabr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over time due to cyclic loading (&amp; corro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349"/>
              </a:spcBef>
              <a:buClr>
                <a:srgbClr val="ff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cks develop around stress concent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1120" y="2924280"/>
            <a:ext cx="7979400" cy="3698640"/>
            <a:chOff x="681120" y="2924280"/>
            <a:chExt cx="7979400" cy="3698640"/>
          </a:xfrm>
        </p:grpSpPr>
        <p:sp>
          <p:nvSpPr>
            <p:cNvPr id="301" name=""/>
            <p:cNvSpPr/>
            <p:nvPr/>
          </p:nvSpPr>
          <p:spPr>
            <a:xfrm>
              <a:off x="681120" y="2924280"/>
              <a:ext cx="7794360" cy="369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073160" y="3419280"/>
              <a:ext cx="2752200" cy="2605680"/>
              <a:chOff x="1073160" y="3419280"/>
              <a:chExt cx="2752200" cy="26056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3160" y="3715920"/>
                <a:ext cx="2752200" cy="230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331640" y="3419280"/>
                <a:ext cx="223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333399"/>
                    </a:solidFill>
                    <a:latin typeface="Comic Sans MS"/>
                  </a:rPr>
                  <a:t>Shaft with key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655880" y="2995200"/>
              <a:ext cx="4004640" cy="3479040"/>
              <a:chOff x="4655880" y="2995200"/>
              <a:chExt cx="4004640" cy="34790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655880" y="2995200"/>
                <a:ext cx="3217680" cy="3479040"/>
                <a:chOff x="4655880" y="2995200"/>
                <a:chExt cx="3217680" cy="3479040"/>
              </a:xfrm>
            </p:grpSpPr>
            <p:pic>
              <p:nvPicPr>
                <p:cNvPr id="3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55880" y="3513960"/>
                  <a:ext cx="3217680" cy="296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>
                  <a:off x="5189400" y="2995200"/>
                  <a:ext cx="215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Shaft failed in fatigu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333399"/>
                      </a:solidFill>
                      <a:latin typeface="Comic Sans MS"/>
                    </a:rPr>
                    <a:t>Crack initiated at keyw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7014600" y="3798000"/>
                <a:ext cx="164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99"/>
                    </a:solidFill>
                    <a:latin typeface="Comic Sans MS"/>
                  </a:rPr>
                  <a:t>Failure due to rotating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f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400" y="1311120"/>
            <a:ext cx="83757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round precision shafts of different materials can be purchased.  Make sure to take into account hardness and machinability of material -- geometrical features such as grooves, holes, threads, and keyways may need to be mach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Low- to medium-carbon steels: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cold- or hot-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old rolled steels used for shaft diameters,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lower than 3 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Hot-rolled must be machined in order to remove carburized outer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ff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olled steels may contain residual st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400"/>
              </a:spcBef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inless steels – marine and corrosiv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Bronze – marin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Other: depending on application, stress levels, deflec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451"/>
              </a:spcBef>
              <a:buClr>
                <a:srgbClr val="000066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onsult standards (ANSI, ASME, etc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2:00:34Z</dcterms:created>
  <dc:creator>Cosme Furlong</dc:creator>
  <dc:description/>
  <dc:language>en-US</dc:language>
  <cp:lastModifiedBy>R. L. Norton</cp:lastModifiedBy>
  <cp:lastPrinted>2005-09-18T22:11:21Z</cp:lastPrinted>
  <dcterms:modified xsi:type="dcterms:W3CDTF">2006-01-03T05:16:47Z</dcterms:modified>
  <cp:revision>385</cp:revision>
  <dc:subject/>
  <dc:title>Lect10-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wpi.edu/~cfurlong/es-2501.html</vt:lpwstr>
  </property>
  <property fmtid="{D5CDD505-2E9C-101B-9397-08002B2CF9AE}" pid="9" name="LinkColor">
    <vt:r8>16711782</vt:r8>
  </property>
  <property fmtid="{D5CDD505-2E9C-101B-9397-08002B2CF9AE}" pid="10" name="MailAddress">
    <vt:lpwstr>cfurlong@wpi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