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4.wmf" ContentType="image/x-wmf"/>
  <Override PartName="/ppt/media/image25.wmf" ContentType="image/x-wmf"/>
  <Override PartName="/ppt/media/image23.jpeg" ContentType="image/jpeg"/>
  <Override PartName="/ppt/media/image12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8.png" ContentType="image/png"/>
  <Override PartName="/ppt/media/image13.png" ContentType="image/png"/>
  <Override PartName="/ppt/media/image33.wmf" ContentType="image/x-wmf"/>
  <Override PartName="/ppt/media/image30.wmf" ContentType="image/x-wmf"/>
  <Override PartName="/ppt/media/image10.png" ContentType="image/png"/>
  <Override PartName="/ppt/media/image11.png" ContentType="image/png"/>
  <Override PartName="/ppt/media/image34.wmf" ContentType="image/x-wmf"/>
  <Override PartName="/ppt/media/image14.png" ContentType="image/png"/>
  <Override PartName="/ppt/media/image7.png" ContentType="image/png"/>
  <Override PartName="/ppt/media/image35.wmf" ContentType="image/x-wmf"/>
  <Override PartName="/ppt/media/image28.wmf" ContentType="image/x-wmf"/>
  <Override PartName="/ppt/media/image3.jpeg" ContentType="image/jpeg"/>
  <Override PartName="/ppt/media/image18.jpeg" ContentType="image/jpeg"/>
  <Override PartName="/ppt/media/image15.png" ContentType="image/png"/>
  <Override PartName="/ppt/media/image9.png" ContentType="image/png"/>
  <Override PartName="/ppt/media/image37.wmf" ContentType="image/x-wmf"/>
  <Override PartName="/ppt/media/image38.wmf" ContentType="image/x-wmf"/>
  <Override PartName="/ppt/media/image36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20.wmf" ContentType="image/x-wmf"/>
  <Override PartName="/ppt/media/image4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6.png" ContentType="image/png"/>
  <Override PartName="/ppt/media/image1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03B3-75F8-4003-81B7-CD09B08FC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A744-4962-4BAE-AC79-2F051C07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8C18-CDBD-44C0-AAE1-1F208A536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739A-F6F3-47DD-A256-B2842197B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2587C-FD85-4FDE-83E9-6EC24042A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E99EB5-5D46-43DE-B389-F0029562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B552D-5EF9-4D86-81C3-1338C0EE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BDAED2-FB53-4AAE-AE8C-7A532F71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9D20A-2147-4CBE-8071-C94BA915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ABD5F5-016A-4978-B903-E2AC7BD6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EA59DD-2095-405C-9687-2F535D97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E4E3-EEF7-4127-B014-E979912B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2CDC1-76F0-4495-9120-3AFA0C8E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58D50-2050-456E-81C4-0517B4C0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A51062-4D3C-41D9-887C-916B7171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92ADF-908C-406B-BCA9-9AB0D2F56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8FBF0-A579-4091-AF83-958432E90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1093B-BC8B-48B6-948E-705EC9AE5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2A650-7A49-419A-8DF3-C921D0C7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B4F8C-AA6D-4557-9CB9-6D9AB90A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EBEFD-4CF0-4ABC-AF0D-E8D908E02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70655-7093-486C-8B32-31CFD546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E377-C988-422B-B9CC-38AD6A98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FB08F-05F0-4AD2-91A0-D30EEB59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77245-9F87-4F03-B77D-A52A169B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9713F-F34A-4501-98B5-702B64FB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5313C-FC94-4AA0-AB50-6690F09D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35643-33B0-4D1E-AF98-0C070065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D8AB5-2B2E-4A3F-B81A-627B8EA6A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87D36-2890-4818-93A1-83B01B9CC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B970-9F79-4922-AE20-E99071D9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9C87-2531-4097-8213-33D3EDDA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D972-746E-4A50-BDBC-8149B773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10BC-0F80-4284-A73B-FF7CBA66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7ABB-E7E9-4BE0-B423-798C9EB8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22EC-9440-42E4-91F8-F5FFDF25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C566-E5DD-4E4F-A2ED-F6003CE56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88320" y="7167600"/>
            <a:ext cx="1255680" cy="61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649B-C8F8-43C1-BEEF-2950C0E7FF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888320" y="7167600"/>
            <a:ext cx="1255680" cy="61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978B-9009-47CE-B11D-C8D8831675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888320" y="7167600"/>
            <a:ext cx="1255680" cy="6159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haft Design I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 3320 Lecture 1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. L. Nort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93840" y="1487520"/>
            <a:ext cx="8421480" cy="4403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2880" y="1757520"/>
            <a:ext cx="8067600" cy="38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Ground precision shafts of different materials can be purchased.  Make sure to take into account hardness and machinability of material -- geometrical features such as grooves, holes, threads, and keyways may need to be mach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Low- to medium-carbon steels: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 cold- or hot-rol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00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Cold rolled steels used for shaft diameters, </a:t>
            </a:r>
            <a:r>
              <a:rPr b="0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, lower than 3 i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00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Hot-rolled must be machined in order to remove carburized outer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00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Rolled steels may contain residual st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Font typeface="Monotype Sorts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Stainless steels – marine and corrosive enviro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Bronze – marine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Other: depending on application, stress levels, deflection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… </a:t>
            </a: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consult standards (ANSI, ASME, etc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574560" y="1276200"/>
            <a:ext cx="8388360" cy="5018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Failure envelope: </a:t>
            </a: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fatigue failure is taken into ac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826920" y="1461960"/>
            <a:ext cx="3400560" cy="47055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4976640" y="2147760"/>
            <a:ext cx="3546720" cy="401004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4184640" y="1360440"/>
            <a:ext cx="4783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99"/>
                </a:solidFill>
                <a:latin typeface="Comic Sans MS"/>
              </a:rPr>
              <a:t>Experimental data and fatigue failure envelope.  See ANSI/ASME standard B106.1M-1985 on “design of transmission shafting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658800" y="1190520"/>
            <a:ext cx="8102520" cy="537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Failure Envelope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797040" y="2717640"/>
            <a:ext cx="7821360" cy="37623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2560680" y="1306440"/>
            <a:ext cx="2624040" cy="109692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5319720" y="1549440"/>
            <a:ext cx="1881360" cy="6332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2543040" y="1285920"/>
            <a:ext cx="4699080" cy="1170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328680" y="1476360"/>
            <a:ext cx="8539200" cy="517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2221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ASME method: </a:t>
            </a: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fully-reversed bending and constant to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 do NOT recommend using this metho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8640" y="1565280"/>
            <a:ext cx="837576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Based on Gough ellipse failure envelope (shown befor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Font typeface="Monotype Sorts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Font typeface="Monotype Sorts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Font typeface="Monotype Sorts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Safety factor: </a:t>
            </a:r>
            <a:r>
              <a:rPr b="1" i="1" lang="en-US" sz="1800" spc="-1" strike="noStrike">
                <a:solidFill>
                  <a:srgbClr val="000066"/>
                </a:solidFill>
                <a:latin typeface="Arial Rounded MT Bold"/>
              </a:rPr>
              <a:t>N</a:t>
            </a:r>
            <a:r>
              <a:rPr b="1" i="1" lang="en-US" sz="1800" spc="-1" strike="noStrike" baseline="-14000">
                <a:solidFill>
                  <a:srgbClr val="000066"/>
                </a:solidFill>
                <a:latin typeface="Arial Rounded MT Bold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von Mises stress in shear (strain-energy theory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Amplitude stress in bending and mean torsional stresses: 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(corrected for fatigue stress-concentration facto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Shaft dia is calculated 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3406680" y="1914480"/>
                <a:ext cx="18464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6743880" y="2932200"/>
                <a:ext cx="91260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7442280" y="3689280"/>
                <a:ext cx="7189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4157640" y="4303800"/>
                <a:ext cx="437508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π</m:t>
                                </m:r>
                              </m:den>
                            </m:f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K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f</m:t>
                                                </m:r>
                                              </m:sub>
                                            </m:sSub>
                                            <m:f>
                                              <m:num>
                                                <m:sSub>
                                                  <m:e>
                                                    <m:r>
                                                      <m:t xml:space="preserve">M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a</m:t>
                                                    </m:r>
                                                  </m:sub>
                                                </m:sSub>
                                              </m:num>
                                              <m:den>
                                                <m:sSub>
                                                  <m:e>
                                                    <m:r>
                                                      <m:t xml:space="preserve">S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f</m:t>
                                                    </m:r>
                                                  </m:sub>
                                                </m:sSub>
                                              </m:den>
                                            </m:f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3</m:t>
                                        </m:r>
                                      </m:num>
                                      <m:den>
                                        <m:r>
                                          <m:t xml:space="preserve">4</m:t>
                                        </m:r>
                                      </m:den>
                                    </m:f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K</m:t>
                                                </m:r>
                                              </m:e>
                                              <m:sub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fsm</m:t>
                                                </m:r>
                                              </m:sub>
                                            </m:sSub>
                                            <m:f>
                                              <m:num>
                                                <m:sSub>
                                                  <m:e>
                                                    <m:r>
                                                      <m:t xml:space="preserve">T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m</m:t>
                                                    </m:r>
                                                  </m:sub>
                                                </m:sSub>
                                              </m:num>
                                              <m:den>
                                                <m:sSub>
                                                  <m:e>
                                                    <m:r>
                                                      <m:t xml:space="preserve">S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y</m:t>
                                                    </m:r>
                                                  </m:sub>
                                                </m:sSub>
                                              </m:den>
                                            </m:f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450800" y="5607000"/>
            <a:ext cx="603252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1461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Fluctuating bending and to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Use this more conservative, more general metho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1520" y="1616040"/>
            <a:ext cx="8388360" cy="4915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72960" y="1693800"/>
            <a:ext cx="837576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Based on von Mises stresses (alternating and mean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Font typeface="Monotype Sorts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Modified Goodman Line failure envelope is given 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von Mises stress in shear (strain-energy theory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Amplitude and mean stress components in bending and shear: (corrected for fatigue stress-concentration facto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Shaft diameter is calculated 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6791400" y="2225520"/>
                <a:ext cx="15793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σ</m:t>
                        </m:r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6775560" y="3097080"/>
                <a:ext cx="91260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6999120" y="4102200"/>
                <a:ext cx="157644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495440" y="5118120"/>
                <a:ext cx="648648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π</m:t>
                                </m:r>
                              </m:den>
                            </m:f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sSup>
                                          <m:e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K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f</m:t>
                                                    </m:r>
                                                  </m:sub>
                                                </m:sSub>
                                                <m:sSub>
                                                  <m:e>
                                                    <m:r>
                                                      <m:t xml:space="preserve">M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a</m:t>
                                                    </m:r>
                                                  </m:sub>
                                                </m:sSub>
                                              </m:e>
                                            </m:d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+</m:t>
                                        </m:r>
                                        <m:f>
                                          <m:num>
                                            <m:r>
                                              <m:t xml:space="preserve">3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4</m:t>
                                            </m:r>
                                          </m:den>
                                        </m:f>
                                        <m:sSup>
                                          <m:e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K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rPr>
                                                        <m:lit/>
                                                        <m:nor/>
                                                      </m:rPr>
                                                      <m:t xml:space="preserve">fs</m:t>
                                                    </m:r>
                                                  </m:sub>
                                                </m:sSub>
                                                <m:sSub>
                                                  <m:e>
                                                    <m:r>
                                                      <m:t xml:space="preserve">T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a</m:t>
                                                    </m:r>
                                                  </m:sub>
                                                </m:sSub>
                                              </m:e>
                                            </m:d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rad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sSup>
                                          <m:e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K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rPr>
                                                        <m:lit/>
                                                        <m:nor/>
                                                      </m:rPr>
                                                      <m:t xml:space="preserve">fm</m:t>
                                                    </m:r>
                                                  </m:sub>
                                                </m:sSub>
                                                <m:sSub>
                                                  <m:e>
                                                    <m:r>
                                                      <m:t xml:space="preserve">M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m</m:t>
                                                    </m:r>
                                                  </m:sub>
                                                </m:sSub>
                                              </m:e>
                                            </m:d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+</m:t>
                                        </m:r>
                                        <m:f>
                                          <m:num>
                                            <m:r>
                                              <m:t xml:space="preserve">3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4</m:t>
                                            </m:r>
                                          </m:den>
                                        </m:f>
                                        <m:sSup>
                                          <m:e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K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rPr>
                                                        <m:lit/>
                                                        <m:nor/>
                                                      </m:rPr>
                                                      <m:t xml:space="preserve">fsm</m:t>
                                                    </m:r>
                                                  </m:sub>
                                                </m:sSub>
                                                <m:sSub>
                                                  <m:e>
                                                    <m:r>
                                                      <m:t xml:space="preserve">T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m</m:t>
                                                    </m:r>
                                                  </m:sub>
                                                </m:sSub>
                                              </m:e>
                                            </m:d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rad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ut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7189920" y="1700280"/>
                <a:ext cx="83952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σ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60200" y="1298520"/>
            <a:ext cx="8856720" cy="5432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0440" y="200160"/>
            <a:ext cx="853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ample of Shaft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Fluctuating bending and to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239760" y="2049480"/>
            <a:ext cx="7445160" cy="449244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5202360" y="1332000"/>
            <a:ext cx="39416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Bef>
                <a:spcPts val="814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Mean and alter. torque are both 74 lb-i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814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Safety factor: 2.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814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Infinite lif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814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Material: SAE1020 (good notch sensitivity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814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Operating conditions: room tempera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814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Power: 2HP at 1750 rp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814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SCF of 3.5 for radii in bending, 2 in torsion, and 4 at the keywa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01480" y="1449360"/>
            <a:ext cx="3042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See</a:t>
            </a: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: Example 9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276200" y="1552680"/>
            <a:ext cx="6921720" cy="4730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541520" y="1835280"/>
            <a:ext cx="633708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179360" y="1457280"/>
            <a:ext cx="6954840" cy="492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Example 9-2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1336680" y="1473120"/>
            <a:ext cx="6640560" cy="39150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1747800" y="5629320"/>
            <a:ext cx="579600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214200" y="1330200"/>
            <a:ext cx="4410360" cy="5135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62440" y="1339920"/>
            <a:ext cx="4124520" cy="5114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Bending and Torsion Loading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4757760" y="1579680"/>
            <a:ext cx="1949400" cy="444636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6649920" y="1557360"/>
            <a:ext cx="2049480" cy="44038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295200" y="3546360"/>
            <a:ext cx="4278240" cy="12495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542880" y="2455920"/>
            <a:ext cx="372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beam theory and singularity functions to find moment distributions over shaft leng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66640" y="5075280"/>
            <a:ext cx="372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Example 9-1 for complete derivation of force and mo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15960" y="1755720"/>
            <a:ext cx="354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rque magnitudes were giv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084320" y="1276200"/>
            <a:ext cx="6932520" cy="481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Material Strength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1247760" y="1401840"/>
            <a:ext cx="653904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18960" y="1308240"/>
            <a:ext cx="8453520" cy="537984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Example of rotating machinery: tapered roller bea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629160" y="1501920"/>
            <a:ext cx="4889520" cy="5018040"/>
            <a:chOff x="3629160" y="1501920"/>
            <a:chExt cx="4889520" cy="5018040"/>
          </a:xfrm>
        </p:grpSpPr>
        <p:sp>
          <p:nvSpPr>
            <p:cNvPr id="149" name=""/>
            <p:cNvSpPr/>
            <p:nvPr/>
          </p:nvSpPr>
          <p:spPr>
            <a:xfrm>
              <a:off x="3629160" y="1501920"/>
              <a:ext cx="4889520" cy="5018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16360" y="1658880"/>
              <a:ext cx="4532400" cy="470844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" descr=""/>
            <p:cNvPicPr/>
            <p:nvPr/>
          </p:nvPicPr>
          <p:blipFill>
            <a:blip r:embed="rId1"/>
            <a:stretch/>
          </p:blipFill>
          <p:spPr>
            <a:xfrm>
              <a:off x="3897360" y="1776240"/>
              <a:ext cx="4327560" cy="449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" name=""/>
          <p:cNvGrpSpPr/>
          <p:nvPr/>
        </p:nvGrpSpPr>
        <p:grpSpPr>
          <a:xfrm>
            <a:off x="584280" y="1509840"/>
            <a:ext cx="2882880" cy="5018040"/>
            <a:chOff x="584280" y="1509840"/>
            <a:chExt cx="2882880" cy="5018040"/>
          </a:xfrm>
        </p:grpSpPr>
        <p:sp>
          <p:nvSpPr>
            <p:cNvPr id="153" name=""/>
            <p:cNvSpPr/>
            <p:nvPr/>
          </p:nvSpPr>
          <p:spPr>
            <a:xfrm>
              <a:off x="584280" y="1509840"/>
              <a:ext cx="2882880" cy="5018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612720" y="1568520"/>
              <a:ext cx="2770200" cy="4779720"/>
              <a:chOff x="612720" y="1568520"/>
              <a:chExt cx="2770200" cy="4779720"/>
            </a:xfrm>
          </p:grpSpPr>
          <p:sp>
            <p:nvSpPr>
              <p:cNvPr id="155" name=""/>
              <p:cNvSpPr/>
              <p:nvPr/>
            </p:nvSpPr>
            <p:spPr>
              <a:xfrm>
                <a:off x="612720" y="1568520"/>
                <a:ext cx="2770200" cy="174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137160" bIns="44280" anchor="t">
                <a:normAutofit/>
              </a:bodyPr>
              <a:p>
                <a:pPr marL="343080" indent="-343080">
                  <a:lnSpc>
                    <a:spcPct val="77000"/>
                  </a:lnSpc>
                  <a:spcBef>
                    <a:spcPts val="349"/>
                  </a:spcBef>
                  <a:buClr>
                    <a:srgbClr val="000066"/>
                  </a:buClr>
                  <a:buSzPct val="120000"/>
                  <a:buFont typeface="Monotype Sorts" charset="2"/>
                  <a:buChar char="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Comic Sans MS"/>
                  </a:rPr>
                  <a:t>Double reduction spur gear: </a:t>
                </a:r>
                <a:r>
                  <a:rPr b="0" lang="en-US" sz="1400" spc="-1" strike="noStrike">
                    <a:solidFill>
                      <a:srgbClr val="000066"/>
                    </a:solidFill>
                    <a:latin typeface="Comic Sans MS"/>
                  </a:rPr>
                  <a:t>maximum shaft diameter (largest bearing location) is 180 mm.  Input power is 1500 HP at maximum speed of 1500 rpm.  Gear ratio is 8: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77000"/>
                  </a:lnSpc>
                  <a:spcBef>
                    <a:spcPts val="349"/>
                  </a:spcBef>
                  <a:buClr>
                    <a:srgbClr val="000066"/>
                  </a:buClr>
                  <a:buSzPct val="120000"/>
                  <a:buFont typeface="Monotype Sorts" charset="2"/>
                  <a:buChar char="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5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43040" y="3589200"/>
                <a:ext cx="2376360" cy="2759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903240" y="1616040"/>
            <a:ext cx="7613640" cy="3933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Stress Concentration Factor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000080" y="1798560"/>
            <a:ext cx="7290000" cy="33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2817720" y="147600"/>
            <a:ext cx="6176880" cy="65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6720" y="328680"/>
            <a:ext cx="2584440" cy="35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Fi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Shaft  Diameter at Each Location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871720" y="203040"/>
            <a:ext cx="5957640" cy="6411600"/>
            <a:chOff x="2871720" y="203040"/>
            <a:chExt cx="5957640" cy="6411600"/>
          </a:xfrm>
        </p:grpSpPr>
        <p:pic>
          <p:nvPicPr>
            <p:cNvPr id="367" name="" descr=""/>
            <p:cNvPicPr/>
            <p:nvPr/>
          </p:nvPicPr>
          <p:blipFill>
            <a:blip r:embed="rId1"/>
            <a:stretch/>
          </p:blipFill>
          <p:spPr>
            <a:xfrm>
              <a:off x="2871720" y="203040"/>
              <a:ext cx="5951880" cy="298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" descr=""/>
            <p:cNvPicPr/>
            <p:nvPr/>
          </p:nvPicPr>
          <p:blipFill>
            <a:blip r:embed="rId2"/>
            <a:stretch/>
          </p:blipFill>
          <p:spPr>
            <a:xfrm>
              <a:off x="2908800" y="3098160"/>
              <a:ext cx="5920560" cy="183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" descr=""/>
            <p:cNvPicPr/>
            <p:nvPr/>
          </p:nvPicPr>
          <p:blipFill>
            <a:blip r:embed="rId3"/>
            <a:stretch/>
          </p:blipFill>
          <p:spPr>
            <a:xfrm>
              <a:off x="2894760" y="4836600"/>
              <a:ext cx="5886720" cy="177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"/>
          <p:cNvSpPr/>
          <p:nvPr/>
        </p:nvSpPr>
        <p:spPr>
          <a:xfrm>
            <a:off x="3151080" y="2760840"/>
            <a:ext cx="960480" cy="433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112920" y="4486320"/>
            <a:ext cx="960480" cy="433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063960" y="6211800"/>
            <a:ext cx="960480" cy="433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Find Safety Factor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241280" y="1174680"/>
            <a:ext cx="6618600" cy="3316320"/>
            <a:chOff x="1241280" y="1174680"/>
            <a:chExt cx="6618600" cy="3316320"/>
          </a:xfrm>
        </p:grpSpPr>
        <p:sp>
          <p:nvSpPr>
            <p:cNvPr id="375" name=""/>
            <p:cNvSpPr/>
            <p:nvPr/>
          </p:nvSpPr>
          <p:spPr>
            <a:xfrm>
              <a:off x="1241280" y="1174680"/>
              <a:ext cx="6618600" cy="331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6" name="" descr=""/>
            <p:cNvPicPr/>
            <p:nvPr/>
          </p:nvPicPr>
          <p:blipFill>
            <a:blip r:embed="rId1"/>
            <a:stretch/>
          </p:blipFill>
          <p:spPr>
            <a:xfrm>
              <a:off x="1414440" y="1406520"/>
              <a:ext cx="1847880" cy="28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" descr=""/>
            <p:cNvPicPr/>
            <p:nvPr/>
          </p:nvPicPr>
          <p:blipFill>
            <a:blip r:embed="rId2"/>
            <a:stretch/>
          </p:blipFill>
          <p:spPr>
            <a:xfrm>
              <a:off x="3625920" y="1509840"/>
              <a:ext cx="1746360" cy="26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3"/>
            <a:stretch/>
          </p:blipFill>
          <p:spPr>
            <a:xfrm>
              <a:off x="5732640" y="1501920"/>
              <a:ext cx="1679400" cy="2624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9" name=""/>
          <p:cNvGrpSpPr/>
          <p:nvPr/>
        </p:nvGrpSpPr>
        <p:grpSpPr>
          <a:xfrm>
            <a:off x="1233360" y="4584600"/>
            <a:ext cx="6634440" cy="1881000"/>
            <a:chOff x="1233360" y="4584600"/>
            <a:chExt cx="6634440" cy="1881000"/>
          </a:xfrm>
        </p:grpSpPr>
        <p:sp>
          <p:nvSpPr>
            <p:cNvPr id="380" name=""/>
            <p:cNvSpPr/>
            <p:nvPr/>
          </p:nvSpPr>
          <p:spPr>
            <a:xfrm>
              <a:off x="1233360" y="4584600"/>
              <a:ext cx="6634440" cy="188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1" name="" descr=""/>
            <p:cNvPicPr/>
            <p:nvPr/>
          </p:nvPicPr>
          <p:blipFill>
            <a:blip r:embed="rId4"/>
            <a:srcRect l="0" t="4033" r="0" b="0"/>
            <a:stretch/>
          </p:blipFill>
          <p:spPr>
            <a:xfrm>
              <a:off x="1593720" y="4628880"/>
              <a:ext cx="5932440" cy="1773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168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Example of rotating machinery: self-aligning ball bea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23840" y="1222200"/>
            <a:ext cx="9020160" cy="5508720"/>
            <a:chOff x="123840" y="1222200"/>
            <a:chExt cx="9020160" cy="5508720"/>
          </a:xfrm>
        </p:grpSpPr>
        <p:sp>
          <p:nvSpPr>
            <p:cNvPr id="159" name=""/>
            <p:cNvSpPr/>
            <p:nvPr/>
          </p:nvSpPr>
          <p:spPr>
            <a:xfrm>
              <a:off x="174600" y="1222200"/>
              <a:ext cx="8878680" cy="5508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612720" y="1855800"/>
              <a:ext cx="806292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2543040" y="5099040"/>
              <a:ext cx="6019920" cy="85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37160" bIns="44280" anchor="t">
              <a:normAutofit/>
            </a:bodyPr>
            <a:p>
              <a:pPr marL="343080" indent="-343080">
                <a:lnSpc>
                  <a:spcPct val="77000"/>
                </a:lnSpc>
                <a:spcBef>
                  <a:spcPts val="349"/>
                </a:spcBef>
                <a:buClr>
                  <a:srgbClr val="000066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mic Sans MS"/>
                </a:rPr>
                <a:t>Cutting shaft of a planer: </a:t>
              </a:r>
              <a:r>
                <a:rPr b="0" lang="en-US" sz="1400" spc="-1" strike="noStrike">
                  <a:solidFill>
                    <a:srgbClr val="000066"/>
                  </a:solidFill>
                  <a:latin typeface="Comic Sans MS"/>
                </a:rPr>
                <a:t>shaft diameter (bearings locations) is 40 mm.  Input power is 12 HP at maximum speed of 4500 rp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2985840" y="1257480"/>
              <a:ext cx="2854440" cy="1263600"/>
              <a:chOff x="2985840" y="1257480"/>
              <a:chExt cx="2854440" cy="1263600"/>
            </a:xfrm>
          </p:grpSpPr>
          <p:sp>
            <p:nvSpPr>
              <p:cNvPr id="163" name=""/>
              <p:cNvSpPr/>
              <p:nvPr/>
            </p:nvSpPr>
            <p:spPr>
              <a:xfrm>
                <a:off x="4836960" y="1824120"/>
                <a:ext cx="372960" cy="696960"/>
              </a:xfrm>
              <a:custGeom>
                <a:avLst/>
                <a:gdLst/>
                <a:ahLst/>
                <a:rect l="l" t="t" r="r" b="b"/>
                <a:pathLst>
                  <a:path w="319" h="676">
                    <a:moveTo>
                      <a:pt x="18" y="659"/>
                    </a:moveTo>
                    <a:cubicBezTo>
                      <a:pt x="9" y="667"/>
                      <a:pt x="0" y="676"/>
                      <a:pt x="44" y="620"/>
                    </a:cubicBezTo>
                    <a:cubicBezTo>
                      <a:pt x="88" y="564"/>
                      <a:pt x="273" y="370"/>
                      <a:pt x="281" y="320"/>
                    </a:cubicBezTo>
                    <a:cubicBezTo>
                      <a:pt x="289" y="270"/>
                      <a:pt x="89" y="373"/>
                      <a:pt x="95" y="320"/>
                    </a:cubicBezTo>
                    <a:cubicBezTo>
                      <a:pt x="101" y="267"/>
                      <a:pt x="284" y="52"/>
                      <a:pt x="319" y="0"/>
                    </a:cubicBezTo>
                  </a:path>
                </a:pathLst>
              </a:custGeom>
              <a:noFill/>
              <a:ln w="28440">
                <a:solidFill>
                  <a:srgbClr val="000099"/>
                </a:solidFill>
                <a:round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985840" y="1257480"/>
                <a:ext cx="2854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99"/>
                    </a:solidFill>
                    <a:latin typeface="Comic Sans MS"/>
                  </a:rPr>
                  <a:t>Shaft: used for transmission of power and as a machining too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7078680" y="1461960"/>
              <a:ext cx="1420560" cy="741600"/>
              <a:chOff x="7078680" y="1461960"/>
              <a:chExt cx="1420560" cy="741600"/>
            </a:xfrm>
          </p:grpSpPr>
          <p:sp>
            <p:nvSpPr>
              <p:cNvPr id="166" name=""/>
              <p:cNvSpPr/>
              <p:nvPr/>
            </p:nvSpPr>
            <p:spPr>
              <a:xfrm>
                <a:off x="7078680" y="1461960"/>
                <a:ext cx="142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99"/>
                    </a:solidFill>
                    <a:latin typeface="Comic Sans MS"/>
                  </a:rPr>
                  <a:t>Input pulle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734240" y="1762200"/>
                <a:ext cx="178920" cy="441360"/>
              </a:xfrm>
              <a:custGeom>
                <a:avLst/>
                <a:gdLst/>
                <a:ahLst/>
                <a:rect l="l" t="t" r="r" b="b"/>
                <a:pathLst>
                  <a:path w="319" h="676">
                    <a:moveTo>
                      <a:pt x="18" y="659"/>
                    </a:moveTo>
                    <a:cubicBezTo>
                      <a:pt x="9" y="667"/>
                      <a:pt x="0" y="676"/>
                      <a:pt x="44" y="620"/>
                    </a:cubicBezTo>
                    <a:cubicBezTo>
                      <a:pt x="88" y="564"/>
                      <a:pt x="273" y="370"/>
                      <a:pt x="281" y="320"/>
                    </a:cubicBezTo>
                    <a:cubicBezTo>
                      <a:pt x="289" y="270"/>
                      <a:pt x="89" y="373"/>
                      <a:pt x="95" y="320"/>
                    </a:cubicBezTo>
                    <a:cubicBezTo>
                      <a:pt x="101" y="267"/>
                      <a:pt x="284" y="52"/>
                      <a:pt x="319" y="0"/>
                    </a:cubicBezTo>
                  </a:path>
                </a:pathLst>
              </a:custGeom>
              <a:noFill/>
              <a:ln w="28440">
                <a:solidFill>
                  <a:srgbClr val="000099"/>
                </a:solidFill>
                <a:round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68" name="" descr=""/>
            <p:cNvPicPr/>
            <p:nvPr/>
          </p:nvPicPr>
          <p:blipFill>
            <a:blip r:embed="rId2"/>
            <a:srcRect l="0" t="0" r="0" b="8382"/>
            <a:stretch/>
          </p:blipFill>
          <p:spPr>
            <a:xfrm>
              <a:off x="244440" y="4451400"/>
              <a:ext cx="2243160" cy="22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630000" y="1544760"/>
              <a:ext cx="1704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Comic Sans MS"/>
                </a:rPr>
                <a:t>Locating bearing </a:t>
              </a:r>
              <a:r>
                <a:rPr b="0" i="1" lang="en-US" sz="1400" spc="-1" strike="noStrike">
                  <a:solidFill>
                    <a:srgbClr val="000099"/>
                  </a:solidFill>
                  <a:latin typeface="Comic Sans MS"/>
                </a:rPr>
                <a:t>(lesser loa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219640" y="4348080"/>
              <a:ext cx="1704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Comic Sans MS"/>
                </a:rPr>
                <a:t>Floating bearing </a:t>
              </a:r>
              <a:r>
                <a:rPr b="0" i="1" lang="en-US" sz="1400" spc="-1" strike="noStrike">
                  <a:solidFill>
                    <a:srgbClr val="000099"/>
                  </a:solidFill>
                  <a:latin typeface="Comic Sans MS"/>
                </a:rPr>
                <a:t>(heavier loa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7067520" y="3163680"/>
              <a:ext cx="1108080" cy="1463040"/>
              <a:chOff x="7067520" y="3163680"/>
              <a:chExt cx="1108080" cy="1463040"/>
            </a:xfrm>
          </p:grpSpPr>
          <p:sp>
            <p:nvSpPr>
              <p:cNvPr id="172" name=""/>
              <p:cNvSpPr/>
              <p:nvPr/>
            </p:nvSpPr>
            <p:spPr>
              <a:xfrm flipH="1" flipV="1">
                <a:off x="7623000" y="3163320"/>
                <a:ext cx="246240" cy="1182600"/>
              </a:xfrm>
              <a:custGeom>
                <a:avLst/>
                <a:gdLst/>
                <a:ahLst/>
                <a:rect l="l" t="t" r="r" b="b"/>
                <a:pathLst>
                  <a:path w="319" h="676">
                    <a:moveTo>
                      <a:pt x="18" y="659"/>
                    </a:moveTo>
                    <a:cubicBezTo>
                      <a:pt x="9" y="667"/>
                      <a:pt x="0" y="676"/>
                      <a:pt x="44" y="620"/>
                    </a:cubicBezTo>
                    <a:cubicBezTo>
                      <a:pt x="88" y="564"/>
                      <a:pt x="273" y="370"/>
                      <a:pt x="281" y="320"/>
                    </a:cubicBezTo>
                    <a:cubicBezTo>
                      <a:pt x="289" y="270"/>
                      <a:pt x="89" y="373"/>
                      <a:pt x="95" y="320"/>
                    </a:cubicBezTo>
                    <a:cubicBezTo>
                      <a:pt x="101" y="267"/>
                      <a:pt x="284" y="52"/>
                      <a:pt x="319" y="0"/>
                    </a:cubicBezTo>
                  </a:path>
                </a:pathLst>
              </a:custGeom>
              <a:noFill/>
              <a:ln w="28440">
                <a:solidFill>
                  <a:srgbClr val="000099"/>
                </a:solidFill>
                <a:round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067520" y="4319640"/>
                <a:ext cx="110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99"/>
                    </a:solidFill>
                    <a:latin typeface="Comic Sans MS"/>
                  </a:rPr>
                  <a:t>Keywa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5500440" y="1660680"/>
              <a:ext cx="1971720" cy="679320"/>
              <a:chOff x="5500440" y="1660680"/>
              <a:chExt cx="1971720" cy="679320"/>
            </a:xfrm>
          </p:grpSpPr>
          <p:sp>
            <p:nvSpPr>
              <p:cNvPr id="175" name=""/>
              <p:cNvSpPr/>
              <p:nvPr/>
            </p:nvSpPr>
            <p:spPr>
              <a:xfrm>
                <a:off x="5500440" y="1660680"/>
                <a:ext cx="1971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99"/>
                    </a:solidFill>
                    <a:latin typeface="Comic Sans MS"/>
                  </a:rPr>
                  <a:t>Lubrication syste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424560" y="1930320"/>
                <a:ext cx="160200" cy="409680"/>
              </a:xfrm>
              <a:custGeom>
                <a:avLst/>
                <a:gdLst/>
                <a:ahLst/>
                <a:rect l="l" t="t" r="r" b="b"/>
                <a:pathLst>
                  <a:path w="319" h="676">
                    <a:moveTo>
                      <a:pt x="18" y="659"/>
                    </a:moveTo>
                    <a:cubicBezTo>
                      <a:pt x="9" y="667"/>
                      <a:pt x="0" y="676"/>
                      <a:pt x="44" y="620"/>
                    </a:cubicBezTo>
                    <a:cubicBezTo>
                      <a:pt x="88" y="564"/>
                      <a:pt x="273" y="370"/>
                      <a:pt x="281" y="320"/>
                    </a:cubicBezTo>
                    <a:cubicBezTo>
                      <a:pt x="289" y="270"/>
                      <a:pt x="89" y="373"/>
                      <a:pt x="95" y="320"/>
                    </a:cubicBezTo>
                    <a:cubicBezTo>
                      <a:pt x="101" y="267"/>
                      <a:pt x="284" y="52"/>
                      <a:pt x="319" y="0"/>
                    </a:cubicBezTo>
                  </a:path>
                </a:pathLst>
              </a:custGeom>
              <a:noFill/>
              <a:ln w="28440">
                <a:solidFill>
                  <a:srgbClr val="000099"/>
                </a:solidFill>
                <a:round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8405640" y="2249640"/>
              <a:ext cx="738360" cy="779400"/>
              <a:chOff x="8405640" y="2249640"/>
              <a:chExt cx="738360" cy="779400"/>
            </a:xfrm>
          </p:grpSpPr>
          <p:sp>
            <p:nvSpPr>
              <p:cNvPr id="178" name=""/>
              <p:cNvSpPr/>
              <p:nvPr/>
            </p:nvSpPr>
            <p:spPr>
              <a:xfrm>
                <a:off x="8405640" y="2249640"/>
                <a:ext cx="738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99"/>
                    </a:solidFill>
                    <a:latin typeface="Comic Sans MS"/>
                  </a:rPr>
                  <a:t>Clam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445600" y="2549520"/>
                <a:ext cx="252360" cy="479520"/>
              </a:xfrm>
              <a:custGeom>
                <a:avLst/>
                <a:gdLst/>
                <a:ahLst/>
                <a:rect l="l" t="t" r="r" b="b"/>
                <a:pathLst>
                  <a:path w="319" h="676">
                    <a:moveTo>
                      <a:pt x="18" y="659"/>
                    </a:moveTo>
                    <a:cubicBezTo>
                      <a:pt x="9" y="667"/>
                      <a:pt x="0" y="676"/>
                      <a:pt x="44" y="620"/>
                    </a:cubicBezTo>
                    <a:cubicBezTo>
                      <a:pt x="88" y="564"/>
                      <a:pt x="273" y="370"/>
                      <a:pt x="281" y="320"/>
                    </a:cubicBezTo>
                    <a:cubicBezTo>
                      <a:pt x="289" y="270"/>
                      <a:pt x="89" y="373"/>
                      <a:pt x="95" y="320"/>
                    </a:cubicBezTo>
                    <a:cubicBezTo>
                      <a:pt x="101" y="267"/>
                      <a:pt x="284" y="52"/>
                      <a:pt x="319" y="0"/>
                    </a:cubicBezTo>
                  </a:path>
                </a:pathLst>
              </a:custGeom>
              <a:noFill/>
              <a:ln w="28440">
                <a:solidFill>
                  <a:srgbClr val="000099"/>
                </a:solidFill>
                <a:round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123840" y="2033640"/>
              <a:ext cx="890640" cy="971640"/>
              <a:chOff x="123840" y="2033640"/>
              <a:chExt cx="890640" cy="971640"/>
            </a:xfrm>
          </p:grpSpPr>
          <p:sp>
            <p:nvSpPr>
              <p:cNvPr id="181" name=""/>
              <p:cNvSpPr/>
              <p:nvPr/>
            </p:nvSpPr>
            <p:spPr>
              <a:xfrm>
                <a:off x="123840" y="2033640"/>
                <a:ext cx="8906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99"/>
                    </a:solidFill>
                    <a:latin typeface="Comic Sans MS"/>
                  </a:rPr>
                  <a:t>Sealed bearing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621720" y="2525760"/>
                <a:ext cx="285480" cy="479520"/>
              </a:xfrm>
              <a:custGeom>
                <a:avLst/>
                <a:gdLst/>
                <a:ahLst/>
                <a:rect l="l" t="t" r="r" b="b"/>
                <a:pathLst>
                  <a:path w="319" h="676">
                    <a:moveTo>
                      <a:pt x="18" y="659"/>
                    </a:moveTo>
                    <a:cubicBezTo>
                      <a:pt x="9" y="667"/>
                      <a:pt x="0" y="676"/>
                      <a:pt x="44" y="620"/>
                    </a:cubicBezTo>
                    <a:cubicBezTo>
                      <a:pt x="88" y="564"/>
                      <a:pt x="273" y="370"/>
                      <a:pt x="281" y="320"/>
                    </a:cubicBezTo>
                    <a:cubicBezTo>
                      <a:pt x="289" y="270"/>
                      <a:pt x="89" y="373"/>
                      <a:pt x="95" y="320"/>
                    </a:cubicBezTo>
                    <a:cubicBezTo>
                      <a:pt x="101" y="267"/>
                      <a:pt x="284" y="52"/>
                      <a:pt x="319" y="0"/>
                    </a:cubicBezTo>
                  </a:path>
                </a:pathLst>
              </a:custGeom>
              <a:noFill/>
              <a:ln w="28440">
                <a:solidFill>
                  <a:srgbClr val="000099"/>
                </a:solidFill>
                <a:round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250560" y="4927680"/>
              <a:ext cx="1960560" cy="598320"/>
            </a:xfrm>
            <a:prstGeom prst="rect">
              <a:avLst/>
            </a:prstGeom>
            <a:noFill/>
            <a:ln w="1908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39840" y="1063800"/>
            <a:ext cx="8528040" cy="5389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0960" y="1227240"/>
            <a:ext cx="8253360" cy="50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99"/>
              </a:spcBef>
              <a:buClr>
                <a:srgbClr val="333399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Comic Sans MS"/>
              </a:rPr>
              <a:t>Some design consid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00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 Rounded MT Bold"/>
              </a:rPr>
              <a:t>Shafts can be designed to minimize both stresses and deflections: use the shortest shaft possible to reduce bending mo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00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 Rounded MT Bold"/>
              </a:rPr>
              <a:t>Cantilever configurations typically have larger defl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00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 Rounded MT Bold"/>
              </a:rPr>
              <a:t>Sometimes, hollow shafts are utilized (better stiffness/mass ratio), however, may be more expens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00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 Rounded MT Bold"/>
              </a:rPr>
              <a:t>Minimize stress-concentration features -- particularly in regions subjected to high bending st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00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 Rounded MT Bold"/>
              </a:rPr>
              <a:t>Use low-carbon steels when designing shafts subjected to minimum deflection consid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00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 Rounded MT Bold"/>
              </a:rPr>
              <a:t>When using gears, shaft deflections at gear locations cannot exceed 0.005 in (127 µm) and slopes cannot exceed 0.03 degre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00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 Rounded MT Bold"/>
              </a:rPr>
              <a:t>If plain bearings are used, slopes at gear locations cannot exceed 0.04 degre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00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 Rounded MT Bold"/>
              </a:rPr>
              <a:t>If plain bearings are used, deflections at gear locations should be less than the oil-film thickness in the bea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00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 Rounded MT Bold"/>
              </a:rPr>
              <a:t>First natural frequency should be at least 3-times larger than the highest frequency expected in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00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 Rounded MT Bold"/>
              </a:rPr>
              <a:t>… </a:t>
            </a:r>
            <a:r>
              <a:rPr b="0" lang="en-US" sz="1600" spc="-1" strike="noStrike">
                <a:solidFill>
                  <a:srgbClr val="000066"/>
                </a:solidFill>
                <a:latin typeface="Arial Rounded MT Bold"/>
              </a:rPr>
              <a:t>Consult standards for additional considerations… (ASME, AGMA… etc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58840" y="380880"/>
            <a:ext cx="675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Design Guide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ypical Shaft Loa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Note that constant applied moment = fully reversed 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68360" y="1371600"/>
            <a:ext cx="8304120" cy="4859280"/>
            <a:chOff x="468360" y="1371600"/>
            <a:chExt cx="8304120" cy="4859280"/>
          </a:xfrm>
        </p:grpSpPr>
        <p:sp>
          <p:nvSpPr>
            <p:cNvPr id="189" name=""/>
            <p:cNvSpPr/>
            <p:nvPr/>
          </p:nvSpPr>
          <p:spPr>
            <a:xfrm>
              <a:off x="468360" y="1371600"/>
              <a:ext cx="8304120" cy="4859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571680" y="1662120"/>
              <a:ext cx="2361960" cy="193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2"/>
            <a:stretch/>
          </p:blipFill>
          <p:spPr>
            <a:xfrm>
              <a:off x="3343320" y="1681200"/>
              <a:ext cx="2178000" cy="191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3"/>
            <a:stretch/>
          </p:blipFill>
          <p:spPr>
            <a:xfrm>
              <a:off x="6026040" y="1606680"/>
              <a:ext cx="2476440" cy="2006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3" name=""/>
            <p:cNvGrpSpPr/>
            <p:nvPr/>
          </p:nvGrpSpPr>
          <p:grpSpPr>
            <a:xfrm>
              <a:off x="1450800" y="3911760"/>
              <a:ext cx="4203720" cy="666720"/>
              <a:chOff x="1450800" y="3911760"/>
              <a:chExt cx="4203720" cy="666720"/>
            </a:xfrm>
          </p:grpSpPr>
          <mc:AlternateContent>
            <mc:Choice xmlns:a14="http://schemas.microsoft.com/office/drawing/2010/main" Requires="a14">
              <p:sp>
                <p:nvSpPr>
                  <p:cNvPr id="194" name=""/>
                  <p:cNvSpPr txBox="1"/>
                  <p:nvPr/>
                </p:nvSpPr>
                <p:spPr>
                  <a:xfrm>
                    <a:off x="3706920" y="3948480"/>
                    <a:ext cx="1947600" cy="355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σ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95" name=""/>
              <p:cNvSpPr/>
              <p:nvPr/>
            </p:nvSpPr>
            <p:spPr>
              <a:xfrm>
                <a:off x="1450800" y="3911760"/>
                <a:ext cx="2352960" cy="66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137160" bIns="44280" anchor="t">
                <a:normAutofit/>
              </a:bodyPr>
              <a:p>
                <a:pPr marL="343080" indent="-343080">
                  <a:lnSpc>
                    <a:spcPct val="77000"/>
                  </a:lnSpc>
                  <a:spcBef>
                    <a:spcPts val="400"/>
                  </a:spcBef>
                  <a:buClr>
                    <a:srgbClr val="000066"/>
                  </a:buClr>
                  <a:buSzPct val="120000"/>
                  <a:buFont typeface="Monotype Sorts" charset="2"/>
                  <a:buChar char="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mic Sans MS"/>
                  </a:rPr>
                  <a:t>Stress range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77000"/>
                  </a:lnSpc>
                  <a:spcBef>
                    <a:spcPts val="400"/>
                  </a:spcBef>
                  <a:buClr>
                    <a:srgbClr val="000066"/>
                  </a:buClr>
                  <a:buSzPct val="150000"/>
                  <a:buFont typeface="Monotype Sorts" charset="2"/>
                  <a:buChar char="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1450800" y="4621320"/>
              <a:ext cx="6612120" cy="785880"/>
              <a:chOff x="1450800" y="4621320"/>
              <a:chExt cx="6612120" cy="785880"/>
            </a:xfrm>
          </p:grpSpPr>
          <p:sp>
            <p:nvSpPr>
              <p:cNvPr id="197" name=""/>
              <p:cNvSpPr/>
              <p:nvPr/>
            </p:nvSpPr>
            <p:spPr>
              <a:xfrm>
                <a:off x="1450800" y="4740120"/>
                <a:ext cx="3936960" cy="66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137160" bIns="44280" anchor="t">
                <a:normAutofit/>
              </a:bodyPr>
              <a:p>
                <a:pPr marL="343080" indent="-343080">
                  <a:lnSpc>
                    <a:spcPct val="77000"/>
                  </a:lnSpc>
                  <a:spcBef>
                    <a:spcPts val="400"/>
                  </a:spcBef>
                  <a:buClr>
                    <a:srgbClr val="000066"/>
                  </a:buClr>
                  <a:buSzPct val="120000"/>
                  <a:buFont typeface="Monotype Sorts" charset="2"/>
                  <a:buChar char="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mic Sans MS"/>
                  </a:rPr>
                  <a:t>Alternating stress component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77000"/>
                  </a:lnSpc>
                  <a:spcBef>
                    <a:spcPts val="400"/>
                  </a:spcBef>
                  <a:buClr>
                    <a:srgbClr val="000066"/>
                  </a:buClr>
                  <a:buSzPct val="150000"/>
                  <a:buFont typeface="Monotype Sorts" charset="2"/>
                  <a:buChar char="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98" name=""/>
                  <p:cNvSpPr txBox="1"/>
                  <p:nvPr/>
                </p:nvSpPr>
                <p:spPr>
                  <a:xfrm>
                    <a:off x="5419800" y="4621320"/>
                    <a:ext cx="2643120" cy="691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Δσ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99" name=""/>
            <p:cNvGrpSpPr/>
            <p:nvPr/>
          </p:nvGrpSpPr>
          <p:grpSpPr>
            <a:xfrm>
              <a:off x="1450800" y="5430960"/>
              <a:ext cx="5561280" cy="785160"/>
              <a:chOff x="1450800" y="5430960"/>
              <a:chExt cx="5561280" cy="785160"/>
            </a:xfrm>
          </p:grpSpPr>
          <p:sp>
            <p:nvSpPr>
              <p:cNvPr id="200" name=""/>
              <p:cNvSpPr/>
              <p:nvPr/>
            </p:nvSpPr>
            <p:spPr>
              <a:xfrm>
                <a:off x="1450800" y="5549760"/>
                <a:ext cx="3936960" cy="66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137160" bIns="44280" anchor="t">
                <a:normAutofit/>
              </a:bodyPr>
              <a:p>
                <a:pPr marL="343080" indent="-343080">
                  <a:lnSpc>
                    <a:spcPct val="77000"/>
                  </a:lnSpc>
                  <a:spcBef>
                    <a:spcPts val="400"/>
                  </a:spcBef>
                  <a:buClr>
                    <a:srgbClr val="000066"/>
                  </a:buClr>
                  <a:buSzPct val="120000"/>
                  <a:buFont typeface="Monotype Sorts" charset="2"/>
                  <a:buChar char="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mic Sans MS"/>
                  </a:rPr>
                  <a:t>Mean stress component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77000"/>
                  </a:lnSpc>
                  <a:spcBef>
                    <a:spcPts val="400"/>
                  </a:spcBef>
                  <a:buClr>
                    <a:srgbClr val="000066"/>
                  </a:buClr>
                  <a:buSzPct val="150000"/>
                  <a:buFont typeface="Monotype Sorts" charset="2"/>
                  <a:buChar char="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01" name=""/>
                  <p:cNvSpPr txBox="1"/>
                  <p:nvPr/>
                </p:nvSpPr>
                <p:spPr>
                  <a:xfrm>
                    <a:off x="5040360" y="5430960"/>
                    <a:ext cx="1971720" cy="691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84200" y="1425600"/>
            <a:ext cx="4762440" cy="4626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in Be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Stress analysis: rotating s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21160" y="1447920"/>
            <a:ext cx="34369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601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66"/>
                </a:solidFill>
                <a:uFillTx/>
                <a:latin typeface="Comic Sans MS"/>
              </a:rPr>
              <a:t>Bending (normal) stress</a:t>
            </a: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 may vary over time, however, </a:t>
            </a:r>
            <a:r>
              <a:rPr b="0" i="1" lang="en-US" sz="1600" spc="-1" strike="noStrike">
                <a:solidFill>
                  <a:srgbClr val="000066"/>
                </a:solidFill>
                <a:latin typeface="Comic Sans MS"/>
              </a:rPr>
              <a:t>even if constant, shaft will see reversed stress due to ro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601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21160" y="4987800"/>
            <a:ext cx="343692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Stress variations, at any point A, may induce fatigue failure by be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21160" y="2887560"/>
            <a:ext cx="3436920" cy="21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As shaft rotates (at a specific speed), sections are subjected to </a:t>
            </a:r>
            <a:r>
              <a:rPr b="0" i="1" lang="en-US" sz="1600" spc="-1" strike="noStrike" u="sng">
                <a:solidFill>
                  <a:srgbClr val="000066"/>
                </a:solidFill>
                <a:uFillTx/>
                <a:latin typeface="Comic Sans MS"/>
              </a:rPr>
              <a:t>fully</a:t>
            </a:r>
            <a:r>
              <a:rPr b="0" i="1" lang="en-US" sz="16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i="1" lang="en-US" sz="1600" spc="-1" strike="noStrike" u="sng">
                <a:solidFill>
                  <a:srgbClr val="000066"/>
                </a:solidFill>
                <a:uFillTx/>
                <a:latin typeface="Comic Sans MS"/>
              </a:rPr>
              <a:t>reversed </a:t>
            </a:r>
            <a:r>
              <a:rPr b="0" i="1" lang="en-US" sz="1600" spc="-1" strike="noStrike">
                <a:solidFill>
                  <a:srgbClr val="000066"/>
                </a:solidFill>
                <a:latin typeface="Comic Sans MS"/>
              </a:rPr>
              <a:t>bending stress</a:t>
            </a: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.  See point A: stress varies from tension to compression as a function of time (as shaft rotat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476360" y="3624120"/>
            <a:ext cx="3306600" cy="2291040"/>
            <a:chOff x="1476360" y="3624120"/>
            <a:chExt cx="3306600" cy="2291040"/>
          </a:xfrm>
        </p:grpSpPr>
        <p:grpSp>
          <p:nvGrpSpPr>
            <p:cNvPr id="208" name=""/>
            <p:cNvGrpSpPr/>
            <p:nvPr/>
          </p:nvGrpSpPr>
          <p:grpSpPr>
            <a:xfrm>
              <a:off x="1920960" y="3624120"/>
              <a:ext cx="2862000" cy="2291040"/>
              <a:chOff x="1920960" y="3624120"/>
              <a:chExt cx="2862000" cy="2291040"/>
            </a:xfrm>
          </p:grpSpPr>
          <p:pic>
            <p:nvPicPr>
              <p:cNvPr id="20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920960" y="3624120"/>
                <a:ext cx="2413080" cy="229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>
                <a:off x="2436840" y="3919680"/>
                <a:ext cx="2346120" cy="213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ormal stress at point 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11" name=""/>
                <p:cNvSpPr txBox="1"/>
                <p:nvPr/>
              </p:nvSpPr>
              <p:spPr>
                <a:xfrm>
                  <a:off x="1655640" y="4591080"/>
                  <a:ext cx="4939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1476360" y="4100400"/>
                  <a:ext cx="754200" cy="26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3" name=""/>
                <p:cNvSpPr txBox="1"/>
                <p:nvPr/>
              </p:nvSpPr>
              <p:spPr>
                <a:xfrm>
                  <a:off x="1476360" y="4940280"/>
                  <a:ext cx="739800" cy="26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4" name=""/>
            <p:cNvSpPr/>
            <p:nvPr/>
          </p:nvSpPr>
          <p:spPr>
            <a:xfrm>
              <a:off x="2278080" y="5110200"/>
              <a:ext cx="46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268360" y="4255920"/>
              <a:ext cx="46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39720" y="1562040"/>
            <a:ext cx="4415040" cy="1882800"/>
            <a:chOff x="639720" y="1562040"/>
            <a:chExt cx="4415040" cy="1882800"/>
          </a:xfrm>
        </p:grpSpPr>
        <p:pic>
          <p:nvPicPr>
            <p:cNvPr id="217" name="" descr=""/>
            <p:cNvPicPr/>
            <p:nvPr/>
          </p:nvPicPr>
          <p:blipFill>
            <a:blip r:embed="rId2"/>
            <a:stretch/>
          </p:blipFill>
          <p:spPr>
            <a:xfrm>
              <a:off x="639720" y="1562040"/>
              <a:ext cx="4415040" cy="1830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8" name=""/>
            <p:cNvGrpSpPr/>
            <p:nvPr/>
          </p:nvGrpSpPr>
          <p:grpSpPr>
            <a:xfrm>
              <a:off x="2678040" y="1901880"/>
              <a:ext cx="591840" cy="495000"/>
              <a:chOff x="2678040" y="1901880"/>
              <a:chExt cx="591840" cy="495000"/>
            </a:xfrm>
          </p:grpSpPr>
          <p:sp>
            <p:nvSpPr>
              <p:cNvPr id="219" name=""/>
              <p:cNvSpPr/>
              <p:nvPr/>
            </p:nvSpPr>
            <p:spPr>
              <a:xfrm>
                <a:off x="2678040" y="2150280"/>
                <a:ext cx="369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333399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935440" y="2311200"/>
                <a:ext cx="85680" cy="85680"/>
              </a:xfrm>
              <a:prstGeom prst="ellipse">
                <a:avLst/>
              </a:pr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983320" y="1901880"/>
                <a:ext cx="286560" cy="451080"/>
              </a:xfrm>
              <a:custGeom>
                <a:avLst/>
                <a:gdLst/>
                <a:ahLst/>
                <a:rect l="l" t="t" r="r" b="b"/>
                <a:pathLst>
                  <a:path w="157" h="247">
                    <a:moveTo>
                      <a:pt x="157" y="0"/>
                    </a:moveTo>
                    <a:cubicBezTo>
                      <a:pt x="146" y="6"/>
                      <a:pt x="135" y="13"/>
                      <a:pt x="125" y="20"/>
                    </a:cubicBezTo>
                    <a:cubicBezTo>
                      <a:pt x="115" y="27"/>
                      <a:pt x="105" y="34"/>
                      <a:pt x="96" y="42"/>
                    </a:cubicBezTo>
                    <a:cubicBezTo>
                      <a:pt x="87" y="50"/>
                      <a:pt x="79" y="58"/>
                      <a:pt x="70" y="71"/>
                    </a:cubicBezTo>
                    <a:cubicBezTo>
                      <a:pt x="61" y="84"/>
                      <a:pt x="51" y="101"/>
                      <a:pt x="42" y="119"/>
                    </a:cubicBezTo>
                    <a:cubicBezTo>
                      <a:pt x="33" y="137"/>
                      <a:pt x="23" y="159"/>
                      <a:pt x="16" y="180"/>
                    </a:cubicBezTo>
                    <a:cubicBezTo>
                      <a:pt x="9" y="201"/>
                      <a:pt x="4" y="224"/>
                      <a:pt x="0" y="247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2747880" y="2354400"/>
              <a:ext cx="367920" cy="682560"/>
              <a:chOff x="2747880" y="2354400"/>
              <a:chExt cx="367920" cy="682560"/>
            </a:xfrm>
          </p:grpSpPr>
          <p:sp>
            <p:nvSpPr>
              <p:cNvPr id="223" name=""/>
              <p:cNvSpPr/>
              <p:nvPr/>
            </p:nvSpPr>
            <p:spPr>
              <a:xfrm>
                <a:off x="2950200" y="2354400"/>
                <a:ext cx="120240" cy="579240"/>
              </a:xfrm>
              <a:custGeom>
                <a:avLst/>
                <a:gdLst/>
                <a:ahLst/>
                <a:rect l="l" t="t" r="r" b="b"/>
                <a:pathLst>
                  <a:path w="45" h="282">
                    <a:moveTo>
                      <a:pt x="10" y="0"/>
                    </a:moveTo>
                    <a:cubicBezTo>
                      <a:pt x="6" y="15"/>
                      <a:pt x="2" y="31"/>
                      <a:pt x="1" y="55"/>
                    </a:cubicBezTo>
                    <a:cubicBezTo>
                      <a:pt x="0" y="79"/>
                      <a:pt x="1" y="116"/>
                      <a:pt x="4" y="144"/>
                    </a:cubicBezTo>
                    <a:cubicBezTo>
                      <a:pt x="7" y="172"/>
                      <a:pt x="13" y="198"/>
                      <a:pt x="20" y="221"/>
                    </a:cubicBezTo>
                    <a:cubicBezTo>
                      <a:pt x="27" y="244"/>
                      <a:pt x="37" y="264"/>
                      <a:pt x="45" y="282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747880" y="2790720"/>
                <a:ext cx="367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333399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015360" y="2890080"/>
                <a:ext cx="85680" cy="89280"/>
              </a:xfrm>
              <a:prstGeom prst="ellipse">
                <a:avLst/>
              </a:pr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3073320" y="2962440"/>
              <a:ext cx="377640" cy="455760"/>
              <a:chOff x="3073320" y="2962440"/>
              <a:chExt cx="377640" cy="455760"/>
            </a:xfrm>
          </p:grpSpPr>
          <p:sp>
            <p:nvSpPr>
              <p:cNvPr id="227" name=""/>
              <p:cNvSpPr/>
              <p:nvPr/>
            </p:nvSpPr>
            <p:spPr>
              <a:xfrm>
                <a:off x="3073320" y="2962440"/>
                <a:ext cx="298800" cy="233280"/>
              </a:xfrm>
              <a:custGeom>
                <a:avLst/>
                <a:gdLst/>
                <a:ahLst/>
                <a:rect l="l" t="t" r="r" b="b"/>
                <a:pathLst>
                  <a:path w="144" h="125">
                    <a:moveTo>
                      <a:pt x="0" y="0"/>
                    </a:moveTo>
                    <a:cubicBezTo>
                      <a:pt x="4" y="9"/>
                      <a:pt x="9" y="19"/>
                      <a:pt x="13" y="26"/>
                    </a:cubicBezTo>
                    <a:cubicBezTo>
                      <a:pt x="17" y="33"/>
                      <a:pt x="20" y="36"/>
                      <a:pt x="25" y="42"/>
                    </a:cubicBezTo>
                    <a:cubicBezTo>
                      <a:pt x="30" y="48"/>
                      <a:pt x="38" y="57"/>
                      <a:pt x="45" y="64"/>
                    </a:cubicBezTo>
                    <a:cubicBezTo>
                      <a:pt x="52" y="71"/>
                      <a:pt x="59" y="80"/>
                      <a:pt x="67" y="87"/>
                    </a:cubicBezTo>
                    <a:cubicBezTo>
                      <a:pt x="75" y="94"/>
                      <a:pt x="86" y="98"/>
                      <a:pt x="93" y="103"/>
                    </a:cubicBezTo>
                    <a:cubicBezTo>
                      <a:pt x="100" y="108"/>
                      <a:pt x="101" y="111"/>
                      <a:pt x="109" y="115"/>
                    </a:cubicBezTo>
                    <a:cubicBezTo>
                      <a:pt x="117" y="119"/>
                      <a:pt x="139" y="124"/>
                      <a:pt x="144" y="125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192480" y="3171960"/>
                <a:ext cx="258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333399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317400" y="3150000"/>
                <a:ext cx="89280" cy="85680"/>
              </a:xfrm>
              <a:prstGeom prst="ellipse">
                <a:avLst/>
              </a:pr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30" name=""/>
                <p:cNvSpPr txBox="1"/>
                <p:nvPr/>
              </p:nvSpPr>
              <p:spPr>
                <a:xfrm>
                  <a:off x="3903840" y="1766880"/>
                  <a:ext cx="753840" cy="26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3895560" y="3182760"/>
                  <a:ext cx="739800" cy="26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36680" y="1371600"/>
            <a:ext cx="4879800" cy="4890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in Transverse Sh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Stress analysis: rotating s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21160" y="1447920"/>
            <a:ext cx="343692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601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66"/>
                </a:solidFill>
                <a:uFillTx/>
                <a:latin typeface="Comic Sans MS"/>
              </a:rPr>
              <a:t>Transverse shear stress</a:t>
            </a: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 may vary over time, however, </a:t>
            </a:r>
            <a:r>
              <a:rPr b="0" i="1" lang="en-US" sz="1600" spc="-1" strike="noStrike">
                <a:solidFill>
                  <a:srgbClr val="000066"/>
                </a:solidFill>
                <a:latin typeface="Comic Sans MS"/>
              </a:rPr>
              <a:t>even if constant, shaft will see reversed stress due to ro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601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21160" y="4940280"/>
            <a:ext cx="343692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Stress variations, at any point A, may induce fatigue failure by sh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21160" y="2820960"/>
            <a:ext cx="343692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As shaft rotates (at a specific speed), sections are subjected to </a:t>
            </a:r>
            <a:r>
              <a:rPr b="0" i="1" lang="en-US" sz="1600" spc="-1" strike="noStrike" u="sng">
                <a:solidFill>
                  <a:srgbClr val="000066"/>
                </a:solidFill>
                <a:uFillTx/>
                <a:latin typeface="Comic Sans MS"/>
              </a:rPr>
              <a:t>repeated </a:t>
            </a:r>
            <a:r>
              <a:rPr b="0" i="1" lang="en-US" sz="1600" spc="-1" strike="noStrike">
                <a:solidFill>
                  <a:srgbClr val="000066"/>
                </a:solidFill>
                <a:latin typeface="Comic Sans MS"/>
              </a:rPr>
              <a:t>transverse shear stress</a:t>
            </a: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.  See point A: stress varies from zero to maximum as a function of time (as shaft rotat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395360" y="3881520"/>
            <a:ext cx="3697200" cy="2268360"/>
            <a:chOff x="1395360" y="3881520"/>
            <a:chExt cx="3697200" cy="2268360"/>
          </a:xfrm>
        </p:grpSpPr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2076480" y="3881520"/>
              <a:ext cx="2058840" cy="22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2208240" y="3948120"/>
              <a:ext cx="28843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ansverse shear stress at point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0" name=""/>
                <p:cNvSpPr txBox="1"/>
                <p:nvPr/>
              </p:nvSpPr>
              <p:spPr>
                <a:xfrm>
                  <a:off x="1654200" y="4905360"/>
                  <a:ext cx="4586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1" name=""/>
                <p:cNvSpPr txBox="1"/>
                <p:nvPr/>
              </p:nvSpPr>
              <p:spPr>
                <a:xfrm>
                  <a:off x="1395360" y="4110120"/>
                  <a:ext cx="673200" cy="26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τ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42" name=""/>
            <p:cNvSpPr/>
            <p:nvPr/>
          </p:nvSpPr>
          <p:spPr>
            <a:xfrm>
              <a:off x="2639880" y="4267080"/>
              <a:ext cx="46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577800" y="1460520"/>
            <a:ext cx="4446720" cy="2117880"/>
            <a:chOff x="577800" y="1460520"/>
            <a:chExt cx="4446720" cy="2117880"/>
          </a:xfrm>
        </p:grpSpPr>
        <p:pic>
          <p:nvPicPr>
            <p:cNvPr id="244" name="" descr=""/>
            <p:cNvPicPr/>
            <p:nvPr/>
          </p:nvPicPr>
          <p:blipFill>
            <a:blip r:embed="rId2"/>
            <a:stretch/>
          </p:blipFill>
          <p:spPr>
            <a:xfrm>
              <a:off x="577800" y="1546200"/>
              <a:ext cx="4446720" cy="1812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5" name=""/>
            <p:cNvGrpSpPr/>
            <p:nvPr/>
          </p:nvGrpSpPr>
          <p:grpSpPr>
            <a:xfrm>
              <a:off x="2678040" y="1901880"/>
              <a:ext cx="591840" cy="495000"/>
              <a:chOff x="2678040" y="1901880"/>
              <a:chExt cx="591840" cy="495000"/>
            </a:xfrm>
          </p:grpSpPr>
          <p:sp>
            <p:nvSpPr>
              <p:cNvPr id="246" name=""/>
              <p:cNvSpPr/>
              <p:nvPr/>
            </p:nvSpPr>
            <p:spPr>
              <a:xfrm>
                <a:off x="2678040" y="2150280"/>
                <a:ext cx="369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333399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935440" y="2311200"/>
                <a:ext cx="85680" cy="85680"/>
              </a:xfrm>
              <a:prstGeom prst="ellipse">
                <a:avLst/>
              </a:pr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983320" y="1901880"/>
                <a:ext cx="286560" cy="451080"/>
              </a:xfrm>
              <a:custGeom>
                <a:avLst/>
                <a:gdLst/>
                <a:ahLst/>
                <a:rect l="l" t="t" r="r" b="b"/>
                <a:pathLst>
                  <a:path w="157" h="247">
                    <a:moveTo>
                      <a:pt x="157" y="0"/>
                    </a:moveTo>
                    <a:cubicBezTo>
                      <a:pt x="146" y="6"/>
                      <a:pt x="135" y="13"/>
                      <a:pt x="125" y="20"/>
                    </a:cubicBezTo>
                    <a:cubicBezTo>
                      <a:pt x="115" y="27"/>
                      <a:pt x="105" y="34"/>
                      <a:pt x="96" y="42"/>
                    </a:cubicBezTo>
                    <a:cubicBezTo>
                      <a:pt x="87" y="50"/>
                      <a:pt x="79" y="58"/>
                      <a:pt x="70" y="71"/>
                    </a:cubicBezTo>
                    <a:cubicBezTo>
                      <a:pt x="61" y="84"/>
                      <a:pt x="51" y="101"/>
                      <a:pt x="42" y="119"/>
                    </a:cubicBezTo>
                    <a:cubicBezTo>
                      <a:pt x="33" y="137"/>
                      <a:pt x="23" y="159"/>
                      <a:pt x="16" y="180"/>
                    </a:cubicBezTo>
                    <a:cubicBezTo>
                      <a:pt x="9" y="201"/>
                      <a:pt x="4" y="224"/>
                      <a:pt x="0" y="247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2747880" y="2354400"/>
              <a:ext cx="367920" cy="682560"/>
              <a:chOff x="2747880" y="2354400"/>
              <a:chExt cx="367920" cy="682560"/>
            </a:xfrm>
          </p:grpSpPr>
          <p:sp>
            <p:nvSpPr>
              <p:cNvPr id="250" name=""/>
              <p:cNvSpPr/>
              <p:nvPr/>
            </p:nvSpPr>
            <p:spPr>
              <a:xfrm>
                <a:off x="2950200" y="2354400"/>
                <a:ext cx="120240" cy="579240"/>
              </a:xfrm>
              <a:custGeom>
                <a:avLst/>
                <a:gdLst/>
                <a:ahLst/>
                <a:rect l="l" t="t" r="r" b="b"/>
                <a:pathLst>
                  <a:path w="45" h="282">
                    <a:moveTo>
                      <a:pt x="10" y="0"/>
                    </a:moveTo>
                    <a:cubicBezTo>
                      <a:pt x="6" y="15"/>
                      <a:pt x="2" y="31"/>
                      <a:pt x="1" y="55"/>
                    </a:cubicBezTo>
                    <a:cubicBezTo>
                      <a:pt x="0" y="79"/>
                      <a:pt x="1" y="116"/>
                      <a:pt x="4" y="144"/>
                    </a:cubicBezTo>
                    <a:cubicBezTo>
                      <a:pt x="7" y="172"/>
                      <a:pt x="13" y="198"/>
                      <a:pt x="20" y="221"/>
                    </a:cubicBezTo>
                    <a:cubicBezTo>
                      <a:pt x="27" y="244"/>
                      <a:pt x="37" y="264"/>
                      <a:pt x="45" y="282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747880" y="2790720"/>
                <a:ext cx="367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333399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015360" y="2890080"/>
                <a:ext cx="85680" cy="89280"/>
              </a:xfrm>
              <a:prstGeom prst="ellipse">
                <a:avLst/>
              </a:pr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3073320" y="2962440"/>
              <a:ext cx="377640" cy="455760"/>
              <a:chOff x="3073320" y="2962440"/>
              <a:chExt cx="377640" cy="455760"/>
            </a:xfrm>
          </p:grpSpPr>
          <p:sp>
            <p:nvSpPr>
              <p:cNvPr id="254" name=""/>
              <p:cNvSpPr/>
              <p:nvPr/>
            </p:nvSpPr>
            <p:spPr>
              <a:xfrm>
                <a:off x="3073320" y="2962440"/>
                <a:ext cx="298800" cy="233280"/>
              </a:xfrm>
              <a:custGeom>
                <a:avLst/>
                <a:gdLst/>
                <a:ahLst/>
                <a:rect l="l" t="t" r="r" b="b"/>
                <a:pathLst>
                  <a:path w="144" h="125">
                    <a:moveTo>
                      <a:pt x="0" y="0"/>
                    </a:moveTo>
                    <a:cubicBezTo>
                      <a:pt x="4" y="9"/>
                      <a:pt x="9" y="19"/>
                      <a:pt x="13" y="26"/>
                    </a:cubicBezTo>
                    <a:cubicBezTo>
                      <a:pt x="17" y="33"/>
                      <a:pt x="20" y="36"/>
                      <a:pt x="25" y="42"/>
                    </a:cubicBezTo>
                    <a:cubicBezTo>
                      <a:pt x="30" y="48"/>
                      <a:pt x="38" y="57"/>
                      <a:pt x="45" y="64"/>
                    </a:cubicBezTo>
                    <a:cubicBezTo>
                      <a:pt x="52" y="71"/>
                      <a:pt x="59" y="80"/>
                      <a:pt x="67" y="87"/>
                    </a:cubicBezTo>
                    <a:cubicBezTo>
                      <a:pt x="75" y="94"/>
                      <a:pt x="86" y="98"/>
                      <a:pt x="93" y="103"/>
                    </a:cubicBezTo>
                    <a:cubicBezTo>
                      <a:pt x="100" y="108"/>
                      <a:pt x="101" y="111"/>
                      <a:pt x="109" y="115"/>
                    </a:cubicBezTo>
                    <a:cubicBezTo>
                      <a:pt x="117" y="119"/>
                      <a:pt x="139" y="124"/>
                      <a:pt x="144" y="125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192480" y="3171960"/>
                <a:ext cx="258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333399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317400" y="3150000"/>
                <a:ext cx="89280" cy="85680"/>
              </a:xfrm>
              <a:prstGeom prst="ellipse">
                <a:avLst/>
              </a:pr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1247760" y="2622600"/>
              <a:ext cx="1641240" cy="631800"/>
              <a:chOff x="1247760" y="2622600"/>
              <a:chExt cx="1641240" cy="631800"/>
            </a:xfrm>
          </p:grpSpPr>
          <mc:AlternateContent>
            <mc:Choice xmlns:a14="http://schemas.microsoft.com/office/drawing/2010/main" Requires="a14">
              <p:sp>
                <p:nvSpPr>
                  <p:cNvPr id="258" name=""/>
                  <p:cNvSpPr txBox="1"/>
                  <p:nvPr/>
                </p:nvSpPr>
                <p:spPr>
                  <a:xfrm>
                    <a:off x="1247760" y="2992320"/>
                    <a:ext cx="673200" cy="262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τ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59" name=""/>
              <p:cNvSpPr/>
              <p:nvPr/>
            </p:nvSpPr>
            <p:spPr>
              <a:xfrm flipH="1">
                <a:off x="1791720" y="2622600"/>
                <a:ext cx="1096920" cy="333360"/>
              </a:xfrm>
              <a:custGeom>
                <a:avLst/>
                <a:gdLst/>
                <a:ahLst/>
                <a:rect l="l" t="t" r="r" b="b"/>
                <a:pathLst>
                  <a:path w="340" h="177">
                    <a:moveTo>
                      <a:pt x="4" y="0"/>
                    </a:moveTo>
                    <a:cubicBezTo>
                      <a:pt x="2" y="1"/>
                      <a:pt x="0" y="3"/>
                      <a:pt x="18" y="24"/>
                    </a:cubicBezTo>
                    <a:cubicBezTo>
                      <a:pt x="36" y="45"/>
                      <a:pt x="88" y="110"/>
                      <a:pt x="110" y="124"/>
                    </a:cubicBezTo>
                    <a:cubicBezTo>
                      <a:pt x="132" y="138"/>
                      <a:pt x="144" y="127"/>
                      <a:pt x="153" y="110"/>
                    </a:cubicBezTo>
                    <a:cubicBezTo>
                      <a:pt x="162" y="93"/>
                      <a:pt x="131" y="13"/>
                      <a:pt x="162" y="24"/>
                    </a:cubicBezTo>
                    <a:cubicBezTo>
                      <a:pt x="193" y="35"/>
                      <a:pt x="311" y="152"/>
                      <a:pt x="340" y="177"/>
                    </a:cubicBezTo>
                  </a:path>
                </a:pathLst>
              </a:custGeom>
              <a:noFill/>
              <a:ln w="25560">
                <a:solidFill>
                  <a:srgbClr val="8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3467160" y="1460520"/>
              <a:ext cx="1058760" cy="380880"/>
              <a:chOff x="3467160" y="1460520"/>
              <a:chExt cx="1058760" cy="380880"/>
            </a:xfrm>
          </p:grpSpPr>
          <mc:AlternateContent>
            <mc:Choice xmlns:a14="http://schemas.microsoft.com/office/drawing/2010/main" Requires="a14">
              <p:sp>
                <p:nvSpPr>
                  <p:cNvPr id="261" name=""/>
                  <p:cNvSpPr txBox="1"/>
                  <p:nvPr/>
                </p:nvSpPr>
                <p:spPr>
                  <a:xfrm>
                    <a:off x="4067280" y="1460520"/>
                    <a:ext cx="45864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τ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62" name=""/>
              <p:cNvSpPr/>
              <p:nvPr/>
            </p:nvSpPr>
            <p:spPr>
              <a:xfrm flipV="1">
                <a:off x="3467160" y="1646280"/>
                <a:ext cx="579240" cy="195120"/>
              </a:xfrm>
              <a:custGeom>
                <a:avLst/>
                <a:gdLst/>
                <a:ahLst/>
                <a:rect l="l" t="t" r="r" b="b"/>
                <a:pathLst>
                  <a:path w="340" h="177">
                    <a:moveTo>
                      <a:pt x="4" y="0"/>
                    </a:moveTo>
                    <a:cubicBezTo>
                      <a:pt x="2" y="1"/>
                      <a:pt x="0" y="3"/>
                      <a:pt x="18" y="24"/>
                    </a:cubicBezTo>
                    <a:cubicBezTo>
                      <a:pt x="36" y="45"/>
                      <a:pt x="88" y="110"/>
                      <a:pt x="110" y="124"/>
                    </a:cubicBezTo>
                    <a:cubicBezTo>
                      <a:pt x="132" y="138"/>
                      <a:pt x="144" y="127"/>
                      <a:pt x="153" y="110"/>
                    </a:cubicBezTo>
                    <a:cubicBezTo>
                      <a:pt x="162" y="93"/>
                      <a:pt x="131" y="13"/>
                      <a:pt x="162" y="24"/>
                    </a:cubicBezTo>
                    <a:cubicBezTo>
                      <a:pt x="193" y="35"/>
                      <a:pt x="311" y="152"/>
                      <a:pt x="340" y="177"/>
                    </a:cubicBezTo>
                  </a:path>
                </a:pathLst>
              </a:custGeom>
              <a:noFill/>
              <a:ln w="25560">
                <a:solidFill>
                  <a:srgbClr val="8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3467160" y="3273480"/>
              <a:ext cx="1089000" cy="304920"/>
              <a:chOff x="3467160" y="3273480"/>
              <a:chExt cx="1089000" cy="304920"/>
            </a:xfrm>
          </p:grpSpPr>
          <mc:AlternateContent>
            <mc:Choice xmlns:a14="http://schemas.microsoft.com/office/drawing/2010/main" Requires="a14">
              <p:sp>
                <p:nvSpPr>
                  <p:cNvPr id="264" name=""/>
                  <p:cNvSpPr txBox="1"/>
                  <p:nvPr/>
                </p:nvSpPr>
                <p:spPr>
                  <a:xfrm>
                    <a:off x="4097160" y="3349800"/>
                    <a:ext cx="45900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τ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65" name=""/>
              <p:cNvSpPr/>
              <p:nvPr/>
            </p:nvSpPr>
            <p:spPr>
              <a:xfrm>
                <a:off x="3467160" y="3273480"/>
                <a:ext cx="579240" cy="171360"/>
              </a:xfrm>
              <a:custGeom>
                <a:avLst/>
                <a:gdLst/>
                <a:ahLst/>
                <a:rect l="l" t="t" r="r" b="b"/>
                <a:pathLst>
                  <a:path w="340" h="177">
                    <a:moveTo>
                      <a:pt x="4" y="0"/>
                    </a:moveTo>
                    <a:cubicBezTo>
                      <a:pt x="2" y="1"/>
                      <a:pt x="0" y="3"/>
                      <a:pt x="18" y="24"/>
                    </a:cubicBezTo>
                    <a:cubicBezTo>
                      <a:pt x="36" y="45"/>
                      <a:pt x="88" y="110"/>
                      <a:pt x="110" y="124"/>
                    </a:cubicBezTo>
                    <a:cubicBezTo>
                      <a:pt x="132" y="138"/>
                      <a:pt x="144" y="127"/>
                      <a:pt x="153" y="110"/>
                    </a:cubicBezTo>
                    <a:cubicBezTo>
                      <a:pt x="162" y="93"/>
                      <a:pt x="131" y="13"/>
                      <a:pt x="162" y="24"/>
                    </a:cubicBezTo>
                    <a:cubicBezTo>
                      <a:pt x="193" y="35"/>
                      <a:pt x="311" y="152"/>
                      <a:pt x="340" y="177"/>
                    </a:cubicBezTo>
                  </a:path>
                </a:pathLst>
              </a:custGeom>
              <a:noFill/>
              <a:ln w="25560">
                <a:solidFill>
                  <a:srgbClr val="8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214200" y="1349280"/>
            <a:ext cx="5187960" cy="4775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754200" y="1654200"/>
            <a:ext cx="3759120" cy="16066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in To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Stress analysis: rotating s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44720" y="2101680"/>
            <a:ext cx="36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66920" y="2236680"/>
            <a:ext cx="85680" cy="8568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14440" y="1916280"/>
            <a:ext cx="317520" cy="361800"/>
          </a:xfrm>
          <a:custGeom>
            <a:avLst/>
            <a:gdLst/>
            <a:ahLst/>
            <a:rect l="l" t="t" r="r" b="b"/>
            <a:pathLst>
              <a:path w="157" h="247">
                <a:moveTo>
                  <a:pt x="157" y="0"/>
                </a:moveTo>
                <a:cubicBezTo>
                  <a:pt x="146" y="6"/>
                  <a:pt x="135" y="13"/>
                  <a:pt x="125" y="20"/>
                </a:cubicBezTo>
                <a:cubicBezTo>
                  <a:pt x="115" y="27"/>
                  <a:pt x="105" y="34"/>
                  <a:pt x="96" y="42"/>
                </a:cubicBezTo>
                <a:cubicBezTo>
                  <a:pt x="87" y="50"/>
                  <a:pt x="79" y="58"/>
                  <a:pt x="70" y="71"/>
                </a:cubicBezTo>
                <a:cubicBezTo>
                  <a:pt x="61" y="84"/>
                  <a:pt x="51" y="101"/>
                  <a:pt x="42" y="119"/>
                </a:cubicBezTo>
                <a:cubicBezTo>
                  <a:pt x="33" y="137"/>
                  <a:pt x="23" y="159"/>
                  <a:pt x="16" y="180"/>
                </a:cubicBezTo>
                <a:cubicBezTo>
                  <a:pt x="9" y="201"/>
                  <a:pt x="4" y="224"/>
                  <a:pt x="0" y="247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1320" y="2279520"/>
            <a:ext cx="112680" cy="541440"/>
          </a:xfrm>
          <a:custGeom>
            <a:avLst/>
            <a:gdLst/>
            <a:ahLst/>
            <a:rect l="l" t="t" r="r" b="b"/>
            <a:pathLst>
              <a:path w="45" h="282">
                <a:moveTo>
                  <a:pt x="10" y="0"/>
                </a:moveTo>
                <a:cubicBezTo>
                  <a:pt x="6" y="15"/>
                  <a:pt x="2" y="31"/>
                  <a:pt x="1" y="55"/>
                </a:cubicBezTo>
                <a:cubicBezTo>
                  <a:pt x="0" y="79"/>
                  <a:pt x="1" y="116"/>
                  <a:pt x="4" y="144"/>
                </a:cubicBezTo>
                <a:cubicBezTo>
                  <a:pt x="7" y="172"/>
                  <a:pt x="13" y="198"/>
                  <a:pt x="20" y="221"/>
                </a:cubicBezTo>
                <a:cubicBezTo>
                  <a:pt x="27" y="244"/>
                  <a:pt x="37" y="264"/>
                  <a:pt x="45" y="282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27240" y="279576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55840" y="2768760"/>
            <a:ext cx="85680" cy="8892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411280" y="2827440"/>
            <a:ext cx="300240" cy="209520"/>
          </a:xfrm>
          <a:custGeom>
            <a:avLst/>
            <a:gdLst/>
            <a:ahLst/>
            <a:rect l="l" t="t" r="r" b="b"/>
            <a:pathLst>
              <a:path w="144" h="125">
                <a:moveTo>
                  <a:pt x="0" y="0"/>
                </a:moveTo>
                <a:cubicBezTo>
                  <a:pt x="4" y="9"/>
                  <a:pt x="9" y="19"/>
                  <a:pt x="13" y="26"/>
                </a:cubicBezTo>
                <a:cubicBezTo>
                  <a:pt x="17" y="33"/>
                  <a:pt x="20" y="36"/>
                  <a:pt x="25" y="42"/>
                </a:cubicBezTo>
                <a:cubicBezTo>
                  <a:pt x="30" y="48"/>
                  <a:pt x="38" y="57"/>
                  <a:pt x="45" y="64"/>
                </a:cubicBezTo>
                <a:cubicBezTo>
                  <a:pt x="52" y="71"/>
                  <a:pt x="59" y="80"/>
                  <a:pt x="67" y="87"/>
                </a:cubicBezTo>
                <a:cubicBezTo>
                  <a:pt x="75" y="94"/>
                  <a:pt x="86" y="98"/>
                  <a:pt x="93" y="103"/>
                </a:cubicBezTo>
                <a:cubicBezTo>
                  <a:pt x="100" y="108"/>
                  <a:pt x="101" y="111"/>
                  <a:pt x="109" y="115"/>
                </a:cubicBezTo>
                <a:cubicBezTo>
                  <a:pt x="117" y="119"/>
                  <a:pt x="139" y="124"/>
                  <a:pt x="144" y="125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580120" y="304956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681280" y="2995560"/>
            <a:ext cx="81000" cy="7776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565600" y="1882800"/>
            <a:ext cx="343728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601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66"/>
                </a:solidFill>
                <a:uFillTx/>
                <a:latin typeface="Comic Sans MS"/>
              </a:rPr>
              <a:t>Torsional shear stress</a:t>
            </a: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 may be constant with time, or more likely, fluctuate about a mean valu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527800" y="4344840"/>
            <a:ext cx="343692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Fluctuations in torsional stress may induce fatigue failure by she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65600" y="3084480"/>
            <a:ext cx="34372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Torsional shear stress varies with time only if applied torque fluctuates</a:t>
            </a:r>
            <a:r>
              <a:rPr b="0" i="1" lang="en-US" sz="1600" spc="-1" strike="noStrike">
                <a:solidFill>
                  <a:srgbClr val="000066"/>
                </a:solidFill>
                <a:latin typeface="Comic Sans MS"/>
              </a:rPr>
              <a:t>: </a:t>
            </a:r>
            <a:r>
              <a:rPr b="0" i="1" lang="en-US" sz="1600" spc="-1" strike="noStrike" u="sng">
                <a:solidFill>
                  <a:srgbClr val="000066"/>
                </a:solidFill>
                <a:uFillTx/>
                <a:latin typeface="Comic Sans MS"/>
              </a:rPr>
              <a:t>alternating </a:t>
            </a:r>
            <a:r>
              <a:rPr b="0" i="1" lang="en-US" sz="1600" spc="-1" strike="noStrike">
                <a:solidFill>
                  <a:srgbClr val="000066"/>
                </a:solidFill>
                <a:latin typeface="Comic Sans MS"/>
              </a:rPr>
              <a:t>stress</a:t>
            </a: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50920" y="3665520"/>
            <a:ext cx="3792600" cy="2358720"/>
            <a:chOff x="250920" y="3665520"/>
            <a:chExt cx="3792600" cy="2358720"/>
          </a:xfrm>
        </p:grpSpPr>
        <p:pic>
          <p:nvPicPr>
            <p:cNvPr id="282" name="" descr=""/>
            <p:cNvPicPr/>
            <p:nvPr/>
          </p:nvPicPr>
          <p:blipFill>
            <a:blip r:embed="rId2"/>
            <a:stretch/>
          </p:blipFill>
          <p:spPr>
            <a:xfrm>
              <a:off x="787680" y="3862080"/>
              <a:ext cx="2133720" cy="21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1159200" y="3665520"/>
              <a:ext cx="288432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orsional shear stress at poin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.  Obtained when only the applied torque (load) changes,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Please note pre-load/mean val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4" name=""/>
                <p:cNvSpPr txBox="1"/>
                <p:nvPr/>
              </p:nvSpPr>
              <p:spPr>
                <a:xfrm>
                  <a:off x="250920" y="4424040"/>
                  <a:ext cx="741600" cy="26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τ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ea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5" name=""/>
                <p:cNvSpPr txBox="1"/>
                <p:nvPr/>
              </p:nvSpPr>
              <p:spPr>
                <a:xfrm>
                  <a:off x="252720" y="4714560"/>
                  <a:ext cx="657000" cy="26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τ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86" name=""/>
            <p:cNvSpPr/>
            <p:nvPr/>
          </p:nvSpPr>
          <p:spPr>
            <a:xfrm>
              <a:off x="1022760" y="4889160"/>
              <a:ext cx="46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7" name=""/>
                <p:cNvSpPr txBox="1"/>
                <p:nvPr/>
              </p:nvSpPr>
              <p:spPr>
                <a:xfrm>
                  <a:off x="250920" y="4119480"/>
                  <a:ext cx="675000" cy="26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τ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88" name=""/>
            <p:cNvSpPr/>
            <p:nvPr/>
          </p:nvSpPr>
          <p:spPr>
            <a:xfrm>
              <a:off x="1024200" y="4271760"/>
              <a:ext cx="46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3189240" y="4759200"/>
            <a:ext cx="2052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99"/>
                </a:solidFill>
                <a:latin typeface="Comic Sans MS"/>
              </a:rPr>
              <a:t>Fluctuation of tor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99"/>
                </a:solidFill>
                <a:latin typeface="Comic Sans MS"/>
              </a:rPr>
              <a:t>(wrt to mean val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25760" y="4730760"/>
            <a:ext cx="673200" cy="231840"/>
          </a:xfrm>
          <a:custGeom>
            <a:avLst/>
            <a:gdLst/>
            <a:ahLst/>
            <a:rect l="l" t="t" r="r" b="b"/>
            <a:pathLst>
              <a:path w="340" h="177">
                <a:moveTo>
                  <a:pt x="4" y="0"/>
                </a:moveTo>
                <a:cubicBezTo>
                  <a:pt x="2" y="1"/>
                  <a:pt x="0" y="3"/>
                  <a:pt x="18" y="24"/>
                </a:cubicBezTo>
                <a:cubicBezTo>
                  <a:pt x="36" y="45"/>
                  <a:pt x="88" y="110"/>
                  <a:pt x="110" y="124"/>
                </a:cubicBezTo>
                <a:cubicBezTo>
                  <a:pt x="132" y="138"/>
                  <a:pt x="144" y="127"/>
                  <a:pt x="153" y="110"/>
                </a:cubicBezTo>
                <a:cubicBezTo>
                  <a:pt x="162" y="93"/>
                  <a:pt x="131" y="13"/>
                  <a:pt x="162" y="24"/>
                </a:cubicBezTo>
                <a:cubicBezTo>
                  <a:pt x="193" y="35"/>
                  <a:pt x="311" y="152"/>
                  <a:pt x="340" y="177"/>
                </a:cubicBezTo>
              </a:path>
            </a:pathLst>
          </a:custGeom>
          <a:noFill/>
          <a:ln w="25560">
            <a:solidFill>
              <a:srgbClr val="8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719440" y="4299120"/>
            <a:ext cx="1799640" cy="307080"/>
            <a:chOff x="2719440" y="4299120"/>
            <a:chExt cx="1799640" cy="307080"/>
          </a:xfrm>
        </p:grpSpPr>
        <p:sp>
          <p:nvSpPr>
            <p:cNvPr id="292" name=""/>
            <p:cNvSpPr/>
            <p:nvPr/>
          </p:nvSpPr>
          <p:spPr>
            <a:xfrm>
              <a:off x="3209400" y="4299120"/>
              <a:ext cx="13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3399"/>
                  </a:solidFill>
                  <a:latin typeface="Comic Sans MS"/>
                </a:rPr>
                <a:t>Mean torq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2719440" y="4484160"/>
              <a:ext cx="539280" cy="74520"/>
            </a:xfrm>
            <a:custGeom>
              <a:avLst/>
              <a:gdLst/>
              <a:ahLst/>
              <a:rect l="l" t="t" r="r" b="b"/>
              <a:pathLst>
                <a:path w="340" h="177">
                  <a:moveTo>
                    <a:pt x="4" y="0"/>
                  </a:moveTo>
                  <a:cubicBezTo>
                    <a:pt x="2" y="1"/>
                    <a:pt x="0" y="3"/>
                    <a:pt x="18" y="24"/>
                  </a:cubicBezTo>
                  <a:cubicBezTo>
                    <a:pt x="36" y="45"/>
                    <a:pt x="88" y="110"/>
                    <a:pt x="110" y="124"/>
                  </a:cubicBezTo>
                  <a:cubicBezTo>
                    <a:pt x="132" y="138"/>
                    <a:pt x="144" y="127"/>
                    <a:pt x="153" y="110"/>
                  </a:cubicBezTo>
                  <a:cubicBezTo>
                    <a:pt x="162" y="93"/>
                    <a:pt x="131" y="13"/>
                    <a:pt x="162" y="24"/>
                  </a:cubicBezTo>
                  <a:cubicBezTo>
                    <a:pt x="193" y="35"/>
                    <a:pt x="311" y="152"/>
                    <a:pt x="340" y="177"/>
                  </a:cubicBezTo>
                </a:path>
              </a:pathLst>
            </a:custGeom>
            <a:noFill/>
            <a:ln w="25560">
              <a:solidFill>
                <a:srgbClr val="8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701640" y="1265400"/>
            <a:ext cx="7740720" cy="1520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9760" y="380880"/>
            <a:ext cx="84214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s Fail in Combined-Stress Fati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Most shafts have bending and torque lo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00000" y="1292400"/>
            <a:ext cx="747252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Fatigue failures always begin at a cr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349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racks may be present in raw material used for fabrication (crystallographic defects; inclusions; et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349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racks may be introduced during fabr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349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racks develop over time due to cyclic loading (&amp; corros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349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racks develop around stress concent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681120" y="2924280"/>
            <a:ext cx="7979400" cy="3698640"/>
            <a:chOff x="681120" y="2924280"/>
            <a:chExt cx="7979400" cy="3698640"/>
          </a:xfrm>
        </p:grpSpPr>
        <p:sp>
          <p:nvSpPr>
            <p:cNvPr id="298" name=""/>
            <p:cNvSpPr/>
            <p:nvPr/>
          </p:nvSpPr>
          <p:spPr>
            <a:xfrm>
              <a:off x="681120" y="2924280"/>
              <a:ext cx="7794360" cy="3698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1073160" y="3419280"/>
              <a:ext cx="2752200" cy="2605680"/>
              <a:chOff x="1073160" y="3419280"/>
              <a:chExt cx="2752200" cy="2605680"/>
            </a:xfrm>
          </p:grpSpPr>
          <p:pic>
            <p:nvPicPr>
              <p:cNvPr id="30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73160" y="3715920"/>
                <a:ext cx="2752200" cy="230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"/>
              <p:cNvSpPr/>
              <p:nvPr/>
            </p:nvSpPr>
            <p:spPr>
              <a:xfrm>
                <a:off x="1331640" y="3419280"/>
                <a:ext cx="2234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333399"/>
                    </a:solidFill>
                    <a:latin typeface="Comic Sans MS"/>
                  </a:rPr>
                  <a:t>Shaft with keywa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4655880" y="2995200"/>
              <a:ext cx="4004640" cy="3479040"/>
              <a:chOff x="4655880" y="2995200"/>
              <a:chExt cx="4004640" cy="3479040"/>
            </a:xfrm>
          </p:grpSpPr>
          <p:grpSp>
            <p:nvGrpSpPr>
              <p:cNvPr id="303" name=""/>
              <p:cNvGrpSpPr/>
              <p:nvPr/>
            </p:nvGrpSpPr>
            <p:grpSpPr>
              <a:xfrm>
                <a:off x="4655880" y="2995200"/>
                <a:ext cx="3217680" cy="3479040"/>
                <a:chOff x="4655880" y="2995200"/>
                <a:chExt cx="3217680" cy="3479040"/>
              </a:xfrm>
            </p:grpSpPr>
            <p:pic>
              <p:nvPicPr>
                <p:cNvPr id="30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655880" y="3513960"/>
                  <a:ext cx="3217680" cy="2960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5" name=""/>
                <p:cNvSpPr/>
                <p:nvPr/>
              </p:nvSpPr>
              <p:spPr>
                <a:xfrm>
                  <a:off x="5189400" y="2995200"/>
                  <a:ext cx="21513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333399"/>
                      </a:solidFill>
                      <a:latin typeface="Comic Sans MS"/>
                    </a:rPr>
                    <a:t>Shaft failed in fatigue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333399"/>
                      </a:solidFill>
                      <a:latin typeface="Comic Sans MS"/>
                    </a:rPr>
                    <a:t>Crack initiated at keywa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6" name=""/>
              <p:cNvSpPr/>
              <p:nvPr/>
            </p:nvSpPr>
            <p:spPr>
              <a:xfrm>
                <a:off x="7014600" y="3798000"/>
                <a:ext cx="1645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99"/>
                    </a:solidFill>
                    <a:latin typeface="Comic Sans MS"/>
                  </a:rPr>
                  <a:t>Failure due to rotating be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12:00:34Z</dcterms:created>
  <dc:creator>Cosme Furlong</dc:creator>
  <dc:description/>
  <dc:language>en-US</dc:language>
  <cp:lastModifiedBy>R. L. Norton</cp:lastModifiedBy>
  <cp:lastPrinted>2005-09-18T22:11:21Z</cp:lastPrinted>
  <dcterms:modified xsi:type="dcterms:W3CDTF">2006-01-03T05:10:24Z</dcterms:modified>
  <cp:revision>394</cp:revision>
  <dc:subject/>
  <dc:title>Lect10-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wpi.edu/~cfurlong/es-2501.html</vt:lpwstr>
  </property>
  <property fmtid="{D5CDD505-2E9C-101B-9397-08002B2CF9AE}" pid="9" name="LinkColor">
    <vt:r8>16711782</vt:r8>
  </property>
  <property fmtid="{D5CDD505-2E9C-101B-9397-08002B2CF9AE}" pid="10" name="MailAddress">
    <vt:lpwstr>cfurlong@wpi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tem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