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35.wmf" ContentType="image/x-wmf"/>
  <Override PartName="/ppt/media/image10.jpeg" ContentType="image/jpeg"/>
  <Override PartName="/ppt/media/image29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.jpeg" ContentType="image/jpeg"/>
  <Override PartName="/ppt/media/image24.jpeg" ContentType="image/jpeg"/>
  <Override PartName="/ppt/media/image30.jpeg" ContentType="image/jpeg"/>
  <Override PartName="/ppt/media/image37.wmf" ContentType="image/x-wmf"/>
  <Override PartName="/ppt/media/image13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4.wmf" ContentType="image/x-wmf"/>
  <Override PartName="/ppt/media/image36.wmf" ContentType="image/x-wmf"/>
  <Override PartName="/ppt/media/image31.wmf" ContentType="image/x-wmf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04F-EA80-46A5-895E-198A0F29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EC3-92BE-49CC-9CC6-6F21C9C6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F68-B611-4477-B994-6884BA02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508-A10C-4C5C-B987-3F06948E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E3A35-FF01-40FE-829C-04F4D944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233BA-B94B-410F-B2CE-F19E064E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70D53-DFD3-4B0A-A2B8-B3FC7ACA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07099-C65E-4E05-A373-44DFEAD5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E5FC3-5461-423B-BF9F-B3E3D84A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851B2-0051-4077-AD77-90E92DB7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908EA-C7FF-4492-919B-1ADCA151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F6C2-9624-43CA-9503-B6F65335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C3756-98E0-4A56-8DEA-9BD1ECDD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E1AEC-1809-4863-98F6-0F6FC5DE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9D16A-6849-466C-9287-4BAC1062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E5BA6-61F3-4E63-8180-71FBE959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D7C5D-81B4-451B-A08A-D847E8C2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FCA4-A9EF-4657-B544-54C2127E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AB1C-17C9-46C8-A59B-003ABE49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BF163-5A51-407D-88F8-3EB901ED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8FFCB-51E0-4FB5-9D35-A4AB546E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EE848-B77E-4323-AF05-5C0BDDF7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50D-C15B-4895-845A-3D7B016D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9084C-D28F-4E49-9D3E-B78FD022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2768-A97D-4F08-86C5-8304D1F2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CB874-9791-462A-BA64-5ABDA838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E496D-0E3F-42E4-8A08-DB8CFF2A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7F40D-91D2-4B86-B9FE-01AB7009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AD998-2D89-46B5-A060-F953F8B5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A591-B1F2-41FD-A8FD-429FF3B5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EDD-3CAC-457A-BC49-8E37E3A7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A94-E285-47FA-AE49-E15A4859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7E1-A338-49AE-BF9D-BAA57DF8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AB79-E179-4E1E-83B8-9278C1F7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6B5-4923-4A64-86C3-68E012B5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FA0-9063-43CB-91C4-0BDBBC4F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3120-A238-40FF-B51F-8B5EC9F15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88320" y="7113600"/>
            <a:ext cx="1255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7627-7221-48DE-AFFE-6F44373E14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88320" y="7113600"/>
            <a:ext cx="1255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9961-E18B-4FE3-A452-59004AFFE8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888320" y="7113600"/>
            <a:ext cx="1255680" cy="615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skf.com/portal/skf/home/products?paf_dm=shared&amp;maincatalogue=1&amp;lang=en&amp;newlink=1_0_2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Journal Bearing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2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12920" y="1563840"/>
            <a:ext cx="8369280" cy="4732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shear stresses in lubr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Reynold’s equation for eccentric journal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486080" y="1809720"/>
            <a:ext cx="6391080" cy="882720"/>
            <a:chOff x="1486080" y="1809720"/>
            <a:chExt cx="6391080" cy="882720"/>
          </a:xfrm>
        </p:grpSpPr>
        <p:grpSp>
          <p:nvGrpSpPr>
            <p:cNvPr id="278" name=""/>
            <p:cNvGrpSpPr/>
            <p:nvPr/>
          </p:nvGrpSpPr>
          <p:grpSpPr>
            <a:xfrm>
              <a:off x="1579680" y="1879560"/>
              <a:ext cx="6223680" cy="744480"/>
              <a:chOff x="1579680" y="1879560"/>
              <a:chExt cx="6223680" cy="744480"/>
            </a:xfrm>
          </p:grpSpPr>
          <mc:AlternateContent>
            <mc:Choice xmlns:a14="http://schemas.microsoft.com/office/drawing/2010/main" Requires="a14">
              <p:sp>
                <p:nvSpPr>
                  <p:cNvPr id="279" name=""/>
                  <p:cNvSpPr txBox="1"/>
                  <p:nvPr/>
                </p:nvSpPr>
                <p:spPr>
                  <a:xfrm>
                    <a:off x="3795120" y="1879560"/>
                    <a:ext cx="4008240" cy="744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η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U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0" name=""/>
              <p:cNvSpPr/>
              <p:nvPr/>
            </p:nvSpPr>
            <p:spPr>
              <a:xfrm>
                <a:off x="1579680" y="2063520"/>
                <a:ext cx="214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Reynold’s equation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1486080" y="1809720"/>
              <a:ext cx="6391080" cy="8827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235160" y="2906640"/>
            <a:ext cx="71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lose-form solutions for Reynold’s equation do not exist, however, it can be solved numerically (e.g., with finite element method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06360" y="3621240"/>
            <a:ext cx="71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Particular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close-form solutions for simplified Reynold’s equation do ex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35160" y="4869000"/>
            <a:ext cx="71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nvolves solution of simplified Reynold’s equ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82680" y="4176720"/>
            <a:ext cx="8165880" cy="614160"/>
            <a:chOff x="382680" y="4176720"/>
            <a:chExt cx="8165880" cy="614160"/>
          </a:xfrm>
        </p:grpSpPr>
        <p:sp>
          <p:nvSpPr>
            <p:cNvPr id="286" name=""/>
            <p:cNvSpPr/>
            <p:nvPr/>
          </p:nvSpPr>
          <p:spPr>
            <a:xfrm>
              <a:off x="382680" y="4268880"/>
              <a:ext cx="763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Neglecting pressure gradient in the axial direction (assumption)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7759800" y="4176720"/>
                  <a:ext cx="78876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587760" y="5364000"/>
                <a:ext cx="2322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η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71520" y="1011240"/>
            <a:ext cx="8389800" cy="568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Pressure distribution in journal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849240" y="2116080"/>
            <a:ext cx="7405560" cy="3989520"/>
            <a:chOff x="849240" y="2116080"/>
            <a:chExt cx="7405560" cy="398952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900000" y="2116080"/>
              <a:ext cx="7354800" cy="39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849240" y="5761080"/>
              <a:ext cx="121932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092320" y="3711600"/>
            <a:ext cx="1584360" cy="1751040"/>
            <a:chOff x="2092320" y="3711600"/>
            <a:chExt cx="1584360" cy="1751040"/>
          </a:xfrm>
        </p:grpSpPr>
        <p:sp>
          <p:nvSpPr>
            <p:cNvPr id="295" name=""/>
            <p:cNvSpPr/>
            <p:nvPr/>
          </p:nvSpPr>
          <p:spPr>
            <a:xfrm>
              <a:off x="2092320" y="3711600"/>
              <a:ext cx="1584360" cy="1751040"/>
            </a:xfrm>
            <a:custGeom>
              <a:avLst/>
              <a:gdLst/>
              <a:ahLst/>
              <a:rect l="l" t="t" r="r" b="b"/>
              <a:pathLst>
                <a:path w="998" h="1103">
                  <a:moveTo>
                    <a:pt x="3" y="0"/>
                  </a:moveTo>
                  <a:cubicBezTo>
                    <a:pt x="1" y="14"/>
                    <a:pt x="0" y="28"/>
                    <a:pt x="0" y="54"/>
                  </a:cubicBezTo>
                  <a:cubicBezTo>
                    <a:pt x="0" y="80"/>
                    <a:pt x="0" y="126"/>
                    <a:pt x="3" y="157"/>
                  </a:cubicBezTo>
                  <a:cubicBezTo>
                    <a:pt x="6" y="188"/>
                    <a:pt x="11" y="214"/>
                    <a:pt x="16" y="243"/>
                  </a:cubicBezTo>
                  <a:cubicBezTo>
                    <a:pt x="21" y="272"/>
                    <a:pt x="25" y="300"/>
                    <a:pt x="35" y="333"/>
                  </a:cubicBezTo>
                  <a:cubicBezTo>
                    <a:pt x="45" y="366"/>
                    <a:pt x="61" y="408"/>
                    <a:pt x="74" y="442"/>
                  </a:cubicBezTo>
                  <a:cubicBezTo>
                    <a:pt x="87" y="476"/>
                    <a:pt x="91" y="497"/>
                    <a:pt x="112" y="538"/>
                  </a:cubicBezTo>
                  <a:cubicBezTo>
                    <a:pt x="133" y="579"/>
                    <a:pt x="169" y="643"/>
                    <a:pt x="198" y="688"/>
                  </a:cubicBezTo>
                  <a:cubicBezTo>
                    <a:pt x="227" y="733"/>
                    <a:pt x="253" y="766"/>
                    <a:pt x="288" y="806"/>
                  </a:cubicBezTo>
                  <a:cubicBezTo>
                    <a:pt x="323" y="846"/>
                    <a:pt x="380" y="903"/>
                    <a:pt x="410" y="931"/>
                  </a:cubicBezTo>
                  <a:cubicBezTo>
                    <a:pt x="440" y="959"/>
                    <a:pt x="448" y="961"/>
                    <a:pt x="470" y="976"/>
                  </a:cubicBezTo>
                  <a:cubicBezTo>
                    <a:pt x="492" y="991"/>
                    <a:pt x="520" y="1011"/>
                    <a:pt x="541" y="1024"/>
                  </a:cubicBezTo>
                  <a:cubicBezTo>
                    <a:pt x="562" y="1037"/>
                    <a:pt x="582" y="1045"/>
                    <a:pt x="598" y="1053"/>
                  </a:cubicBezTo>
                  <a:cubicBezTo>
                    <a:pt x="614" y="1061"/>
                    <a:pt x="620" y="1066"/>
                    <a:pt x="637" y="1072"/>
                  </a:cubicBezTo>
                  <a:cubicBezTo>
                    <a:pt x="654" y="1078"/>
                    <a:pt x="681" y="1084"/>
                    <a:pt x="701" y="1088"/>
                  </a:cubicBezTo>
                  <a:cubicBezTo>
                    <a:pt x="721" y="1092"/>
                    <a:pt x="738" y="1096"/>
                    <a:pt x="758" y="1098"/>
                  </a:cubicBezTo>
                  <a:cubicBezTo>
                    <a:pt x="778" y="1100"/>
                    <a:pt x="799" y="1103"/>
                    <a:pt x="819" y="1101"/>
                  </a:cubicBezTo>
                  <a:cubicBezTo>
                    <a:pt x="839" y="1099"/>
                    <a:pt x="866" y="1091"/>
                    <a:pt x="880" y="1088"/>
                  </a:cubicBezTo>
                  <a:cubicBezTo>
                    <a:pt x="894" y="1085"/>
                    <a:pt x="891" y="1087"/>
                    <a:pt x="902" y="1082"/>
                  </a:cubicBezTo>
                  <a:cubicBezTo>
                    <a:pt x="913" y="1077"/>
                    <a:pt x="935" y="1062"/>
                    <a:pt x="944" y="1056"/>
                  </a:cubicBezTo>
                  <a:cubicBezTo>
                    <a:pt x="953" y="1050"/>
                    <a:pt x="955" y="1052"/>
                    <a:pt x="960" y="1043"/>
                  </a:cubicBezTo>
                  <a:cubicBezTo>
                    <a:pt x="965" y="1034"/>
                    <a:pt x="971" y="1018"/>
                    <a:pt x="976" y="1002"/>
                  </a:cubicBezTo>
                  <a:cubicBezTo>
                    <a:pt x="981" y="986"/>
                    <a:pt x="988" y="962"/>
                    <a:pt x="992" y="947"/>
                  </a:cubicBezTo>
                  <a:cubicBezTo>
                    <a:pt x="996" y="932"/>
                    <a:pt x="998" y="943"/>
                    <a:pt x="998" y="912"/>
                  </a:cubicBezTo>
                  <a:cubicBezTo>
                    <a:pt x="998" y="881"/>
                    <a:pt x="996" y="792"/>
                    <a:pt x="995" y="758"/>
                  </a:cubicBezTo>
                  <a:cubicBezTo>
                    <a:pt x="994" y="724"/>
                    <a:pt x="993" y="724"/>
                    <a:pt x="992" y="710"/>
                  </a:cubicBezTo>
                  <a:cubicBezTo>
                    <a:pt x="991" y="696"/>
                    <a:pt x="991" y="687"/>
                    <a:pt x="989" y="672"/>
                  </a:cubicBezTo>
                  <a:cubicBezTo>
                    <a:pt x="987" y="657"/>
                    <a:pt x="985" y="639"/>
                    <a:pt x="982" y="621"/>
                  </a:cubicBezTo>
                  <a:cubicBezTo>
                    <a:pt x="979" y="603"/>
                    <a:pt x="976" y="584"/>
                    <a:pt x="973" y="566"/>
                  </a:cubicBezTo>
                  <a:cubicBezTo>
                    <a:pt x="970" y="548"/>
                    <a:pt x="968" y="531"/>
                    <a:pt x="966" y="515"/>
                  </a:cubicBezTo>
                </a:path>
              </a:pathLst>
            </a:custGeom>
            <a:noFill/>
            <a:ln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3306960" y="4702320"/>
              <a:ext cx="217440" cy="720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3439800" y="4640040"/>
              <a:ext cx="206280" cy="6699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546000" y="4573800"/>
              <a:ext cx="125640" cy="406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3160440" y="4711320"/>
              <a:ext cx="222120" cy="7462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3002040" y="4727520"/>
              <a:ext cx="217440" cy="720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2840040" y="4711680"/>
              <a:ext cx="201600" cy="6652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2676600" y="4660920"/>
              <a:ext cx="185760" cy="6192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2508120" y="4573800"/>
              <a:ext cx="160560" cy="5378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352240" y="4431960"/>
              <a:ext cx="149400" cy="506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2185920" y="4174920"/>
              <a:ext cx="160560" cy="5331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492280" y="3290040"/>
            <a:ext cx="1142280" cy="115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51" y="21422"/>
                </a:moveTo>
                <a:arcTo wR="10800" hR="10800" stAng="4775424" swAng="6271548"/>
                <a:lnTo>
                  <a:pt x="10800" y="10800"/>
                </a:lnTo>
                <a:close/>
              </a:path>
              <a:path fill="none" w="21600" h="21600">
                <a:moveTo>
                  <a:pt x="12751" y="21422"/>
                </a:moveTo>
                <a:arcTo wR="10800" hR="10800" stAng="4775424" swAng="6271548"/>
              </a:path>
            </a:pathLst>
          </a:custGeom>
          <a:noFill/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951520" y="4712760"/>
            <a:ext cx="1416240" cy="735120"/>
            <a:chOff x="5951520" y="4712760"/>
            <a:chExt cx="1416240" cy="735120"/>
          </a:xfrm>
        </p:grpSpPr>
        <p:sp>
          <p:nvSpPr>
            <p:cNvPr id="308" name=""/>
            <p:cNvSpPr/>
            <p:nvPr/>
          </p:nvSpPr>
          <p:spPr>
            <a:xfrm>
              <a:off x="5951520" y="4717800"/>
              <a:ext cx="1416240" cy="730080"/>
            </a:xfrm>
            <a:custGeom>
              <a:avLst/>
              <a:gdLst/>
              <a:ahLst/>
              <a:rect l="l" t="t" r="r" b="b"/>
              <a:pathLst>
                <a:path w="892" h="460">
                  <a:moveTo>
                    <a:pt x="0" y="6"/>
                  </a:moveTo>
                  <a:cubicBezTo>
                    <a:pt x="13" y="34"/>
                    <a:pt x="27" y="63"/>
                    <a:pt x="41" y="89"/>
                  </a:cubicBezTo>
                  <a:cubicBezTo>
                    <a:pt x="55" y="115"/>
                    <a:pt x="69" y="137"/>
                    <a:pt x="83" y="160"/>
                  </a:cubicBezTo>
                  <a:cubicBezTo>
                    <a:pt x="97" y="183"/>
                    <a:pt x="112" y="207"/>
                    <a:pt x="128" y="227"/>
                  </a:cubicBezTo>
                  <a:cubicBezTo>
                    <a:pt x="144" y="247"/>
                    <a:pt x="163" y="266"/>
                    <a:pt x="176" y="281"/>
                  </a:cubicBezTo>
                  <a:cubicBezTo>
                    <a:pt x="189" y="296"/>
                    <a:pt x="191" y="306"/>
                    <a:pt x="204" y="320"/>
                  </a:cubicBezTo>
                  <a:cubicBezTo>
                    <a:pt x="217" y="334"/>
                    <a:pt x="237" y="350"/>
                    <a:pt x="252" y="364"/>
                  </a:cubicBezTo>
                  <a:cubicBezTo>
                    <a:pt x="267" y="378"/>
                    <a:pt x="279" y="391"/>
                    <a:pt x="297" y="403"/>
                  </a:cubicBezTo>
                  <a:cubicBezTo>
                    <a:pt x="315" y="415"/>
                    <a:pt x="339" y="429"/>
                    <a:pt x="361" y="438"/>
                  </a:cubicBezTo>
                  <a:cubicBezTo>
                    <a:pt x="383" y="447"/>
                    <a:pt x="408" y="454"/>
                    <a:pt x="428" y="457"/>
                  </a:cubicBezTo>
                  <a:cubicBezTo>
                    <a:pt x="448" y="460"/>
                    <a:pt x="462" y="458"/>
                    <a:pt x="480" y="454"/>
                  </a:cubicBezTo>
                  <a:cubicBezTo>
                    <a:pt x="498" y="450"/>
                    <a:pt x="516" y="440"/>
                    <a:pt x="534" y="432"/>
                  </a:cubicBezTo>
                  <a:cubicBezTo>
                    <a:pt x="552" y="424"/>
                    <a:pt x="569" y="418"/>
                    <a:pt x="588" y="406"/>
                  </a:cubicBezTo>
                  <a:cubicBezTo>
                    <a:pt x="607" y="394"/>
                    <a:pt x="625" y="378"/>
                    <a:pt x="646" y="358"/>
                  </a:cubicBezTo>
                  <a:cubicBezTo>
                    <a:pt x="667" y="338"/>
                    <a:pt x="697" y="305"/>
                    <a:pt x="716" y="284"/>
                  </a:cubicBezTo>
                  <a:cubicBezTo>
                    <a:pt x="735" y="263"/>
                    <a:pt x="741" y="253"/>
                    <a:pt x="758" y="230"/>
                  </a:cubicBezTo>
                  <a:cubicBezTo>
                    <a:pt x="775" y="207"/>
                    <a:pt x="799" y="174"/>
                    <a:pt x="819" y="144"/>
                  </a:cubicBezTo>
                  <a:cubicBezTo>
                    <a:pt x="839" y="114"/>
                    <a:pt x="864" y="75"/>
                    <a:pt x="876" y="51"/>
                  </a:cubicBezTo>
                  <a:cubicBezTo>
                    <a:pt x="888" y="27"/>
                    <a:pt x="891" y="7"/>
                    <a:pt x="892" y="0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205680" y="4713120"/>
              <a:ext cx="0" cy="4111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369120" y="4712760"/>
              <a:ext cx="0" cy="5778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521400" y="4713120"/>
              <a:ext cx="0" cy="690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064200" y="4712760"/>
              <a:ext cx="0" cy="1983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651720" y="4713120"/>
              <a:ext cx="6120" cy="720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800760" y="4713120"/>
              <a:ext cx="0" cy="690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958080" y="4713120"/>
              <a:ext cx="0" cy="5839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105680" y="4713120"/>
              <a:ext cx="0" cy="436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242120" y="4713120"/>
              <a:ext cx="0" cy="2332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231920" y="1098720"/>
            <a:ext cx="190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Comic Sans MS"/>
              </a:rPr>
              <a:t>Power lo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635200" y="1082520"/>
                <a:ext cx="19512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T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514840" y="1114560"/>
                <a:ext cx="2140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4863960" y="1096920"/>
            <a:ext cx="90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Comic Sans MS"/>
              </a:rPr>
              <a:t>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34000" y="1638360"/>
                <a:ext cx="27576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η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l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3" name=""/>
          <p:cNvGrpSpPr/>
          <p:nvPr/>
        </p:nvGrpSpPr>
        <p:grpSpPr>
          <a:xfrm>
            <a:off x="3956040" y="5808600"/>
            <a:ext cx="2197080" cy="803160"/>
            <a:chOff x="3956040" y="5808600"/>
            <a:chExt cx="2197080" cy="803160"/>
          </a:xfrm>
        </p:grpSpPr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4341960" y="5808600"/>
                  <a:ext cx="181116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π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ε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"/>
            <p:cNvSpPr/>
            <p:nvPr/>
          </p:nvSpPr>
          <p:spPr>
            <a:xfrm>
              <a:off x="3956040" y="5845320"/>
              <a:ext cx="372960" cy="371160"/>
            </a:xfrm>
            <a:custGeom>
              <a:avLst/>
              <a:gdLst/>
              <a:ahLst/>
              <a:rect l="l" t="t" r="r" b="b"/>
              <a:pathLst>
                <a:path w="395" h="234">
                  <a:moveTo>
                    <a:pt x="395" y="234"/>
                  </a:moveTo>
                  <a:cubicBezTo>
                    <a:pt x="278" y="227"/>
                    <a:pt x="162" y="220"/>
                    <a:pt x="96" y="181"/>
                  </a:cubicBezTo>
                  <a:cubicBezTo>
                    <a:pt x="30" y="142"/>
                    <a:pt x="15" y="71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466560" y="4937040"/>
            <a:ext cx="2506680" cy="1603440"/>
            <a:chOff x="466560" y="4937040"/>
            <a:chExt cx="2506680" cy="1603440"/>
          </a:xfrm>
        </p:grpSpPr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66560" y="5737320"/>
                  <a:ext cx="250668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  <m:sSup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ε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28" name=""/>
            <p:cNvSpPr/>
            <p:nvPr/>
          </p:nvSpPr>
          <p:spPr>
            <a:xfrm>
              <a:off x="590400" y="4937040"/>
              <a:ext cx="688680" cy="998640"/>
            </a:xfrm>
            <a:custGeom>
              <a:avLst/>
              <a:gdLst/>
              <a:ahLst/>
              <a:rect l="l" t="t" r="r" b="b"/>
              <a:pathLst>
                <a:path w="360" h="587">
                  <a:moveTo>
                    <a:pt x="51" y="587"/>
                  </a:moveTo>
                  <a:cubicBezTo>
                    <a:pt x="25" y="465"/>
                    <a:pt x="0" y="343"/>
                    <a:pt x="51" y="245"/>
                  </a:cubicBezTo>
                  <a:cubicBezTo>
                    <a:pt x="102" y="147"/>
                    <a:pt x="310" y="41"/>
                    <a:pt x="36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846680" y="133668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ota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61160" y="133668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38920" y="133668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8680" y="1477800"/>
            <a:ext cx="8464320" cy="4945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Pressure distribution in short journal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88800" y="1646280"/>
            <a:ext cx="7572240" cy="4395600"/>
            <a:chOff x="388800" y="1646280"/>
            <a:chExt cx="7572240" cy="4395600"/>
          </a:xfrm>
        </p:grpSpPr>
        <p:grpSp>
          <p:nvGrpSpPr>
            <p:cNvPr id="335" name=""/>
            <p:cNvGrpSpPr/>
            <p:nvPr/>
          </p:nvGrpSpPr>
          <p:grpSpPr>
            <a:xfrm>
              <a:off x="388800" y="2138400"/>
              <a:ext cx="7572240" cy="3903480"/>
              <a:chOff x="388800" y="2138400"/>
              <a:chExt cx="7572240" cy="3903480"/>
            </a:xfrm>
          </p:grpSpPr>
          <p:pic>
            <p:nvPicPr>
              <p:cNvPr id="3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138400"/>
                <a:ext cx="6665760" cy="390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388800" y="3672000"/>
                <a:ext cx="1270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Comic Sans MS"/>
                  </a:rPr>
                  <a:t>%Pressu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2838240" y="3678120"/>
              <a:ext cx="2246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(Long-bearing soluti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83080" y="2595600"/>
              <a:ext cx="23572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(Short-bearing soluti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85880" y="1646280"/>
              <a:ext cx="620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%P-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 distributions (approximations) in short and long bearing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96880" y="1414440"/>
            <a:ext cx="7942320" cy="5072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Reynold’s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Long bearing assumption: Sommerfeld solu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22200" y="1455840"/>
            <a:ext cx="65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Comic Sans MS"/>
              </a:rPr>
              <a:t>No-leakage of lubricant at both ends of jou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966960" y="1914480"/>
            <a:ext cx="7254720" cy="790560"/>
            <a:chOff x="966960" y="1914480"/>
            <a:chExt cx="7254720" cy="790560"/>
          </a:xfrm>
        </p:grpSpPr>
        <p:sp>
          <p:nvSpPr>
            <p:cNvPr id="345" name=""/>
            <p:cNvSpPr/>
            <p:nvPr/>
          </p:nvSpPr>
          <p:spPr>
            <a:xfrm>
              <a:off x="966960" y="2095200"/>
              <a:ext cx="717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Pressure distribution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, i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4233960" y="1914480"/>
                  <a:ext cx="398772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η</m:t>
                          </m:r>
                          <m:r>
                            <m:rPr>
                              <m:lit/>
                              <m:nor/>
                            </m:rPr>
                            <m:t xml:space="preserve">Ur</m:t>
                          </m:r>
                        </m:num>
                        <m:den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6</m:t>
                              </m:r>
                              <m:r>
                                <m:t xml:space="preserve">ε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ε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ε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ε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d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7" name=""/>
          <p:cNvGrpSpPr/>
          <p:nvPr/>
        </p:nvGrpSpPr>
        <p:grpSpPr>
          <a:xfrm>
            <a:off x="966960" y="2879640"/>
            <a:ext cx="7176960" cy="744480"/>
            <a:chOff x="966960" y="2879640"/>
            <a:chExt cx="7176960" cy="744480"/>
          </a:xfrm>
        </p:grpSpPr>
        <p:sp>
          <p:nvSpPr>
            <p:cNvPr id="348" name=""/>
            <p:cNvSpPr/>
            <p:nvPr/>
          </p:nvSpPr>
          <p:spPr>
            <a:xfrm>
              <a:off x="966960" y="3019320"/>
              <a:ext cx="717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otal load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,i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3098880" y="2879640"/>
                  <a:ext cx="357192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η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l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rPr>
                              <m:lit/>
                              <m:nor/>
                            </m:rPr>
                            <m:t xml:space="preserve">πε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ε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ε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0" name=""/>
          <p:cNvGrpSpPr/>
          <p:nvPr/>
        </p:nvGrpSpPr>
        <p:grpSpPr>
          <a:xfrm>
            <a:off x="966960" y="3814920"/>
            <a:ext cx="7176960" cy="571320"/>
            <a:chOff x="966960" y="3814920"/>
            <a:chExt cx="7176960" cy="571320"/>
          </a:xfrm>
        </p:grpSpPr>
        <p:sp>
          <p:nvSpPr>
            <p:cNvPr id="351" name=""/>
            <p:cNvSpPr/>
            <p:nvPr/>
          </p:nvSpPr>
          <p:spPr>
            <a:xfrm>
              <a:off x="966960" y="3886200"/>
              <a:ext cx="717696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Average pressure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000" spc="-1" strike="noStrike" baseline="-16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,i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4191120" y="3814920"/>
                  <a:ext cx="105264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3" name=""/>
          <p:cNvSpPr/>
          <p:nvPr/>
        </p:nvSpPr>
        <p:spPr>
          <a:xfrm>
            <a:off x="966960" y="4648320"/>
            <a:ext cx="71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Important dimensionless quantity: Sommerfeld numb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629080" y="5219640"/>
                <a:ext cx="42717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η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πn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g</m:t>
                                </m:r>
                              </m:sub>
                            </m:sSub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2097000" y="598500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’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s rotational speed in revolutions per seco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68360" y="1393920"/>
            <a:ext cx="8155080" cy="501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Reynold’s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Short bearing assumption: Ocvirk solution</a:t>
            </a:r>
            <a:r>
              <a:rPr b="1" i="1" lang="en-US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( 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: [0.25-2] </a:t>
            </a: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7360" y="1521000"/>
            <a:ext cx="778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Comic Sans MS"/>
              </a:rPr>
              <a:t>Incorporates leakage of lubricant at both ends of jou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44640" y="2170080"/>
            <a:ext cx="71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ressure distribution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,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314960" y="1933560"/>
                <a:ext cx="34192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U</m:t>
                        </m:r>
                      </m:num>
                      <m:den>
                        <m:sSubSup>
                          <m:e>
                            <m:r>
                              <m:t xml:space="preserve">r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f>
                      <m:num>
                        <m:r>
                          <m:t xml:space="preserve">3</m:t>
                        </m:r>
                        <m:r>
                          <m:t xml:space="preserve">ε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944640" y="3094200"/>
            <a:ext cx="71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tal loa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,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043080" y="2952720"/>
                <a:ext cx="30466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f>
                      <m:num>
                        <m:r>
                          <m:t xml:space="preserve">η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πη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944640" y="3960720"/>
            <a:ext cx="7176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efficien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 (dimensionless),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068800" y="3749760"/>
                <a:ext cx="3025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944640" y="4722840"/>
            <a:ext cx="7176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Important dimensionless quantity: Ocvirk numb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449360" y="5283360"/>
                <a:ext cx="618336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πK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g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n</m:t>
                            </m:r>
                            <m:r>
                              <m:t xml:space="preserve">'</m:t>
                            </m:r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30120" y="1212840"/>
            <a:ext cx="8643960" cy="551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Reynold’s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Short bearing assumption: Ocvirk solu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9040" y="1233360"/>
            <a:ext cx="778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Comic Sans MS"/>
              </a:rPr>
              <a:t>Incorporates leakage of lubricant at both ends of jou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442880" y="2008080"/>
                <a:ext cx="62690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rrected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39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517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8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613800" y="1577880"/>
            <a:ext cx="80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Comic Sans MS"/>
              </a:rPr>
              <a:t>Correcting eccentricity ratio (correction based on experimental observation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587600" y="2509920"/>
            <a:ext cx="57402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87280" y="1244520"/>
            <a:ext cx="8707320" cy="536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Example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2120" y="1503360"/>
            <a:ext cx="46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e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10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49200" y="2178000"/>
            <a:ext cx="7113600" cy="42940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5232240" y="1735200"/>
            <a:ext cx="3616560" cy="1698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To determine average and maximum pressure.  Objective: selection of pump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To select lubri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To determine minimum film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Power loss and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To determine safety factor against aspe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Minimization of </a:t>
            </a:r>
            <a:r>
              <a:rPr b="0" i="1" lang="en-US" sz="1200" spc="-1" strike="noStrike">
                <a:solidFill>
                  <a:srgbClr val="000066"/>
                </a:solidFill>
                <a:latin typeface="Comic Sans MS"/>
              </a:rPr>
              <a:t>O</a:t>
            </a:r>
            <a:r>
              <a:rPr b="0" i="1" lang="en-US" sz="1200" spc="-1" strike="noStrike" baseline="-14000">
                <a:solidFill>
                  <a:srgbClr val="000066"/>
                </a:solidFill>
                <a:latin typeface="Comic Sans MS"/>
              </a:rPr>
              <a:t>N</a:t>
            </a: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  (</a:t>
            </a:r>
            <a:r>
              <a:rPr b="0" i="1" lang="en-US" sz="1200" spc="-1" strike="noStrike">
                <a:solidFill>
                  <a:srgbClr val="000066"/>
                </a:solidFill>
                <a:latin typeface="Comic Sans MS"/>
              </a:rPr>
              <a:t>Ocvirk 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96200" y="135396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Goa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14360" y="2116080"/>
            <a:ext cx="8335800" cy="373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76240" y="121608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10-1.  Flowchart of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Example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55600" y="2303640"/>
            <a:ext cx="22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Initi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73680" y="2695680"/>
            <a:ext cx="3424320" cy="2030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Clearance ratio (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C</a:t>
            </a:r>
            <a:r>
              <a:rPr b="0" i="1" lang="en-US" sz="1600" spc="-1" strike="noStrike" baseline="-16000">
                <a:solidFill>
                  <a:srgbClr val="000066"/>
                </a:solidFill>
                <a:latin typeface="Arial Rounded MT Bold"/>
              </a:rPr>
              <a:t>d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/d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) is typically in the range of 0.001 to 0.002.  Example uses 0.0017 -- conserv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Short journal: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 l/d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ratio of 0.75 -- conserv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Ocvirk number </a:t>
            </a:r>
            <a:r>
              <a:rPr b="0" i="1" lang="en-US" sz="1400" spc="-1" strike="noStrike">
                <a:solidFill>
                  <a:srgbClr val="000066"/>
                </a:solidFill>
                <a:latin typeface="Comic Sans MS"/>
              </a:rPr>
              <a:t>O</a:t>
            </a:r>
            <a:r>
              <a:rPr b="0" i="1" lang="en-US" sz="1400" spc="-1" strike="noStrike" baseline="-14000">
                <a:solidFill>
                  <a:srgbClr val="000066"/>
                </a:solidFill>
                <a:latin typeface="Comic Sans MS"/>
              </a:rPr>
              <a:t>N</a:t>
            </a:r>
            <a:r>
              <a:rPr b="0" i="1" lang="en-US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ess than 30 (20 is a conservative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61040" y="2293920"/>
            <a:ext cx="22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68240" y="2705040"/>
            <a:ext cx="4037040" cy="973080"/>
            <a:chOff x="768240" y="2705040"/>
            <a:chExt cx="4037040" cy="973080"/>
          </a:xfrm>
        </p:grpSpPr>
        <p:sp>
          <p:nvSpPr>
            <p:cNvPr id="386" name=""/>
            <p:cNvSpPr/>
            <p:nvPr/>
          </p:nvSpPr>
          <p:spPr>
            <a:xfrm>
              <a:off x="768240" y="2705040"/>
              <a:ext cx="3068640" cy="973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Loads/reaction fo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Operational sp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Dimensions of sha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21120" y="3200040"/>
              <a:ext cx="884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4894200" y="4807080"/>
            <a:ext cx="330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(Typically, values used in assumptions are “design” parameters, i.e., changed during design iter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233440" y="1763640"/>
            <a:ext cx="4678560" cy="4657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6240" y="121608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10-1.  Flowchart of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Example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32000" y="1873080"/>
            <a:ext cx="46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Determination of average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6200" y="2413080"/>
            <a:ext cx="3068640" cy="6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Convert rotational speed to tangential 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986200" y="3090960"/>
            <a:ext cx="3068640" cy="941400"/>
            <a:chOff x="2986200" y="3090960"/>
            <a:chExt cx="3068640" cy="941400"/>
          </a:xfrm>
        </p:grpSpPr>
        <p:sp>
          <p:nvSpPr>
            <p:cNvPr id="395" name=""/>
            <p:cNvSpPr/>
            <p:nvPr/>
          </p:nvSpPr>
          <p:spPr>
            <a:xfrm>
              <a:off x="2986200" y="3375360"/>
              <a:ext cx="3068640" cy="657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Determine diametral and radial cleara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1240" y="3090960"/>
              <a:ext cx="0" cy="274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986200" y="4054320"/>
            <a:ext cx="3068640" cy="900000"/>
            <a:chOff x="2986200" y="4054320"/>
            <a:chExt cx="3068640" cy="900000"/>
          </a:xfrm>
        </p:grpSpPr>
        <p:sp>
          <p:nvSpPr>
            <p:cNvPr id="398" name=""/>
            <p:cNvSpPr/>
            <p:nvPr/>
          </p:nvSpPr>
          <p:spPr>
            <a:xfrm>
              <a:off x="2986200" y="4336920"/>
              <a:ext cx="3068640" cy="6174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Determine </a:t>
              </a:r>
              <a:r>
                <a:rPr b="0" i="1" lang="en-US" sz="1600" spc="-1" strike="noStrike">
                  <a:solidFill>
                    <a:srgbClr val="000066"/>
                  </a:solidFill>
                  <a:latin typeface="Arial Rounded MT Bold"/>
                </a:rPr>
                <a:t>l 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and/or</a:t>
              </a:r>
              <a:r>
                <a:rPr b="0" i="1" lang="en-US" sz="1600" spc="-1" strike="noStrike">
                  <a:solidFill>
                    <a:srgbClr val="000066"/>
                  </a:solidFill>
                  <a:latin typeface="Arial Rounded MT Bold"/>
                </a:rPr>
                <a:t> d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using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r>
                <a:rPr b="0" i="1" lang="en-US" sz="1600" spc="-1" strike="noStrike">
                  <a:solidFill>
                    <a:srgbClr val="000066"/>
                  </a:solidFill>
                  <a:latin typeface="Arial Rounded MT Bold"/>
                </a:rPr>
                <a:t>l/d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 rat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21240" y="4054320"/>
              <a:ext cx="0" cy="274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986200" y="4970520"/>
            <a:ext cx="3068640" cy="1099800"/>
            <a:chOff x="2986200" y="4970520"/>
            <a:chExt cx="3068640" cy="1099800"/>
          </a:xfrm>
        </p:grpSpPr>
        <p:sp>
          <p:nvSpPr>
            <p:cNvPr id="401" name=""/>
            <p:cNvSpPr/>
            <p:nvPr/>
          </p:nvSpPr>
          <p:spPr>
            <a:xfrm>
              <a:off x="2986200" y="5261040"/>
              <a:ext cx="3068640" cy="809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Determine average pressure (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Comic Sans MS"/>
                </a:rPr>
                <a:t>used to select lubrication system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21240" y="4970520"/>
              <a:ext cx="0" cy="274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057400" y="1874880"/>
            <a:ext cx="4826160" cy="456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76240" y="121608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10-1.  Flowchart of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Example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03640" y="2022480"/>
            <a:ext cx="44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Selection of lubr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984400" y="4011480"/>
            <a:ext cx="3068640" cy="941400"/>
            <a:chOff x="2984400" y="4011480"/>
            <a:chExt cx="3068640" cy="941400"/>
          </a:xfrm>
        </p:grpSpPr>
        <p:sp>
          <p:nvSpPr>
            <p:cNvPr id="408" name=""/>
            <p:cNvSpPr/>
            <p:nvPr/>
          </p:nvSpPr>
          <p:spPr>
            <a:xfrm>
              <a:off x="2984400" y="4295520"/>
              <a:ext cx="3068640" cy="657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Calculate viscosity of lubricant, Eq. 10.8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19800" y="4011480"/>
              <a:ext cx="0" cy="274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984400" y="4975200"/>
            <a:ext cx="3068640" cy="1103400"/>
            <a:chOff x="2984400" y="4975200"/>
            <a:chExt cx="3068640" cy="1103400"/>
          </a:xfrm>
        </p:grpSpPr>
        <p:sp>
          <p:nvSpPr>
            <p:cNvPr id="411" name=""/>
            <p:cNvSpPr/>
            <p:nvPr/>
          </p:nvSpPr>
          <p:spPr>
            <a:xfrm>
              <a:off x="2984400" y="5257800"/>
              <a:ext cx="3068640" cy="820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Select lubricant: chart in Fig. 10.1, or other specif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19800" y="4975200"/>
              <a:ext cx="0" cy="274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984400" y="2535120"/>
            <a:ext cx="3068640" cy="48420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Ocvirk number: </a:t>
            </a:r>
            <a:r>
              <a:rPr b="0" i="1" lang="en-US" sz="1400" spc="-1" strike="noStrike">
                <a:solidFill>
                  <a:srgbClr val="000066"/>
                </a:solidFill>
                <a:latin typeface="Comic Sans MS"/>
              </a:rPr>
              <a:t>O</a:t>
            </a:r>
            <a:r>
              <a:rPr b="0" i="1" lang="en-US" sz="1400" spc="-1" strike="noStrike" baseline="-14000">
                <a:solidFill>
                  <a:srgbClr val="000066"/>
                </a:solidFill>
                <a:latin typeface="Comic Sans MS"/>
              </a:rPr>
              <a:t>N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984400" y="3048120"/>
            <a:ext cx="3068640" cy="942840"/>
            <a:chOff x="2984400" y="3048120"/>
            <a:chExt cx="3068640" cy="942840"/>
          </a:xfrm>
        </p:grpSpPr>
        <p:sp>
          <p:nvSpPr>
            <p:cNvPr id="415" name=""/>
            <p:cNvSpPr/>
            <p:nvPr/>
          </p:nvSpPr>
          <p:spPr>
            <a:xfrm>
              <a:off x="2984400" y="3333960"/>
              <a:ext cx="3068640" cy="657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Determine </a:t>
              </a:r>
              <a:r>
                <a:rPr b="0" i="1" lang="en-US" sz="1600" spc="-1" strike="noStrike">
                  <a:solidFill>
                    <a:srgbClr val="000066"/>
                  </a:solidFill>
                  <a:latin typeface="Arial Rounded MT Bold"/>
                </a:rPr>
                <a:t>K</a:t>
              </a:r>
              <a:r>
                <a:rPr b="0" i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 using Eq.10.12c and 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Comic Sans MS"/>
                </a:rPr>
                <a:t>O</a:t>
              </a:r>
              <a:r>
                <a:rPr b="0" i="1" lang="en-US" sz="1400" spc="-1" strike="noStrike" baseline="-14000">
                  <a:solidFill>
                    <a:srgbClr val="000066"/>
                  </a:solidFill>
                  <a:latin typeface="Comic Sans MS"/>
                </a:rPr>
                <a:t>N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19800" y="3048120"/>
              <a:ext cx="0" cy="274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brica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2360" y="1579680"/>
            <a:ext cx="3219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i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er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trole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eget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stor oi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ale oi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ynthet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iscos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asures a fluid’s resistance to shea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solut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b-sec/i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rey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Pa-sec (centipoise or cP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ater is 0.0179 cP at 20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inematic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/sec (stoke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/sec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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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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sity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104920" y="1670040"/>
            <a:ext cx="5051520" cy="475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76240" y="121608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10-1.  Flowchart of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Example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38400" y="2111400"/>
            <a:ext cx="3068640" cy="48420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Ocvirk number: </a:t>
            </a:r>
            <a:r>
              <a:rPr b="0" i="1" lang="en-US" sz="1400" spc="-1" strike="noStrike">
                <a:solidFill>
                  <a:srgbClr val="000066"/>
                </a:solidFill>
                <a:latin typeface="Comic Sans MS"/>
              </a:rPr>
              <a:t>O</a:t>
            </a:r>
            <a:r>
              <a:rPr b="0" i="1" lang="en-US" sz="1400" spc="-1" strike="noStrike" baseline="-14000">
                <a:solidFill>
                  <a:srgbClr val="000066"/>
                </a:solidFill>
                <a:latin typeface="Comic Sans MS"/>
              </a:rPr>
              <a:t>N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890800" y="2624040"/>
            <a:ext cx="3363840" cy="1108080"/>
            <a:chOff x="2890800" y="2624040"/>
            <a:chExt cx="3363840" cy="1108080"/>
          </a:xfrm>
        </p:grpSpPr>
        <p:sp>
          <p:nvSpPr>
            <p:cNvPr id="422" name=""/>
            <p:cNvSpPr/>
            <p:nvPr/>
          </p:nvSpPr>
          <p:spPr>
            <a:xfrm>
              <a:off x="2890800" y="2909880"/>
              <a:ext cx="3363840" cy="822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Determine experimental eccentricity ratio, Eq. 10.13b and/or Figure 10-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3440" y="2624040"/>
              <a:ext cx="0" cy="274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911240" y="1693800"/>
            <a:ext cx="53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Determination of maximum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890800" y="3759120"/>
            <a:ext cx="3363840" cy="1101960"/>
            <a:chOff x="2890800" y="3759120"/>
            <a:chExt cx="3363840" cy="1101960"/>
          </a:xfrm>
        </p:grpSpPr>
        <p:sp>
          <p:nvSpPr>
            <p:cNvPr id="426" name=""/>
            <p:cNvSpPr/>
            <p:nvPr/>
          </p:nvSpPr>
          <p:spPr>
            <a:xfrm>
              <a:off x="4573440" y="3759120"/>
              <a:ext cx="0" cy="274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90800" y="4038480"/>
              <a:ext cx="3363840" cy="822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Determine angle where maximum pressure occurs: </a:t>
              </a:r>
              <a:r>
                <a:rPr b="0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 Rounded MT Bold"/>
                </a:rPr>
                <a:t>max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, Eq.10.7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90800" y="4884840"/>
            <a:ext cx="3363840" cy="1322280"/>
            <a:chOff x="2890800" y="4884840"/>
            <a:chExt cx="3363840" cy="1322280"/>
          </a:xfrm>
        </p:grpSpPr>
        <p:sp>
          <p:nvSpPr>
            <p:cNvPr id="429" name=""/>
            <p:cNvSpPr/>
            <p:nvPr/>
          </p:nvSpPr>
          <p:spPr>
            <a:xfrm>
              <a:off x="4573440" y="4884840"/>
              <a:ext cx="0" cy="274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90800" y="5181480"/>
              <a:ext cx="3363840" cy="102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Determine maximum pressure: Eq.10.7b evaluated at </a:t>
              </a:r>
              <a:r>
                <a:rPr b="0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 Rounded MT Bold"/>
                </a:rPr>
                <a:t>max 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(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Comic Sans MS"/>
                </a:rPr>
                <a:t>max. pressure used to select lubrication system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30120" y="1733400"/>
            <a:ext cx="8580600" cy="4648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76240" y="121608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10-1.  Flowchart of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Example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8960" y="1747800"/>
            <a:ext cx="86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Determination of power loss, friction, and minimum film thick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14320" y="2316240"/>
            <a:ext cx="3363840" cy="822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experimental eccentricity ratio, Eq. 10.13b and/or Figure 10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14320" y="3440160"/>
            <a:ext cx="3363840" cy="669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locating angle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, Eq. 10.8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95520" y="3159000"/>
            <a:ext cx="0" cy="27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95520" y="4140360"/>
            <a:ext cx="0" cy="274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14320" y="4430880"/>
            <a:ext cx="3363840" cy="66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stationary torque, Eq. 10.9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95520" y="5121360"/>
            <a:ext cx="0" cy="27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14320" y="5402160"/>
            <a:ext cx="3363840" cy="669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rotating torque, Eq. 10.9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59320" y="2317680"/>
            <a:ext cx="287676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power loss, Eq. 10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02560" y="2951280"/>
            <a:ext cx="0" cy="27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59320" y="3251160"/>
            <a:ext cx="287676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friction coefficient, Eq. 10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02560" y="3884760"/>
            <a:ext cx="0" cy="274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59320" y="4184640"/>
            <a:ext cx="287676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minimum film thickness, Eq. 10.4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75280" y="2506680"/>
            <a:ext cx="1117440" cy="3600360"/>
          </a:xfrm>
          <a:custGeom>
            <a:avLst/>
            <a:gdLst/>
            <a:ahLst/>
            <a:rect l="l" t="t" r="r" b="b"/>
            <a:pathLst>
              <a:path w="711" h="2498">
                <a:moveTo>
                  <a:pt x="0" y="2258"/>
                </a:moveTo>
                <a:cubicBezTo>
                  <a:pt x="117" y="2378"/>
                  <a:pt x="234" y="2498"/>
                  <a:pt x="301" y="2181"/>
                </a:cubicBezTo>
                <a:cubicBezTo>
                  <a:pt x="368" y="1864"/>
                  <a:pt x="335" y="714"/>
                  <a:pt x="403" y="357"/>
                </a:cubicBezTo>
                <a:cubicBezTo>
                  <a:pt x="471" y="0"/>
                  <a:pt x="661" y="88"/>
                  <a:pt x="711" y="3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06600" y="1817640"/>
            <a:ext cx="8048520" cy="458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76240" y="121608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10-1.  Flowchart of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Example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1520" y="1758960"/>
            <a:ext cx="86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Safety factors: asperity contact (surface rough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88840" y="2465280"/>
            <a:ext cx="3364200" cy="105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Assign: 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h</a:t>
            </a:r>
            <a:r>
              <a:rPr b="0" i="1" lang="en-US" sz="1600" spc="-1" strike="noStrike" baseline="-14000">
                <a:solidFill>
                  <a:srgbClr val="000066"/>
                </a:solidFill>
                <a:latin typeface="Arial Rounded MT Bold"/>
              </a:rPr>
              <a:t>min</a:t>
            </a:r>
            <a:r>
              <a:rPr b="0" lang="en-US" sz="1400" spc="-1" strike="noStrike">
                <a:solidFill>
                  <a:srgbClr val="000066"/>
                </a:solidFill>
                <a:latin typeface="Arial Rounded MT Bold"/>
              </a:rPr>
              <a:t> = 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surface roughness of shaft (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R</a:t>
            </a:r>
            <a:r>
              <a:rPr b="0" i="1" lang="en-US" sz="1600" spc="-1" strike="noStrike" baseline="-14000">
                <a:solidFill>
                  <a:srgbClr val="000066"/>
                </a:solidFill>
                <a:latin typeface="Arial Rounded MT Bold"/>
              </a:rPr>
              <a:t>a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for specific manufacturing proc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88840" y="3836880"/>
            <a:ext cx="3364200" cy="42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</a:t>
            </a:r>
            <a:r>
              <a:rPr b="0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, Eq. 10.4b and 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C</a:t>
            </a:r>
            <a:r>
              <a:rPr b="0" i="1" lang="en-US" sz="1600" spc="-1" strike="noStrike" baseline="-14000">
                <a:solidFill>
                  <a:srgbClr val="000066"/>
                </a:solidFill>
                <a:latin typeface="Arial Rounded MT Bold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70040" y="3546360"/>
            <a:ext cx="0" cy="27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70040" y="4289400"/>
            <a:ext cx="0" cy="27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88840" y="4579920"/>
            <a:ext cx="3364200" cy="487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</a:t>
            </a:r>
            <a:r>
              <a:rPr b="0" i="1" lang="en-US" sz="1400" spc="-1" strike="noStrike">
                <a:solidFill>
                  <a:srgbClr val="000066"/>
                </a:solidFill>
                <a:latin typeface="Comic Sans MS"/>
              </a:rPr>
              <a:t>O</a:t>
            </a:r>
            <a:r>
              <a:rPr b="0" i="1" lang="en-US" sz="1400" spc="-1" strike="noStrike" baseline="-14000">
                <a:solidFill>
                  <a:srgbClr val="000066"/>
                </a:solidFill>
                <a:latin typeface="Comic Sans MS"/>
              </a:rPr>
              <a:t>N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, Eq. 10.13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70040" y="5270400"/>
            <a:ext cx="0" cy="27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33840" y="2467080"/>
            <a:ext cx="2876760" cy="842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force P’ that reduces film thickness to 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h</a:t>
            </a:r>
            <a:r>
              <a:rPr b="0" i="1" lang="en-US" sz="1600" spc="-1" strike="noStrike" baseline="-14000">
                <a:solidFill>
                  <a:srgbClr val="000066"/>
                </a:solidFill>
                <a:latin typeface="Arial Rounded MT Bold"/>
              </a:rPr>
              <a:t>min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, Eq. 10.8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77080" y="3338640"/>
            <a:ext cx="0" cy="27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33840" y="3638520"/>
            <a:ext cx="287676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safety factor as: N = P’ /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49800" y="2655720"/>
            <a:ext cx="1117440" cy="3600720"/>
          </a:xfrm>
          <a:custGeom>
            <a:avLst/>
            <a:gdLst/>
            <a:ahLst/>
            <a:rect l="l" t="t" r="r" b="b"/>
            <a:pathLst>
              <a:path w="711" h="2498">
                <a:moveTo>
                  <a:pt x="0" y="2258"/>
                </a:moveTo>
                <a:cubicBezTo>
                  <a:pt x="117" y="2378"/>
                  <a:pt x="234" y="2498"/>
                  <a:pt x="301" y="2181"/>
                </a:cubicBezTo>
                <a:cubicBezTo>
                  <a:pt x="368" y="1864"/>
                  <a:pt x="335" y="714"/>
                  <a:pt x="403" y="357"/>
                </a:cubicBezTo>
                <a:cubicBezTo>
                  <a:pt x="471" y="0"/>
                  <a:pt x="661" y="88"/>
                  <a:pt x="711" y="3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90640" y="5559480"/>
            <a:ext cx="3352680" cy="493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termine 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K</a:t>
            </a:r>
            <a:r>
              <a:rPr b="0" i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, Eq.10.12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022400" y="1774800"/>
            <a:ext cx="7048440" cy="460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76240" y="121608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10-1.  Flowchart of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Example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879640" y="2448000"/>
            <a:ext cx="3343320" cy="1084320"/>
            <a:chOff x="2879640" y="2448000"/>
            <a:chExt cx="3343320" cy="1084320"/>
          </a:xfrm>
        </p:grpSpPr>
        <p:sp>
          <p:nvSpPr>
            <p:cNvPr id="467" name=""/>
            <p:cNvSpPr/>
            <p:nvPr/>
          </p:nvSpPr>
          <p:spPr>
            <a:xfrm>
              <a:off x="2879640" y="2448000"/>
              <a:ext cx="3343320" cy="59544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If Ocvirk number 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Comic Sans MS"/>
                </a:rPr>
                <a:t>O</a:t>
              </a:r>
              <a:r>
                <a:rPr b="0" i="1" lang="en-US" sz="1400" spc="-1" strike="noStrike" baseline="-14000">
                  <a:solidFill>
                    <a:srgbClr val="000066"/>
                  </a:solidFill>
                  <a:latin typeface="Comic Sans MS"/>
                </a:rPr>
                <a:t>N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 is 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47880" y="307512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1671480" y="190656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Design iterations: reducing Ocvir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870280" y="4529160"/>
            <a:ext cx="3363840" cy="1566720"/>
            <a:chOff x="2870280" y="4529160"/>
            <a:chExt cx="3363840" cy="1566720"/>
          </a:xfrm>
        </p:grpSpPr>
        <p:sp>
          <p:nvSpPr>
            <p:cNvPr id="471" name=""/>
            <p:cNvSpPr/>
            <p:nvPr/>
          </p:nvSpPr>
          <p:spPr>
            <a:xfrm>
              <a:off x="4552920" y="4529160"/>
              <a:ext cx="0" cy="519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70280" y="5070600"/>
              <a:ext cx="3363840" cy="1025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Select combination of parameters which reduce 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Comic Sans MS"/>
                </a:rPr>
                <a:t>O</a:t>
              </a:r>
              <a:r>
                <a:rPr b="0" i="1" lang="en-US" sz="1400" spc="-1" strike="noStrike" baseline="-14000">
                  <a:solidFill>
                    <a:srgbClr val="000066"/>
                  </a:solidFill>
                  <a:latin typeface="Comic Sans MS"/>
                </a:rPr>
                <a:t>N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 to acceptable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460520" y="3576600"/>
                <a:ext cx="6183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πK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g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n</m:t>
                            </m:r>
                            <m:r>
                              <m:t xml:space="preserve">'</m:t>
                            </m:r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839880" y="1201680"/>
            <a:ext cx="7589880" cy="540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16812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design 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Journal bearings(short/long) -- sliding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82800" y="1330200"/>
            <a:ext cx="328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If shaft has been designed (for stress and/or defl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79640" y="1833480"/>
            <a:ext cx="3078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hose rati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/d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of be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(based on packaging consider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82600" y="2679840"/>
            <a:ext cx="29764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arger 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l/d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ratios give lower film pres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Clearance ratio (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C</a:t>
            </a:r>
            <a:r>
              <a:rPr b="0" i="1" lang="en-US" sz="1600" spc="-1" strike="noStrike" baseline="-16000">
                <a:solidFill>
                  <a:srgbClr val="000066"/>
                </a:solidFill>
                <a:latin typeface="Arial Rounded MT Bold"/>
              </a:rPr>
              <a:t>d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/d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) are typically in the range of 0.001 to 0.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arger clearance ratios increase load number 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O</a:t>
            </a:r>
            <a:r>
              <a:rPr b="0" i="1" lang="en-US" sz="1600" spc="-1" strike="noStrike" baseline="-16000">
                <a:solidFill>
                  <a:srgbClr val="000066"/>
                </a:solidFill>
                <a:latin typeface="Arial Rounded MT Bold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Higher </a:t>
            </a:r>
            <a:r>
              <a:rPr b="0" i="1" lang="en-US" sz="1600" spc="-1" strike="noStrike">
                <a:solidFill>
                  <a:srgbClr val="000066"/>
                </a:solidFill>
                <a:latin typeface="Arial Rounded MT Bold"/>
              </a:rPr>
              <a:t>O</a:t>
            </a:r>
            <a:r>
              <a:rPr b="0" i="1" lang="en-US" sz="1600" spc="-1" strike="noStrike" baseline="-16000">
                <a:solidFill>
                  <a:srgbClr val="000066"/>
                </a:solidFill>
                <a:latin typeface="Arial Rounded MT Bold"/>
              </a:rPr>
              <a:t>N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numbers give larger eccentricity, pressure, and tor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arger clearance ratios used for better lubricant flow (increasing cooling condi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An Ocvirk number is chosen and lubricant is then sel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40400" y="1360440"/>
            <a:ext cx="36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If shaft has not been desig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114880" y="1697040"/>
            <a:ext cx="297648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iameter and length of bearing can be found from iteration of bearing equations </a:t>
            </a:r>
            <a:r>
              <a:rPr b="0" i="1" lang="en-US" sz="1400" spc="-1" strike="noStrike">
                <a:solidFill>
                  <a:srgbClr val="000066"/>
                </a:solidFill>
                <a:latin typeface="Comic Sans MS"/>
              </a:rPr>
              <a:t>with and assumed Ocvirk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A trial lubricant must be chosen and its viscosity def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114880" y="3403440"/>
            <a:ext cx="297648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333399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After bearing has been designed, heat and momentum (flow) analysis can be done… not in this cours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38720" y="4565520"/>
            <a:ext cx="3636720" cy="1734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0" i="1" lang="en-US" sz="1800" spc="-1" strike="noStrike" baseline="-16000">
                <a:solidFill>
                  <a:srgbClr val="000066"/>
                </a:solidFill>
                <a:latin typeface="Times New Roman"/>
              </a:rPr>
              <a:t>N</a:t>
            </a:r>
            <a:r>
              <a:rPr b="0" i="1" lang="en-US" sz="1600" spc="-1" strike="noStrike" baseline="-16000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 30 ( </a:t>
            </a:r>
            <a:r>
              <a:rPr b="0" i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=0.82) moderate loading (recommend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0" i="1" lang="en-US" sz="1800" spc="-1" strike="noStrike" baseline="-16000">
                <a:solidFill>
                  <a:srgbClr val="000066"/>
                </a:solidFill>
                <a:latin typeface="Times New Roman"/>
              </a:rPr>
              <a:t>N</a:t>
            </a:r>
            <a:r>
              <a:rPr b="0" i="1" lang="en-US" sz="1600" spc="-1" strike="noStrike" baseline="-16000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 60 ( </a:t>
            </a:r>
            <a:r>
              <a:rPr b="0" i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=0.90) heavy lo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0" i="1" lang="en-US" sz="1800" spc="-1" strike="noStrike" baseline="-16000">
                <a:solidFill>
                  <a:srgbClr val="000066"/>
                </a:solidFill>
                <a:latin typeface="Times New Roman"/>
              </a:rPr>
              <a:t>N</a:t>
            </a:r>
            <a:r>
              <a:rPr b="0" i="1" lang="en-US" sz="1600" spc="-1" strike="noStrike" baseline="-16000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 90 ( </a:t>
            </a:r>
            <a:r>
              <a:rPr b="0" i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=0.93) severe lo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Rolling Bearing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2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18960" y="1308240"/>
            <a:ext cx="8453520" cy="53798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lling 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ample of rotating machinery: tapered roller 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629160" y="1501920"/>
            <a:ext cx="4889520" cy="5018040"/>
            <a:chOff x="3629160" y="1501920"/>
            <a:chExt cx="4889520" cy="5018040"/>
          </a:xfrm>
        </p:grpSpPr>
        <p:sp>
          <p:nvSpPr>
            <p:cNvPr id="488" name=""/>
            <p:cNvSpPr/>
            <p:nvPr/>
          </p:nvSpPr>
          <p:spPr>
            <a:xfrm>
              <a:off x="3629160" y="1501920"/>
              <a:ext cx="4889520" cy="501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6360" y="1658880"/>
              <a:ext cx="4532400" cy="47084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0" name="" descr=""/>
            <p:cNvPicPr/>
            <p:nvPr/>
          </p:nvPicPr>
          <p:blipFill>
            <a:blip r:embed="rId1"/>
            <a:stretch/>
          </p:blipFill>
          <p:spPr>
            <a:xfrm>
              <a:off x="3897360" y="1776240"/>
              <a:ext cx="4327560" cy="449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1" name=""/>
          <p:cNvGrpSpPr/>
          <p:nvPr/>
        </p:nvGrpSpPr>
        <p:grpSpPr>
          <a:xfrm>
            <a:off x="584280" y="1509840"/>
            <a:ext cx="2882880" cy="5018040"/>
            <a:chOff x="584280" y="1509840"/>
            <a:chExt cx="2882880" cy="5018040"/>
          </a:xfrm>
        </p:grpSpPr>
        <p:sp>
          <p:nvSpPr>
            <p:cNvPr id="492" name=""/>
            <p:cNvSpPr/>
            <p:nvPr/>
          </p:nvSpPr>
          <p:spPr>
            <a:xfrm>
              <a:off x="584280" y="1509840"/>
              <a:ext cx="2882880" cy="501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612720" y="1568520"/>
              <a:ext cx="2770200" cy="4779720"/>
              <a:chOff x="612720" y="1568520"/>
              <a:chExt cx="2770200" cy="4779720"/>
            </a:xfrm>
          </p:grpSpPr>
          <p:sp>
            <p:nvSpPr>
              <p:cNvPr id="494" name=""/>
              <p:cNvSpPr/>
              <p:nvPr/>
            </p:nvSpPr>
            <p:spPr>
              <a:xfrm>
                <a:off x="612720" y="1568520"/>
                <a:ext cx="2770200" cy="174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349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Comic Sans MS"/>
                  </a:rPr>
                  <a:t>Double reduction spur gear: </a:t>
                </a:r>
                <a:r>
                  <a:rPr b="0" lang="en-US" sz="1400" spc="-1" strike="noStrike">
                    <a:solidFill>
                      <a:srgbClr val="000066"/>
                    </a:solidFill>
                    <a:latin typeface="Comic Sans MS"/>
                  </a:rPr>
                  <a:t>maximum shaft diameter (largest bearing location) is 180 mm.  Input power is 1500 HP at maximum speed of 1500 rpm.  Gear ratio is 8: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349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3040" y="3589200"/>
                <a:ext cx="2376360" cy="2759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168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lling 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ample of rotating machinery: self-aligning ball 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23840" y="1222200"/>
            <a:ext cx="9020160" cy="5508720"/>
            <a:chOff x="123840" y="1222200"/>
            <a:chExt cx="9020160" cy="5508720"/>
          </a:xfrm>
        </p:grpSpPr>
        <p:sp>
          <p:nvSpPr>
            <p:cNvPr id="498" name=""/>
            <p:cNvSpPr/>
            <p:nvPr/>
          </p:nvSpPr>
          <p:spPr>
            <a:xfrm>
              <a:off x="174600" y="1222200"/>
              <a:ext cx="8878680" cy="550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612720" y="1855800"/>
              <a:ext cx="806292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2543040" y="5099040"/>
              <a:ext cx="6019920" cy="8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mic Sans MS"/>
                </a:rPr>
                <a:t>Cutting shaft of a planer: 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shaft diameter (bearings locations) is 40 mm.  Input power is 12 HP at maximum speed of 4500 rp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2985840" y="1257480"/>
              <a:ext cx="2854440" cy="1263600"/>
              <a:chOff x="2985840" y="1257480"/>
              <a:chExt cx="2854440" cy="1263600"/>
            </a:xfrm>
          </p:grpSpPr>
          <p:sp>
            <p:nvSpPr>
              <p:cNvPr id="502" name=""/>
              <p:cNvSpPr/>
              <p:nvPr/>
            </p:nvSpPr>
            <p:spPr>
              <a:xfrm>
                <a:off x="4836960" y="1824120"/>
                <a:ext cx="372960" cy="69696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85840" y="1257480"/>
                <a:ext cx="285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Shaft: used for transmission of power and as a machining 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7078680" y="1461960"/>
              <a:ext cx="1420560" cy="741600"/>
              <a:chOff x="7078680" y="1461960"/>
              <a:chExt cx="1420560" cy="741600"/>
            </a:xfrm>
          </p:grpSpPr>
          <p:sp>
            <p:nvSpPr>
              <p:cNvPr id="505" name=""/>
              <p:cNvSpPr/>
              <p:nvPr/>
            </p:nvSpPr>
            <p:spPr>
              <a:xfrm>
                <a:off x="7078680" y="1461960"/>
                <a:ext cx="14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Input pulle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34240" y="1762200"/>
                <a:ext cx="178920" cy="44136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07" name="" descr=""/>
            <p:cNvPicPr/>
            <p:nvPr/>
          </p:nvPicPr>
          <p:blipFill>
            <a:blip r:embed="rId2"/>
            <a:srcRect l="0" t="0" r="0" b="8382"/>
            <a:stretch/>
          </p:blipFill>
          <p:spPr>
            <a:xfrm>
              <a:off x="244440" y="4451400"/>
              <a:ext cx="224316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630000" y="1544760"/>
              <a:ext cx="170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Comic Sans MS"/>
                </a:rPr>
                <a:t>Locating bearing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(lesser loa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19640" y="4348080"/>
              <a:ext cx="170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Comic Sans MS"/>
                </a:rPr>
                <a:t>Floating bearing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(heavier loa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7067520" y="3163680"/>
              <a:ext cx="1108080" cy="1463040"/>
              <a:chOff x="7067520" y="3163680"/>
              <a:chExt cx="1108080" cy="1463040"/>
            </a:xfrm>
          </p:grpSpPr>
          <p:sp>
            <p:nvSpPr>
              <p:cNvPr id="511" name=""/>
              <p:cNvSpPr/>
              <p:nvPr/>
            </p:nvSpPr>
            <p:spPr>
              <a:xfrm flipH="1" flipV="1">
                <a:off x="7623000" y="3163320"/>
                <a:ext cx="246240" cy="118260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067520" y="4319640"/>
                <a:ext cx="110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Keyw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5500440" y="1660680"/>
              <a:ext cx="1971720" cy="679320"/>
              <a:chOff x="5500440" y="1660680"/>
              <a:chExt cx="1971720" cy="679320"/>
            </a:xfrm>
          </p:grpSpPr>
          <p:sp>
            <p:nvSpPr>
              <p:cNvPr id="514" name=""/>
              <p:cNvSpPr/>
              <p:nvPr/>
            </p:nvSpPr>
            <p:spPr>
              <a:xfrm>
                <a:off x="5500440" y="1660680"/>
                <a:ext cx="1971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Lubrication syst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424560" y="1930320"/>
                <a:ext cx="160200" cy="40968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8405640" y="2249640"/>
              <a:ext cx="738360" cy="779400"/>
              <a:chOff x="8405640" y="2249640"/>
              <a:chExt cx="738360" cy="779400"/>
            </a:xfrm>
          </p:grpSpPr>
          <p:sp>
            <p:nvSpPr>
              <p:cNvPr id="517" name=""/>
              <p:cNvSpPr/>
              <p:nvPr/>
            </p:nvSpPr>
            <p:spPr>
              <a:xfrm>
                <a:off x="8405640" y="2249640"/>
                <a:ext cx="7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Clam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445600" y="2549520"/>
                <a:ext cx="252360" cy="47952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123840" y="2033640"/>
              <a:ext cx="890640" cy="971640"/>
              <a:chOff x="123840" y="2033640"/>
              <a:chExt cx="890640" cy="971640"/>
            </a:xfrm>
          </p:grpSpPr>
          <p:sp>
            <p:nvSpPr>
              <p:cNvPr id="520" name=""/>
              <p:cNvSpPr/>
              <p:nvPr/>
            </p:nvSpPr>
            <p:spPr>
              <a:xfrm>
                <a:off x="123840" y="2033640"/>
                <a:ext cx="890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Sealed bearing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621720" y="2525760"/>
                <a:ext cx="285480" cy="47952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250560" y="4927680"/>
              <a:ext cx="1960560" cy="59832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55600" y="2189160"/>
            <a:ext cx="3030480" cy="366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67160" y="149400"/>
            <a:ext cx="5327640" cy="6581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8960" y="412920"/>
            <a:ext cx="28497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Rolling-element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592440" y="250920"/>
            <a:ext cx="5079960" cy="63831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506520" y="2301840"/>
            <a:ext cx="24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General classification and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1040" y="2959200"/>
            <a:ext cx="283860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 fontScale="99000"/>
          </a:bodyPr>
          <a:p>
            <a:pPr marL="339480" indent="-3394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Ball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Roller type bear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Sizes and capacities of ball and roller bearings are standard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However, depending on the type of machine they are to be used in, and expected application and function, a non-standard or specially design bearing may be preferred (</a:t>
            </a:r>
            <a:r>
              <a:rPr b="0" i="1" lang="en-US" sz="1400" spc="-1" strike="noStrike">
                <a:solidFill>
                  <a:srgbClr val="000066"/>
                </a:solidFill>
                <a:latin typeface="Comic Sans MS"/>
              </a:rPr>
              <a:t>very expensive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520560" y="1243080"/>
            <a:ext cx="8229600" cy="543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Rolling-element bearings: ball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988920" y="1347840"/>
            <a:ext cx="4268880" cy="25383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3176640" y="4021200"/>
            <a:ext cx="2413080" cy="25556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749160" y="4025880"/>
            <a:ext cx="2325960" cy="25606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5970600" y="1566720"/>
            <a:ext cx="24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Typical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64320" y="1960560"/>
            <a:ext cx="297648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High-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High-pr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ow tor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ow vib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ep groove ball bearings are selected for radial load and moderate thrust (axial)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Angular contact ball bearings are selected for radial load and larger thrust (axial) loads in only on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46040" y="882720"/>
            <a:ext cx="8516880" cy="5848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visc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Absolute/Rel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79600" y="903240"/>
            <a:ext cx="8184960" cy="1550880"/>
            <a:chOff x="579600" y="903240"/>
            <a:chExt cx="8184960" cy="1550880"/>
          </a:xfrm>
        </p:grpSpPr>
        <p:sp>
          <p:nvSpPr>
            <p:cNvPr id="152" name=""/>
            <p:cNvSpPr/>
            <p:nvPr/>
          </p:nvSpPr>
          <p:spPr>
            <a:xfrm>
              <a:off x="579600" y="903240"/>
              <a:ext cx="818496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333399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Absolute viscosity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333399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Units of absolute viscosity in English system: lb-sec/in</a:t>
              </a:r>
              <a:r>
                <a:rPr b="0" lang="en-US" sz="1400" spc="-1" strike="noStrike" baseline="30000">
                  <a:solidFill>
                    <a:srgbClr val="333399"/>
                  </a:solidFill>
                  <a:latin typeface="Comic Sans MS"/>
                </a:rPr>
                <a:t>2</a:t>
              </a: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 (rey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333399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Units of absolute viscosity in SI system: Pa-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333399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Typical values are expressed in µreyn and mPa-sec (1 centipoise (cP) = 1mPa-se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333399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Kinematic viscosity (  ) and absolute viscosity are related as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333399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Units of kinematic viscosity are: in</a:t>
              </a:r>
              <a:r>
                <a:rPr b="0" lang="en-US" sz="1400" spc="-1" strike="noStrike" baseline="30000">
                  <a:solidFill>
                    <a:srgbClr val="333399"/>
                  </a:solidFill>
                  <a:latin typeface="Comic Sans MS"/>
                </a:rPr>
                <a:t>2</a:t>
              </a: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/sec (English) and cm</a:t>
              </a:r>
              <a:r>
                <a:rPr b="0" lang="en-US" sz="1400" spc="-1" strike="noStrike" baseline="30000">
                  <a:solidFill>
                    <a:srgbClr val="333399"/>
                  </a:solidFill>
                  <a:latin typeface="Comic Sans MS"/>
                </a:rPr>
                <a:t>2</a:t>
              </a: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/sec (stoke - S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333399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333399"/>
                </a:buClr>
                <a:buSzPct val="15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635200" y="993600"/>
                  <a:ext cx="2224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6100920" y="1817640"/>
                  <a:ext cx="8524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ρυ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2664000" y="1817640"/>
                  <a:ext cx="22212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6" name=""/>
          <p:cNvGrpSpPr/>
          <p:nvPr/>
        </p:nvGrpSpPr>
        <p:grpSpPr>
          <a:xfrm>
            <a:off x="1658880" y="2300400"/>
            <a:ext cx="7178760" cy="4368600"/>
            <a:chOff x="1658880" y="2300400"/>
            <a:chExt cx="7178760" cy="43686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1658880" y="2300400"/>
              <a:ext cx="5646960" cy="43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140600" y="2687760"/>
              <a:ext cx="16970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Comic Sans MS"/>
                </a:rPr>
                <a:t>The term “viscosity” without modifiers refers to absolute viscosi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46160" y="1093680"/>
            <a:ext cx="8793000" cy="562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1587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Rolling-element bearings: roller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45280" y="1471680"/>
            <a:ext cx="24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Typical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39000" y="1865160"/>
            <a:ext cx="29764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arge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ong-life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ong endurance for heavy loa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ong endurance for shock fo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Unless rollers are contoured, they can support load in only one direction (radial or thrust according to bearing desig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Most roller bearings support, both radial and thrust loa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If contact angle is less than 45</a:t>
            </a:r>
            <a:r>
              <a:rPr b="0" lang="en-US" sz="1400" spc="-1" strike="noStrike" baseline="30000">
                <a:solidFill>
                  <a:srgbClr val="000066"/>
                </a:solidFill>
                <a:latin typeface="Comic Sans MS"/>
              </a:rPr>
              <a:t>0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, bearing has larger radial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260360" y="1249200"/>
            <a:ext cx="4341960" cy="25401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289080" y="3935520"/>
            <a:ext cx="3128760" cy="27097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3505320" y="3930480"/>
            <a:ext cx="258264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615960" y="1308240"/>
            <a:ext cx="7985160" cy="531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Rolling-element bearings: thrust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298520" y="4363920"/>
            <a:ext cx="3886200" cy="19987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954000" y="1535040"/>
            <a:ext cx="4510080" cy="26686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737320" y="1652760"/>
            <a:ext cx="24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Typical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30680" y="2046240"/>
            <a:ext cx="29768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Large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Designed to support thrust (axial) load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Some roller bearings with a contact angle larger than 45</a:t>
            </a:r>
            <a:r>
              <a:rPr b="0" lang="en-US" sz="1400" spc="-1" strike="noStrike" baseline="30000">
                <a:solidFill>
                  <a:srgbClr val="000066"/>
                </a:solidFill>
                <a:latin typeface="Comic Sans MS"/>
              </a:rPr>
              <a:t>0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can be used for thrust (axial) load and moderate radial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74560" y="1403280"/>
            <a:ext cx="8218440" cy="509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Advantages/disadvantages: rolling-element &amp; journal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12920" y="1936800"/>
            <a:ext cx="722304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Low-starting and operating fri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Can withstand radial and thrust (axial)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Less sensitive to interruptions of lubr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Dynamic s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Good temperature s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Sealed: to be life-time lubr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Less space in axial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08160" y="154944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Some </a:t>
            </a:r>
            <a:r>
              <a:rPr b="0" i="1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advantages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of rolling over sliding (journal) bearing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12920" y="4479840"/>
            <a:ext cx="722304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Rolling bearings fail from fatigue (su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Require more space in the radial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Poor damping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Higher nois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Strict alignment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Higher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Higher fri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08160" y="4102200"/>
            <a:ext cx="76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Some </a:t>
            </a:r>
            <a:r>
              <a:rPr b="0" i="1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disadvantages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of rolling over sliding (journal) bearing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39840" y="2668680"/>
            <a:ext cx="2509560" cy="399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79880" y="169920"/>
            <a:ext cx="5581440" cy="652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09600" y="596880"/>
            <a:ext cx="253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election of rolling-element bearings: choose type of bea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3386160" y="243000"/>
            <a:ext cx="5151240" cy="63608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488880" y="2954160"/>
            <a:ext cx="209412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See Figure 10-21</a:t>
            </a: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 and specific recommendations from bearing manufacturers on web p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SK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F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TIM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N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685800" y="1828800"/>
            <a:ext cx="7848720" cy="4114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Roller Bearing Lif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rcRect l="997" t="0" r="0" b="0"/>
          <a:stretch/>
        </p:blipFill>
        <p:spPr>
          <a:xfrm>
            <a:off x="838080" y="1981080"/>
            <a:ext cx="75772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615960" y="819000"/>
            <a:ext cx="8209080" cy="558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763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election of rolling-element bearings: dynamic load ra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28920" y="1581120"/>
                <a:ext cx="1463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871560" y="100332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Based on experimental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28920" y="2136600"/>
                <a:ext cx="17049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301680" y="13446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Ball bearing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1680" y="190008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Roller bearing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4513320" y="1606680"/>
                <a:ext cx="2397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4675320" y="1579680"/>
            <a:ext cx="37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Fatigue life in millions of rev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4503600" y="1898640"/>
                <a:ext cx="2588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4675320" y="189396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Basic dynamic load 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503600" y="2244600"/>
                <a:ext cx="25884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4675320" y="2217600"/>
            <a:ext cx="32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Equivalent appli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05320" y="1517760"/>
            <a:ext cx="4094280" cy="10872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80920" y="3013200"/>
            <a:ext cx="69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Based on experimental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276720" y="3529080"/>
                <a:ext cx="19875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Y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1765440" y="4368960"/>
                <a:ext cx="30312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2031840" y="4375080"/>
            <a:ext cx="37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applied constant radial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41320" y="4719600"/>
                <a:ext cx="327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2031840" y="4727520"/>
            <a:ext cx="40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applied constant thrust (axial)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1809720" y="4065480"/>
                <a:ext cx="25884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>
            <a:off x="2039760" y="4027320"/>
            <a:ext cx="329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Equivalent appli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1765440" y="5113440"/>
                <a:ext cx="3031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039760" y="5075280"/>
            <a:ext cx="625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radial factor (see Fig. 10-24 or other bearing specifica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809720" y="5435640"/>
                <a:ext cx="2588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2049480" y="5408640"/>
            <a:ext cx="63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rotation factor (see Fig. 10-24 or other bearing specifica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785960" y="5780160"/>
                <a:ext cx="2602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2039760" y="5742000"/>
            <a:ext cx="625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-thrust factor (see Fig. 10-24 or other bearing specifica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446040" y="1679400"/>
            <a:ext cx="8464680" cy="3945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earing Mounting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473040" y="1846440"/>
            <a:ext cx="82598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158840" y="1679400"/>
            <a:ext cx="6826320" cy="3945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loating Bearing Mounting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1185840" y="1935000"/>
            <a:ext cx="647244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712800" y="1627200"/>
            <a:ext cx="7593120" cy="409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Packaged Mounting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1076400" y="2232000"/>
            <a:ext cx="3097080" cy="264960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5316480" y="2198520"/>
            <a:ext cx="2252880" cy="269244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1787400" y="513540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ow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630760" y="50655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nge 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711440" y="17226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with ball or roller bearings in all varie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4329000" y="2095560"/>
            <a:ext cx="4256280" cy="379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2680" y="2093760"/>
            <a:ext cx="3808440" cy="379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Packaged Mounting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577800" y="2475000"/>
            <a:ext cx="3265560" cy="23540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041480" y="51246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foll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4559400" y="2386080"/>
            <a:ext cx="3873240" cy="270036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5086440" y="5149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Sliding Bearin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73200" y="1600200"/>
            <a:ext cx="711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drost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le-high stadi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drodynam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gine bear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astohydrodynam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m-followers, gear tee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cision instru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xtra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776160" y="1647720"/>
            <a:ext cx="7815240" cy="451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Pressure distribution in journal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860400" y="1846440"/>
            <a:ext cx="7405560" cy="3988800"/>
            <a:chOff x="860400" y="1846440"/>
            <a:chExt cx="7405560" cy="3988800"/>
          </a:xfrm>
        </p:grpSpPr>
        <p:pic>
          <p:nvPicPr>
            <p:cNvPr id="616" name="" descr=""/>
            <p:cNvPicPr/>
            <p:nvPr/>
          </p:nvPicPr>
          <p:blipFill>
            <a:blip r:embed="rId1"/>
            <a:stretch/>
          </p:blipFill>
          <p:spPr>
            <a:xfrm>
              <a:off x="911160" y="1846440"/>
              <a:ext cx="7354800" cy="39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860400" y="5491080"/>
              <a:ext cx="1219320" cy="34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2103480" y="3433680"/>
            <a:ext cx="1584360" cy="1751040"/>
            <a:chOff x="2103480" y="3433680"/>
            <a:chExt cx="1584360" cy="1751040"/>
          </a:xfrm>
        </p:grpSpPr>
        <p:sp>
          <p:nvSpPr>
            <p:cNvPr id="619" name=""/>
            <p:cNvSpPr/>
            <p:nvPr/>
          </p:nvSpPr>
          <p:spPr>
            <a:xfrm>
              <a:off x="2103480" y="3433680"/>
              <a:ext cx="1584360" cy="1751040"/>
            </a:xfrm>
            <a:custGeom>
              <a:avLst/>
              <a:gdLst/>
              <a:ahLst/>
              <a:rect l="l" t="t" r="r" b="b"/>
              <a:pathLst>
                <a:path w="998" h="1103">
                  <a:moveTo>
                    <a:pt x="3" y="0"/>
                  </a:moveTo>
                  <a:cubicBezTo>
                    <a:pt x="1" y="14"/>
                    <a:pt x="0" y="28"/>
                    <a:pt x="0" y="54"/>
                  </a:cubicBezTo>
                  <a:cubicBezTo>
                    <a:pt x="0" y="80"/>
                    <a:pt x="0" y="126"/>
                    <a:pt x="3" y="157"/>
                  </a:cubicBezTo>
                  <a:cubicBezTo>
                    <a:pt x="6" y="188"/>
                    <a:pt x="11" y="214"/>
                    <a:pt x="16" y="243"/>
                  </a:cubicBezTo>
                  <a:cubicBezTo>
                    <a:pt x="21" y="272"/>
                    <a:pt x="25" y="300"/>
                    <a:pt x="35" y="333"/>
                  </a:cubicBezTo>
                  <a:cubicBezTo>
                    <a:pt x="45" y="366"/>
                    <a:pt x="61" y="408"/>
                    <a:pt x="74" y="442"/>
                  </a:cubicBezTo>
                  <a:cubicBezTo>
                    <a:pt x="87" y="476"/>
                    <a:pt x="91" y="497"/>
                    <a:pt x="112" y="538"/>
                  </a:cubicBezTo>
                  <a:cubicBezTo>
                    <a:pt x="133" y="579"/>
                    <a:pt x="169" y="643"/>
                    <a:pt x="198" y="688"/>
                  </a:cubicBezTo>
                  <a:cubicBezTo>
                    <a:pt x="227" y="733"/>
                    <a:pt x="253" y="766"/>
                    <a:pt x="288" y="806"/>
                  </a:cubicBezTo>
                  <a:cubicBezTo>
                    <a:pt x="323" y="846"/>
                    <a:pt x="380" y="903"/>
                    <a:pt x="410" y="931"/>
                  </a:cubicBezTo>
                  <a:cubicBezTo>
                    <a:pt x="440" y="959"/>
                    <a:pt x="448" y="961"/>
                    <a:pt x="470" y="976"/>
                  </a:cubicBezTo>
                  <a:cubicBezTo>
                    <a:pt x="492" y="991"/>
                    <a:pt x="520" y="1011"/>
                    <a:pt x="541" y="1024"/>
                  </a:cubicBezTo>
                  <a:cubicBezTo>
                    <a:pt x="562" y="1037"/>
                    <a:pt x="582" y="1045"/>
                    <a:pt x="598" y="1053"/>
                  </a:cubicBezTo>
                  <a:cubicBezTo>
                    <a:pt x="614" y="1061"/>
                    <a:pt x="620" y="1066"/>
                    <a:pt x="637" y="1072"/>
                  </a:cubicBezTo>
                  <a:cubicBezTo>
                    <a:pt x="654" y="1078"/>
                    <a:pt x="681" y="1084"/>
                    <a:pt x="701" y="1088"/>
                  </a:cubicBezTo>
                  <a:cubicBezTo>
                    <a:pt x="721" y="1092"/>
                    <a:pt x="738" y="1096"/>
                    <a:pt x="758" y="1098"/>
                  </a:cubicBezTo>
                  <a:cubicBezTo>
                    <a:pt x="778" y="1100"/>
                    <a:pt x="799" y="1103"/>
                    <a:pt x="819" y="1101"/>
                  </a:cubicBezTo>
                  <a:cubicBezTo>
                    <a:pt x="839" y="1099"/>
                    <a:pt x="866" y="1091"/>
                    <a:pt x="880" y="1088"/>
                  </a:cubicBezTo>
                  <a:cubicBezTo>
                    <a:pt x="894" y="1085"/>
                    <a:pt x="891" y="1087"/>
                    <a:pt x="902" y="1082"/>
                  </a:cubicBezTo>
                  <a:cubicBezTo>
                    <a:pt x="913" y="1077"/>
                    <a:pt x="935" y="1062"/>
                    <a:pt x="944" y="1056"/>
                  </a:cubicBezTo>
                  <a:cubicBezTo>
                    <a:pt x="953" y="1050"/>
                    <a:pt x="955" y="1052"/>
                    <a:pt x="960" y="1043"/>
                  </a:cubicBezTo>
                  <a:cubicBezTo>
                    <a:pt x="965" y="1034"/>
                    <a:pt x="971" y="1018"/>
                    <a:pt x="976" y="1002"/>
                  </a:cubicBezTo>
                  <a:cubicBezTo>
                    <a:pt x="981" y="986"/>
                    <a:pt x="988" y="962"/>
                    <a:pt x="992" y="947"/>
                  </a:cubicBezTo>
                  <a:cubicBezTo>
                    <a:pt x="996" y="932"/>
                    <a:pt x="998" y="943"/>
                    <a:pt x="998" y="912"/>
                  </a:cubicBezTo>
                  <a:cubicBezTo>
                    <a:pt x="998" y="881"/>
                    <a:pt x="996" y="792"/>
                    <a:pt x="995" y="758"/>
                  </a:cubicBezTo>
                  <a:cubicBezTo>
                    <a:pt x="994" y="724"/>
                    <a:pt x="993" y="724"/>
                    <a:pt x="992" y="710"/>
                  </a:cubicBezTo>
                  <a:cubicBezTo>
                    <a:pt x="991" y="696"/>
                    <a:pt x="991" y="687"/>
                    <a:pt x="989" y="672"/>
                  </a:cubicBezTo>
                  <a:cubicBezTo>
                    <a:pt x="987" y="657"/>
                    <a:pt x="985" y="639"/>
                    <a:pt x="982" y="621"/>
                  </a:cubicBezTo>
                  <a:cubicBezTo>
                    <a:pt x="979" y="603"/>
                    <a:pt x="976" y="584"/>
                    <a:pt x="973" y="566"/>
                  </a:cubicBezTo>
                  <a:cubicBezTo>
                    <a:pt x="970" y="548"/>
                    <a:pt x="968" y="531"/>
                    <a:pt x="966" y="515"/>
                  </a:cubicBezTo>
                </a:path>
              </a:pathLst>
            </a:custGeom>
            <a:noFill/>
            <a:ln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 flipV="1">
              <a:off x="3318120" y="4424400"/>
              <a:ext cx="217440" cy="720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3450960" y="4362120"/>
              <a:ext cx="206280" cy="6699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3557160" y="4295880"/>
              <a:ext cx="125640" cy="406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3171600" y="4433400"/>
              <a:ext cx="222120" cy="7462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3013200" y="4449600"/>
              <a:ext cx="217440" cy="720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2851200" y="4433760"/>
              <a:ext cx="201600" cy="6652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2687760" y="4383000"/>
              <a:ext cx="185760" cy="6192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2519280" y="4295880"/>
              <a:ext cx="160560" cy="5378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2363400" y="4154040"/>
              <a:ext cx="149400" cy="506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2197080" y="3897000"/>
              <a:ext cx="160560" cy="5331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563400" y="1339920"/>
            <a:ext cx="5156280" cy="5305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3999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al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Comic Sans MS"/>
              </a:rPr>
              <a:t>Example of rotating machin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692280" y="1430280"/>
            <a:ext cx="4889520" cy="50767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5840280" y="2471760"/>
            <a:ext cx="2505240" cy="30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mic Sans MS"/>
              </a:rPr>
              <a:t>Double reduction spur gear: 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maximum shaft diameter (largest bearing location) is 180 mm.  Input power is 1500 HP at maximum speed of 1500 rpm.  Gear ratio is 8: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3999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al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Comic Sans MS"/>
              </a:rPr>
              <a:t>Example of rotating machin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069920" y="1163520"/>
            <a:ext cx="4265640" cy="535464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5840280" y="2471760"/>
            <a:ext cx="2505240" cy="30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mic Sans MS"/>
              </a:rPr>
              <a:t>Slip-on gearbox: 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maximum shaft diameter (largest bearing location) is 65 mm.  Input power is 4 HP at maximum speed of 1560 rpm.  Gear ratio is 12.5: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ample of rotating machinery: self-aligning ball 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565200" y="1855800"/>
            <a:ext cx="8062920" cy="274176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2495520" y="5099040"/>
            <a:ext cx="601992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mic Sans MS"/>
              </a:rPr>
              <a:t>Cutting shaft of a planer: 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shaft diameter (bearings locations) is 40 mm.  Input power is 12 HP at maximum speed of 4500 r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938320" y="1257480"/>
            <a:ext cx="2854440" cy="1263600"/>
            <a:chOff x="2938320" y="1257480"/>
            <a:chExt cx="2854440" cy="1263600"/>
          </a:xfrm>
        </p:grpSpPr>
        <p:sp>
          <p:nvSpPr>
            <p:cNvPr id="641" name=""/>
            <p:cNvSpPr/>
            <p:nvPr/>
          </p:nvSpPr>
          <p:spPr>
            <a:xfrm>
              <a:off x="4789440" y="1824120"/>
              <a:ext cx="372960" cy="696960"/>
            </a:xfrm>
            <a:custGeom>
              <a:avLst/>
              <a:gdLst/>
              <a:ahLst/>
              <a:rect l="l" t="t" r="r" b="b"/>
              <a:pathLst>
                <a:path w="319" h="676">
                  <a:moveTo>
                    <a:pt x="18" y="659"/>
                  </a:moveTo>
                  <a:cubicBezTo>
                    <a:pt x="9" y="667"/>
                    <a:pt x="0" y="676"/>
                    <a:pt x="44" y="620"/>
                  </a:cubicBezTo>
                  <a:cubicBezTo>
                    <a:pt x="88" y="564"/>
                    <a:pt x="273" y="370"/>
                    <a:pt x="281" y="320"/>
                  </a:cubicBezTo>
                  <a:cubicBezTo>
                    <a:pt x="289" y="270"/>
                    <a:pt x="89" y="373"/>
                    <a:pt x="95" y="320"/>
                  </a:cubicBezTo>
                  <a:cubicBezTo>
                    <a:pt x="101" y="267"/>
                    <a:pt x="284" y="52"/>
                    <a:pt x="319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938320" y="1257480"/>
              <a:ext cx="285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Shaft: used for transmission of power and as a machining 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031160" y="1461960"/>
            <a:ext cx="1420560" cy="741600"/>
            <a:chOff x="7031160" y="1461960"/>
            <a:chExt cx="1420560" cy="741600"/>
          </a:xfrm>
        </p:grpSpPr>
        <p:sp>
          <p:nvSpPr>
            <p:cNvPr id="644" name=""/>
            <p:cNvSpPr/>
            <p:nvPr/>
          </p:nvSpPr>
          <p:spPr>
            <a:xfrm>
              <a:off x="7031160" y="146196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Input pull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86720" y="1762200"/>
              <a:ext cx="178920" cy="441360"/>
            </a:xfrm>
            <a:custGeom>
              <a:avLst/>
              <a:gdLst/>
              <a:ahLst/>
              <a:rect l="l" t="t" r="r" b="b"/>
              <a:pathLst>
                <a:path w="319" h="676">
                  <a:moveTo>
                    <a:pt x="18" y="659"/>
                  </a:moveTo>
                  <a:cubicBezTo>
                    <a:pt x="9" y="667"/>
                    <a:pt x="0" y="676"/>
                    <a:pt x="44" y="620"/>
                  </a:cubicBezTo>
                  <a:cubicBezTo>
                    <a:pt x="88" y="564"/>
                    <a:pt x="273" y="370"/>
                    <a:pt x="281" y="320"/>
                  </a:cubicBezTo>
                  <a:cubicBezTo>
                    <a:pt x="289" y="270"/>
                    <a:pt x="89" y="373"/>
                    <a:pt x="95" y="320"/>
                  </a:cubicBezTo>
                  <a:cubicBezTo>
                    <a:pt x="101" y="267"/>
                    <a:pt x="284" y="52"/>
                    <a:pt x="319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47520" y="4405320"/>
            <a:ext cx="2243160" cy="240660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582480" y="1544760"/>
            <a:ext cx="170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mic Sans MS"/>
              </a:rPr>
              <a:t>Locating bearing </a:t>
            </a:r>
            <a:r>
              <a:rPr b="0" i="1" lang="en-US" sz="1400" spc="-1" strike="noStrike">
                <a:solidFill>
                  <a:srgbClr val="000099"/>
                </a:solidFill>
                <a:latin typeface="Comic Sans MS"/>
              </a:rPr>
              <a:t>(lesser lo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72120" y="4348080"/>
            <a:ext cx="170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mic Sans MS"/>
              </a:rPr>
              <a:t>Floating bearing </a:t>
            </a:r>
            <a:r>
              <a:rPr b="0" i="1" lang="en-US" sz="1400" spc="-1" strike="noStrike">
                <a:solidFill>
                  <a:srgbClr val="000099"/>
                </a:solidFill>
                <a:latin typeface="Comic Sans MS"/>
              </a:rPr>
              <a:t>(heavier lo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7020000" y="3163680"/>
            <a:ext cx="1108080" cy="1463040"/>
            <a:chOff x="7020000" y="3163680"/>
            <a:chExt cx="1108080" cy="1463040"/>
          </a:xfrm>
        </p:grpSpPr>
        <p:sp>
          <p:nvSpPr>
            <p:cNvPr id="650" name=""/>
            <p:cNvSpPr/>
            <p:nvPr/>
          </p:nvSpPr>
          <p:spPr>
            <a:xfrm flipH="1" flipV="1">
              <a:off x="7575480" y="3163320"/>
              <a:ext cx="246240" cy="1182600"/>
            </a:xfrm>
            <a:custGeom>
              <a:avLst/>
              <a:gdLst/>
              <a:ahLst/>
              <a:rect l="l" t="t" r="r" b="b"/>
              <a:pathLst>
                <a:path w="319" h="676">
                  <a:moveTo>
                    <a:pt x="18" y="659"/>
                  </a:moveTo>
                  <a:cubicBezTo>
                    <a:pt x="9" y="667"/>
                    <a:pt x="0" y="676"/>
                    <a:pt x="44" y="620"/>
                  </a:cubicBezTo>
                  <a:cubicBezTo>
                    <a:pt x="88" y="564"/>
                    <a:pt x="273" y="370"/>
                    <a:pt x="281" y="320"/>
                  </a:cubicBezTo>
                  <a:cubicBezTo>
                    <a:pt x="289" y="270"/>
                    <a:pt x="89" y="373"/>
                    <a:pt x="95" y="320"/>
                  </a:cubicBezTo>
                  <a:cubicBezTo>
                    <a:pt x="101" y="267"/>
                    <a:pt x="284" y="52"/>
                    <a:pt x="319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020000" y="431964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Key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5452920" y="1660680"/>
            <a:ext cx="1971720" cy="679320"/>
            <a:chOff x="5452920" y="1660680"/>
            <a:chExt cx="1971720" cy="679320"/>
          </a:xfrm>
        </p:grpSpPr>
        <p:sp>
          <p:nvSpPr>
            <p:cNvPr id="653" name=""/>
            <p:cNvSpPr/>
            <p:nvPr/>
          </p:nvSpPr>
          <p:spPr>
            <a:xfrm>
              <a:off x="5452920" y="1660680"/>
              <a:ext cx="197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Lubrication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377040" y="1930320"/>
              <a:ext cx="160200" cy="409680"/>
            </a:xfrm>
            <a:custGeom>
              <a:avLst/>
              <a:gdLst/>
              <a:ahLst/>
              <a:rect l="l" t="t" r="r" b="b"/>
              <a:pathLst>
                <a:path w="319" h="676">
                  <a:moveTo>
                    <a:pt x="18" y="659"/>
                  </a:moveTo>
                  <a:cubicBezTo>
                    <a:pt x="9" y="667"/>
                    <a:pt x="0" y="676"/>
                    <a:pt x="44" y="620"/>
                  </a:cubicBezTo>
                  <a:cubicBezTo>
                    <a:pt x="88" y="564"/>
                    <a:pt x="273" y="370"/>
                    <a:pt x="281" y="320"/>
                  </a:cubicBezTo>
                  <a:cubicBezTo>
                    <a:pt x="289" y="270"/>
                    <a:pt x="89" y="373"/>
                    <a:pt x="95" y="320"/>
                  </a:cubicBezTo>
                  <a:cubicBezTo>
                    <a:pt x="101" y="267"/>
                    <a:pt x="284" y="52"/>
                    <a:pt x="319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8358120" y="2249640"/>
            <a:ext cx="738360" cy="779400"/>
            <a:chOff x="8358120" y="2249640"/>
            <a:chExt cx="738360" cy="779400"/>
          </a:xfrm>
        </p:grpSpPr>
        <p:sp>
          <p:nvSpPr>
            <p:cNvPr id="656" name=""/>
            <p:cNvSpPr/>
            <p:nvPr/>
          </p:nvSpPr>
          <p:spPr>
            <a:xfrm>
              <a:off x="8358120" y="2249640"/>
              <a:ext cx="7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Cla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398080" y="2549520"/>
              <a:ext cx="252360" cy="479520"/>
            </a:xfrm>
            <a:custGeom>
              <a:avLst/>
              <a:gdLst/>
              <a:ahLst/>
              <a:rect l="l" t="t" r="r" b="b"/>
              <a:pathLst>
                <a:path w="319" h="676">
                  <a:moveTo>
                    <a:pt x="18" y="659"/>
                  </a:moveTo>
                  <a:cubicBezTo>
                    <a:pt x="9" y="667"/>
                    <a:pt x="0" y="676"/>
                    <a:pt x="44" y="620"/>
                  </a:cubicBezTo>
                  <a:cubicBezTo>
                    <a:pt x="88" y="564"/>
                    <a:pt x="273" y="370"/>
                    <a:pt x="281" y="320"/>
                  </a:cubicBezTo>
                  <a:cubicBezTo>
                    <a:pt x="289" y="270"/>
                    <a:pt x="89" y="373"/>
                    <a:pt x="95" y="320"/>
                  </a:cubicBezTo>
                  <a:cubicBezTo>
                    <a:pt x="101" y="267"/>
                    <a:pt x="284" y="52"/>
                    <a:pt x="319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76320" y="2033640"/>
            <a:ext cx="890640" cy="971640"/>
            <a:chOff x="76320" y="2033640"/>
            <a:chExt cx="890640" cy="971640"/>
          </a:xfrm>
        </p:grpSpPr>
        <p:sp>
          <p:nvSpPr>
            <p:cNvPr id="659" name=""/>
            <p:cNvSpPr/>
            <p:nvPr/>
          </p:nvSpPr>
          <p:spPr>
            <a:xfrm>
              <a:off x="76320" y="2033640"/>
              <a:ext cx="89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Sealed bear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74200" y="2525760"/>
              <a:ext cx="285480" cy="479520"/>
            </a:xfrm>
            <a:custGeom>
              <a:avLst/>
              <a:gdLst/>
              <a:ahLst/>
              <a:rect l="l" t="t" r="r" b="b"/>
              <a:pathLst>
                <a:path w="319" h="676">
                  <a:moveTo>
                    <a:pt x="18" y="659"/>
                  </a:moveTo>
                  <a:cubicBezTo>
                    <a:pt x="9" y="667"/>
                    <a:pt x="0" y="676"/>
                    <a:pt x="44" y="620"/>
                  </a:cubicBezTo>
                  <a:cubicBezTo>
                    <a:pt x="88" y="564"/>
                    <a:pt x="273" y="370"/>
                    <a:pt x="281" y="320"/>
                  </a:cubicBezTo>
                  <a:cubicBezTo>
                    <a:pt x="289" y="270"/>
                    <a:pt x="89" y="373"/>
                    <a:pt x="95" y="320"/>
                  </a:cubicBezTo>
                  <a:cubicBezTo>
                    <a:pt x="101" y="267"/>
                    <a:pt x="284" y="52"/>
                    <a:pt x="319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03040" y="4927680"/>
            <a:ext cx="1960560" cy="598320"/>
          </a:xfrm>
          <a:prstGeom prst="rect">
            <a:avLst/>
          </a:prstGeom>
          <a:noFill/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ample of rotating machinery: tapered roller 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436680" y="1414440"/>
            <a:ext cx="5083200" cy="52768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5896080" y="2028960"/>
            <a:ext cx="2770200" cy="19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mic Sans MS"/>
              </a:rPr>
              <a:t>Double reduction spur gear: 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maximum shaft diameter (largest bearing location) is 180 mm.  Input power is 1500 HP at maximum speed of 1500 rpm.  Gear ratio is 8: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5516640" y="3898800"/>
            <a:ext cx="237636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Rolling-element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840" y="2189160"/>
            <a:ext cx="796212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Comic Sans MS"/>
              </a:rPr>
              <a:t>Consider:</a:t>
            </a:r>
            <a:r>
              <a:rPr b="0" i="1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Comic Sans MS"/>
              </a:rPr>
              <a:t>(a)</a:t>
            </a:r>
            <a:r>
              <a:rPr b="0" i="1" lang="en-US" sz="1600" spc="-1" strike="noStrike">
                <a:solidFill>
                  <a:srgbClr val="00cc00"/>
                </a:solidFill>
                <a:latin typeface="Comic Sans MS"/>
              </a:rPr>
              <a:t> re-arrange to clearly show differences between “rolling” and “contac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Comic Sans MS"/>
              </a:rPr>
              <a:t>(b)</a:t>
            </a:r>
            <a:r>
              <a:rPr b="0" i="1" lang="en-US" sz="1600" spc="-1" strike="noStrike">
                <a:solidFill>
                  <a:srgbClr val="00cc00"/>
                </a:solidFill>
                <a:latin typeface="Comic Sans MS"/>
              </a:rPr>
              <a:t> See </a:t>
            </a:r>
            <a:r>
              <a:rPr b="0" i="1" lang="en-US" sz="1600" spc="-1" strike="noStrike">
                <a:solidFill>
                  <a:srgbClr val="000099"/>
                </a:solidFill>
                <a:latin typeface="Comic Sans MS"/>
              </a:rPr>
              <a:t>SFK</a:t>
            </a:r>
            <a:r>
              <a:rPr b="0" i="1" lang="en-US" sz="1600" spc="-1" strike="noStrike">
                <a:solidFill>
                  <a:srgbClr val="00cc00"/>
                </a:solidFill>
                <a:latin typeface="Comic Sans MS"/>
              </a:rPr>
              <a:t> websi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www.skf.com/portal/skf/home/products?paf_dm=shared&amp;maincatalogue=1&amp;lang=en&amp;newlink=1_0_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cc00"/>
                </a:solidFill>
                <a:latin typeface="Comic Sans MS"/>
              </a:rPr>
              <a:t>On SKF, shaft of wind turbi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6600"/>
                </a:solidFill>
                <a:latin typeface="Comic Sans MS"/>
              </a:rPr>
              <a:t>http://www.skf.com/portal/skf/home/solutions?paf_dm=shared&amp;paf_gear_id=600029&amp;contentId=0.000336.082311.082314.152565.0041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38280" y="1403280"/>
            <a:ext cx="8102520" cy="501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Journal bearings(short/long) -- sliding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4232" r="0" b="0"/>
          <a:stretch/>
        </p:blipFill>
        <p:spPr>
          <a:xfrm>
            <a:off x="819000" y="2532240"/>
            <a:ext cx="7728120" cy="38415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2602080" y="1400040"/>
            <a:ext cx="4246560" cy="981000"/>
            <a:chOff x="2602080" y="1400040"/>
            <a:chExt cx="4246560" cy="981000"/>
          </a:xfrm>
        </p:grpSpPr>
        <p:sp>
          <p:nvSpPr>
            <p:cNvPr id="165" name=""/>
            <p:cNvSpPr/>
            <p:nvPr/>
          </p:nvSpPr>
          <p:spPr>
            <a:xfrm>
              <a:off x="2602080" y="1400040"/>
              <a:ext cx="4246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000099"/>
                  </a:solidFill>
                  <a:uFillTx/>
                  <a:latin typeface="Comic Sans MS"/>
                </a:rPr>
                <a:t>Note hardness difference between shaft and bearing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780000" y="2016000"/>
              <a:ext cx="1962000" cy="365040"/>
            </a:xfrm>
            <a:custGeom>
              <a:avLst/>
              <a:gdLst/>
              <a:ahLst/>
              <a:rect l="l" t="t" r="r" b="b"/>
              <a:pathLst>
                <a:path w="1178" h="403">
                  <a:moveTo>
                    <a:pt x="0" y="25"/>
                  </a:moveTo>
                  <a:cubicBezTo>
                    <a:pt x="28" y="128"/>
                    <a:pt x="57" y="231"/>
                    <a:pt x="167" y="294"/>
                  </a:cubicBezTo>
                  <a:cubicBezTo>
                    <a:pt x="277" y="357"/>
                    <a:pt x="523" y="403"/>
                    <a:pt x="660" y="403"/>
                  </a:cubicBezTo>
                  <a:cubicBezTo>
                    <a:pt x="797" y="403"/>
                    <a:pt x="906" y="361"/>
                    <a:pt x="992" y="294"/>
                  </a:cubicBezTo>
                  <a:cubicBezTo>
                    <a:pt x="1078" y="227"/>
                    <a:pt x="1128" y="113"/>
                    <a:pt x="1178" y="0"/>
                  </a:cubicBezTo>
                </a:path>
              </a:pathLst>
            </a:custGeom>
            <a:noFill/>
            <a:ln w="34920">
              <a:solidFill>
                <a:srgbClr val="000099"/>
              </a:solidFill>
              <a:round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1201680"/>
            <a:ext cx="8272440" cy="551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Journal bearings(short/long) -- sliding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5560" y="1517760"/>
            <a:ext cx="29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hort journal bea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31880" y="1415880"/>
            <a:ext cx="3197160" cy="2802240"/>
            <a:chOff x="731880" y="1415880"/>
            <a:chExt cx="3197160" cy="280224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31880" y="2001960"/>
              <a:ext cx="319716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831960" y="1415880"/>
              <a:ext cx="2997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Journal bearings (short/long) and bushin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82960" y="1889280"/>
            <a:ext cx="3870360" cy="3249720"/>
            <a:chOff x="4782960" y="1889280"/>
            <a:chExt cx="3870360" cy="3249720"/>
          </a:xfrm>
        </p:grpSpPr>
        <p:grpSp>
          <p:nvGrpSpPr>
            <p:cNvPr id="174" name=""/>
            <p:cNvGrpSpPr/>
            <p:nvPr/>
          </p:nvGrpSpPr>
          <p:grpSpPr>
            <a:xfrm>
              <a:off x="4782960" y="1889280"/>
              <a:ext cx="3564000" cy="3220920"/>
              <a:chOff x="4782960" y="1889280"/>
              <a:chExt cx="3564000" cy="3220920"/>
            </a:xfrm>
          </p:grpSpPr>
          <p:pic>
            <p:nvPicPr>
              <p:cNvPr id="1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82960" y="1889280"/>
                <a:ext cx="3564000" cy="294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5837040" y="4581720"/>
                <a:ext cx="1614600" cy="52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965480" y="4862520"/>
              <a:ext cx="368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Comic Sans MS"/>
                </a:rPr>
                <a:t>(Typically used in low-speed application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014480" y="4473720"/>
            <a:ext cx="2997000" cy="2217600"/>
            <a:chOff x="1014480" y="4473720"/>
            <a:chExt cx="2997000" cy="2217600"/>
          </a:xfrm>
        </p:grpSpPr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1357200" y="4797360"/>
              <a:ext cx="2310120" cy="18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014480" y="4473720"/>
              <a:ext cx="29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Thick-wall journal be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357720" y="5226120"/>
            <a:ext cx="1690560" cy="461880"/>
            <a:chOff x="3357720" y="5226120"/>
            <a:chExt cx="1690560" cy="461880"/>
          </a:xfrm>
        </p:grpSpPr>
        <p:sp>
          <p:nvSpPr>
            <p:cNvPr id="182" name=""/>
            <p:cNvSpPr/>
            <p:nvPr/>
          </p:nvSpPr>
          <p:spPr>
            <a:xfrm>
              <a:off x="3357720" y="5484960"/>
              <a:ext cx="549000" cy="203040"/>
            </a:xfrm>
            <a:custGeom>
              <a:avLst/>
              <a:gdLst/>
              <a:ahLst/>
              <a:rect l="l" t="t" r="r" b="b"/>
              <a:pathLst>
                <a:path w="346" h="128">
                  <a:moveTo>
                    <a:pt x="0" y="128"/>
                  </a:moveTo>
                  <a:cubicBezTo>
                    <a:pt x="65" y="79"/>
                    <a:pt x="130" y="31"/>
                    <a:pt x="160" y="25"/>
                  </a:cubicBezTo>
                  <a:cubicBezTo>
                    <a:pt x="190" y="19"/>
                    <a:pt x="148" y="93"/>
                    <a:pt x="179" y="89"/>
                  </a:cubicBezTo>
                  <a:cubicBezTo>
                    <a:pt x="210" y="85"/>
                    <a:pt x="320" y="14"/>
                    <a:pt x="346" y="0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06920" y="5226120"/>
              <a:ext cx="1341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333399"/>
                  </a:solidFill>
                  <a:latin typeface="Comic Sans MS"/>
                </a:rPr>
                <a:t>Hard materi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117960" y="5954760"/>
            <a:ext cx="1834920" cy="325080"/>
            <a:chOff x="3117960" y="5954760"/>
            <a:chExt cx="1834920" cy="325080"/>
          </a:xfrm>
        </p:grpSpPr>
        <p:sp>
          <p:nvSpPr>
            <p:cNvPr id="185" name=""/>
            <p:cNvSpPr/>
            <p:nvPr/>
          </p:nvSpPr>
          <p:spPr>
            <a:xfrm flipV="1">
              <a:off x="3117960" y="5954760"/>
              <a:ext cx="549360" cy="171360"/>
            </a:xfrm>
            <a:custGeom>
              <a:avLst/>
              <a:gdLst/>
              <a:ahLst/>
              <a:rect l="l" t="t" r="r" b="b"/>
              <a:pathLst>
                <a:path w="346" h="128">
                  <a:moveTo>
                    <a:pt x="0" y="128"/>
                  </a:moveTo>
                  <a:cubicBezTo>
                    <a:pt x="65" y="79"/>
                    <a:pt x="130" y="31"/>
                    <a:pt x="160" y="25"/>
                  </a:cubicBezTo>
                  <a:cubicBezTo>
                    <a:pt x="190" y="19"/>
                    <a:pt x="148" y="93"/>
                    <a:pt x="179" y="89"/>
                  </a:cubicBezTo>
                  <a:cubicBezTo>
                    <a:pt x="210" y="85"/>
                    <a:pt x="320" y="14"/>
                    <a:pt x="346" y="0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1520" y="5987880"/>
              <a:ext cx="1341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333399"/>
                  </a:solidFill>
                  <a:latin typeface="Comic Sans MS"/>
                </a:rPr>
                <a:t>Soft materi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986440" y="1219320"/>
            <a:ext cx="13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: [0.25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20560" y="1011240"/>
            <a:ext cx="8091720" cy="5710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5732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f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Journal bearings(short/long) -- sliding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473200" y="1274760"/>
            <a:ext cx="5892840" cy="2536560"/>
            <a:chOff x="2473200" y="1274760"/>
            <a:chExt cx="5892840" cy="2536560"/>
          </a:xfrm>
        </p:grpSpPr>
        <p:grpSp>
          <p:nvGrpSpPr>
            <p:cNvPr id="191" name=""/>
            <p:cNvGrpSpPr/>
            <p:nvPr/>
          </p:nvGrpSpPr>
          <p:grpSpPr>
            <a:xfrm>
              <a:off x="2846160" y="1274760"/>
              <a:ext cx="4041720" cy="2474640"/>
              <a:chOff x="2846160" y="1274760"/>
              <a:chExt cx="4041720" cy="2474640"/>
            </a:xfrm>
          </p:grpSpPr>
          <p:pic>
            <p:nvPicPr>
              <p:cNvPr id="1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09520" y="1274760"/>
                <a:ext cx="3978360" cy="24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2846160" y="2187360"/>
                <a:ext cx="579600" cy="28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473200" y="2225520"/>
              <a:ext cx="10018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Fri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46840" y="3292200"/>
              <a:ext cx="151920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Relative velo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55880" y="3527280"/>
              <a:ext cx="115920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09640" y="3454560"/>
            <a:ext cx="2749680" cy="2732040"/>
            <a:chOff x="809640" y="3454560"/>
            <a:chExt cx="2749680" cy="2732040"/>
          </a:xfrm>
        </p:grpSpPr>
        <p:grpSp>
          <p:nvGrpSpPr>
            <p:cNvPr id="198" name=""/>
            <p:cNvGrpSpPr/>
            <p:nvPr/>
          </p:nvGrpSpPr>
          <p:grpSpPr>
            <a:xfrm>
              <a:off x="809640" y="3973680"/>
              <a:ext cx="2200320" cy="2212920"/>
              <a:chOff x="809640" y="3973680"/>
              <a:chExt cx="2200320" cy="2212920"/>
            </a:xfrm>
          </p:grpSpPr>
          <p:pic>
            <p:nvPicPr>
              <p:cNvPr id="1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09640" y="3973680"/>
                <a:ext cx="2102040" cy="2212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0" name=""/>
              <p:cNvGrpSpPr/>
              <p:nvPr/>
            </p:nvGrpSpPr>
            <p:grpSpPr>
              <a:xfrm>
                <a:off x="2575080" y="4249800"/>
                <a:ext cx="434880" cy="1890720"/>
                <a:chOff x="2575080" y="4249800"/>
                <a:chExt cx="434880" cy="18907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2633760" y="4249800"/>
                  <a:ext cx="376200" cy="108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575080" y="5796000"/>
                  <a:ext cx="355680" cy="344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2146320" y="3454560"/>
              <a:ext cx="1413000" cy="477720"/>
            </a:xfrm>
            <a:custGeom>
              <a:avLst/>
              <a:gdLst/>
              <a:ahLst/>
              <a:rect l="l" t="t" r="r" b="b"/>
              <a:pathLst>
                <a:path w="346" h="128">
                  <a:moveTo>
                    <a:pt x="0" y="128"/>
                  </a:moveTo>
                  <a:cubicBezTo>
                    <a:pt x="65" y="79"/>
                    <a:pt x="130" y="31"/>
                    <a:pt x="160" y="25"/>
                  </a:cubicBezTo>
                  <a:cubicBezTo>
                    <a:pt x="190" y="19"/>
                    <a:pt x="148" y="93"/>
                    <a:pt x="179" y="89"/>
                  </a:cubicBezTo>
                  <a:cubicBezTo>
                    <a:pt x="210" y="85"/>
                    <a:pt x="320" y="14"/>
                    <a:pt x="346" y="0"/>
                  </a:cubicBezTo>
                </a:path>
              </a:pathLst>
            </a:custGeom>
            <a:noFill/>
            <a:ln w="2232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477040" y="3533760"/>
            <a:ext cx="2798640" cy="2995560"/>
            <a:chOff x="5477040" y="3533760"/>
            <a:chExt cx="2798640" cy="2995560"/>
          </a:xfrm>
        </p:grpSpPr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6350040" y="3678120"/>
              <a:ext cx="192564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477040" y="3533760"/>
              <a:ext cx="925560" cy="439560"/>
            </a:xfrm>
            <a:custGeom>
              <a:avLst/>
              <a:gdLst/>
              <a:ahLst/>
              <a:rect l="l" t="t" r="r" b="b"/>
              <a:pathLst>
                <a:path w="115" h="243">
                  <a:moveTo>
                    <a:pt x="0" y="0"/>
                  </a:moveTo>
                  <a:cubicBezTo>
                    <a:pt x="3" y="57"/>
                    <a:pt x="6" y="115"/>
                    <a:pt x="19" y="134"/>
                  </a:cubicBezTo>
                  <a:cubicBezTo>
                    <a:pt x="32" y="153"/>
                    <a:pt x="60" y="97"/>
                    <a:pt x="76" y="115"/>
                  </a:cubicBezTo>
                  <a:cubicBezTo>
                    <a:pt x="92" y="133"/>
                    <a:pt x="111" y="221"/>
                    <a:pt x="115" y="243"/>
                  </a:cubicBezTo>
                </a:path>
              </a:pathLst>
            </a:custGeom>
            <a:noFill/>
            <a:ln w="2232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220920" y="3460680"/>
            <a:ext cx="2160720" cy="2967120"/>
            <a:chOff x="3220920" y="3460680"/>
            <a:chExt cx="2160720" cy="2967120"/>
          </a:xfrm>
        </p:grpSpPr>
        <p:sp>
          <p:nvSpPr>
            <p:cNvPr id="208" name=""/>
            <p:cNvSpPr/>
            <p:nvPr/>
          </p:nvSpPr>
          <p:spPr>
            <a:xfrm>
              <a:off x="3862440" y="3460680"/>
              <a:ext cx="285480" cy="520920"/>
            </a:xfrm>
            <a:custGeom>
              <a:avLst/>
              <a:gdLst/>
              <a:ahLst/>
              <a:rect l="l" t="t" r="r" b="b"/>
              <a:pathLst>
                <a:path w="115" h="243">
                  <a:moveTo>
                    <a:pt x="0" y="0"/>
                  </a:moveTo>
                  <a:cubicBezTo>
                    <a:pt x="3" y="57"/>
                    <a:pt x="6" y="115"/>
                    <a:pt x="19" y="134"/>
                  </a:cubicBezTo>
                  <a:cubicBezTo>
                    <a:pt x="32" y="153"/>
                    <a:pt x="60" y="97"/>
                    <a:pt x="76" y="115"/>
                  </a:cubicBezTo>
                  <a:cubicBezTo>
                    <a:pt x="92" y="133"/>
                    <a:pt x="111" y="221"/>
                    <a:pt x="115" y="243"/>
                  </a:cubicBezTo>
                </a:path>
              </a:pathLst>
            </a:custGeom>
            <a:noFill/>
            <a:ln w="2232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20920" y="3938760"/>
              <a:ext cx="2160720" cy="2489040"/>
              <a:chOff x="3220920" y="3938760"/>
              <a:chExt cx="2160720" cy="248904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220920" y="3979800"/>
                <a:ext cx="2160720" cy="2448000"/>
                <a:chOff x="3220920" y="3979800"/>
                <a:chExt cx="2160720" cy="2448000"/>
              </a:xfrm>
            </p:grpSpPr>
            <p:pic>
              <p:nvPicPr>
                <p:cNvPr id="21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20800" y="3979800"/>
                  <a:ext cx="1860840" cy="244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"/>
                <p:cNvSpPr/>
                <p:nvPr/>
              </p:nvSpPr>
              <p:spPr>
                <a:xfrm>
                  <a:off x="3220920" y="5462640"/>
                  <a:ext cx="549360" cy="235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3433680" y="3938760"/>
                <a:ext cx="324000" cy="24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4460760" y="1235160"/>
            <a:ext cx="379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Friction as a function of velo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5600" y="1297080"/>
            <a:ext cx="8612280" cy="512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029040" y="3713040"/>
            <a:ext cx="5653080" cy="2685600"/>
            <a:chOff x="3029040" y="3713040"/>
            <a:chExt cx="5653080" cy="2685600"/>
          </a:xfrm>
        </p:grpSpPr>
        <p:grpSp>
          <p:nvGrpSpPr>
            <p:cNvPr id="217" name=""/>
            <p:cNvGrpSpPr/>
            <p:nvPr/>
          </p:nvGrpSpPr>
          <p:grpSpPr>
            <a:xfrm>
              <a:off x="3029040" y="3713040"/>
              <a:ext cx="5653080" cy="2144880"/>
              <a:chOff x="3029040" y="3713040"/>
              <a:chExt cx="5653080" cy="2144880"/>
            </a:xfrm>
          </p:grpSpPr>
          <p:pic>
            <p:nvPicPr>
              <p:cNvPr id="2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29040" y="3713040"/>
                <a:ext cx="5653080" cy="206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3224520" y="5492880"/>
                <a:ext cx="406080" cy="36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424920" y="5522760"/>
                <a:ext cx="396720" cy="29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799080" y="5716440"/>
              <a:ext cx="17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Comic Sans MS"/>
                </a:rPr>
                <a:t>(Analog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56200" y="3927600"/>
              <a:ext cx="250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Comic Sans MS"/>
                </a:rPr>
                <a:t>Linear (tangential) velocity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713560" y="5308560"/>
              <a:ext cx="1808280" cy="1090080"/>
              <a:chOff x="5713560" y="5308560"/>
              <a:chExt cx="1808280" cy="1090080"/>
            </a:xfrm>
          </p:grpSpPr>
          <p:sp>
            <p:nvSpPr>
              <p:cNvPr id="224" name=""/>
              <p:cNvSpPr/>
              <p:nvPr/>
            </p:nvSpPr>
            <p:spPr>
              <a:xfrm>
                <a:off x="5713560" y="5908680"/>
                <a:ext cx="1808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ff0000"/>
                    </a:solidFill>
                    <a:latin typeface="Comic Sans MS"/>
                  </a:rPr>
                  <a:t>Film (lubricant) thicknes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00800" y="5308560"/>
                <a:ext cx="239760" cy="600120"/>
              </a:xfrm>
              <a:custGeom>
                <a:avLst/>
                <a:gdLst/>
                <a:ahLst/>
                <a:rect l="l" t="t" r="r" b="b"/>
                <a:pathLst>
                  <a:path w="105" h="333">
                    <a:moveTo>
                      <a:pt x="46" y="0"/>
                    </a:moveTo>
                    <a:cubicBezTo>
                      <a:pt x="23" y="66"/>
                      <a:pt x="0" y="133"/>
                      <a:pt x="8" y="160"/>
                    </a:cubicBezTo>
                    <a:cubicBezTo>
                      <a:pt x="16" y="187"/>
                      <a:pt x="89" y="131"/>
                      <a:pt x="97" y="160"/>
                    </a:cubicBezTo>
                    <a:cubicBezTo>
                      <a:pt x="105" y="189"/>
                      <a:pt x="66" y="304"/>
                      <a:pt x="59" y="333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0" y="13824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shear stresses in lubr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Journal bearings(short/long) -- sliding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52440" y="1779480"/>
            <a:ext cx="2757240" cy="4087800"/>
            <a:chOff x="352440" y="1779480"/>
            <a:chExt cx="2757240" cy="408780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352440" y="1779480"/>
              <a:ext cx="2670120" cy="39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77720" y="4791240"/>
              <a:ext cx="2631960" cy="10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352520" y="3644640"/>
            <a:ext cx="2844720" cy="2092680"/>
            <a:chOff x="1352520" y="3644640"/>
            <a:chExt cx="2844720" cy="2092680"/>
          </a:xfrm>
        </p:grpSpPr>
        <p:sp>
          <p:nvSpPr>
            <p:cNvPr id="231" name=""/>
            <p:cNvSpPr/>
            <p:nvPr/>
          </p:nvSpPr>
          <p:spPr>
            <a:xfrm>
              <a:off x="1352520" y="3897360"/>
              <a:ext cx="639720" cy="600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13000" y="4386600"/>
              <a:ext cx="1636560" cy="1350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1828800" y="3644640"/>
              <a:ext cx="2368440" cy="265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335400" y="1959120"/>
            <a:ext cx="4556160" cy="571320"/>
            <a:chOff x="3335400" y="1959120"/>
            <a:chExt cx="4556160" cy="571320"/>
          </a:xfrm>
        </p:grpSpPr>
        <p:sp>
          <p:nvSpPr>
            <p:cNvPr id="235" name=""/>
            <p:cNvSpPr/>
            <p:nvPr/>
          </p:nvSpPr>
          <p:spPr>
            <a:xfrm>
              <a:off x="3335400" y="2046240"/>
              <a:ext cx="345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99"/>
                  </a:solidFill>
                  <a:latin typeface="Comic Sans MS"/>
                </a:rPr>
                <a:t>and for </a:t>
              </a:r>
              <a:r>
                <a:rPr b="0" i="1" lang="en-US" sz="18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constant</a:t>
              </a:r>
              <a:r>
                <a:rPr b="0" i="1" lang="en-US" sz="1800" spc="-1" strike="noStrike">
                  <a:solidFill>
                    <a:srgbClr val="333399"/>
                  </a:solidFill>
                  <a:latin typeface="Comic Sans MS"/>
                </a:rPr>
                <a:t> thickness, 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Times New Roman"/>
                </a:rPr>
                <a:t>h</a:t>
              </a:r>
              <a:r>
                <a:rPr b="0" i="1" lang="en-US" sz="1800" spc="-1" strike="noStrike">
                  <a:solidFill>
                    <a:srgbClr val="333399"/>
                  </a:solidFill>
                  <a:latin typeface="Comic Sans MS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6823080" y="1959120"/>
                  <a:ext cx="10684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η</m:t>
                      </m:r>
                      <m:f>
                        <m:num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h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7" name=""/>
          <p:cNvGrpSpPr/>
          <p:nvPr/>
        </p:nvGrpSpPr>
        <p:grpSpPr>
          <a:xfrm>
            <a:off x="4003560" y="2541600"/>
            <a:ext cx="4884480" cy="996120"/>
            <a:chOff x="4003560" y="2541600"/>
            <a:chExt cx="4884480" cy="996120"/>
          </a:xfrm>
        </p:grpSpPr>
        <p:sp>
          <p:nvSpPr>
            <p:cNvPr id="238" name=""/>
            <p:cNvSpPr/>
            <p:nvPr/>
          </p:nvSpPr>
          <p:spPr>
            <a:xfrm>
              <a:off x="4003560" y="2541600"/>
              <a:ext cx="112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where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5211720" y="2608560"/>
                  <a:ext cx="21564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"/>
            <p:cNvSpPr/>
            <p:nvPr/>
          </p:nvSpPr>
          <p:spPr>
            <a:xfrm>
              <a:off x="5344920" y="2543400"/>
              <a:ext cx="29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- is absolute visco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44920" y="2867040"/>
              <a:ext cx="35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- is linear (tangential) velo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44920" y="3200400"/>
              <a:ext cx="35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- is film (lubricant) thickn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5211720" y="2895840"/>
                  <a:ext cx="28080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5211720" y="3195720"/>
                  <a:ext cx="2156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5" name=""/>
          <p:cNvGrpSpPr/>
          <p:nvPr/>
        </p:nvGrpSpPr>
        <p:grpSpPr>
          <a:xfrm>
            <a:off x="2841480" y="1407960"/>
            <a:ext cx="3825720" cy="681120"/>
            <a:chOff x="2841480" y="1407960"/>
            <a:chExt cx="3825720" cy="68112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395680" y="1442880"/>
                  <a:ext cx="115560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η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"/>
            <p:cNvSpPr/>
            <p:nvPr/>
          </p:nvSpPr>
          <p:spPr>
            <a:xfrm>
              <a:off x="2841480" y="156492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99"/>
                  </a:solidFill>
                  <a:latin typeface="Comic Sans MS"/>
                </a:rPr>
                <a:t>Shear stresse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95520" y="1407960"/>
              <a:ext cx="3271680" cy="681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23920" y="1062000"/>
            <a:ext cx="8718480" cy="566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461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arings and lubrication: shear stresses in lubr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Reynold’s equation for eccentric journal bea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0240" y="10922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63520" y="3586320"/>
            <a:ext cx="8640720" cy="3120840"/>
            <a:chOff x="263520" y="3586320"/>
            <a:chExt cx="8640720" cy="312084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263520" y="3586320"/>
              <a:ext cx="864072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024920" y="4262400"/>
              <a:ext cx="2068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Comic Sans MS"/>
                </a:rPr>
                <a:t>(Analogy: used to der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Comic Sans MS"/>
                </a:rPr>
                <a:t>mathematical model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748760" y="1403280"/>
            <a:ext cx="3179160" cy="368280"/>
            <a:chOff x="4748760" y="1403280"/>
            <a:chExt cx="3179160" cy="368280"/>
          </a:xfrm>
        </p:grpSpPr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6723000" y="1412640"/>
                  <a:ext cx="1204920" cy="34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7" name=""/>
            <p:cNvSpPr/>
            <p:nvPr/>
          </p:nvSpPr>
          <p:spPr>
            <a:xfrm>
              <a:off x="4748760" y="140328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adial clearanc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089360" y="1403280"/>
            <a:ext cx="2733480" cy="368280"/>
            <a:chOff x="1089360" y="1403280"/>
            <a:chExt cx="2733480" cy="368280"/>
          </a:xfrm>
        </p:grpSpPr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3452760" y="1412640"/>
                  <a:ext cx="370080" cy="34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"/>
            <p:cNvSpPr/>
            <p:nvPr/>
          </p:nvSpPr>
          <p:spPr>
            <a:xfrm>
              <a:off x="1089360" y="1403280"/>
              <a:ext cx="228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99"/>
                  </a:solidFill>
                  <a:latin typeface="Comic Sans MS"/>
                </a:rPr>
                <a:t>Diametral clearanc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87320" y="1763640"/>
            <a:ext cx="6300720" cy="372960"/>
            <a:chOff x="787320" y="1763640"/>
            <a:chExt cx="6300720" cy="372960"/>
          </a:xfrm>
        </p:grpSpPr>
        <p:grpSp>
          <p:nvGrpSpPr>
            <p:cNvPr id="262" name=""/>
            <p:cNvGrpSpPr/>
            <p:nvPr/>
          </p:nvGrpSpPr>
          <p:grpSpPr>
            <a:xfrm>
              <a:off x="787320" y="1768320"/>
              <a:ext cx="6300720" cy="368280"/>
              <a:chOff x="787320" y="1768320"/>
              <a:chExt cx="6300720" cy="368280"/>
            </a:xfrm>
          </p:grpSpPr>
          <p:sp>
            <p:nvSpPr>
              <p:cNvPr id="263" name=""/>
              <p:cNvSpPr/>
              <p:nvPr/>
            </p:nvSpPr>
            <p:spPr>
              <a:xfrm>
                <a:off x="787320" y="1768320"/>
                <a:ext cx="179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ccentricity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4" name=""/>
                  <p:cNvSpPr txBox="1"/>
                  <p:nvPr/>
                </p:nvSpPr>
                <p:spPr>
                  <a:xfrm>
                    <a:off x="2614320" y="1831680"/>
                    <a:ext cx="195480" cy="24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5" name=""/>
              <p:cNvSpPr/>
              <p:nvPr/>
            </p:nvSpPr>
            <p:spPr>
              <a:xfrm>
                <a:off x="2849400" y="1782720"/>
                <a:ext cx="4238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(Maximum value of eccentricity is:        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6271920" y="1763640"/>
                  <a:ext cx="3286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7" name=""/>
          <p:cNvGrpSpPr/>
          <p:nvPr/>
        </p:nvGrpSpPr>
        <p:grpSpPr>
          <a:xfrm>
            <a:off x="647640" y="2104920"/>
            <a:ext cx="3315960" cy="592200"/>
            <a:chOff x="647640" y="2104920"/>
            <a:chExt cx="3315960" cy="592200"/>
          </a:xfrm>
        </p:grpSpPr>
        <p:sp>
          <p:nvSpPr>
            <p:cNvPr id="268" name=""/>
            <p:cNvSpPr/>
            <p:nvPr/>
          </p:nvSpPr>
          <p:spPr>
            <a:xfrm>
              <a:off x="647640" y="2217600"/>
              <a:ext cx="25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99"/>
                  </a:solidFill>
                  <a:latin typeface="Comic Sans MS"/>
                </a:rPr>
                <a:t>Eccentricity rati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3174840" y="2104920"/>
                  <a:ext cx="78876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e</m:t>
                          </m:r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632640" y="2668680"/>
                <a:ext cx="19731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149840" y="2670120"/>
            <a:ext cx="53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Film thickness as a function of angular position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120" y="3100320"/>
            <a:ext cx="7827120" cy="371160"/>
            <a:chOff x="996120" y="3100320"/>
            <a:chExt cx="7827120" cy="371160"/>
          </a:xfrm>
        </p:grpSpPr>
        <p:sp>
          <p:nvSpPr>
            <p:cNvPr id="273" name=""/>
            <p:cNvSpPr/>
            <p:nvPr/>
          </p:nvSpPr>
          <p:spPr>
            <a:xfrm>
              <a:off x="996120" y="3101760"/>
              <a:ext cx="419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99"/>
                  </a:solidFill>
                  <a:latin typeface="Comic Sans MS"/>
                </a:rPr>
                <a:t>Minimum and maximum film thicknes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5248080" y="3100320"/>
                  <a:ext cx="3575160" cy="37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ε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, 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ε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2:00:34Z</dcterms:created>
  <dc:creator>Cosme Furlong</dc:creator>
  <dc:description/>
  <dc:language>en-US</dc:language>
  <cp:lastModifiedBy>R. L. Norton</cp:lastModifiedBy>
  <cp:lastPrinted>2003-02-04T15:34:55Z</cp:lastPrinted>
  <dcterms:modified xsi:type="dcterms:W3CDTF">2006-01-03T19:56:59Z</dcterms:modified>
  <cp:revision>445</cp:revision>
  <dc:subject/>
  <dc:title>Lect1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wpi.edu/~cfurlong/es-2501.html</vt:lpwstr>
  </property>
  <property fmtid="{D5CDD505-2E9C-101B-9397-08002B2CF9AE}" pid="9" name="LinkColor">
    <vt:r8>16711782</vt:r8>
  </property>
  <property fmtid="{D5CDD505-2E9C-101B-9397-08002B2CF9AE}" pid="10" name="MailAddress">
    <vt:lpwstr>cfurlong@wpi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