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61B7-16EC-4FA8-8B7F-8FC78CE0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66BF-D4FC-4512-A76F-F33900C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FFB7-0CD7-496C-A921-64D8C04F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78F0-48B9-43CE-9693-CA8BAB10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DD9C-E3FC-4921-9429-DB44AB2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464D-B528-4DD9-B66B-A6062177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3FF-2B37-4FD5-907B-A192C3E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9CF1-1D49-49DB-871A-37642945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655D-CD7D-4152-AFDB-3AB2713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2B68-9E3B-4A35-8396-5AB77E3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944C-643E-4D8F-873B-BBD8F2A5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98D5-ED29-448E-ACDC-EBE850A0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4B9-43F7-4836-BCD6-BB4CF8B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B23-7520-47EE-A050-D7D3250E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A65-A293-4685-942C-24C8417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67D-8213-4F0C-AFB6-07EDE686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AEC8-883E-4AF8-B8BD-FF3E9E1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9110-9DCC-407E-BF68-BDD15DE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4184-1AF4-4F84-B76D-7AEDF8A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2056-6140-40B9-A3EF-1D14B07A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A780-965E-4A64-AE7A-43AC2BF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D19F-5F15-494A-BA62-2534BEE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0E33-6906-4D8D-9970-CFED88F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EB34-1D0B-4512-B32E-DD28BAC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00E-E1D1-4AD3-8064-C489ED6C3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C95-B322-4159-88EF-FBB68328E7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36:35Z</dcterms:created>
  <dc:creator>R. L. Norton</dc:creator>
  <dc:description/>
  <dc:language>en-US</dc:language>
  <cp:lastModifiedBy>R. L. Norton</cp:lastModifiedBy>
  <dcterms:modified xsi:type="dcterms:W3CDTF">2005-12-31T22:37:56Z</dcterms:modified>
  <cp:revision>2</cp:revision>
  <dc:subject/>
  <dc:title>Quiz 2</dc:title>
</cp:coreProperties>
</file>