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0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35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34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4478-AB04-465B-BCBD-4B94A6F5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5DE9-CD00-4B86-A6AE-562684B6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BB44-E743-47BE-96BE-C347E189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9BB9-A2E9-46CE-AE1F-36F52418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6A6-6C41-48F3-92D1-5134C537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B046-FEA7-4C9E-951D-C35CA02A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88F-F717-403A-BAB7-D83ACD5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C194-99C1-404B-ACB2-5E6928E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358-BF36-4C44-8164-B12413C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EAC4-696F-43AB-BD21-BD2B50D3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6F88-5B20-4B09-8CF1-AEAB4E5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3965-BBF2-4C65-AD84-7E12B12E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A28E-E2DE-4A28-974B-27DAFAB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934E-A4B4-45B3-AD5A-15FB615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C4F1-E9A9-4E29-8A25-F6C84164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7627-96BB-4B8C-A3C3-5500281C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9F4D-3CB2-4D5C-8105-D5AB04B1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2EA2-A34E-45C2-93F1-AA09A639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4FC1-7F18-4135-ACFE-B311A89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AC16-0D32-482D-8FAC-2472F25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7AE7-7BCC-45B3-BCBA-45F30470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06A0-FF53-4BA3-8624-E7EF5C95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6B41-3B70-4CF4-BB7F-BA780B00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F0E7-69ED-4AC4-B38D-41C053E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C026-68C9-42F0-A8F1-38C643A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9625-28EF-4611-A3F8-A549DF3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43D8-D2AE-4C4A-A89C-C84B2A3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78018-F1D6-4A02-9712-FF0A3FD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4D80-A67C-404A-BC99-DA901ACB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1EC0-463D-4F61-8380-6BDBAD2F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9276-5828-44C0-A7BC-19BD1F6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16B4-2E0A-4D8A-B414-4DDD67B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D7BB-536F-4EB9-9E07-8531C0A1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F3C7-2D99-44FF-9487-3D7A533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6FA0-E104-4CCE-9CE6-A42747BC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0874-0AB5-4C5A-8559-906765B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1859-CAB8-40A0-A329-12F52CA5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33DC-EAC4-475F-B055-14D0084F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D671-08FA-47CA-9994-8A94A4FB9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tted G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led and Ground c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1447920"/>
            <a:ext cx="6858000" cy="457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Abrasion Resistant Materials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3632" r="0" b="0"/>
          <a:stretch/>
        </p:blipFill>
        <p:spPr>
          <a:xfrm>
            <a:off x="1295280" y="1676520"/>
            <a:ext cx="657252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1600200"/>
            <a:ext cx="8382240" cy="426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Corrosion Wear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930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1219320"/>
            <a:ext cx="70866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Fretting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19153"/>
          <a:stretch/>
        </p:blipFill>
        <p:spPr>
          <a:xfrm>
            <a:off x="1295280" y="1295280"/>
            <a:ext cx="6572520" cy="2667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67071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057400"/>
            <a:ext cx="8534520" cy="365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Surface Fatigue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2594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Hertzian Stress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ertz discovered that materials in contac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Have normal stresses in three dimensions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These occur on the axes normal to and orthogonal within the tangent plane of contact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These will also be the principal stresses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re are three cases of intere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General contact – any shaped surfaces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Cylindrical contact – cyl. on cyl. or cyl. on plane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Spherical contact – ball on ball or ball on plane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second 2 are special cases of the fir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Rounded MT Bold"/>
              </a:rPr>
              <a:t>Surface Contact Creates a “Patch”</a:t>
            </a:r>
            <a:endParaRPr b="0" lang="en-US" sz="36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96592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2209680"/>
            <a:ext cx="8763120" cy="426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Three Types of Surface Contact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herical, Cylindrical, Genera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5298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1371600"/>
            <a:ext cx="876312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Static Sub- Surface Stresses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108320" cy="17301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28600" y="3962520"/>
            <a:ext cx="5181480" cy="2666880"/>
            <a:chOff x="228600" y="3962520"/>
            <a:chExt cx="5181480" cy="2666880"/>
          </a:xfrm>
        </p:grpSpPr>
        <p:sp>
          <p:nvSpPr>
            <p:cNvPr id="207" name=""/>
            <p:cNvSpPr/>
            <p:nvPr/>
          </p:nvSpPr>
          <p:spPr>
            <a:xfrm>
              <a:off x="228600" y="3962520"/>
              <a:ext cx="5181480" cy="266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304560" y="4114800"/>
              <a:ext cx="5028840" cy="23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5486400" y="3962520"/>
            <a:ext cx="3505320" cy="2666880"/>
            <a:chOff x="5486400" y="3962520"/>
            <a:chExt cx="3505320" cy="2666880"/>
          </a:xfrm>
        </p:grpSpPr>
        <p:sp>
          <p:nvSpPr>
            <p:cNvPr id="210" name=""/>
            <p:cNvSpPr/>
            <p:nvPr/>
          </p:nvSpPr>
          <p:spPr>
            <a:xfrm>
              <a:off x="5486400" y="3962520"/>
              <a:ext cx="3505320" cy="266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62720" y="4038480"/>
              <a:ext cx="3306600" cy="25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380880" y="1905120"/>
            <a:ext cx="4267440" cy="17524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479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Hertzian normal stresses – Spherical cont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800600" y="1600200"/>
            <a:ext cx="3962520" cy="1752480"/>
            <a:chOff x="4800600" y="1600200"/>
            <a:chExt cx="3962520" cy="175248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4876920" y="2438280"/>
              <a:ext cx="380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800600" y="2362320"/>
              <a:ext cx="3962520" cy="99036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160020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Rounded MT Bold"/>
                </a:rPr>
                <a:t>Maximum shear stress is below the sur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152280"/>
            <a:ext cx="8153280" cy="335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Rounded MT Bold"/>
              </a:rPr>
              <a:t>Dynamic Sub- Surface Stresses</a:t>
            </a:r>
            <a:endParaRPr b="0" lang="en-US" sz="3600" spc="-1" strike="noStrike">
              <a:solidFill>
                <a:srgbClr val="000099"/>
              </a:solidFill>
              <a:latin typeface="Arial Rounded MT Bold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3657600"/>
            <a:ext cx="8153280" cy="3048120"/>
            <a:chOff x="533520" y="3657600"/>
            <a:chExt cx="8153280" cy="3048120"/>
          </a:xfrm>
        </p:grpSpPr>
        <p:sp>
          <p:nvSpPr>
            <p:cNvPr id="221" name=""/>
            <p:cNvSpPr/>
            <p:nvPr/>
          </p:nvSpPr>
          <p:spPr>
            <a:xfrm>
              <a:off x="533520" y="3657600"/>
              <a:ext cx="8153280" cy="304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295280" y="3733920"/>
              <a:ext cx="6472440" cy="288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278240" cy="1527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33670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914400"/>
            <a:ext cx="7086600" cy="579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Dynamic Sub- Surface Stresses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6705720" cy="2730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70572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ear and Surface Fatigu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95280" y="1676520"/>
            <a:ext cx="6477120" cy="426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Fatigue Cracks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325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Roller Cam-Followers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198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2133720"/>
            <a:ext cx="8229600" cy="297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Rounded MT Bold"/>
              </a:rPr>
              <a:t>Stress Concentration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 Rounded MT Bold"/>
              </a:rPr>
              <a:t>in Surface Contact</a:t>
            </a:r>
            <a:endParaRPr b="0" lang="en-US" sz="36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644480" cy="228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90920" y="2514600"/>
            <a:ext cx="1679400" cy="2000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1611360" cy="2041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629400" y="2514600"/>
            <a:ext cx="1779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Surface Fatigue Strength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re is no “knee” in the strength-life curve for surface load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, all parts in surface fatigue will eventually fail – infinite life is not possibl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vertheless, very long lives can be achieved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xample:  Wheel bearings in cars often last 100,000 miles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Rounded MT Bold"/>
              </a:rPr>
              <a:t>At an average speed of 40 mph and a wheel radius of 1 foot a wheel bearing will rotate about 84 million times in 100,000 miles</a:t>
            </a:r>
            <a:endParaRPr b="0" lang="en-US" sz="2400" spc="-1" strike="noStrike">
              <a:solidFill>
                <a:srgbClr val="990033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Surface Fatigue Strength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re is not much public data available on the strength of materials in surface fatigu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famous study was done at United Shoe Machine Co. in the 1930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s study lasted 24 years and ran various materials together under load to determine their surface fatigue lif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of these data are presented in your text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438280" y="304920"/>
            <a:ext cx="6553440" cy="609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210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Rounded MT Bold"/>
              </a:rPr>
              <a:t>Surface Fatigue Strength Data</a:t>
            </a:r>
            <a:endParaRPr b="0" lang="en-US" sz="36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1267" r="0" b="0"/>
          <a:stretch/>
        </p:blipFill>
        <p:spPr>
          <a:xfrm>
            <a:off x="2514600" y="380880"/>
            <a:ext cx="6370560" cy="5948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35053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From 24 years of 24-hours a day, continuous testing of loaded roll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828800"/>
            <a:ext cx="7848720" cy="411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Roller Bearing Life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997" t="0" r="0" b="0"/>
          <a:stretch/>
        </p:blipFill>
        <p:spPr>
          <a:xfrm>
            <a:off x="838080" y="1981080"/>
            <a:ext cx="75772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face contact has 3-D Hertzian st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cally fails in surface fatigue by pitting and spall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fail by abrasion if in a dirty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od lubrication is preferred, but some joints are run dry (where lubricants might contaminate the product) risking possible adhesion fail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al case is to lubricate copiously with filtered oil (cooled if necessary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ypes of Wea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he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ra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o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face fat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1676520"/>
            <a:ext cx="868680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Surface Finish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96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371600"/>
            <a:ext cx="8685360" cy="518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Measuring Surface Finish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3120" y="1449360"/>
            <a:ext cx="4311720" cy="1990440"/>
            <a:chOff x="303120" y="1449360"/>
            <a:chExt cx="4311720" cy="19904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03120" y="1449360"/>
              <a:ext cx="4311720" cy="19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03120" y="1449360"/>
              <a:ext cx="4191120" cy="1981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03120" y="3506760"/>
            <a:ext cx="4278240" cy="1468440"/>
            <a:chOff x="303120" y="3506760"/>
            <a:chExt cx="4278240" cy="146844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303120" y="3506760"/>
              <a:ext cx="42782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3120" y="3506760"/>
              <a:ext cx="4191120" cy="1447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03120" y="5030640"/>
            <a:ext cx="4219560" cy="1484280"/>
            <a:chOff x="303120" y="5030640"/>
            <a:chExt cx="4219560" cy="14842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379440" y="5030640"/>
              <a:ext cx="414324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3120" y="5030640"/>
              <a:ext cx="4191120" cy="1447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646520" y="1449360"/>
            <a:ext cx="4191120" cy="2008080"/>
            <a:chOff x="4646520" y="1449360"/>
            <a:chExt cx="4191120" cy="2008080"/>
          </a:xfrm>
        </p:grpSpPr>
        <p:pic>
          <p:nvPicPr>
            <p:cNvPr id="162" name="" descr=""/>
            <p:cNvPicPr/>
            <p:nvPr/>
          </p:nvPicPr>
          <p:blipFill>
            <a:blip r:embed="rId4"/>
            <a:srcRect l="0" t="0" r="3071" b="0"/>
            <a:stretch/>
          </p:blipFill>
          <p:spPr>
            <a:xfrm>
              <a:off x="4646520" y="1449360"/>
              <a:ext cx="4114800" cy="20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46520" y="1449360"/>
              <a:ext cx="4191120" cy="1981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646520" y="3506760"/>
            <a:ext cx="4191120" cy="2971800"/>
            <a:chOff x="4646520" y="3506760"/>
            <a:chExt cx="4191120" cy="2971800"/>
          </a:xfrm>
        </p:grpSpPr>
        <p:pic>
          <p:nvPicPr>
            <p:cNvPr id="165" name="" descr=""/>
            <p:cNvPicPr/>
            <p:nvPr/>
          </p:nvPicPr>
          <p:blipFill>
            <a:blip r:embed="rId5"/>
            <a:srcRect l="0" t="0" r="5748" b="814"/>
            <a:stretch/>
          </p:blipFill>
          <p:spPr>
            <a:xfrm>
              <a:off x="4646520" y="3506760"/>
              <a:ext cx="41911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646520" y="3506760"/>
              <a:ext cx="4191120" cy="29718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209680"/>
            <a:ext cx="74674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R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Arial Rounded MT Bold"/>
              </a:rPr>
              <a:t>a</a:t>
            </a: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 and R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Arial Rounded MT Bold"/>
              </a:rPr>
              <a:t>q</a:t>
            </a: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 are not enough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49400" y="2433600"/>
            <a:ext cx="7045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1447920"/>
            <a:ext cx="7238880" cy="510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Real Area of Contact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45560" cy="2665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68086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00200" y="1523880"/>
            <a:ext cx="6324480" cy="2819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Adhesive Wear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lso called scoring, scuffing, or gall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duced by mating incompatible materia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duced by lubricant or contamina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7875" t="7205" r="8905" b="27970"/>
          <a:stretch/>
        </p:blipFill>
        <p:spPr>
          <a:xfrm>
            <a:off x="1905120" y="1905120"/>
            <a:ext cx="563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95280" y="1600200"/>
            <a:ext cx="6553440" cy="426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Rounded MT Bold"/>
              </a:rPr>
              <a:t>Abrasive Wear</a:t>
            </a:r>
            <a:endParaRPr b="0" lang="en-US" sz="4000" spc="-1" strike="noStrike">
              <a:solidFill>
                <a:srgbClr val="000099"/>
              </a:solidFill>
              <a:latin typeface="Arial Rounded MT Bol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2378" t="0" r="3620" b="3245"/>
          <a:stretch/>
        </p:blipFill>
        <p:spPr>
          <a:xfrm>
            <a:off x="1523880" y="1752480"/>
            <a:ext cx="6019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7:31:16Z</dcterms:created>
  <dc:creator>Robert L. Norton</dc:creator>
  <dc:description/>
  <dc:language>en-US</dc:language>
  <cp:lastModifiedBy>norton</cp:lastModifiedBy>
  <dcterms:modified xsi:type="dcterms:W3CDTF">2006-01-08T00:21:16Z</dcterms:modified>
  <cp:revision>301</cp:revision>
  <dc:subject/>
  <dc:title>WPI ME 641 Cam Design</dc:title>
</cp:coreProperties>
</file>