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7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5.png" ContentType="image/png"/>
  <Override PartName="/ppt/media/image40.wmf" ContentType="image/x-wmf"/>
  <Override PartName="/ppt/media/image41.wmf" ContentType="image/x-wmf"/>
  <Override PartName="/ppt/media/image38.png" ContentType="image/png"/>
  <Override PartName="/ppt/media/image60.wmf" ContentType="image/x-wmf"/>
  <Override PartName="/ppt/media/image36.png" ContentType="image/png"/>
  <Override PartName="/ppt/media/image34.wmf" ContentType="image/x-wmf"/>
  <Override PartName="/ppt/media/image7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22.png" ContentType="image/png"/>
  <Override PartName="/ppt/media/image62.wmf" ContentType="image/x-wmf"/>
  <Override PartName="/ppt/media/image61.wmf" ContentType="image/x-wmf"/>
  <Override PartName="/ppt/media/image63.wmf" ContentType="image/x-wmf"/>
  <Override PartName="/ppt/media/image23.png" ContentType="image/png"/>
  <Override PartName="/ppt/media/image27.wmf" ContentType="image/x-wmf"/>
  <Override PartName="/ppt/media/image66.png" ContentType="image/png"/>
  <Override PartName="/ppt/media/image64.wmf" ContentType="image/x-wmf"/>
  <Override PartName="/ppt/media/image65.wmf" ContentType="image/x-wmf"/>
  <Override PartName="/ppt/media/image25.png" ContentType="image/png"/>
  <Override PartName="/ppt/media/image87.wmf" ContentType="image/x-wmf"/>
  <Override PartName="/ppt/media/image75.wmf" ContentType="image/x-wmf"/>
  <Override PartName="/ppt/media/image79.wmf" ContentType="image/x-wmf"/>
  <Override PartName="/ppt/media/image32.wmf" ContentType="image/x-wmf"/>
  <Override PartName="/ppt/media/image71.png" ContentType="image/png"/>
  <Override PartName="/ppt/media/image69.wmf" ContentType="image/x-wmf"/>
  <Override PartName="/ppt/media/image67.wmf" ContentType="image/x-wmf"/>
  <Override PartName="/ppt/media/image78.wmf" ContentType="image/x-wmf"/>
  <Override PartName="/ppt/media/image76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72.png" ContentType="image/png"/>
  <Override PartName="/ppt/media/image33.wmf" ContentType="image/x-wmf"/>
  <Override PartName="/ppt/media/image21.png" ContentType="image/png"/>
  <Override PartName="/ppt/media/image89.wmf" ContentType="image/x-wmf"/>
  <Override PartName="/ppt/media/image81.wmf" ContentType="image/x-wmf"/>
  <Override PartName="/ppt/media/image16.wmf" ContentType="image/x-wmf"/>
  <Override PartName="/ppt/media/image20.png" ContentType="image/png"/>
  <Override PartName="/ppt/media/image88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2.wmf" ContentType="image/x-wmf"/>
  <Override PartName="/ppt/media/image14.wmf" ContentType="image/x-wmf"/>
  <Override PartName="/ppt/media/image24.wmf" ContentType="image/x-wmf"/>
  <Override PartName="/ppt/media/image8.wmf" ContentType="image/x-wmf"/>
  <Override PartName="/ppt/media/image58.png" ContentType="image/png"/>
  <Override PartName="/ppt/media/image3.wmf" ContentType="image/x-wmf"/>
  <Override PartName="/ppt/media/image80.wmf" ContentType="image/x-wmf"/>
  <Override PartName="/ppt/media/image15.wmf" ContentType="image/x-wmf"/>
  <Override PartName="/ppt/media/image28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26.png" ContentType="image/png"/>
  <Override PartName="/ppt/media/image11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023-583A-42A4-BBBC-DB6BC75C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7CF-7DC8-4B5D-87CC-EED803D8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4EB-1FE1-42CA-AC07-81F9C644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B44-15EE-4201-9A59-E71BD8D5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89BF1-91D0-4689-8131-30D79392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A7829-1556-40BD-83C3-B112421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94B9-426B-4559-854B-15FF259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6245-1632-42FF-B698-62A27CF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8481F-B7BE-47C4-88B3-10C0FAD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4ACA-D30E-4CC9-8A57-7D35095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D48F-FC95-4DB3-87C7-01484E9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DC6-E454-47AD-8866-B6F9112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BEC71-CCDE-41E9-8E08-56C4CF5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03372-6940-4B0F-B4AD-E60054D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B97C-1CDB-4B8C-B7FF-E45FBFA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FC575-3072-4A30-9432-9729A8FC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8082-F863-4F2E-B925-CAD758A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6EB3-5DB8-4ACC-BC44-CD5081B3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F22D-1BDF-4270-B6C8-CC94B504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2EC7-477B-4B59-9E71-094AB5CC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B21A-820F-4F72-9F6A-F68B5BB0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C611-CA66-4D2D-8C4F-D500D68C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6D5-E7AF-412B-BD30-24D9D70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829B-E004-4FC9-9384-C6BDFB87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0FC0-7956-40C1-8C4C-A37ED4A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CBFD-8585-4622-84B7-8BFF2C0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6A72-691F-4144-B53B-D2C5A9A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3F03-13FD-452B-AE40-917E731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570A-815A-43AA-8F48-2CEE24B1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A5AF-4463-403E-87F3-4CBC8CA4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990-0B84-4694-A249-EFD59D5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883-8464-4BAD-8F08-34143FAE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3FF-18C2-49A0-8F04-58C3F9B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5A5-199C-4B9A-9787-218D5CB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6F2-34C6-4400-84C2-D9F01B79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5ED-4E32-4277-ACCB-CEA3E33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A691-665B-4301-BD03-640D0156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0CE6-9656-42BE-92C3-41B3A65C6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1A8-B2CB-466D-B70C-032372496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png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7.png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png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3.wmf"/><Relationship Id="rId11" Type="http://schemas.openxmlformats.org/officeDocument/2006/relationships/image" Target="../media/image4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png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4.wmf"/><Relationship Id="rId22" Type="http://schemas.openxmlformats.org/officeDocument/2006/relationships/image" Target="../media/image35.wmf"/><Relationship Id="rId23" Type="http://schemas.openxmlformats.org/officeDocument/2006/relationships/image" Target="../media/image36.png"/><Relationship Id="rId24" Type="http://schemas.openxmlformats.org/officeDocument/2006/relationships/image" Target="../media/image37.wmf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pring Design I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2057400"/>
            <a:ext cx="6248520" cy="2819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tatic Yield Strength of Spring Wire in Bending and Tors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76520" y="2279520"/>
            <a:ext cx="60195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00200" y="2057400"/>
            <a:ext cx="6248520" cy="2819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ynamic Yield Strength of Spring Wire in Bending and Tors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2254320"/>
            <a:ext cx="59436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orsional Endurance Limit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igh-strength materials 0ver 200 kpsi 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S</a:t>
            </a:r>
            <a:r>
              <a:rPr b="0" i="1" lang="en-US" sz="2800" spc="-1" strike="noStrike" baseline="-20000">
                <a:solidFill>
                  <a:srgbClr val="000000"/>
                </a:solidFill>
                <a:latin typeface="Arial Rounded MT Bold"/>
              </a:rPr>
              <a:t>u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ops-out in endurance strength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ring wire below 10-mm dia is in this category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mmerli reports that all steel wire &lt; 10 mm dia, loa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repeated stres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has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te that th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a fully reversed endurance limit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209680" y="4191120"/>
            <a:ext cx="4267080" cy="838080"/>
            <a:chOff x="2209680" y="4191120"/>
            <a:chExt cx="4267080" cy="838080"/>
          </a:xfrm>
        </p:grpSpPr>
        <p:sp>
          <p:nvSpPr>
            <p:cNvPr id="263" name=""/>
            <p:cNvSpPr/>
            <p:nvPr/>
          </p:nvSpPr>
          <p:spPr>
            <a:xfrm>
              <a:off x="2209680" y="4191120"/>
              <a:ext cx="426708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2361960" y="4267440"/>
              <a:ext cx="400860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1600" y="1752480"/>
            <a:ext cx="6629400" cy="396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Effect of Spring Index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3880" y="1886040"/>
            <a:ext cx="61722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629400" y="228600"/>
            <a:ext cx="213372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219320"/>
            <a:ext cx="6019920" cy="52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Torsion Spring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se springs provide a torque, but are stressed in bend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Note that compression and extension springs provide a force abut are stressed in torsion.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4716360" cy="325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881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Number of Coil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752480"/>
            <a:ext cx="662940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3880" y="1990800"/>
            <a:ext cx="63882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133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flection &amp; Spring Rate in Torsion Spring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280" y="4038480"/>
            <a:ext cx="2362320" cy="2362320"/>
            <a:chOff x="152280" y="4038480"/>
            <a:chExt cx="2362320" cy="2362320"/>
          </a:xfrm>
        </p:grpSpPr>
        <p:sp>
          <p:nvSpPr>
            <p:cNvPr id="279" name=""/>
            <p:cNvSpPr/>
            <p:nvPr/>
          </p:nvSpPr>
          <p:spPr>
            <a:xfrm>
              <a:off x="152280" y="4038480"/>
              <a:ext cx="2362320" cy="2362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762120" y="4191120"/>
              <a:ext cx="1038240" cy="31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"/>
            <p:cNvGrpSpPr/>
            <p:nvPr/>
          </p:nvGrpSpPr>
          <p:grpSpPr>
            <a:xfrm>
              <a:off x="457200" y="4572000"/>
              <a:ext cx="1914480" cy="726840"/>
              <a:chOff x="457200" y="4572000"/>
              <a:chExt cx="1914480" cy="726840"/>
            </a:xfrm>
          </p:grpSpPr>
          <p:pic>
            <p:nvPicPr>
              <p:cNvPr id="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4572000"/>
                <a:ext cx="1914480" cy="32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4800600"/>
                <a:ext cx="1509840" cy="35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5029200"/>
                <a:ext cx="1443240" cy="26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380880" y="5410080"/>
              <a:ext cx="1914480" cy="73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2590920" y="380880"/>
            <a:ext cx="6324480" cy="6019920"/>
            <a:chOff x="2590920" y="380880"/>
            <a:chExt cx="6324480" cy="6019920"/>
          </a:xfrm>
        </p:grpSpPr>
        <p:sp>
          <p:nvSpPr>
            <p:cNvPr id="287" name=""/>
            <p:cNvSpPr/>
            <p:nvPr/>
          </p:nvSpPr>
          <p:spPr>
            <a:xfrm>
              <a:off x="2590920" y="380880"/>
              <a:ext cx="6324480" cy="601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666880" y="663480"/>
              <a:ext cx="6171840" cy="5432040"/>
              <a:chOff x="2666880" y="663480"/>
              <a:chExt cx="6171840" cy="5432040"/>
            </a:xfrm>
          </p:grpSpPr>
          <p:pic>
            <p:nvPicPr>
              <p:cNvPr id="2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6920" y="663480"/>
                <a:ext cx="6121800" cy="156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66880" y="2311560"/>
                <a:ext cx="6122160" cy="378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il Closure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71600" y="1981080"/>
            <a:ext cx="6629400" cy="3353040"/>
            <a:chOff x="1371600" y="1981080"/>
            <a:chExt cx="6629400" cy="3353040"/>
          </a:xfrm>
        </p:grpSpPr>
        <p:sp>
          <p:nvSpPr>
            <p:cNvPr id="293" name=""/>
            <p:cNvSpPr/>
            <p:nvPr/>
          </p:nvSpPr>
          <p:spPr>
            <a:xfrm>
              <a:off x="1371600" y="1981080"/>
              <a:ext cx="6629400" cy="335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523880" y="2179800"/>
              <a:ext cx="6324840" cy="30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tress Concentration in Torsion Spring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676520"/>
            <a:ext cx="678168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3880" y="1905120"/>
            <a:ext cx="6400440" cy="2855880"/>
            <a:chOff x="1523880" y="1905120"/>
            <a:chExt cx="6400440" cy="285588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523880" y="2798280"/>
              <a:ext cx="6392160" cy="19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1559520" y="1905120"/>
              <a:ext cx="6364800" cy="98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il Stresses in Torsion Spring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1523880"/>
            <a:ext cx="6629400" cy="472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752480" y="4343400"/>
            <a:ext cx="5999400" cy="1789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752480" y="1717560"/>
            <a:ext cx="58676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1371600"/>
            <a:ext cx="60199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Extension or Tension Spring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xtension springs are wound tightly with preloaded coils and provided with hooks or loops by bending out the last coil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ooks and loops are in bending, have high stress concentration and often fail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 option is to screw a threaded plug into the last several coils and apply the force to the plug to avoid the loop problem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rawbar springs avoid these problems by using a compression spring to provide a tension forc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25632" b="0"/>
          <a:stretch/>
        </p:blipFill>
        <p:spPr>
          <a:xfrm>
            <a:off x="1752480" y="1523880"/>
            <a:ext cx="5716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Material Strengths – Torsion Spring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are in the unusual situation of having data for torsional fatigue strength, and must convert it to an equivalent bending fatigue strength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1905120"/>
            <a:ext cx="6629400" cy="1676160"/>
            <a:chOff x="1219320" y="1905120"/>
            <a:chExt cx="6629400" cy="1676160"/>
          </a:xfrm>
        </p:grpSpPr>
        <p:sp>
          <p:nvSpPr>
            <p:cNvPr id="307" name=""/>
            <p:cNvSpPr/>
            <p:nvPr/>
          </p:nvSpPr>
          <p:spPr>
            <a:xfrm>
              <a:off x="1219320" y="1905120"/>
              <a:ext cx="6629400" cy="1676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1"/>
            <a:srcRect l="0" t="0" r="0" b="863"/>
            <a:stretch/>
          </p:blipFill>
          <p:spPr>
            <a:xfrm>
              <a:off x="1447920" y="1981080"/>
              <a:ext cx="61671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858000" y="2819520"/>
              <a:ext cx="609480" cy="457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219320" y="3657600"/>
            <a:ext cx="6629400" cy="2895480"/>
            <a:chOff x="1219320" y="3657600"/>
            <a:chExt cx="6629400" cy="2895480"/>
          </a:xfrm>
        </p:grpSpPr>
        <p:sp>
          <p:nvSpPr>
            <p:cNvPr id="311" name=""/>
            <p:cNvSpPr/>
            <p:nvPr/>
          </p:nvSpPr>
          <p:spPr>
            <a:xfrm>
              <a:off x="1219320" y="3657600"/>
              <a:ext cx="6629400" cy="289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371600" y="3803760"/>
              <a:ext cx="6324480" cy="2673000"/>
              <a:chOff x="1371600" y="3803760"/>
              <a:chExt cx="6324480" cy="26730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3803760"/>
                <a:ext cx="6324480" cy="13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8880" y="5045760"/>
                <a:ext cx="6245640" cy="143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afety Factors for Torsion Spring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1676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09680" y="1752480"/>
            <a:ext cx="6477120" cy="1143000"/>
            <a:chOff x="2209680" y="1752480"/>
            <a:chExt cx="6477120" cy="1143000"/>
          </a:xfrm>
        </p:grpSpPr>
        <p:sp>
          <p:nvSpPr>
            <p:cNvPr id="318" name=""/>
            <p:cNvSpPr/>
            <p:nvPr/>
          </p:nvSpPr>
          <p:spPr>
            <a:xfrm>
              <a:off x="2209680" y="1752480"/>
              <a:ext cx="647712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362320" y="1905120"/>
              <a:ext cx="599904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4937040" y="2085840"/>
              <a:ext cx="3368880" cy="70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"/>
          <p:cNvGrpSpPr/>
          <p:nvPr/>
        </p:nvGrpSpPr>
        <p:grpSpPr>
          <a:xfrm>
            <a:off x="2209680" y="3124080"/>
            <a:ext cx="6477120" cy="2971800"/>
            <a:chOff x="2209680" y="3124080"/>
            <a:chExt cx="6477120" cy="2971800"/>
          </a:xfrm>
        </p:grpSpPr>
        <p:sp>
          <p:nvSpPr>
            <p:cNvPr id="322" name=""/>
            <p:cNvSpPr/>
            <p:nvPr/>
          </p:nvSpPr>
          <p:spPr>
            <a:xfrm>
              <a:off x="2209680" y="3124080"/>
              <a:ext cx="6477120" cy="29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2286000" y="3276720"/>
              <a:ext cx="6248520" cy="2747880"/>
              <a:chOff x="2286000" y="3276720"/>
              <a:chExt cx="6248520" cy="2747880"/>
            </a:xfrm>
          </p:grpSpPr>
          <p:pic>
            <p:nvPicPr>
              <p:cNvPr id="3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3276720"/>
                <a:ext cx="6246720" cy="20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4"/>
              <a:srcRect l="0" t="0" r="2390" b="0"/>
              <a:stretch/>
            </p:blipFill>
            <p:spPr>
              <a:xfrm>
                <a:off x="2308320" y="5167440"/>
                <a:ext cx="6226200" cy="85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Belleville Spring Washe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66680" y="1981080"/>
            <a:ext cx="4419720" cy="3276360"/>
            <a:chOff x="1066680" y="1981080"/>
            <a:chExt cx="4419720" cy="3276360"/>
          </a:xfrm>
        </p:grpSpPr>
        <p:sp>
          <p:nvSpPr>
            <p:cNvPr id="328" name=""/>
            <p:cNvSpPr/>
            <p:nvPr/>
          </p:nvSpPr>
          <p:spPr>
            <a:xfrm>
              <a:off x="1066680" y="1981080"/>
              <a:ext cx="4419720" cy="327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218960" y="2133360"/>
              <a:ext cx="4110120" cy="302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6172200" y="1828800"/>
            <a:ext cx="1981080" cy="3733920"/>
            <a:chOff x="6172200" y="1828800"/>
            <a:chExt cx="1981080" cy="3733920"/>
          </a:xfrm>
        </p:grpSpPr>
        <p:sp>
          <p:nvSpPr>
            <p:cNvPr id="331" name=""/>
            <p:cNvSpPr/>
            <p:nvPr/>
          </p:nvSpPr>
          <p:spPr>
            <a:xfrm>
              <a:off x="6172200" y="1828800"/>
              <a:ext cx="1981080" cy="373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6248160" y="1905120"/>
              <a:ext cx="177984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elleville Force-Deflection Function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38080" y="1905120"/>
            <a:ext cx="1981080" cy="3733560"/>
            <a:chOff x="838080" y="1905120"/>
            <a:chExt cx="1981080" cy="3733560"/>
          </a:xfrm>
        </p:grpSpPr>
        <p:sp>
          <p:nvSpPr>
            <p:cNvPr id="335" name=""/>
            <p:cNvSpPr/>
            <p:nvPr/>
          </p:nvSpPr>
          <p:spPr>
            <a:xfrm>
              <a:off x="838080" y="1905120"/>
              <a:ext cx="198108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914040" y="1981080"/>
              <a:ext cx="1779840" cy="354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"/>
          <p:cNvSpPr/>
          <p:nvPr/>
        </p:nvSpPr>
        <p:spPr>
          <a:xfrm>
            <a:off x="3200400" y="1905120"/>
            <a:ext cx="5257800" cy="373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716360" cy="241308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3505320" y="2057400"/>
            <a:ext cx="3197160" cy="676440"/>
            <a:chOff x="3505320" y="2057400"/>
            <a:chExt cx="3197160" cy="67644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3505320" y="2057400"/>
              <a:ext cx="31971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3581640" y="2286000"/>
              <a:ext cx="259056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3733920" y="2514600"/>
              <a:ext cx="1644480" cy="2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3505320" y="2438640"/>
              <a:ext cx="2620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Belleville Force-Deflection Curve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33520" y="2362320"/>
            <a:ext cx="1981080" cy="3733560"/>
            <a:chOff x="533520" y="2362320"/>
            <a:chExt cx="1981080" cy="3733560"/>
          </a:xfrm>
        </p:grpSpPr>
        <p:sp>
          <p:nvSpPr>
            <p:cNvPr id="346" name=""/>
            <p:cNvSpPr/>
            <p:nvPr/>
          </p:nvSpPr>
          <p:spPr>
            <a:xfrm>
              <a:off x="533520" y="2362320"/>
              <a:ext cx="198108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609480" y="2438280"/>
              <a:ext cx="1779840" cy="35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"/>
          <p:cNvGrpSpPr/>
          <p:nvPr/>
        </p:nvGrpSpPr>
        <p:grpSpPr>
          <a:xfrm>
            <a:off x="2666880" y="2362320"/>
            <a:ext cx="5943600" cy="3733560"/>
            <a:chOff x="2666880" y="2362320"/>
            <a:chExt cx="5943600" cy="3733560"/>
          </a:xfrm>
        </p:grpSpPr>
        <p:sp>
          <p:nvSpPr>
            <p:cNvPr id="349" name=""/>
            <p:cNvSpPr/>
            <p:nvPr/>
          </p:nvSpPr>
          <p:spPr>
            <a:xfrm>
              <a:off x="2666880" y="2362320"/>
              <a:ext cx="594360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2"/>
            <a:stretch/>
          </p:blipFill>
          <p:spPr>
            <a:xfrm>
              <a:off x="2743200" y="2666880"/>
              <a:ext cx="5729400" cy="30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4038480" y="1447920"/>
            <a:ext cx="3276720" cy="761760"/>
            <a:chOff x="4038480" y="1447920"/>
            <a:chExt cx="3276720" cy="761760"/>
          </a:xfrm>
        </p:grpSpPr>
        <p:sp>
          <p:nvSpPr>
            <p:cNvPr id="352" name=""/>
            <p:cNvSpPr/>
            <p:nvPr/>
          </p:nvSpPr>
          <p:spPr>
            <a:xfrm>
              <a:off x="4038480" y="1447920"/>
              <a:ext cx="3276720" cy="76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4191120" y="1523880"/>
              <a:ext cx="2962080" cy="6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Mounting Details to Allow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Over-Center Operation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1905120"/>
            <a:ext cx="5105160" cy="419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1949400" cy="37130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1746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05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Percent Error in Force Around Center Position of a Constant Force Belleville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2209680"/>
            <a:ext cx="6095880" cy="388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913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tress in Belleville Washe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1219320"/>
            <a:ext cx="6858000" cy="533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19320"/>
            <a:ext cx="1828800" cy="533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362320" y="2971800"/>
            <a:ext cx="3197160" cy="2286000"/>
            <a:chOff x="2362320" y="2971800"/>
            <a:chExt cx="3197160" cy="2286000"/>
          </a:xfrm>
        </p:grpSpPr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2362320" y="2971800"/>
              <a:ext cx="31971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362320" y="2971800"/>
              <a:ext cx="3047760" cy="2286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62720" y="2971800"/>
            <a:ext cx="3341520" cy="3124080"/>
            <a:chOff x="5562720" y="2971800"/>
            <a:chExt cx="3341520" cy="312408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639040" y="3428640"/>
              <a:ext cx="326520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562720" y="2971800"/>
              <a:ext cx="3276720" cy="3124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715000" y="3047760"/>
              <a:ext cx="598680" cy="23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"/>
          <p:cNvGrpSpPr/>
          <p:nvPr/>
        </p:nvGrpSpPr>
        <p:grpSpPr>
          <a:xfrm>
            <a:off x="2362320" y="1600200"/>
            <a:ext cx="6476760" cy="1143000"/>
            <a:chOff x="2362320" y="1600200"/>
            <a:chExt cx="6476760" cy="1143000"/>
          </a:xfrm>
        </p:grpSpPr>
        <p:pic>
          <p:nvPicPr>
            <p:cNvPr id="372" name="" descr=""/>
            <p:cNvPicPr/>
            <p:nvPr/>
          </p:nvPicPr>
          <p:blipFill>
            <a:blip r:embed="rId4"/>
            <a:stretch/>
          </p:blipFill>
          <p:spPr>
            <a:xfrm>
              <a:off x="2590560" y="1600200"/>
              <a:ext cx="6067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362320" y="1600200"/>
              <a:ext cx="6476760" cy="1143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8600" y="1600200"/>
            <a:ext cx="1662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tacking Belleville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6096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levilles have small deflections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n stack in series to increase y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f stack in parallel, forces add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re stiff springs so give high loads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ten used as die springs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ckage very compactly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3200400"/>
            <a:ext cx="7391520" cy="31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611360" cy="2025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1644840" cy="24969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477120" y="3352680"/>
            <a:ext cx="1644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y Examples 14-5, 14-6, and 14-7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Helical Extension Spring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" y="1219320"/>
            <a:ext cx="2666880" cy="5105160"/>
            <a:chOff x="457200" y="1219320"/>
            <a:chExt cx="2666880" cy="5105160"/>
          </a:xfrm>
        </p:grpSpPr>
        <p:sp>
          <p:nvSpPr>
            <p:cNvPr id="149" name=""/>
            <p:cNvSpPr/>
            <p:nvPr/>
          </p:nvSpPr>
          <p:spPr>
            <a:xfrm>
              <a:off x="457200" y="1219320"/>
              <a:ext cx="2666880" cy="510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2359080" cy="42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3352680" y="1219320"/>
            <a:ext cx="2743200" cy="5105160"/>
            <a:chOff x="3352680" y="1219320"/>
            <a:chExt cx="2743200" cy="5105160"/>
          </a:xfrm>
        </p:grpSpPr>
        <p:sp>
          <p:nvSpPr>
            <p:cNvPr id="152" name=""/>
            <p:cNvSpPr/>
            <p:nvPr/>
          </p:nvSpPr>
          <p:spPr>
            <a:xfrm>
              <a:off x="3352680" y="1219320"/>
              <a:ext cx="2743200" cy="510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886200" y="1447920"/>
              <a:ext cx="1644480" cy="46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6248520" y="1219320"/>
            <a:ext cx="2514600" cy="5105160"/>
            <a:chOff x="6248520" y="1219320"/>
            <a:chExt cx="2514600" cy="5105160"/>
          </a:xfrm>
        </p:grpSpPr>
        <p:sp>
          <p:nvSpPr>
            <p:cNvPr id="155" name=""/>
            <p:cNvSpPr/>
            <p:nvPr/>
          </p:nvSpPr>
          <p:spPr>
            <a:xfrm>
              <a:off x="6248520" y="1219320"/>
              <a:ext cx="2514600" cy="510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629400" y="1371600"/>
              <a:ext cx="167940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6477120" y="2286000"/>
              <a:ext cx="1927080" cy="37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2362320"/>
            <a:ext cx="60958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609588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pring Index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086" t="0" r="6017" b="0"/>
          <a:stretch/>
        </p:blipFill>
        <p:spPr>
          <a:xfrm>
            <a:off x="2133720" y="2514600"/>
            <a:ext cx="5029200" cy="3720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2480" y="1279440"/>
            <a:ext cx="586764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flection and Spring Rat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1295280"/>
            <a:ext cx="5105520" cy="472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1509480" cy="2779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809880" y="3352680"/>
            <a:ext cx="1982520" cy="1219320"/>
            <a:chOff x="3809880" y="3352680"/>
            <a:chExt cx="1982520" cy="12193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3809880" y="3352680"/>
              <a:ext cx="184788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809880" y="3606840"/>
              <a:ext cx="1712880" cy="20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3809880" y="3809880"/>
              <a:ext cx="1276200" cy="269640"/>
              <a:chOff x="3809880" y="3809880"/>
              <a:chExt cx="1276200" cy="269640"/>
            </a:xfrm>
          </p:grpSpPr>
          <p:pic>
            <p:nvPicPr>
              <p:cNvPr id="1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9880" y="3809880"/>
                <a:ext cx="69984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9360" y="3852720"/>
                <a:ext cx="666720" cy="1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3809880" y="4038480"/>
              <a:ext cx="19825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7"/>
            <a:srcRect l="0" t="0" r="39794" b="-49911"/>
            <a:stretch/>
          </p:blipFill>
          <p:spPr>
            <a:xfrm>
              <a:off x="3809880" y="4267080"/>
              <a:ext cx="16002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6477120" y="1752480"/>
            <a:ext cx="1038240" cy="363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733920" y="2209680"/>
            <a:ext cx="1814400" cy="66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1295280"/>
            <a:ext cx="2210040" cy="472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066680" y="1303200"/>
            <a:ext cx="1644840" cy="464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6324480" y="2133720"/>
            <a:ext cx="1679760" cy="691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rcRect l="0" t="0" r="0" b="30698"/>
          <a:stretch/>
        </p:blipFill>
        <p:spPr>
          <a:xfrm>
            <a:off x="6095880" y="2971800"/>
            <a:ext cx="2016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038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tress in Extension Spring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676520"/>
            <a:ext cx="4191120" cy="487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914480" cy="4219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1847880" cy="4243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152280"/>
            <a:ext cx="4191120" cy="640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76920" y="304920"/>
            <a:ext cx="3891960" cy="1442520"/>
            <a:chOff x="4876920" y="304920"/>
            <a:chExt cx="3891960" cy="144252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5105520" y="533160"/>
              <a:ext cx="319716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4876920" y="304920"/>
              <a:ext cx="3891960" cy="218880"/>
              <a:chOff x="4876920" y="304920"/>
              <a:chExt cx="3891960" cy="218880"/>
            </a:xfrm>
          </p:grpSpPr>
          <p:pic>
            <p:nvPicPr>
              <p:cNvPr id="18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8680" y="304920"/>
                <a:ext cx="313020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304920"/>
                <a:ext cx="76788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6858000" y="1143000"/>
            <a:ext cx="1981080" cy="762120"/>
            <a:chOff x="6858000" y="1143000"/>
            <a:chExt cx="1981080" cy="762120"/>
          </a:xfrm>
        </p:grpSpPr>
        <p:grpSp>
          <p:nvGrpSpPr>
            <p:cNvPr id="191" name=""/>
            <p:cNvGrpSpPr/>
            <p:nvPr/>
          </p:nvGrpSpPr>
          <p:grpSpPr>
            <a:xfrm>
              <a:off x="6934320" y="1143000"/>
              <a:ext cx="1847880" cy="726840"/>
              <a:chOff x="6934320" y="1143000"/>
              <a:chExt cx="1847880" cy="7268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34320" y="1143000"/>
                <a:ext cx="184788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1396800"/>
                <a:ext cx="1712880" cy="20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4" name=""/>
              <p:cNvGrpSpPr/>
              <p:nvPr/>
            </p:nvGrpSpPr>
            <p:grpSpPr>
              <a:xfrm>
                <a:off x="6934320" y="1600200"/>
                <a:ext cx="1276200" cy="269640"/>
                <a:chOff x="6934320" y="1600200"/>
                <a:chExt cx="1276200" cy="269640"/>
              </a:xfrm>
            </p:grpSpPr>
            <p:pic>
              <p:nvPicPr>
                <p:cNvPr id="1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34320" y="1600200"/>
                  <a:ext cx="69984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43800" y="1643040"/>
                  <a:ext cx="66672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7" name=""/>
            <p:cNvSpPr/>
            <p:nvPr/>
          </p:nvSpPr>
          <p:spPr>
            <a:xfrm>
              <a:off x="6858000" y="1143000"/>
              <a:ext cx="1981080" cy="762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76920" y="1828800"/>
            <a:ext cx="1858680" cy="533520"/>
            <a:chOff x="4876920" y="1828800"/>
            <a:chExt cx="1858680" cy="533520"/>
          </a:xfrm>
        </p:grpSpPr>
        <p:grpSp>
          <p:nvGrpSpPr>
            <p:cNvPr id="199" name=""/>
            <p:cNvGrpSpPr/>
            <p:nvPr/>
          </p:nvGrpSpPr>
          <p:grpSpPr>
            <a:xfrm>
              <a:off x="4952880" y="1828800"/>
              <a:ext cx="1782720" cy="488880"/>
              <a:chOff x="4952880" y="1828800"/>
              <a:chExt cx="1782720" cy="4888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52880" y="1904760"/>
                <a:ext cx="903240" cy="29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67280" y="1828800"/>
                <a:ext cx="86832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"/>
            <p:cNvSpPr/>
            <p:nvPr/>
          </p:nvSpPr>
          <p:spPr>
            <a:xfrm>
              <a:off x="4876920" y="1828800"/>
              <a:ext cx="175248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920" y="2438280"/>
            <a:ext cx="3352680" cy="1371600"/>
            <a:chOff x="4876920" y="2438280"/>
            <a:chExt cx="3352680" cy="1371600"/>
          </a:xfrm>
        </p:grpSpPr>
        <p:grpSp>
          <p:nvGrpSpPr>
            <p:cNvPr id="204" name=""/>
            <p:cNvGrpSpPr/>
            <p:nvPr/>
          </p:nvGrpSpPr>
          <p:grpSpPr>
            <a:xfrm>
              <a:off x="4952880" y="2438280"/>
              <a:ext cx="1724040" cy="277920"/>
              <a:chOff x="4952880" y="2438280"/>
              <a:chExt cx="1724040" cy="27792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952880" y="2438280"/>
                <a:ext cx="666720" cy="27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38680" y="2438280"/>
                <a:ext cx="1038240" cy="23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7" name="" descr=""/>
            <p:cNvPicPr/>
            <p:nvPr/>
          </p:nvPicPr>
          <p:blipFill>
            <a:blip r:embed="rId14"/>
            <a:stretch/>
          </p:blipFill>
          <p:spPr>
            <a:xfrm>
              <a:off x="5410080" y="2743200"/>
              <a:ext cx="2792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876920" y="2438280"/>
              <a:ext cx="3352680" cy="1371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76920" y="3886200"/>
            <a:ext cx="3855960" cy="743040"/>
            <a:chOff x="4876920" y="3886200"/>
            <a:chExt cx="3855960" cy="743040"/>
          </a:xfrm>
        </p:grpSpPr>
        <p:grpSp>
          <p:nvGrpSpPr>
            <p:cNvPr id="210" name=""/>
            <p:cNvGrpSpPr/>
            <p:nvPr/>
          </p:nvGrpSpPr>
          <p:grpSpPr>
            <a:xfrm>
              <a:off x="4876920" y="3886200"/>
              <a:ext cx="3849480" cy="203040"/>
              <a:chOff x="4876920" y="3886200"/>
              <a:chExt cx="3849480" cy="203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876920" y="3886200"/>
                <a:ext cx="174600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629400" y="3886200"/>
                <a:ext cx="137484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24680" y="3886200"/>
                <a:ext cx="80172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5029200" y="4191120"/>
              <a:ext cx="37036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7543800" y="50292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952880" y="4800600"/>
            <a:ext cx="3670560" cy="674640"/>
            <a:chOff x="4952880" y="4800600"/>
            <a:chExt cx="3670560" cy="674640"/>
          </a:xfrm>
        </p:grpSpPr>
        <p:pic>
          <p:nvPicPr>
            <p:cNvPr id="217" name="" descr=""/>
            <p:cNvPicPr/>
            <p:nvPr/>
          </p:nvPicPr>
          <p:blipFill>
            <a:blip r:embed="rId19"/>
            <a:stretch/>
          </p:blipFill>
          <p:spPr>
            <a:xfrm>
              <a:off x="4952880" y="4800600"/>
              <a:ext cx="367056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0"/>
            <a:srcRect l="0" t="0" r="22294" b="-20626"/>
            <a:stretch/>
          </p:blipFill>
          <p:spPr>
            <a:xfrm>
              <a:off x="4952880" y="5105520"/>
              <a:ext cx="9907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1"/>
            <a:stretch/>
          </p:blipFill>
          <p:spPr>
            <a:xfrm>
              <a:off x="6019920" y="4952880"/>
              <a:ext cx="1814400" cy="5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7010280" y="5638680"/>
            <a:ext cx="1600200" cy="685800"/>
            <a:chOff x="7010280" y="5638680"/>
            <a:chExt cx="1600200" cy="685800"/>
          </a:xfrm>
        </p:grpSpPr>
        <p:sp>
          <p:nvSpPr>
            <p:cNvPr id="221" name=""/>
            <p:cNvSpPr/>
            <p:nvPr/>
          </p:nvSpPr>
          <p:spPr>
            <a:xfrm>
              <a:off x="7010280" y="5638680"/>
              <a:ext cx="1600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2"/>
            <a:stretch/>
          </p:blipFill>
          <p:spPr>
            <a:xfrm>
              <a:off x="7086240" y="5715000"/>
              <a:ext cx="134172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4952880" y="5562720"/>
            <a:ext cx="1258920" cy="793800"/>
            <a:chOff x="4952880" y="5562720"/>
            <a:chExt cx="1258920" cy="793800"/>
          </a:xfrm>
        </p:grpSpPr>
        <p:pic>
          <p:nvPicPr>
            <p:cNvPr id="224" name="" descr=""/>
            <p:cNvPicPr/>
            <p:nvPr/>
          </p:nvPicPr>
          <p:blipFill>
            <a:blip r:embed="rId23"/>
            <a:stretch/>
          </p:blipFill>
          <p:spPr>
            <a:xfrm>
              <a:off x="5410080" y="5791320"/>
              <a:ext cx="801720" cy="56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952880" y="5562720"/>
              <a:ext cx="1149480" cy="193680"/>
              <a:chOff x="4952880" y="5562720"/>
              <a:chExt cx="1149480" cy="193680"/>
            </a:xfrm>
          </p:grpSpPr>
          <p:pic>
            <p:nvPicPr>
              <p:cNvPr id="22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52880" y="5562720"/>
                <a:ext cx="70020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8680" y="5562720"/>
                <a:ext cx="46368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8" name=""/>
          <p:cNvSpPr/>
          <p:nvPr/>
        </p:nvSpPr>
        <p:spPr>
          <a:xfrm>
            <a:off x="5715000" y="1371600"/>
            <a:ext cx="53352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1371600"/>
            <a:ext cx="53316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2895480"/>
            <a:ext cx="53316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895480"/>
            <a:ext cx="53352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3200400"/>
            <a:ext cx="304920" cy="457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200400"/>
            <a:ext cx="304920" cy="457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1447920"/>
            <a:ext cx="6248520" cy="464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447920"/>
            <a:ext cx="2286000" cy="464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tresses in Hooks and Loop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82880" cy="43275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2819520" y="1752480"/>
            <a:ext cx="5943600" cy="4000680"/>
            <a:chOff x="2819520" y="1752480"/>
            <a:chExt cx="5943600" cy="400068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2819520" y="1752480"/>
              <a:ext cx="5919840" cy="17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2819520" y="3581280"/>
              <a:ext cx="5943600" cy="217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447920"/>
            <a:ext cx="2286000" cy="464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tresses in Hooks and Loop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82880" cy="43275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666880" y="1447920"/>
            <a:ext cx="6248520" cy="4647960"/>
            <a:chOff x="2666880" y="1447920"/>
            <a:chExt cx="6248520" cy="4647960"/>
          </a:xfrm>
        </p:grpSpPr>
        <p:sp>
          <p:nvSpPr>
            <p:cNvPr id="245" name=""/>
            <p:cNvSpPr/>
            <p:nvPr/>
          </p:nvSpPr>
          <p:spPr>
            <a:xfrm>
              <a:off x="2666880" y="1447920"/>
              <a:ext cx="6248520" cy="464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01000" y="1523880"/>
              <a:ext cx="6858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819520" y="2514600"/>
              <a:ext cx="586728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229600" y="4419720"/>
              <a:ext cx="22860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pring Surge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ynamic excitation near the spring’s natural frequency will cause violent surging and failur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urge frequency is calculated the same way as for helical compression spring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95280" y="3733920"/>
            <a:ext cx="6400800" cy="1523880"/>
            <a:chOff x="1295280" y="3733920"/>
            <a:chExt cx="6400800" cy="1523880"/>
          </a:xfrm>
        </p:grpSpPr>
        <p:sp>
          <p:nvSpPr>
            <p:cNvPr id="252" name=""/>
            <p:cNvSpPr/>
            <p:nvPr/>
          </p:nvSpPr>
          <p:spPr>
            <a:xfrm>
              <a:off x="1295280" y="3733920"/>
              <a:ext cx="6400800" cy="1523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447920" y="3962520"/>
              <a:ext cx="617220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6:11:48Z</dcterms:created>
  <dc:creator>R. L. Norton</dc:creator>
  <dc:description/>
  <dc:language>en-US</dc:language>
  <cp:lastModifiedBy>Robert L. Norton</cp:lastModifiedBy>
  <dcterms:modified xsi:type="dcterms:W3CDTF">2010-12-31T19:24:02Z</dcterms:modified>
  <cp:revision>50</cp:revision>
  <dc:subject/>
  <dc:title>Spring Design I</dc:title>
</cp:coreProperties>
</file>