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1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50.wmf" ContentType="image/x-wmf"/>
  <Override PartName="/ppt/media/image47.png" ContentType="image/png"/>
  <Override PartName="/ppt/media/image46.wmf" ContentType="image/x-wmf"/>
  <Override PartName="/ppt/media/image45.png" ContentType="image/png"/>
  <Override PartName="/ppt/media/image44.wmf" ContentType="image/x-wmf"/>
  <Override PartName="/ppt/media/image3.png" ContentType="image/png"/>
  <Override PartName="/ppt/media/image26.png" ContentType="image/png"/>
  <Override PartName="/ppt/media/image66.wmf" ContentType="image/x-wmf"/>
  <Override PartName="/ppt/media/image28.wmf" ContentType="image/x-wmf"/>
  <Override PartName="/ppt/media/image30.png" ContentType="image/png"/>
  <Override PartName="/ppt/media/image25.wmf" ContentType="image/x-wmf"/>
  <Override PartName="/ppt/media/image29.png" ContentType="image/png"/>
  <Override PartName="/ppt/media/image69.wmf" ContentType="image/x-wmf"/>
  <Override PartName="/ppt/media/image2.wmf" ContentType="image/x-wmf"/>
  <Override PartName="/ppt/media/image14.wmf" ContentType="image/x-wmf"/>
  <Override PartName="/ppt/media/image17.png" ContentType="image/png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16.wmf" ContentType="image/x-wmf"/>
  <Override PartName="/ppt/media/image70.png" ContentType="image/png"/>
  <Override PartName="/ppt/media/image6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3.wmf" ContentType="image/x-wmf"/>
  <Override PartName="/ppt/media/image62.png" ContentType="image/png"/>
  <Override PartName="/ppt/media/image23.wmf" ContentType="image/x-wmf"/>
  <Override PartName="/ppt/media/image64.wmf" ContentType="image/x-wmf"/>
  <Override PartName="/ppt/media/image27.wmf" ContentType="image/x-wmf"/>
  <Override PartName="/ppt/media/image67.png" ContentType="image/png"/>
  <Override PartName="/ppt/media/image2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48.png" ContentType="image/png"/>
  <Override PartName="/ppt/media/image18.wmf" ContentType="image/x-wmf"/>
  <Override PartName="/ppt/media/image6.wmf" ContentType="image/x-wmf"/>
  <Override PartName="/ppt/media/image36.wmf" ContentType="image/x-wmf"/>
  <Override PartName="/ppt/media/image15.wmf" ContentType="image/x-wmf"/>
  <Override PartName="/ppt/media/image54.png" ContentType="image/png"/>
  <Override PartName="/ppt/media/image40.wmf" ContentType="image/x-wmf"/>
  <Override PartName="/ppt/media/image8.wmf" ContentType="image/x-wmf"/>
  <Override PartName="/ppt/media/image9.wmf" ContentType="image/x-wmf"/>
  <Override PartName="/ppt/media/image39.wmf" ContentType="image/x-wmf"/>
  <Override PartName="/ppt/media/image4.png" ContentType="image/png"/>
  <Override PartName="/ppt/media/image3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31.png" ContentType="image/png"/>
  <Override PartName="/ppt/media/image32.png" ContentType="image/png"/>
  <Override PartName="/ppt/media/image33.wmf" ContentType="image/x-wmf"/>
  <Override PartName="/ppt/media/image35.png" ContentType="image/png"/>
  <Override PartName="/ppt/media/image37.wmf" ContentType="image/x-wmf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BF2-ADB0-46D0-BDF8-22F6C03F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A74-1668-41A6-B4AC-CB1EEFE1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C9D-69F8-4C67-A626-ABDFC222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A39-8E3E-4CF7-BE88-2F6160E6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5FA0D-19F5-45BD-A580-15B7A7A7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21E28-85F3-4C81-8E08-6130D043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F8CB-242B-46FA-B062-3992E80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20569-D771-4069-8645-1F36971E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C276A-F872-4671-A5A2-1A5918C0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13C93-F2C0-43B7-8497-BC7E88FE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07838-B600-41FB-B70F-DD347E80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36C-5583-4E35-836B-E2759FB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E6DB4-73A9-4903-B90E-DADC296B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9E32A-BA20-4B18-8670-6942F06F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C3FB5-607D-425B-AE42-102B374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CA2A5-4D58-4928-8B05-574FCD8E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BF738-E384-4E4B-BB68-17BF64DF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2C77-8220-4086-94DB-F5992B46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FE0E-BE69-4252-92ED-0A82702C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F577-2FBD-400B-A7FD-EE0CFC63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68C5-00FC-4FDB-8FC1-B2422BF2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B199-E0F7-456E-8CE9-C999A4F4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E54-69B1-4FAE-A374-69B0B95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3232-0C8E-42D8-BF23-99937BE0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8321-1A75-4DC8-A92F-42A5AE55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5880-4038-4ED9-A314-46AF76C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3D41-67AE-4444-A0AD-5C85EC03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B176-0D9A-4DFC-8F1E-8FAA418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66624-A399-42B3-AFD2-A976D362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DE6A-6AE2-4FEE-A691-2CB7DDA4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165-C0BD-40AF-B648-32EEB832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55E-A661-407B-82F7-EA37DA98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B3F-67CE-4781-99B6-2FCD42EB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B0A-61FD-4506-815D-705B411D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75F-87DE-4F57-B24E-BBFCA4B6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1CA-0C74-4FAE-A987-CBDA676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22A0-AA4D-47AA-956A-D03FAEEF6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1AD4-46EF-47E1-83EA-A445C15118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2A5A-EE98-4F9A-AC13-D03D2B0011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58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png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32.png"/><Relationship Id="rId11" Type="http://schemas.openxmlformats.org/officeDocument/2006/relationships/image" Target="../media/image33.wmf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png"/><Relationship Id="rId17" Type="http://schemas.openxmlformats.org/officeDocument/2006/relationships/image" Target="../media/image39.wmf"/><Relationship Id="rId18" Type="http://schemas.openxmlformats.org/officeDocument/2006/relationships/image" Target="../media/image40.wmf"/><Relationship Id="rId19" Type="http://schemas.openxmlformats.org/officeDocument/2006/relationships/image" Target="../media/image41.wmf"/><Relationship Id="rId20" Type="http://schemas.openxmlformats.org/officeDocument/2006/relationships/image" Target="../media/image42.wmf"/><Relationship Id="rId21" Type="http://schemas.openxmlformats.org/officeDocument/2006/relationships/image" Target="../media/image43.wmf"/><Relationship Id="rId22" Type="http://schemas.openxmlformats.org/officeDocument/2006/relationships/image" Target="../media/image44.wmf"/><Relationship Id="rId23" Type="http://schemas.openxmlformats.org/officeDocument/2006/relationships/image" Target="../media/image45.png"/><Relationship Id="rId24" Type="http://schemas.openxmlformats.org/officeDocument/2006/relationships/image" Target="../media/image46.wmf"/><Relationship Id="rId25" Type="http://schemas.openxmlformats.org/officeDocument/2006/relationships/image" Target="../media/image47.png"/><Relationship Id="rId2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pring Design 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ervice Loading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il springs should not be subjected to reversed loading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ven if unset, the coils will have residual stress from the winding process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versing their designed load pattern will cause premature failure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s                                   not this: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05120" y="4343400"/>
            <a:ext cx="2666880" cy="2133360"/>
            <a:chOff x="1905120" y="4343400"/>
            <a:chExt cx="2666880" cy="2133360"/>
          </a:xfrm>
        </p:grpSpPr>
        <p:sp>
          <p:nvSpPr>
            <p:cNvPr id="247" name=""/>
            <p:cNvSpPr/>
            <p:nvPr/>
          </p:nvSpPr>
          <p:spPr>
            <a:xfrm>
              <a:off x="1905120" y="4343400"/>
              <a:ext cx="2666880" cy="21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981080" y="4419360"/>
              <a:ext cx="2476800" cy="20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6248520" y="4343400"/>
            <a:ext cx="2666880" cy="2133360"/>
            <a:chOff x="6248520" y="4343400"/>
            <a:chExt cx="2666880" cy="2133360"/>
          </a:xfrm>
        </p:grpSpPr>
        <p:sp>
          <p:nvSpPr>
            <p:cNvPr id="250" name=""/>
            <p:cNvSpPr/>
            <p:nvPr/>
          </p:nvSpPr>
          <p:spPr>
            <a:xfrm>
              <a:off x="6248520" y="4343400"/>
              <a:ext cx="2666880" cy="21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400800" y="4419360"/>
              <a:ext cx="2362320" cy="193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743200" y="2819520"/>
            <a:ext cx="5715000" cy="3504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04920"/>
            <a:ext cx="1981080" cy="601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Buckling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 coil spring in compression acts like a column and can buckle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nd conditions contribute as in columns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611360" cy="2801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1544760" cy="2751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048120" y="3048120"/>
            <a:ext cx="52560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pring Surge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ynamic excitation near the spring’s natural frequency will cause violent surging and failur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438280" y="2743200"/>
            <a:ext cx="4191120" cy="2590560"/>
            <a:chOff x="2438280" y="2743200"/>
            <a:chExt cx="4191120" cy="2590560"/>
          </a:xfrm>
        </p:grpSpPr>
        <p:sp>
          <p:nvSpPr>
            <p:cNvPr id="262" name=""/>
            <p:cNvSpPr/>
            <p:nvPr/>
          </p:nvSpPr>
          <p:spPr>
            <a:xfrm>
              <a:off x="2438280" y="2743200"/>
              <a:ext cx="4191120" cy="25905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71800" y="3352680"/>
              <a:ext cx="32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Rounded MT Bold"/>
                </a:rPr>
                <a:t>Video of Spring Sur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5800" y="1066680"/>
            <a:ext cx="8077320" cy="5486400"/>
            <a:chOff x="685800" y="1066680"/>
            <a:chExt cx="8077320" cy="5486400"/>
          </a:xfrm>
        </p:grpSpPr>
        <p:grpSp>
          <p:nvGrpSpPr>
            <p:cNvPr id="265" name=""/>
            <p:cNvGrpSpPr/>
            <p:nvPr/>
          </p:nvGrpSpPr>
          <p:grpSpPr>
            <a:xfrm>
              <a:off x="685800" y="1066680"/>
              <a:ext cx="7696080" cy="5486400"/>
              <a:chOff x="685800" y="1066680"/>
              <a:chExt cx="7696080" cy="5486400"/>
            </a:xfrm>
          </p:grpSpPr>
          <p:sp>
            <p:nvSpPr>
              <p:cNvPr id="266" name=""/>
              <p:cNvSpPr/>
              <p:nvPr/>
            </p:nvSpPr>
            <p:spPr>
              <a:xfrm>
                <a:off x="685800" y="1066680"/>
                <a:ext cx="7696080" cy="5486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1295280" y="1219320"/>
                <a:ext cx="6324840" cy="5162040"/>
                <a:chOff x="1295280" y="1219320"/>
                <a:chExt cx="6324840" cy="5162040"/>
              </a:xfrm>
            </p:grpSpPr>
            <p:pic>
              <p:nvPicPr>
                <p:cNvPr id="26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1219320"/>
                  <a:ext cx="6324840" cy="3609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46040" y="4943160"/>
                  <a:ext cx="6168240" cy="1438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0" name=""/>
            <p:cNvSpPr/>
            <p:nvPr/>
          </p:nvSpPr>
          <p:spPr>
            <a:xfrm>
              <a:off x="6705720" y="457200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Comic Sans MS"/>
                </a:rPr>
                <a:t>Note typo corr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400440" y="47242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1981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pring Materials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514600" y="228600"/>
            <a:ext cx="6477120" cy="6400800"/>
            <a:chOff x="2514600" y="228600"/>
            <a:chExt cx="6477120" cy="6400800"/>
          </a:xfrm>
        </p:grpSpPr>
        <p:sp>
          <p:nvSpPr>
            <p:cNvPr id="274" name=""/>
            <p:cNvSpPr/>
            <p:nvPr/>
          </p:nvSpPr>
          <p:spPr>
            <a:xfrm>
              <a:off x="2514600" y="228600"/>
              <a:ext cx="6477120" cy="640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2743200" y="304920"/>
              <a:ext cx="6013440" cy="624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nimum Tensile Strength of Spring Wir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8080" y="1371600"/>
            <a:ext cx="7696440" cy="5029200"/>
            <a:chOff x="838080" y="1371600"/>
            <a:chExt cx="7696440" cy="5029200"/>
          </a:xfrm>
        </p:grpSpPr>
        <p:sp>
          <p:nvSpPr>
            <p:cNvPr id="278" name=""/>
            <p:cNvSpPr/>
            <p:nvPr/>
          </p:nvSpPr>
          <p:spPr>
            <a:xfrm>
              <a:off x="838080" y="1371600"/>
              <a:ext cx="7696440" cy="502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7543800" cy="459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676520" y="1447920"/>
            <a:ext cx="609588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nimum Tensile Strength of Spring Wir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4038840" cy="22798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943600" y="2133720"/>
            <a:ext cx="16765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rcRect l="13615" t="11597" r="13808" b="7495"/>
          <a:stretch/>
        </p:blipFill>
        <p:spPr>
          <a:xfrm>
            <a:off x="6172200" y="266688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19920" y="2286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tted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828800" y="3886200"/>
            <a:ext cx="57913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447920"/>
            <a:ext cx="822960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nimum Strengths of Spring Wir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6809040" cy="3645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705720" y="1523880"/>
            <a:ext cx="16761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rcRect l="13615" t="11597" r="13808" b="7495"/>
          <a:stretch/>
        </p:blipFill>
        <p:spPr>
          <a:xfrm>
            <a:off x="6934320" y="1828800"/>
            <a:ext cx="1218960" cy="533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781680" y="1523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tted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086600" y="2286000"/>
            <a:ext cx="103824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Torsional Static Yield Strength of Spring Wir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14400" y="1905120"/>
            <a:ext cx="7467480" cy="3504960"/>
            <a:chOff x="914400" y="1905120"/>
            <a:chExt cx="7467480" cy="3504960"/>
          </a:xfrm>
        </p:grpSpPr>
        <p:sp>
          <p:nvSpPr>
            <p:cNvPr id="296" name=""/>
            <p:cNvSpPr/>
            <p:nvPr/>
          </p:nvSpPr>
          <p:spPr>
            <a:xfrm>
              <a:off x="914400" y="1905120"/>
              <a:ext cx="7467480" cy="3504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990720" y="2133720"/>
              <a:ext cx="716256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Torsional Fatigue Strength of Spring Wir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62120" y="1981080"/>
            <a:ext cx="7543800" cy="3200400"/>
            <a:chOff x="762120" y="1981080"/>
            <a:chExt cx="7543800" cy="3200400"/>
          </a:xfrm>
        </p:grpSpPr>
        <p:sp>
          <p:nvSpPr>
            <p:cNvPr id="300" name=""/>
            <p:cNvSpPr/>
            <p:nvPr/>
          </p:nvSpPr>
          <p:spPr>
            <a:xfrm>
              <a:off x="762120" y="1981080"/>
              <a:ext cx="7543800" cy="3200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990720" y="2209680"/>
              <a:ext cx="7086600" cy="270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Torsional Endurance Limit of Spring Wir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igh-strength materials 0ver 200 kpsi </a:t>
            </a: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S</a:t>
            </a:r>
            <a:r>
              <a:rPr b="0" i="1" lang="en-US" sz="2800" spc="-1" strike="noStrike" baseline="-20000">
                <a:solidFill>
                  <a:srgbClr val="000000"/>
                </a:solidFill>
                <a:latin typeface="Arial Rounded MT Bold"/>
              </a:rPr>
              <a:t>ut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tops-out in endurance strength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ring wire below 10-mm dia is in this category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Zimmerli reports that all steel wire &lt; 10 mm dia, load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repeated stres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has: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te that th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a fully reversed endurance limit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09680" y="4191120"/>
            <a:ext cx="4267080" cy="838080"/>
            <a:chOff x="2209680" y="4191120"/>
            <a:chExt cx="4267080" cy="838080"/>
          </a:xfrm>
        </p:grpSpPr>
        <p:sp>
          <p:nvSpPr>
            <p:cNvPr id="305" name=""/>
            <p:cNvSpPr/>
            <p:nvPr/>
          </p:nvSpPr>
          <p:spPr>
            <a:xfrm>
              <a:off x="2209680" y="4191120"/>
              <a:ext cx="426708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361960" y="4267440"/>
              <a:ext cx="4008600" cy="73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ring Manufacturing courtesy of the Dominion Spring 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371600" y="1447920"/>
            <a:ext cx="662940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Goodman Diagram for Torsion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26000" cy="3181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523880" y="5029200"/>
            <a:ext cx="6324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371600" y="1143000"/>
            <a:ext cx="6629400" cy="5486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Fatigue Safety Factor – Coil Spring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351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600200" y="5334120"/>
            <a:ext cx="617220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71600" y="1066680"/>
            <a:ext cx="6629400" cy="5486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Effect of Spring Index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905120" y="5051520"/>
            <a:ext cx="5762520" cy="1349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676520" y="126216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Example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udy Examples 14-3 and 14-4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371600"/>
            <a:ext cx="7999560" cy="464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pring Types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2960" y="1525680"/>
            <a:ext cx="7518240" cy="2463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36640" y="4116240"/>
            <a:ext cx="76867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295280"/>
            <a:ext cx="7999560" cy="510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pring Types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348320" cy="1914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4851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00600" y="1295280"/>
            <a:ext cx="2743200" cy="510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1295280"/>
            <a:ext cx="2666880" cy="510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pring Connections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1914480" cy="3772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1611360" cy="401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905120" y="5638680"/>
            <a:ext cx="2454120" cy="649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029200" y="5715000"/>
            <a:ext cx="2286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43200" y="1447920"/>
            <a:ext cx="594360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447920"/>
            <a:ext cx="213372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Helical Compression Springs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847880" cy="42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54925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eflection and Spring Rat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19520" y="4038480"/>
            <a:ext cx="5943600" cy="2286000"/>
            <a:chOff x="2819520" y="4038480"/>
            <a:chExt cx="5943600" cy="2286000"/>
          </a:xfrm>
        </p:grpSpPr>
        <p:sp>
          <p:nvSpPr>
            <p:cNvPr id="167" name=""/>
            <p:cNvSpPr/>
            <p:nvPr/>
          </p:nvSpPr>
          <p:spPr>
            <a:xfrm>
              <a:off x="2819520" y="4038480"/>
              <a:ext cx="5943600" cy="228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2971800" y="4190760"/>
              <a:ext cx="103824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191120" y="4190760"/>
              <a:ext cx="137484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5639040" y="4190760"/>
              <a:ext cx="1307880" cy="19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7010640" y="4190760"/>
              <a:ext cx="1611360" cy="18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380880" y="1143000"/>
            <a:ext cx="22860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1143000"/>
            <a:ext cx="5943600" cy="2743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781680" y="1295280"/>
            <a:ext cx="1679760" cy="2371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200400" y="1295280"/>
            <a:ext cx="1509840" cy="277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3154320" y="1676520"/>
            <a:ext cx="1341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3962520" y="2438280"/>
            <a:ext cx="1982520" cy="1219320"/>
            <a:chOff x="3962520" y="2438280"/>
            <a:chExt cx="1982520" cy="1219320"/>
          </a:xfrm>
        </p:grpSpPr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3962520" y="2438280"/>
              <a:ext cx="184788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3962520" y="2692440"/>
              <a:ext cx="1712880" cy="20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3962520" y="2895480"/>
              <a:ext cx="1276200" cy="269640"/>
              <a:chOff x="3962520" y="2895480"/>
              <a:chExt cx="1276200" cy="269640"/>
            </a:xfrm>
          </p:grpSpPr>
          <p:pic>
            <p:nvPicPr>
              <p:cNvPr id="18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62520" y="2895480"/>
                <a:ext cx="69984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572000" y="2938320"/>
                <a:ext cx="666720" cy="185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3962520" y="3124080"/>
              <a:ext cx="19825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rcRect l="0" t="0" r="39794" b="-49911"/>
            <a:stretch/>
          </p:blipFill>
          <p:spPr>
            <a:xfrm>
              <a:off x="3962520" y="3352680"/>
              <a:ext cx="160020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5181480" y="1219320"/>
            <a:ext cx="1038240" cy="363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5029200" y="1676520"/>
            <a:ext cx="1374840" cy="608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685800" y="1676520"/>
            <a:ext cx="16113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4038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tress in Compression Springs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76520"/>
            <a:ext cx="4191120" cy="487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1914480" cy="4219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1847880" cy="4243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24280" y="152280"/>
            <a:ext cx="4191120" cy="6400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876920" y="304920"/>
            <a:ext cx="3891960" cy="1442520"/>
            <a:chOff x="4876920" y="304920"/>
            <a:chExt cx="3891960" cy="144252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5105520" y="533160"/>
              <a:ext cx="319716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"/>
            <p:cNvGrpSpPr/>
            <p:nvPr/>
          </p:nvGrpSpPr>
          <p:grpSpPr>
            <a:xfrm>
              <a:off x="4876920" y="304920"/>
              <a:ext cx="3891960" cy="218880"/>
              <a:chOff x="4876920" y="304920"/>
              <a:chExt cx="3891960" cy="218880"/>
            </a:xfrm>
          </p:grpSpPr>
          <p:pic>
            <p:nvPicPr>
              <p:cNvPr id="1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38680" y="304920"/>
                <a:ext cx="313020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304920"/>
                <a:ext cx="767880" cy="1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8" name=""/>
          <p:cNvGrpSpPr/>
          <p:nvPr/>
        </p:nvGrpSpPr>
        <p:grpSpPr>
          <a:xfrm>
            <a:off x="6858000" y="1143000"/>
            <a:ext cx="1981080" cy="762120"/>
            <a:chOff x="6858000" y="1143000"/>
            <a:chExt cx="1981080" cy="762120"/>
          </a:xfrm>
        </p:grpSpPr>
        <p:grpSp>
          <p:nvGrpSpPr>
            <p:cNvPr id="199" name=""/>
            <p:cNvGrpSpPr/>
            <p:nvPr/>
          </p:nvGrpSpPr>
          <p:grpSpPr>
            <a:xfrm>
              <a:off x="6934320" y="1143000"/>
              <a:ext cx="1847880" cy="726840"/>
              <a:chOff x="6934320" y="1143000"/>
              <a:chExt cx="1847880" cy="726840"/>
            </a:xfrm>
          </p:grpSpPr>
          <p:pic>
            <p:nvPicPr>
              <p:cNvPr id="2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934320" y="1143000"/>
                <a:ext cx="1847880" cy="2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34320" y="1396800"/>
                <a:ext cx="1712880" cy="20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2" name=""/>
              <p:cNvGrpSpPr/>
              <p:nvPr/>
            </p:nvGrpSpPr>
            <p:grpSpPr>
              <a:xfrm>
                <a:off x="6934320" y="1600200"/>
                <a:ext cx="1276200" cy="269640"/>
                <a:chOff x="6934320" y="1600200"/>
                <a:chExt cx="1276200" cy="269640"/>
              </a:xfrm>
            </p:grpSpPr>
            <p:pic>
              <p:nvPicPr>
                <p:cNvPr id="2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934320" y="1600200"/>
                  <a:ext cx="69984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543800" y="1643040"/>
                  <a:ext cx="66672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5" name=""/>
            <p:cNvSpPr/>
            <p:nvPr/>
          </p:nvSpPr>
          <p:spPr>
            <a:xfrm>
              <a:off x="6858000" y="1143000"/>
              <a:ext cx="1981080" cy="7621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876920" y="1828800"/>
            <a:ext cx="1858680" cy="533520"/>
            <a:chOff x="4876920" y="1828800"/>
            <a:chExt cx="1858680" cy="533520"/>
          </a:xfrm>
        </p:grpSpPr>
        <p:grpSp>
          <p:nvGrpSpPr>
            <p:cNvPr id="207" name=""/>
            <p:cNvGrpSpPr/>
            <p:nvPr/>
          </p:nvGrpSpPr>
          <p:grpSpPr>
            <a:xfrm>
              <a:off x="4952880" y="1828800"/>
              <a:ext cx="1782720" cy="488880"/>
              <a:chOff x="4952880" y="1828800"/>
              <a:chExt cx="1782720" cy="48888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52880" y="1904760"/>
                <a:ext cx="903240" cy="29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67280" y="1828800"/>
                <a:ext cx="86832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"/>
            <p:cNvSpPr/>
            <p:nvPr/>
          </p:nvSpPr>
          <p:spPr>
            <a:xfrm>
              <a:off x="4876920" y="1828800"/>
              <a:ext cx="175248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876920" y="2438280"/>
            <a:ext cx="3352680" cy="1371600"/>
            <a:chOff x="4876920" y="2438280"/>
            <a:chExt cx="3352680" cy="1371600"/>
          </a:xfrm>
        </p:grpSpPr>
        <p:grpSp>
          <p:nvGrpSpPr>
            <p:cNvPr id="212" name=""/>
            <p:cNvGrpSpPr/>
            <p:nvPr/>
          </p:nvGrpSpPr>
          <p:grpSpPr>
            <a:xfrm>
              <a:off x="4952880" y="2438280"/>
              <a:ext cx="1724040" cy="277920"/>
              <a:chOff x="4952880" y="2438280"/>
              <a:chExt cx="1724040" cy="27792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952880" y="2438280"/>
                <a:ext cx="666720" cy="27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638680" y="2438280"/>
                <a:ext cx="1038240" cy="23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5" name="" descr=""/>
            <p:cNvPicPr/>
            <p:nvPr/>
          </p:nvPicPr>
          <p:blipFill>
            <a:blip r:embed="rId14"/>
            <a:stretch/>
          </p:blipFill>
          <p:spPr>
            <a:xfrm>
              <a:off x="5410080" y="2743200"/>
              <a:ext cx="2792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876920" y="2438280"/>
              <a:ext cx="3352680" cy="1371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876920" y="3886200"/>
            <a:ext cx="3855960" cy="743040"/>
            <a:chOff x="4876920" y="3886200"/>
            <a:chExt cx="3855960" cy="743040"/>
          </a:xfrm>
        </p:grpSpPr>
        <p:grpSp>
          <p:nvGrpSpPr>
            <p:cNvPr id="218" name=""/>
            <p:cNvGrpSpPr/>
            <p:nvPr/>
          </p:nvGrpSpPr>
          <p:grpSpPr>
            <a:xfrm>
              <a:off x="4876920" y="3886200"/>
              <a:ext cx="3849480" cy="203040"/>
              <a:chOff x="4876920" y="3886200"/>
              <a:chExt cx="3849480" cy="20304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876920" y="3886200"/>
                <a:ext cx="1746000" cy="2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629400" y="3886200"/>
                <a:ext cx="1374840" cy="19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924680" y="3886200"/>
                <a:ext cx="801720" cy="203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2" name="" descr=""/>
            <p:cNvPicPr/>
            <p:nvPr/>
          </p:nvPicPr>
          <p:blipFill>
            <a:blip r:embed="rId18"/>
            <a:stretch/>
          </p:blipFill>
          <p:spPr>
            <a:xfrm>
              <a:off x="5029200" y="4191120"/>
              <a:ext cx="370368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7543800" y="50292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952880" y="4800600"/>
            <a:ext cx="3670560" cy="674640"/>
            <a:chOff x="4952880" y="4800600"/>
            <a:chExt cx="3670560" cy="674640"/>
          </a:xfrm>
        </p:grpSpPr>
        <p:pic>
          <p:nvPicPr>
            <p:cNvPr id="225" name="" descr=""/>
            <p:cNvPicPr/>
            <p:nvPr/>
          </p:nvPicPr>
          <p:blipFill>
            <a:blip r:embed="rId19"/>
            <a:stretch/>
          </p:blipFill>
          <p:spPr>
            <a:xfrm>
              <a:off x="4952880" y="4800600"/>
              <a:ext cx="367056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0"/>
            <a:srcRect l="0" t="0" r="22294" b="-20626"/>
            <a:stretch/>
          </p:blipFill>
          <p:spPr>
            <a:xfrm>
              <a:off x="4952880" y="5105520"/>
              <a:ext cx="9907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1"/>
            <a:stretch/>
          </p:blipFill>
          <p:spPr>
            <a:xfrm>
              <a:off x="6019920" y="4952880"/>
              <a:ext cx="1814400" cy="52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7010280" y="5638680"/>
            <a:ext cx="1600200" cy="685800"/>
            <a:chOff x="7010280" y="5638680"/>
            <a:chExt cx="1600200" cy="685800"/>
          </a:xfrm>
        </p:grpSpPr>
        <p:sp>
          <p:nvSpPr>
            <p:cNvPr id="229" name=""/>
            <p:cNvSpPr/>
            <p:nvPr/>
          </p:nvSpPr>
          <p:spPr>
            <a:xfrm>
              <a:off x="7010280" y="5638680"/>
              <a:ext cx="1600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2"/>
            <a:stretch/>
          </p:blipFill>
          <p:spPr>
            <a:xfrm>
              <a:off x="7086240" y="5715000"/>
              <a:ext cx="134172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4952880" y="5562720"/>
            <a:ext cx="1258920" cy="793800"/>
            <a:chOff x="4952880" y="5562720"/>
            <a:chExt cx="1258920" cy="793800"/>
          </a:xfrm>
        </p:grpSpPr>
        <p:pic>
          <p:nvPicPr>
            <p:cNvPr id="232" name="" descr=""/>
            <p:cNvPicPr/>
            <p:nvPr/>
          </p:nvPicPr>
          <p:blipFill>
            <a:blip r:embed="rId23"/>
            <a:stretch/>
          </p:blipFill>
          <p:spPr>
            <a:xfrm>
              <a:off x="5410080" y="5791320"/>
              <a:ext cx="801720" cy="56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"/>
            <p:cNvGrpSpPr/>
            <p:nvPr/>
          </p:nvGrpSpPr>
          <p:grpSpPr>
            <a:xfrm>
              <a:off x="4952880" y="5562720"/>
              <a:ext cx="1149480" cy="193680"/>
              <a:chOff x="4952880" y="5562720"/>
              <a:chExt cx="1149480" cy="193680"/>
            </a:xfrm>
          </p:grpSpPr>
          <p:pic>
            <p:nvPicPr>
              <p:cNvPr id="234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52880" y="5562720"/>
                <a:ext cx="70020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8680" y="5562720"/>
                <a:ext cx="46368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6" name=""/>
          <p:cNvSpPr/>
          <p:nvPr/>
        </p:nvSpPr>
        <p:spPr>
          <a:xfrm>
            <a:off x="5715000" y="1371600"/>
            <a:ext cx="533520" cy="304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1371600"/>
            <a:ext cx="533160" cy="304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895480"/>
            <a:ext cx="533160" cy="304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2895480"/>
            <a:ext cx="533520" cy="304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200400"/>
            <a:ext cx="304920" cy="457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3200400"/>
            <a:ext cx="304920" cy="457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Residual Stress – Setting &amp; Peening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eneficial residual stress can protect against fatigue failure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r unidirectional (non-reversed) loading we can take advantage of this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verloading the part once in the direction of service loading will yield the material locally and leave beneficial residual stress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en done to coil springs, it is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setting the sprin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pring is designed longer than needed and deflected once to its shut height, yielding it to the desired free length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hot peening can also be used to good effect to improve fatigue life provided spring wire is large enough and coil spacing sufficien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6:11:48Z</dcterms:created>
  <dc:creator>R. L. Norton</dc:creator>
  <dc:description/>
  <dc:language>en-US</dc:language>
  <cp:lastModifiedBy>Robert L. Norton</cp:lastModifiedBy>
  <dcterms:modified xsi:type="dcterms:W3CDTF">2010-12-31T18:42:21Z</dcterms:modified>
  <cp:revision>29</cp:revision>
  <dc:subject/>
  <dc:title>Spring Design I</dc:title>
</cp:coreProperties>
</file>