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26.wmf" ContentType="image/x-wmf"/>
  <Override PartName="/ppt/media/image17.wmf" ContentType="image/x-wmf"/>
  <Override PartName="/ppt/media/image44.jpeg" ContentType="image/jpeg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12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13.png" ContentType="image/png"/>
  <Override PartName="/ppt/media/image36.wmf" ContentType="image/x-wmf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17B-E719-4727-BDA6-E321B7D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645-09A8-448E-8A10-C90EDA3C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783-922A-4923-A7E8-249941F7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610-DA18-4126-A341-DDE15EF5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73939-4D46-4B90-8594-A2EA86B0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916A1-68BC-40F1-8AB2-9C7E91F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C7059-E477-4A13-A901-7CA452B4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D8EB-2E9F-4921-A4AF-A418B70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92D9F-61C0-4384-A9E6-2A8BF755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0917C-5FD7-4479-8072-3D08BB5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DAD7-189B-424B-9D13-FF1C1AA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154-C6D1-498F-A2BD-070B555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1D3CE-6D03-4C55-A5EC-77371D0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9BB97-97A6-485C-8F91-A0D1E45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9B12-CF58-46B2-9FB0-635E8F4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655CA-829C-4C3A-A4B3-4DECF3C5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06AE3-696F-4B09-813E-A7914B05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C90E-E602-46D8-B7D4-8287AF3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B3F4-2869-486E-A60B-A399609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1E36-9838-4002-AEA2-966C9CD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4A9F-1891-43BD-B04E-C712BEB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5222-91BA-4791-87B0-FDA69A6E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A7D-073F-49D9-AB9F-FCBE9C88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1E77-CD8C-451D-8786-9A8F26B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A57E-AAB7-4AD0-ADD5-1ECC689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1E3A-DC0F-4BA9-AF39-0A3D688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7EE4-6A98-4EA9-8E66-E864C72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629A-5D29-4601-BB0C-081573F3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E019-2082-41ED-B49D-8708FDA6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4DA7-6849-425B-A9F6-AC6A6ED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8CD-8341-485C-988E-2C497F7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09B-495C-463A-90B2-A3644AA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546-298A-4973-9463-B1049D7E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C93-1810-447B-9B57-B911BC8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BA5-9E41-46C7-A40B-EEBEF05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003-9DFD-4781-92F1-3C51A68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134B-49C2-48B2-AA90-E2D31A7B6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EEF6-DEFD-4C97-BE31-B526509570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96A0-BC40-4E75-BC73-BB66637A88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luctuating Str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2640" y="1179360"/>
            <a:ext cx="7070760" cy="499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2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afety factors in fluctuating stresses: Cas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6240" y="1265400"/>
            <a:ext cx="6870600" cy="2431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52360" y="3708360"/>
            <a:ext cx="687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84320" y="1265400"/>
            <a:ext cx="7516800" cy="494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afety factors in fluctuating stresses: Cases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73320" y="1346040"/>
            <a:ext cx="7169040" cy="2279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78000" y="3740040"/>
            <a:ext cx="7162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97080" y="1158840"/>
            <a:ext cx="6688080" cy="552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uctuating Bending (Ex 6-5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67000" y="1263600"/>
            <a:ext cx="6337080" cy="3038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21000" y="4325760"/>
            <a:ext cx="61671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76200" y="1158840"/>
            <a:ext cx="6688440" cy="552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uctuating Bending (Ex 6-5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20953"/>
          <a:stretch/>
        </p:blipFill>
        <p:spPr>
          <a:xfrm>
            <a:off x="1467000" y="1263600"/>
            <a:ext cx="63370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719360" y="4227480"/>
            <a:ext cx="5688000" cy="955440"/>
            <a:chOff x="1719360" y="4227480"/>
            <a:chExt cx="5688000" cy="95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1719360" y="4227480"/>
              <a:ext cx="566100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779480" y="4439880"/>
              <a:ext cx="562788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628640" y="3933720"/>
            <a:ext cx="103824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792440" y="5295960"/>
            <a:ext cx="555912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11480" y="746280"/>
            <a:ext cx="6688080" cy="552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16040" y="888840"/>
            <a:ext cx="6067440" cy="189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541600" y="2960640"/>
            <a:ext cx="6100920" cy="14097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587680" y="4530600"/>
            <a:ext cx="6032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11480" y="979560"/>
            <a:ext cx="6688080" cy="462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452680" y="1282680"/>
            <a:ext cx="6062760" cy="1650960"/>
            <a:chOff x="2452680" y="1282680"/>
            <a:chExt cx="6062760" cy="165096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2452680" y="1282680"/>
              <a:ext cx="589752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583000" y="1668600"/>
              <a:ext cx="5932440" cy="126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494080" y="3294000"/>
            <a:ext cx="6134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33440" y="135000"/>
            <a:ext cx="6688440" cy="662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24240" y="260280"/>
            <a:ext cx="6100560" cy="3560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451240" y="3827520"/>
            <a:ext cx="6134040" cy="1130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2492280" y="4997520"/>
            <a:ext cx="6032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5480" y="782640"/>
            <a:ext cx="6688080" cy="514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486160" y="922320"/>
            <a:ext cx="6100560" cy="750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920" y="1782720"/>
            <a:ext cx="6100560" cy="2227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473200" y="4110120"/>
            <a:ext cx="613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3560" y="762120"/>
            <a:ext cx="6688080" cy="5271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468520" y="968400"/>
            <a:ext cx="6100920" cy="1670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46280" y="2836800"/>
            <a:ext cx="6032520" cy="140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467080" y="4413240"/>
            <a:ext cx="5999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11480" y="826920"/>
            <a:ext cx="6719760" cy="492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9520" y="2208240"/>
            <a:ext cx="1746360" cy="19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481120" y="2725560"/>
            <a:ext cx="6032520" cy="2598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505240" y="1103400"/>
            <a:ext cx="60674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31760" y="2211480"/>
            <a:ext cx="6815160" cy="275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82692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 Fatigue Design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84320" y="2300400"/>
            <a:ext cx="6635520" cy="2476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59320" y="2913120"/>
            <a:ext cx="2136960" cy="106344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14440" y="1434960"/>
            <a:ext cx="6294600" cy="446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eneral Approach to HCF Design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1000" y="1549440"/>
            <a:ext cx="6100560" cy="1974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523880" y="3608280"/>
            <a:ext cx="5965920" cy="725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566720" y="4470480"/>
            <a:ext cx="5796000" cy="658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527120" y="5261040"/>
            <a:ext cx="5897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399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Designing for HCF.  Review example: multiaxial fluctuating st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252440"/>
            <a:ext cx="78804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ASTER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- Example 6-6: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atigue under multiaxial fluctuating stresses.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Determine safety factors for the tube shown in the 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788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481040" y="4597560"/>
                <a:ext cx="992160" cy="17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016080" y="5175360"/>
            <a:ext cx="4851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Comment: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use MathCad example to perform design iterations (file is included in the CD-ROM that came with your textbo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6600" y="1855800"/>
            <a:ext cx="4064040" cy="2612880"/>
            <a:chOff x="66600" y="1855800"/>
            <a:chExt cx="4064040" cy="26128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66600" y="1855800"/>
              <a:ext cx="406404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032280" y="3346560"/>
              <a:ext cx="287280" cy="288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81520" y="3294000"/>
              <a:ext cx="388800" cy="390600"/>
            </a:xfrm>
            <a:prstGeom prst="ellipse">
              <a:avLst/>
            </a:prstGeom>
            <a:solidFill>
              <a:srgbClr val="9191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27480" y="2576520"/>
              <a:ext cx="506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183120" y="3501720"/>
              <a:ext cx="557280" cy="17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3160" y="3502080"/>
              <a:ext cx="61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3400" y="313056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3400" y="3540240"/>
              <a:ext cx="0" cy="334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83200" y="2071800"/>
            <a:ext cx="47685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luctuating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inite life of about 6x10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aterial is 2024-T4: Sy=47,000 psi, Sut=68,000 p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perating conditions: air at max. temperature of 120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orce varies from F = 340 to -200 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otch radius at the wall is 0.25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Theoretical stress-concentration factor (at the wall) for bending and shear are Kt = 1.7 and Kts = 1.35, resp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63720" y="244440"/>
            <a:ext cx="6093000" cy="635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2920" y="975960"/>
            <a:ext cx="240516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ffect of Mean Tensile Str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n Fatigue Strengt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65600" y="328680"/>
            <a:ext cx="4884840" cy="2987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54440" y="3422520"/>
            <a:ext cx="4952880" cy="310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97200" y="183816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7520" y="4605480"/>
            <a:ext cx="8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63720" y="1211400"/>
            <a:ext cx="6093000" cy="447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920" y="975960"/>
            <a:ext cx="240516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Effect of Mean Comp-ressive Str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n Fatigue Strength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7320" y="1606680"/>
            <a:ext cx="48848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93880" y="1170000"/>
            <a:ext cx="7283160" cy="290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5520" y="179280"/>
            <a:ext cx="81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Designing for HCF: fluctuating uniaxial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6960" y="1222200"/>
            <a:ext cx="7135560" cy="27957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165320" y="4179960"/>
            <a:ext cx="6789240" cy="792000"/>
            <a:chOff x="1165320" y="4179960"/>
            <a:chExt cx="6789240" cy="792000"/>
          </a:xfrm>
        </p:grpSpPr>
        <p:sp>
          <p:nvSpPr>
            <p:cNvPr id="163" name=""/>
            <p:cNvSpPr/>
            <p:nvPr/>
          </p:nvSpPr>
          <p:spPr>
            <a:xfrm>
              <a:off x="1165320" y="4413240"/>
              <a:ext cx="23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Comic Sans MS"/>
                </a:rPr>
                <a:t>Gerber parabol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3254040" y="4222440"/>
                  <a:ext cx="157140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t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085360" y="4352760"/>
              <a:ext cx="21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(Fits experimental dat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useful to study failed part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8720" y="4179960"/>
              <a:ext cx="6765840" cy="7920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89080" y="5846760"/>
            <a:ext cx="6765840" cy="792000"/>
            <a:chOff x="1189080" y="5846760"/>
            <a:chExt cx="6765840" cy="792000"/>
          </a:xfrm>
        </p:grpSpPr>
        <p:sp>
          <p:nvSpPr>
            <p:cNvPr id="168" name=""/>
            <p:cNvSpPr/>
            <p:nvPr/>
          </p:nvSpPr>
          <p:spPr>
            <a:xfrm>
              <a:off x="1250640" y="607032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Comic Sans MS"/>
                </a:rPr>
                <a:t>Soderberg lin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3349440" y="5878440"/>
                  <a:ext cx="155232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5062680" y="6100560"/>
              <a:ext cx="221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(Overly conservative theor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9080" y="5846760"/>
              <a:ext cx="6765840" cy="7920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9480" y="5008680"/>
            <a:ext cx="7345440" cy="792000"/>
            <a:chOff x="609480" y="5008680"/>
            <a:chExt cx="7345440" cy="792000"/>
          </a:xfrm>
        </p:grpSpPr>
        <p:grpSp>
          <p:nvGrpSpPr>
            <p:cNvPr id="173" name=""/>
            <p:cNvGrpSpPr/>
            <p:nvPr/>
          </p:nvGrpSpPr>
          <p:grpSpPr>
            <a:xfrm>
              <a:off x="1189080" y="5008680"/>
              <a:ext cx="6765840" cy="792000"/>
              <a:chOff x="1189080" y="5008680"/>
              <a:chExt cx="6765840" cy="792000"/>
            </a:xfrm>
          </p:grpSpPr>
          <p:sp>
            <p:nvSpPr>
              <p:cNvPr id="174" name=""/>
              <p:cNvSpPr/>
              <p:nvPr/>
            </p:nvSpPr>
            <p:spPr>
              <a:xfrm>
                <a:off x="1250640" y="5244840"/>
                <a:ext cx="31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Modified-Goodman line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4043160" y="5092560"/>
                    <a:ext cx="1571400" cy="64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6" name=""/>
              <p:cNvSpPr/>
              <p:nvPr/>
            </p:nvSpPr>
            <p:spPr>
              <a:xfrm>
                <a:off x="5954040" y="5276520"/>
                <a:ext cx="173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Conservative theor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89080" y="5008680"/>
                <a:ext cx="6765840" cy="7920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09480" y="5396040"/>
              <a:ext cx="558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04640" y="1244520"/>
            <a:ext cx="8313840" cy="508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– Fluctuating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odified GoodmanSurface – with k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4840" y="1316160"/>
            <a:ext cx="82231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30120" y="1488960"/>
            <a:ext cx="8431200" cy="408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Augmented modified Goodman-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03200" y="1541520"/>
            <a:ext cx="8296200" cy="39639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2647800" y="4819680"/>
            <a:ext cx="3668760" cy="1464480"/>
            <a:chOff x="2647800" y="4819680"/>
            <a:chExt cx="3668760" cy="1464480"/>
          </a:xfrm>
        </p:grpSpPr>
        <p:sp>
          <p:nvSpPr>
            <p:cNvPr id="186" name=""/>
            <p:cNvSpPr/>
            <p:nvPr/>
          </p:nvSpPr>
          <p:spPr>
            <a:xfrm>
              <a:off x="3347640" y="4819680"/>
              <a:ext cx="446040" cy="1138320"/>
            </a:xfrm>
            <a:custGeom>
              <a:avLst/>
              <a:gdLst/>
              <a:ahLst/>
              <a:rect l="l" t="t" r="r" b="b"/>
              <a:pathLst>
                <a:path w="281" h="717">
                  <a:moveTo>
                    <a:pt x="0" y="0"/>
                  </a:moveTo>
                  <a:cubicBezTo>
                    <a:pt x="46" y="227"/>
                    <a:pt x="92" y="454"/>
                    <a:pt x="121" y="519"/>
                  </a:cubicBezTo>
                  <a:cubicBezTo>
                    <a:pt x="150" y="584"/>
                    <a:pt x="146" y="358"/>
                    <a:pt x="173" y="391"/>
                  </a:cubicBezTo>
                  <a:cubicBezTo>
                    <a:pt x="200" y="424"/>
                    <a:pt x="263" y="663"/>
                    <a:pt x="281" y="71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47800" y="5946840"/>
              <a:ext cx="366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Comic Sans MS"/>
                </a:rPr>
                <a:t>Area in “gray” is the “safe-z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8280" y="1297080"/>
            <a:ext cx="7708680" cy="509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-concentration factors in fluctuating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3440" y="1598760"/>
            <a:ext cx="7594560" cy="183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35240" y="1290600"/>
            <a:ext cx="45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ote that component may “yield” lo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26920" y="3630600"/>
            <a:ext cx="7296480" cy="2658960"/>
            <a:chOff x="826920" y="3630600"/>
            <a:chExt cx="7296480" cy="265896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826920" y="3630600"/>
              <a:ext cx="72964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392120" y="5587920"/>
              <a:ext cx="383076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88960" y="4710240"/>
            <a:ext cx="6581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3280" y="210960"/>
            <a:ext cx="87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-concentration factors in fluctuating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88960" y="1187280"/>
            <a:ext cx="6666120" cy="3446640"/>
            <a:chOff x="1488960" y="1187280"/>
            <a:chExt cx="6666120" cy="3446640"/>
          </a:xfrm>
        </p:grpSpPr>
        <p:sp>
          <p:nvSpPr>
            <p:cNvPr id="198" name=""/>
            <p:cNvSpPr/>
            <p:nvPr/>
          </p:nvSpPr>
          <p:spPr>
            <a:xfrm>
              <a:off x="1488960" y="1187280"/>
              <a:ext cx="6599520" cy="344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797120" y="1481040"/>
              <a:ext cx="525456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442200" y="1209600"/>
              <a:ext cx="1036440" cy="13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120760" y="1219320"/>
              <a:ext cx="4924440" cy="403200"/>
              <a:chOff x="2120760" y="1219320"/>
              <a:chExt cx="4924440" cy="403200"/>
            </a:xfrm>
          </p:grpSpPr>
          <p:sp>
            <p:nvSpPr>
              <p:cNvPr id="202" name=""/>
              <p:cNvSpPr/>
              <p:nvPr/>
            </p:nvSpPr>
            <p:spPr>
              <a:xfrm>
                <a:off x="2120760" y="1233720"/>
                <a:ext cx="453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Mean stress fatigue-concentration facto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6553080" y="1219320"/>
                    <a:ext cx="49212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4" name=""/>
            <p:cNvSpPr/>
            <p:nvPr/>
          </p:nvSpPr>
          <p:spPr>
            <a:xfrm>
              <a:off x="5645160" y="2668680"/>
              <a:ext cx="250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e figures at the bottom of previous 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12960" y="4759200"/>
            <a:ext cx="4561920" cy="1522440"/>
            <a:chOff x="1812960" y="4759200"/>
            <a:chExt cx="4561920" cy="152244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215800" y="4759200"/>
                  <a:ext cx="193788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</m:e>
                      </m:d>
                      <m:r>
                        <m:t xml:space="preserve">&lt;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4303440" y="4951440"/>
              <a:ext cx="96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812960" y="4895640"/>
                  <a:ext cx="28872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418000" y="4784760"/>
                  <a:ext cx="9568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m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"/>
          <p:cNvGrpSpPr/>
          <p:nvPr/>
        </p:nvGrpSpPr>
        <p:grpSpPr>
          <a:xfrm>
            <a:off x="2227320" y="5975280"/>
            <a:ext cx="4643280" cy="382680"/>
            <a:chOff x="2227320" y="5975280"/>
            <a:chExt cx="4643280" cy="38268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2227320" y="5975280"/>
                  <a:ext cx="301320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</m:e>
                      </m:d>
                      <m:r>
                        <m:t xml:space="preserve">2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5396040" y="6165720"/>
              <a:ext cx="56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083280" y="5994360"/>
                  <a:ext cx="7873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m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2205000" y="5261040"/>
            <a:ext cx="5304960" cy="633240"/>
            <a:chOff x="2205000" y="5261040"/>
            <a:chExt cx="5304960" cy="63324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205000" y="5389560"/>
                  <a:ext cx="193824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</m:e>
                      </m:d>
                      <m:r>
                        <m:t xml:space="preserve">&gt;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4312800" y="5580000"/>
              <a:ext cx="96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418000" y="5261040"/>
                  <a:ext cx="20919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minal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Make sure to be concise when discussing Example 6-4.  Time is limited and fluctuating stress topics need to be covered.</dc:description>
  <dc:language>en-US</dc:language>
  <cp:lastModifiedBy>R. L. Norton</cp:lastModifiedBy>
  <cp:lastPrinted>2003-02-03T14:52:50Z</cp:lastPrinted>
  <dcterms:modified xsi:type="dcterms:W3CDTF">2006-01-03T05:52:46Z</dcterms:modified>
  <cp:revision>426</cp:revision>
  <dc:subject/>
  <dc:title>Lect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