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4.png" ContentType="image/png"/>
  <Override PartName="/ppt/media/image11.wmf" ContentType="image/x-wmf"/>
  <Override PartName="/ppt/media/image49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36.wmf" ContentType="image/x-wmf"/>
  <Override PartName="/ppt/media/image29.wmf" ContentType="image/x-wmf"/>
  <Override PartName="/ppt/media/image31.png" ContentType="image/png"/>
  <Override PartName="/ppt/media/image3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57.png" ContentType="image/png"/>
  <Override PartName="/ppt/media/image6.wmf" ContentType="image/x-wmf"/>
  <Override PartName="/ppt/media/image18.wmf" ContentType="image/x-wmf"/>
  <Override PartName="/ppt/media/image25.wmf" ContentType="image/x-wmf"/>
  <Override PartName="/ppt/media/image15.png" ContentType="image/png"/>
  <Override PartName="/ppt/media/image62.png" ContentType="image/png"/>
  <Override PartName="/ppt/media/image23.wmf" ContentType="image/x-wmf"/>
  <Override PartName="/ppt/media/image61.png" ContentType="image/png"/>
  <Override PartName="/ppt/media/image59.wmf" ContentType="image/x-wmf"/>
  <Override PartName="/ppt/media/image19.png" ContentType="image/png"/>
  <Override PartName="/ppt/media/image28.wmf" ContentType="image/x-wmf"/>
  <Override PartName="/ppt/media/image24.wmf" ContentType="image/x-wmf"/>
  <Override PartName="/ppt/media/image20.wmf" ContentType="image/x-wmf"/>
  <Override PartName="/ppt/media/image63.png" ContentType="image/png"/>
  <Override PartName="/ppt/media/image22.wmf" ContentType="image/x-wmf"/>
  <Override PartName="/ppt/media/image65.png" ContentType="image/png"/>
  <Override PartName="/ppt/media/image58.wmf" ContentType="image/x-wmf"/>
  <Override PartName="/ppt/media/image64.png" ContentType="image/png"/>
  <Override PartName="/ppt/media/image60.jpeg" ContentType="image/jpeg"/>
  <Override PartName="/ppt/media/image21.wmf" ContentType="image/x-wmf"/>
  <Override PartName="/ppt/media/image26.png" ContentType="image/png"/>
  <Override PartName="/ppt/media/image48.wmf" ContentType="image/x-wmf"/>
  <Override PartName="/ppt/media/image50.png" ContentType="image/png"/>
  <Override PartName="/ppt/media/image7.wmf" ContentType="image/x-wmf"/>
  <Override PartName="/ppt/media/image37.wmf" ContentType="image/x-wmf"/>
  <Override PartName="/ppt/media/image4.wmf" ContentType="image/x-wmf"/>
  <Override PartName="/ppt/media/image16.wmf" ContentType="image/x-wmf"/>
  <Override PartName="/ppt/media/image38.png" ContentType="image/png"/>
  <Override PartName="/ppt/media/image55.png" ContentType="image/png"/>
  <Override PartName="/ppt/media/image12.wmf" ContentType="image/x-wmf"/>
  <Override PartName="/ppt/media/image51.png" ContentType="image/png"/>
  <Override PartName="/ppt/media/image17.wmf" ContentType="image/x-wmf"/>
  <Override PartName="/ppt/media/image8.png" ContentType="image/png"/>
  <Override PartName="/ppt/media/image42.wmf" ContentType="image/x-wmf"/>
  <Override PartName="/ppt/media/image5.png" ContentType="image/png"/>
  <Override PartName="/ppt/media/image56.png" ContentType="image/png"/>
  <Override PartName="/ppt/media/image1.wmf" ContentType="image/x-wmf"/>
  <Override PartName="/ppt/media/image13.wmf" ContentType="image/x-wmf"/>
  <Override PartName="/ppt/media/image52.png" ContentType="image/png"/>
  <Override PartName="/ppt/media/image53.png" ContentType="image/png"/>
  <Override PartName="/ppt/media/image10.wmf" ContentType="image/x-wmf"/>
  <Override PartName="/ppt/media/image47.wmf" ContentType="image/x-wmf"/>
  <Override PartName="/ppt/media/image30.wmf" ContentType="image/x-wmf"/>
  <Override PartName="/ppt/media/image35.wmf" ContentType="image/x-wmf"/>
  <Override PartName="/ppt/media/image39.wmf" ContentType="image/x-wmf"/>
  <Override PartName="/ppt/media/image41.png" ContentType="image/png"/>
  <Override PartName="/ppt/media/image40.wmf" ContentType="image/x-wmf"/>
  <Override PartName="/ppt/media/image9.png" ContentType="image/png"/>
  <Override PartName="/ppt/media/image4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0DD2-A771-46DE-8727-09FD7770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87C-42C7-4EC7-9576-7CB6D4CD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26D-1EE8-4469-AAC0-F338DA93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D41-B5FE-449B-AF21-DC9550E4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8BCF5-03BC-4CC9-9EE4-E500DDBF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6AAD4-B9DA-4445-B168-9F446824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22471-E3C6-436A-8F33-04889AE6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DC35C-B9C6-4909-9822-248C619D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1113B-D1FD-4305-A4B5-CE1055FB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0A4F7-E670-4530-9517-BC3738FA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3FFDD-0AE4-4DAB-89DF-3248EA17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3C5-8711-4A86-92D5-38E7D752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FEBBE-EC47-4E5D-B838-F432AB29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FDADE-CA21-4E55-BDFF-F81E73A2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49168-F727-491B-8407-6EBEF533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45008-BC02-4F20-A2D7-2751C0F3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824F0-94F8-4029-BB7E-D4DD40F0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BEDED-F3C7-44B6-91DD-D1B16FA4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FA217-D594-4A18-B8FE-5D732AD8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B7C4A-0FCD-4F11-850F-9B86E811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5129B-74A3-4559-BD1E-B1ED12AD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025CB-7C52-4D5B-8990-1DE81C8F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E29-D3D5-423D-9F55-524B21B3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D66E5-BDC8-4127-867D-4C8C4450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4D38E-FB60-4A03-B6A5-89D6C714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89084-C415-4B3F-A53D-417E56DD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601B2-A16D-4F5A-B9D5-6D8007AA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F569-903C-43E0-9BC2-505462E3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E5D0A-DC83-46DD-82F4-51996B95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CF216-A0E5-448D-AA72-62A3CC16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967-D9E2-44FE-A90B-70C52180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243-8BB4-47CB-9F78-C68513FD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353-9664-4640-BAEC-59039FC6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FCD7-EFEE-4B23-BA4D-9B8775B8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2A2-E8CF-45DA-8340-76C232B7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090-E936-45E3-AB23-2EA67BFA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A8A5-02CB-47EC-A8D8-256F75F6E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783D-B373-4850-8047-935959A69D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36D3-D3F9-4090-B96E-8500510625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3.wmf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Torsion, Columns, Stress Concentration, and Combined Stres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rsion Design -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ways use a closed sec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en sections are useless in tor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includes C-Channels, Angles, I-Bea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 all closed sections, a circular shape is optimal in tor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often do you see a noncircular shaf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bined Stres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3581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Bending and To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715000" y="0"/>
            <a:ext cx="3232080" cy="2117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5999040" cy="2371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09480" y="4572000"/>
            <a:ext cx="1611360" cy="1990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590920" y="4572000"/>
            <a:ext cx="1644480" cy="19573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1679400" cy="2033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6629400" y="4572000"/>
            <a:ext cx="16113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76560" y="38088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Bending and Torsion at Poin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3232080" cy="2117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858000" y="2057400"/>
            <a:ext cx="1814400" cy="23115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57200" y="2362320"/>
            <a:ext cx="6032520" cy="1079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600200" y="3505320"/>
            <a:ext cx="4919760" cy="633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7010280" y="4343400"/>
            <a:ext cx="1712880" cy="2201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603252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876560" y="38088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Transverse Shear and Torsion at Point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3232080" cy="211788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609480" y="2057400"/>
            <a:ext cx="7961400" cy="2201760"/>
            <a:chOff x="609480" y="2057400"/>
            <a:chExt cx="7961400" cy="2201760"/>
          </a:xfrm>
        </p:grpSpPr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1219320" y="2819520"/>
              <a:ext cx="491940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6858000" y="2057400"/>
              <a:ext cx="1712880" cy="22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09480" y="2362320"/>
              <a:ext cx="518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e torsional shear stress at point B is the same as at point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04920" y="3505320"/>
            <a:ext cx="8367480" cy="2973240"/>
            <a:chOff x="304920" y="3505320"/>
            <a:chExt cx="8367480" cy="2973240"/>
          </a:xfrm>
        </p:grpSpPr>
        <p:pic>
          <p:nvPicPr>
            <p:cNvPr id="228" name="" descr=""/>
            <p:cNvPicPr/>
            <p:nvPr/>
          </p:nvPicPr>
          <p:blipFill>
            <a:blip r:embed="rId4"/>
            <a:stretch/>
          </p:blipFill>
          <p:spPr>
            <a:xfrm>
              <a:off x="6858000" y="4343400"/>
              <a:ext cx="1814400" cy="21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5"/>
            <a:srcRect l="0" t="0" r="0" b="51182"/>
            <a:stretch/>
          </p:blipFill>
          <p:spPr>
            <a:xfrm>
              <a:off x="304920" y="3505320"/>
              <a:ext cx="606744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304920" y="4800600"/>
            <a:ext cx="6067440" cy="1539720"/>
            <a:chOff x="304920" y="4800600"/>
            <a:chExt cx="6067440" cy="1539720"/>
          </a:xfrm>
        </p:grpSpPr>
        <p:pic>
          <p:nvPicPr>
            <p:cNvPr id="231" name="" descr=""/>
            <p:cNvPicPr/>
            <p:nvPr/>
          </p:nvPicPr>
          <p:blipFill>
            <a:blip r:embed="rId6"/>
            <a:stretch/>
          </p:blipFill>
          <p:spPr>
            <a:xfrm>
              <a:off x="533520" y="5867280"/>
              <a:ext cx="572904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7"/>
            <a:srcRect l="0" t="48833" r="0" b="8461"/>
            <a:stretch/>
          </p:blipFill>
          <p:spPr>
            <a:xfrm>
              <a:off x="304920" y="4800600"/>
              <a:ext cx="60674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876560" y="38088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Bending and Torsional Str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3232440" cy="2117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14400" y="243828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need to identify the locations of significant stress for 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1712880" cy="2328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352680" y="2743200"/>
            <a:ext cx="1881360" cy="25988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095880" y="2666880"/>
            <a:ext cx="1847880" cy="2692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1143000" y="5486400"/>
            <a:ext cx="613404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ress Concentr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Stress Concentration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ver the geometry changes abruptly, there will be an increase in the local stres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is called a stress concent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not an artifact – the local stress really is higher at these loca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y disruption in the smoothness of shape creates higher local stres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les, keyways, notches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y sudden change in dimension or shap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0948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ss concentration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979640" y="1606680"/>
            <a:ext cx="5070240" cy="4016160"/>
            <a:chOff x="1979640" y="1606680"/>
            <a:chExt cx="5070240" cy="4016160"/>
          </a:xfrm>
        </p:grpSpPr>
        <p:grpSp>
          <p:nvGrpSpPr>
            <p:cNvPr id="246" name=""/>
            <p:cNvGrpSpPr/>
            <p:nvPr/>
          </p:nvGrpSpPr>
          <p:grpSpPr>
            <a:xfrm>
              <a:off x="1979640" y="1606680"/>
              <a:ext cx="5070240" cy="4016160"/>
              <a:chOff x="1979640" y="1606680"/>
              <a:chExt cx="5070240" cy="4016160"/>
            </a:xfrm>
          </p:grpSpPr>
          <p:pic>
            <p:nvPicPr>
              <p:cNvPr id="24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79640" y="1606680"/>
                <a:ext cx="5070240" cy="401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4486320" y="4667400"/>
                <a:ext cx="355320" cy="33480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675160" y="4748040"/>
              <a:ext cx="284040" cy="2854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201760" y="1109520"/>
            <a:ext cx="474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Photoelasti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1793880" y="1149480"/>
            <a:ext cx="2392200" cy="4319640"/>
            <a:chOff x="1793880" y="1149480"/>
            <a:chExt cx="2392200" cy="4319640"/>
          </a:xfrm>
        </p:grpSpPr>
        <p:sp>
          <p:nvSpPr>
            <p:cNvPr id="252" name=""/>
            <p:cNvSpPr/>
            <p:nvPr/>
          </p:nvSpPr>
          <p:spPr>
            <a:xfrm>
              <a:off x="2360520" y="1839960"/>
              <a:ext cx="1152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Nominal bending stress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276640" y="2830680"/>
                  <a:ext cx="13204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om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d</m:t>
                          </m:r>
                        </m:num>
                        <m:den>
                          <m:r>
                            <m:t xml:space="preserve">I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54" name=""/>
            <p:cNvSpPr/>
            <p:nvPr/>
          </p:nvSpPr>
          <p:spPr>
            <a:xfrm>
              <a:off x="2122560" y="1725480"/>
              <a:ext cx="1574640" cy="1878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2139840" y="3908520"/>
                  <a:ext cx="16351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d</m:t>
                          </m:r>
                        </m:num>
                        <m:den>
                          <m:r>
                            <m:t xml:space="preserve">I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56" name=""/>
            <p:cNvSpPr/>
            <p:nvPr/>
          </p:nvSpPr>
          <p:spPr>
            <a:xfrm>
              <a:off x="1793880" y="4567320"/>
              <a:ext cx="23922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K</a:t>
              </a:r>
              <a:r>
                <a:rPr b="1" i="1" lang="en-US" sz="2000" spc="-1" strike="noStrike" baseline="-15000">
                  <a:solidFill>
                    <a:srgbClr val="333399"/>
                  </a:solidFill>
                  <a:latin typeface="Times New Roman"/>
                </a:rPr>
                <a:t>t</a:t>
              </a: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 is the geometric stress concentration factor -- normal st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33560" y="1149480"/>
              <a:ext cx="203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n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ss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064120" y="1149480"/>
            <a:ext cx="2392200" cy="4319640"/>
            <a:chOff x="5064120" y="1149480"/>
            <a:chExt cx="2392200" cy="4319640"/>
          </a:xfrm>
        </p:grpSpPr>
        <p:sp>
          <p:nvSpPr>
            <p:cNvPr id="260" name=""/>
            <p:cNvSpPr/>
            <p:nvPr/>
          </p:nvSpPr>
          <p:spPr>
            <a:xfrm>
              <a:off x="5295960" y="1149480"/>
              <a:ext cx="203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51360" y="1789200"/>
              <a:ext cx="1152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Nominal shear stress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6070680" y="2948040"/>
                  <a:ext cx="51264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o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"/>
            <p:cNvSpPr/>
            <p:nvPr/>
          </p:nvSpPr>
          <p:spPr>
            <a:xfrm>
              <a:off x="5513400" y="1674720"/>
              <a:ext cx="1574640" cy="1878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5478480" y="4046400"/>
                  <a:ext cx="1635120" cy="3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sub>
                      </m:sSub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o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"/>
            <p:cNvSpPr/>
            <p:nvPr/>
          </p:nvSpPr>
          <p:spPr>
            <a:xfrm>
              <a:off x="5064120" y="4567320"/>
              <a:ext cx="23922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K</a:t>
              </a:r>
              <a:r>
                <a:rPr b="1" i="1" lang="en-US" sz="2000" spc="-1" strike="noStrike" baseline="-15000">
                  <a:solidFill>
                    <a:srgbClr val="333399"/>
                  </a:solidFill>
                  <a:latin typeface="Times New Roman"/>
                </a:rPr>
                <a:t>ts</a:t>
              </a: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 is the geometric stress concentration factor -- shear st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rsional 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424480" cy="236232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1523880" y="4191120"/>
            <a:ext cx="6167520" cy="1555200"/>
            <a:chOff x="1523880" y="4191120"/>
            <a:chExt cx="6167520" cy="155520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1523880" y="4191120"/>
              <a:ext cx="6167520" cy="100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1523880" y="5028840"/>
              <a:ext cx="6134400" cy="71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52280" y="3808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ss Concentration Factor at Hole in 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595520" y="1616040"/>
            <a:ext cx="1809720" cy="3276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973680" y="1773360"/>
            <a:ext cx="1707840" cy="28954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04880" y="1160640"/>
            <a:ext cx="77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ss concentration at the edge of an elliptical hole in a plate (axial loa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978520" y="2838600"/>
                <a:ext cx="1568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990720" y="5257800"/>
            <a:ext cx="7467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=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ound hole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 goes up from there as a hole becomes an ellipse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&gt;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ss concentration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4880" y="1027080"/>
            <a:ext cx="77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ss concentration of a stepped flat bar in be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3440" y="1535040"/>
            <a:ext cx="8717040" cy="4570560"/>
            <a:chOff x="163440" y="1535040"/>
            <a:chExt cx="8717040" cy="457056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163440" y="1535040"/>
              <a:ext cx="8717040" cy="457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6624720" y="2773440"/>
              <a:ext cx="1239840" cy="6397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ing to minimize stress concen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206360" y="1031760"/>
            <a:ext cx="3079800" cy="1970280"/>
            <a:chOff x="1206360" y="1031760"/>
            <a:chExt cx="3079800" cy="1970280"/>
          </a:xfrm>
        </p:grpSpPr>
        <p:grpSp>
          <p:nvGrpSpPr>
            <p:cNvPr id="279" name=""/>
            <p:cNvGrpSpPr/>
            <p:nvPr/>
          </p:nvGrpSpPr>
          <p:grpSpPr>
            <a:xfrm>
              <a:off x="1303200" y="1339920"/>
              <a:ext cx="2982960" cy="1662120"/>
              <a:chOff x="1303200" y="1339920"/>
              <a:chExt cx="2982960" cy="1662120"/>
            </a:xfrm>
          </p:grpSpPr>
          <p:pic>
            <p:nvPicPr>
              <p:cNvPr id="2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03200" y="1346400"/>
                <a:ext cx="1344600" cy="10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12960" y="1339920"/>
                <a:ext cx="1573200" cy="1662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2" name=""/>
            <p:cNvSpPr/>
            <p:nvPr/>
          </p:nvSpPr>
          <p:spPr>
            <a:xfrm>
              <a:off x="1206360" y="1031760"/>
              <a:ext cx="196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Initial des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807080" y="1042920"/>
            <a:ext cx="3105000" cy="1984320"/>
            <a:chOff x="4807080" y="1042920"/>
            <a:chExt cx="3105000" cy="1984320"/>
          </a:xfrm>
        </p:grpSpPr>
        <p:grpSp>
          <p:nvGrpSpPr>
            <p:cNvPr id="284" name=""/>
            <p:cNvGrpSpPr/>
            <p:nvPr/>
          </p:nvGrpSpPr>
          <p:grpSpPr>
            <a:xfrm>
              <a:off x="4917960" y="1322280"/>
              <a:ext cx="2994120" cy="1704960"/>
              <a:chOff x="4917960" y="1322280"/>
              <a:chExt cx="2994120" cy="1704960"/>
            </a:xfrm>
          </p:grpSpPr>
          <p:pic>
            <p:nvPicPr>
              <p:cNvPr id="2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308640" y="1322280"/>
                <a:ext cx="1603440" cy="17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17960" y="1357200"/>
                <a:ext cx="1362240" cy="10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7" name=""/>
            <p:cNvSpPr/>
            <p:nvPr/>
          </p:nvSpPr>
          <p:spPr>
            <a:xfrm>
              <a:off x="4807080" y="1042920"/>
              <a:ext cx="196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Improved des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851040" y="3257640"/>
            <a:ext cx="7467480" cy="2631600"/>
            <a:chOff x="851040" y="3257640"/>
            <a:chExt cx="7467480" cy="2631600"/>
          </a:xfrm>
        </p:grpSpPr>
        <p:pic>
          <p:nvPicPr>
            <p:cNvPr id="289" name="" descr=""/>
            <p:cNvPicPr/>
            <p:nvPr/>
          </p:nvPicPr>
          <p:blipFill>
            <a:blip r:embed="rId5"/>
            <a:stretch/>
          </p:blipFill>
          <p:spPr>
            <a:xfrm>
              <a:off x="851040" y="3571920"/>
              <a:ext cx="7467480" cy="23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1546200" y="3257640"/>
              <a:ext cx="60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Modifications to reduce stress concentrations at a sharp cor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213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 Will Show Stress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5594400" cy="23367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56959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lumn Desig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ial compression --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913360" y="809640"/>
            <a:ext cx="2471760" cy="5451480"/>
            <a:chOff x="5913360" y="809640"/>
            <a:chExt cx="2471760" cy="5451480"/>
          </a:xfrm>
        </p:grpSpPr>
        <p:sp>
          <p:nvSpPr>
            <p:cNvPr id="298" name=""/>
            <p:cNvSpPr/>
            <p:nvPr/>
          </p:nvSpPr>
          <p:spPr>
            <a:xfrm>
              <a:off x="7176960" y="1392120"/>
              <a:ext cx="120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333399"/>
                  </a:solidFill>
                  <a:uFillTx/>
                  <a:latin typeface="Arial"/>
                </a:rPr>
                <a:t>Eccentric lo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5913360" y="809640"/>
              <a:ext cx="1362240" cy="5451480"/>
              <a:chOff x="5913360" y="809640"/>
              <a:chExt cx="1362240" cy="5451480"/>
            </a:xfrm>
          </p:grpSpPr>
          <p:pic>
            <p:nvPicPr>
              <p:cNvPr id="3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913360" y="1463760"/>
                <a:ext cx="1362240" cy="38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6245280" y="1066680"/>
                <a:ext cx="1440" cy="884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235560" y="5200560"/>
                <a:ext cx="1800" cy="884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186600" y="809640"/>
                <a:ext cx="42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213600" y="5873760"/>
                <a:ext cx="42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237360" y="865080"/>
                <a:ext cx="0" cy="539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1512720" y="1455840"/>
            <a:ext cx="3616560" cy="4307400"/>
            <a:chOff x="1512720" y="1455840"/>
            <a:chExt cx="3616560" cy="4307400"/>
          </a:xfrm>
        </p:grpSpPr>
        <p:grpSp>
          <p:nvGrpSpPr>
            <p:cNvPr id="307" name=""/>
            <p:cNvGrpSpPr/>
            <p:nvPr/>
          </p:nvGrpSpPr>
          <p:grpSpPr>
            <a:xfrm>
              <a:off x="1512720" y="1455840"/>
              <a:ext cx="3616560" cy="4307400"/>
              <a:chOff x="1512720" y="1455840"/>
              <a:chExt cx="3616560" cy="43074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1512720" y="1455840"/>
                <a:ext cx="3616560" cy="3911400"/>
                <a:chOff x="1512720" y="1455840"/>
                <a:chExt cx="3616560" cy="3911400"/>
              </a:xfrm>
            </p:grpSpPr>
            <p:pic>
              <p:nvPicPr>
                <p:cNvPr id="30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12720" y="1984320"/>
                  <a:ext cx="3616560" cy="28162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10" name=""/>
                <p:cNvGrpSpPr/>
                <p:nvPr/>
              </p:nvGrpSpPr>
              <p:grpSpPr>
                <a:xfrm>
                  <a:off x="2481120" y="4354560"/>
                  <a:ext cx="1947960" cy="1012680"/>
                  <a:chOff x="2481120" y="4354560"/>
                  <a:chExt cx="1947960" cy="101268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2481120" y="4354560"/>
                    <a:ext cx="1800" cy="884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4000680" y="4998960"/>
                    <a:ext cx="428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ff0000"/>
                        </a:solidFill>
                        <a:latin typeface="Arial"/>
                      </a:rPr>
                      <a:t>w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3100320" y="4354560"/>
                    <a:ext cx="1800" cy="884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795760" y="4354560"/>
                    <a:ext cx="1440" cy="884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395520" y="4354560"/>
                    <a:ext cx="1800" cy="884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014720" y="4354560"/>
                    <a:ext cx="1800" cy="884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710160" y="4354560"/>
                    <a:ext cx="1440" cy="884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481120" y="5224320"/>
                    <a:ext cx="153540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2481120" y="1455840"/>
                  <a:ext cx="1925640" cy="1039680"/>
                  <a:chOff x="2481120" y="1455840"/>
                  <a:chExt cx="1925640" cy="103968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2481120" y="1611360"/>
                    <a:ext cx="1440" cy="884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978000" y="1455840"/>
                    <a:ext cx="428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ff0000"/>
                        </a:solidFill>
                        <a:latin typeface="Arial"/>
                      </a:rPr>
                      <a:t>w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795400" y="1611360"/>
                    <a:ext cx="1440" cy="884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3099960" y="1611360"/>
                    <a:ext cx="1800" cy="884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3395520" y="1611360"/>
                    <a:ext cx="1440" cy="884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3709800" y="1611360"/>
                    <a:ext cx="1440" cy="884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4014360" y="1611360"/>
                    <a:ext cx="1800" cy="884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482560" y="1608120"/>
                    <a:ext cx="153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8" name=""/>
              <p:cNvSpPr/>
              <p:nvPr/>
            </p:nvSpPr>
            <p:spPr>
              <a:xfrm>
                <a:off x="1725480" y="5425920"/>
                <a:ext cx="284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333399"/>
                    </a:solidFill>
                    <a:uFillTx/>
                    <a:latin typeface="Arial"/>
                  </a:rPr>
                  <a:t>Concentric lo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 flipH="1">
              <a:off x="2308320" y="1717560"/>
              <a:ext cx="9360" cy="3251160"/>
            </a:xfrm>
            <a:prstGeom prst="line">
              <a:avLst/>
            </a:prstGeom>
            <a:ln w="19080">
              <a:solidFill>
                <a:srgbClr val="00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38088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ial compression --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lenderness ratio: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i="1" lang="en-US" sz="2400" spc="-1" strike="noStrike" baseline="-10000">
                <a:solidFill>
                  <a:srgbClr val="33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225440" y="1473120"/>
            <a:ext cx="2185920" cy="4310280"/>
            <a:chOff x="1225440" y="1473120"/>
            <a:chExt cx="2185920" cy="431028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362240" y="1781280"/>
              <a:ext cx="1838160" cy="40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1225440" y="1473120"/>
              <a:ext cx="218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Buckling of a colum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867120" y="1282680"/>
            <a:ext cx="4052880" cy="741240"/>
            <a:chOff x="3867120" y="1282680"/>
            <a:chExt cx="4052880" cy="741240"/>
          </a:xfrm>
        </p:grpSpPr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5479920" y="1282680"/>
                  <a:ext cx="244008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,  </m:t>
                      </m:r>
                      <m:r>
                        <m:rPr>
                          <m:lit/>
                          <m:nor/>
                        </m:rPr>
                        <m:t xml:space="preserve">with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I</m:t>
                              </m:r>
                            </m:num>
                            <m:den>
                              <m:r>
                                <m:t xml:space="preserve">A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36" name=""/>
            <p:cNvSpPr/>
            <p:nvPr/>
          </p:nvSpPr>
          <p:spPr>
            <a:xfrm>
              <a:off x="3867120" y="1428840"/>
              <a:ext cx="170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efinitions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157640" y="3943440"/>
            <a:ext cx="3832200" cy="1778040"/>
            <a:chOff x="4157640" y="3943440"/>
            <a:chExt cx="3832200" cy="1778040"/>
          </a:xfrm>
        </p:grpSpPr>
        <p:sp>
          <p:nvSpPr>
            <p:cNvPr id="338" name=""/>
            <p:cNvSpPr/>
            <p:nvPr/>
          </p:nvSpPr>
          <p:spPr>
            <a:xfrm>
              <a:off x="4222800" y="4005360"/>
              <a:ext cx="245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SzPct val="15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Arial"/>
                </a:rPr>
                <a:t>Intermediate/long column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6739200" y="4338720"/>
                  <a:ext cx="8269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0" name=""/>
            <p:cNvSpPr/>
            <p:nvPr/>
          </p:nvSpPr>
          <p:spPr>
            <a:xfrm>
              <a:off x="5102280" y="4802040"/>
              <a:ext cx="2023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Calculated based on </a:t>
              </a:r>
              <a:r>
                <a:rPr b="0" i="1" lang="en-US" sz="1600" spc="-1" strike="noStrike" u="sng">
                  <a:solidFill>
                    <a:srgbClr val="333399"/>
                  </a:solidFill>
                  <a:uFillTx/>
                  <a:latin typeface="Arial"/>
                </a:rPr>
                <a:t>critical unit load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 criterion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7243920" y="4897440"/>
                  <a:ext cx="392040" cy="6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r</m:t>
                              </m:r>
                            </m:sub>
                          </m:sSub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"/>
            <p:cNvSpPr/>
            <p:nvPr/>
          </p:nvSpPr>
          <p:spPr>
            <a:xfrm>
              <a:off x="4157640" y="3943440"/>
              <a:ext cx="3832200" cy="177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152960" y="2306520"/>
            <a:ext cx="3830400" cy="1443240"/>
            <a:chOff x="4152960" y="2306520"/>
            <a:chExt cx="3830400" cy="1443240"/>
          </a:xfrm>
        </p:grpSpPr>
        <p:sp>
          <p:nvSpPr>
            <p:cNvPr id="344" name=""/>
            <p:cNvSpPr/>
            <p:nvPr/>
          </p:nvSpPr>
          <p:spPr>
            <a:xfrm>
              <a:off x="4213080" y="2405160"/>
              <a:ext cx="245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buClr>
                  <a:srgbClr val="000000"/>
                </a:buClr>
                <a:buSzPct val="15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Arial"/>
                </a:rPr>
                <a:t>Short column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6738840" y="2433600"/>
                  <a:ext cx="82728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6" name=""/>
            <p:cNvSpPr/>
            <p:nvPr/>
          </p:nvSpPr>
          <p:spPr>
            <a:xfrm>
              <a:off x="5102280" y="2820960"/>
              <a:ext cx="2023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Calculated based on compression stress criterion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7056360" y="2916360"/>
                  <a:ext cx="76680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"/>
            <p:cNvSpPr/>
            <p:nvPr/>
          </p:nvSpPr>
          <p:spPr>
            <a:xfrm>
              <a:off x="4152960" y="2306520"/>
              <a:ext cx="3830400" cy="1443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ial compression --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ng columns: concentric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225440" y="1496880"/>
            <a:ext cx="2185920" cy="4310280"/>
            <a:chOff x="1225440" y="1496880"/>
            <a:chExt cx="2185920" cy="4310280"/>
          </a:xfrm>
        </p:grpSpPr>
        <p:pic>
          <p:nvPicPr>
            <p:cNvPr id="351" name="" descr=""/>
            <p:cNvPicPr/>
            <p:nvPr/>
          </p:nvPicPr>
          <p:blipFill>
            <a:blip r:embed="rId1"/>
            <a:stretch/>
          </p:blipFill>
          <p:spPr>
            <a:xfrm>
              <a:off x="1362240" y="1805040"/>
              <a:ext cx="1838160" cy="40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1225440" y="1496880"/>
              <a:ext cx="218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Buckling of a colum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216320" y="4335480"/>
            <a:ext cx="4114800" cy="1616040"/>
            <a:chOff x="4216320" y="4335480"/>
            <a:chExt cx="4114800" cy="1616040"/>
          </a:xfrm>
        </p:grpSpPr>
        <p:sp>
          <p:nvSpPr>
            <p:cNvPr id="354" name=""/>
            <p:cNvSpPr/>
            <p:nvPr/>
          </p:nvSpPr>
          <p:spPr>
            <a:xfrm>
              <a:off x="4248000" y="4487760"/>
              <a:ext cx="361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Solution (deflection) indicate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5" name=""/>
                <p:cNvSpPr txBox="1"/>
                <p:nvPr/>
              </p:nvSpPr>
              <p:spPr>
                <a:xfrm>
                  <a:off x="4226040" y="4924440"/>
                  <a:ext cx="407016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P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I</m:t>
                                  </m:r>
                                </m:den>
                              </m:f>
                            </m:e>
                          </m:rad>
                          <m:r>
                            <m:t xml:space="preserve">x</m:t>
                          </m:r>
                        </m:e>
                      </m:d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P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I</m:t>
                                  </m:r>
                                </m:den>
                              </m:f>
                            </m:e>
                          </m:rad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56" name=""/>
            <p:cNvSpPr/>
            <p:nvPr/>
          </p:nvSpPr>
          <p:spPr>
            <a:xfrm>
              <a:off x="4216320" y="4335480"/>
              <a:ext cx="4114800" cy="161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214880" y="2276640"/>
            <a:ext cx="4114800" cy="1757160"/>
            <a:chOff x="4214880" y="2276640"/>
            <a:chExt cx="4114800" cy="1757160"/>
          </a:xfrm>
        </p:grpSpPr>
        <p:grpSp>
          <p:nvGrpSpPr>
            <p:cNvPr id="358" name=""/>
            <p:cNvGrpSpPr/>
            <p:nvPr/>
          </p:nvGrpSpPr>
          <p:grpSpPr>
            <a:xfrm>
              <a:off x="4248000" y="2327400"/>
              <a:ext cx="3859200" cy="739800"/>
              <a:chOff x="4248000" y="2327400"/>
              <a:chExt cx="3859200" cy="739800"/>
            </a:xfrm>
          </p:grpSpPr>
          <p:sp>
            <p:nvSpPr>
              <p:cNvPr id="359" name=""/>
              <p:cNvSpPr/>
              <p:nvPr/>
            </p:nvSpPr>
            <p:spPr>
              <a:xfrm>
                <a:off x="4248000" y="2496960"/>
                <a:ext cx="274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Arial"/>
                  </a:rPr>
                  <a:t>For small deflections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0" name=""/>
                  <p:cNvSpPr txBox="1"/>
                  <p:nvPr/>
                </p:nvSpPr>
                <p:spPr>
                  <a:xfrm>
                    <a:off x="6943680" y="2327400"/>
                    <a:ext cx="1163520" cy="739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61" name=""/>
            <p:cNvSpPr/>
            <p:nvPr/>
          </p:nvSpPr>
          <p:spPr>
            <a:xfrm>
              <a:off x="4214880" y="2276640"/>
              <a:ext cx="4114800" cy="1757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400480" y="4170240"/>
            <a:ext cx="1807920" cy="729720"/>
            <a:chOff x="2400480" y="4170240"/>
            <a:chExt cx="1807920" cy="729720"/>
          </a:xfrm>
        </p:grpSpPr>
        <p:sp>
          <p:nvSpPr>
            <p:cNvPr id="363" name=""/>
            <p:cNvSpPr/>
            <p:nvPr/>
          </p:nvSpPr>
          <p:spPr>
            <a:xfrm>
              <a:off x="2878200" y="4170240"/>
              <a:ext cx="446040" cy="416160"/>
            </a:xfrm>
            <a:custGeom>
              <a:avLst/>
              <a:gdLst/>
              <a:ahLst/>
              <a:rect l="l" t="t" r="r" b="b"/>
              <a:pathLst>
                <a:path w="224" h="172">
                  <a:moveTo>
                    <a:pt x="0" y="0"/>
                  </a:moveTo>
                  <a:cubicBezTo>
                    <a:pt x="33" y="59"/>
                    <a:pt x="66" y="118"/>
                    <a:pt x="83" y="128"/>
                  </a:cubicBezTo>
                  <a:cubicBezTo>
                    <a:pt x="100" y="138"/>
                    <a:pt x="79" y="50"/>
                    <a:pt x="102" y="57"/>
                  </a:cubicBezTo>
                  <a:cubicBezTo>
                    <a:pt x="125" y="64"/>
                    <a:pt x="206" y="154"/>
                    <a:pt x="224" y="1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00480" y="4562640"/>
              <a:ext cx="180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Defl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206960" y="1346040"/>
            <a:ext cx="4124160" cy="618840"/>
            <a:chOff x="4206960" y="1346040"/>
            <a:chExt cx="4124160" cy="618840"/>
          </a:xfrm>
        </p:grpSpPr>
        <p:grpSp>
          <p:nvGrpSpPr>
            <p:cNvPr id="366" name=""/>
            <p:cNvGrpSpPr/>
            <p:nvPr/>
          </p:nvGrpSpPr>
          <p:grpSpPr>
            <a:xfrm>
              <a:off x="4248000" y="1447560"/>
              <a:ext cx="3858480" cy="412560"/>
              <a:chOff x="4248000" y="1447560"/>
              <a:chExt cx="3858480" cy="412560"/>
            </a:xfrm>
          </p:grpSpPr>
          <p:sp>
            <p:nvSpPr>
              <p:cNvPr id="367" name=""/>
              <p:cNvSpPr/>
              <p:nvPr/>
            </p:nvSpPr>
            <p:spPr>
              <a:xfrm>
                <a:off x="4248000" y="1447560"/>
                <a:ext cx="2569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Arial"/>
                  </a:rPr>
                  <a:t>Bending moment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6924240" y="1523520"/>
                    <a:ext cx="1182240" cy="33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69" name=""/>
            <p:cNvSpPr/>
            <p:nvPr/>
          </p:nvSpPr>
          <p:spPr>
            <a:xfrm>
              <a:off x="4206960" y="1346040"/>
              <a:ext cx="4124160" cy="618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143240" y="3178080"/>
            <a:ext cx="4059360" cy="739800"/>
            <a:chOff x="4143240" y="3178080"/>
            <a:chExt cx="4059360" cy="739800"/>
          </a:xfrm>
        </p:grpSpPr>
        <p:grpSp>
          <p:nvGrpSpPr>
            <p:cNvPr id="371" name=""/>
            <p:cNvGrpSpPr/>
            <p:nvPr/>
          </p:nvGrpSpPr>
          <p:grpSpPr>
            <a:xfrm>
              <a:off x="5802480" y="3178080"/>
              <a:ext cx="2400120" cy="739800"/>
              <a:chOff x="5802480" y="3178080"/>
              <a:chExt cx="2400120" cy="739800"/>
            </a:xfrm>
          </p:grpSpPr>
          <p:sp>
            <p:nvSpPr>
              <p:cNvPr id="372" name=""/>
              <p:cNvSpPr/>
              <p:nvPr/>
            </p:nvSpPr>
            <p:spPr>
              <a:xfrm>
                <a:off x="5802480" y="3570480"/>
                <a:ext cx="56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3" name=""/>
                  <p:cNvSpPr txBox="1"/>
                  <p:nvPr/>
                </p:nvSpPr>
                <p:spPr>
                  <a:xfrm>
                    <a:off x="6546960" y="3178080"/>
                    <a:ext cx="1655640" cy="739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74" name=""/>
            <p:cNvSpPr/>
            <p:nvPr/>
          </p:nvSpPr>
          <p:spPr>
            <a:xfrm>
              <a:off x="4143240" y="3413160"/>
              <a:ext cx="169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0" i="1" lang="en-US" sz="1400" spc="-1" strike="noStrike">
                  <a:solidFill>
                    <a:srgbClr val="333399"/>
                  </a:solidFill>
                  <a:latin typeface="Arial"/>
                </a:rPr>
                <a:t>Governing ODE</a:t>
              </a: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38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ial compression --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ng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44480" y="1038240"/>
            <a:ext cx="15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3222720" y="800280"/>
                <a:ext cx="43624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</m:e>
                        </m:rad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</m:e>
                        </m:rad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78" name=""/>
          <p:cNvGrpSpPr/>
          <p:nvPr/>
        </p:nvGrpSpPr>
        <p:grpSpPr>
          <a:xfrm>
            <a:off x="3327480" y="1384200"/>
            <a:ext cx="3727440" cy="1112760"/>
            <a:chOff x="3327480" y="1384200"/>
            <a:chExt cx="3727440" cy="1112760"/>
          </a:xfrm>
        </p:grpSpPr>
        <p:sp>
          <p:nvSpPr>
            <p:cNvPr id="379" name=""/>
            <p:cNvSpPr/>
            <p:nvPr/>
          </p:nvSpPr>
          <p:spPr>
            <a:xfrm>
              <a:off x="4267080" y="1389240"/>
              <a:ext cx="507960" cy="547560"/>
            </a:xfrm>
            <a:custGeom>
              <a:avLst/>
              <a:gdLst/>
              <a:ahLst/>
              <a:rect l="l" t="t" r="r" b="b"/>
              <a:pathLst>
                <a:path w="224" h="172">
                  <a:moveTo>
                    <a:pt x="0" y="0"/>
                  </a:moveTo>
                  <a:cubicBezTo>
                    <a:pt x="33" y="59"/>
                    <a:pt x="66" y="118"/>
                    <a:pt x="83" y="128"/>
                  </a:cubicBezTo>
                  <a:cubicBezTo>
                    <a:pt x="100" y="138"/>
                    <a:pt x="79" y="50"/>
                    <a:pt x="102" y="57"/>
                  </a:cubicBezTo>
                  <a:cubicBezTo>
                    <a:pt x="125" y="64"/>
                    <a:pt x="206" y="154"/>
                    <a:pt x="224" y="17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27480" y="1825560"/>
              <a:ext cx="37274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r>
                <a:rPr b="0" i="1" lang="en-US" sz="2000" spc="-1" strike="noStrike" baseline="-20000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 and 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r>
                <a:rPr b="0" i="1" lang="en-US" sz="2000" spc="-1" strike="noStrike" baseline="-2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 are determined from </a:t>
              </a:r>
              <a:r>
                <a:rPr b="0" i="1" lang="en-US" sz="1600" spc="-1" strike="noStrike" u="sng">
                  <a:solidFill>
                    <a:srgbClr val="333399"/>
                  </a:solidFill>
                  <a:uFillTx/>
                  <a:latin typeface="Arial"/>
                </a:rPr>
                <a:t>boundary conditions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end conditions</a:t>
              </a: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443560" y="1384200"/>
              <a:ext cx="519120" cy="538200"/>
            </a:xfrm>
            <a:custGeom>
              <a:avLst/>
              <a:gdLst/>
              <a:ahLst/>
              <a:rect l="l" t="t" r="r" b="b"/>
              <a:pathLst>
                <a:path w="224" h="172">
                  <a:moveTo>
                    <a:pt x="0" y="0"/>
                  </a:moveTo>
                  <a:cubicBezTo>
                    <a:pt x="33" y="59"/>
                    <a:pt x="66" y="118"/>
                    <a:pt x="83" y="128"/>
                  </a:cubicBezTo>
                  <a:cubicBezTo>
                    <a:pt x="100" y="138"/>
                    <a:pt x="79" y="50"/>
                    <a:pt x="102" y="57"/>
                  </a:cubicBezTo>
                  <a:cubicBezTo>
                    <a:pt x="125" y="64"/>
                    <a:pt x="206" y="154"/>
                    <a:pt x="224" y="17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87480" y="2792520"/>
            <a:ext cx="8951760" cy="4012560"/>
            <a:chOff x="87480" y="2792520"/>
            <a:chExt cx="8951760" cy="4012560"/>
          </a:xfrm>
        </p:grpSpPr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1008000" y="3082680"/>
              <a:ext cx="7284960" cy="37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87480" y="2792520"/>
              <a:ext cx="895176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Possible end conditions (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make sure you understand BC’s in terms of slope and deflection</a:t>
              </a: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)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1573200" y="1417680"/>
            <a:ext cx="6039000" cy="896760"/>
            <a:chOff x="1573200" y="1417680"/>
            <a:chExt cx="6039000" cy="896760"/>
          </a:xfrm>
        </p:grpSpPr>
        <p:sp>
          <p:nvSpPr>
            <p:cNvPr id="386" name=""/>
            <p:cNvSpPr/>
            <p:nvPr/>
          </p:nvSpPr>
          <p:spPr>
            <a:xfrm>
              <a:off x="1573200" y="1646280"/>
              <a:ext cx="153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Deflecti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3249720" y="1417680"/>
                  <a:ext cx="4362480" cy="89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P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I</m:t>
                                  </m:r>
                                </m:den>
                              </m:f>
                            </m:e>
                          </m:rad>
                          <m:r>
                            <m:t xml:space="preserve">x</m:t>
                          </m:r>
                        </m:e>
                      </m:d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P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I</m:t>
                                  </m:r>
                                </m:den>
                              </m:f>
                            </m:e>
                          </m:rad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8" name=""/>
          <p:cNvSpPr/>
          <p:nvPr/>
        </p:nvSpPr>
        <p:spPr>
          <a:xfrm>
            <a:off x="685800" y="304920"/>
            <a:ext cx="754380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ial compression --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ng columns: end conditions + critical load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i="1" lang="en-US" sz="2800" spc="-1" strike="noStrike" baseline="-10000">
                <a:solidFill>
                  <a:srgbClr val="333399"/>
                </a:solidFill>
                <a:latin typeface="Times New Roman"/>
              </a:rPr>
              <a:t>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096200" y="2325600"/>
            <a:ext cx="48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the rounded-rounded end condi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455840" y="2828880"/>
            <a:ext cx="5178240" cy="1322280"/>
            <a:chOff x="1455840" y="2828880"/>
            <a:chExt cx="5178240" cy="1322280"/>
          </a:xfrm>
        </p:grpSpPr>
        <p:grpSp>
          <p:nvGrpSpPr>
            <p:cNvPr id="391" name=""/>
            <p:cNvGrpSpPr/>
            <p:nvPr/>
          </p:nvGrpSpPr>
          <p:grpSpPr>
            <a:xfrm>
              <a:off x="3720960" y="2828880"/>
              <a:ext cx="1684440" cy="377640"/>
              <a:chOff x="3720960" y="2828880"/>
              <a:chExt cx="1684440" cy="377640"/>
            </a:xfrm>
          </p:grpSpPr>
          <p:sp>
            <p:nvSpPr>
              <p:cNvPr id="392" name=""/>
              <p:cNvSpPr/>
              <p:nvPr/>
            </p:nvSpPr>
            <p:spPr>
              <a:xfrm>
                <a:off x="3720960" y="3012840"/>
                <a:ext cx="73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3" name=""/>
                  <p:cNvSpPr txBox="1"/>
                  <p:nvPr/>
                </p:nvSpPr>
                <p:spPr>
                  <a:xfrm>
                    <a:off x="4643280" y="2828880"/>
                    <a:ext cx="762120" cy="37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94" name=""/>
            <p:cNvGrpSpPr/>
            <p:nvPr/>
          </p:nvGrpSpPr>
          <p:grpSpPr>
            <a:xfrm>
              <a:off x="1455840" y="2857320"/>
              <a:ext cx="2060640" cy="355320"/>
              <a:chOff x="1455840" y="2857320"/>
              <a:chExt cx="2060640" cy="355320"/>
            </a:xfrm>
          </p:grpSpPr>
          <mc:AlternateContent>
            <mc:Choice xmlns:a14="http://schemas.microsoft.com/office/drawing/2010/main" Requires="a14">
              <p:sp>
                <p:nvSpPr>
                  <p:cNvPr id="395" name=""/>
                  <p:cNvSpPr txBox="1"/>
                  <p:nvPr/>
                </p:nvSpPr>
                <p:spPr>
                  <a:xfrm>
                    <a:off x="2129040" y="2857320"/>
                    <a:ext cx="1387440" cy="35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6" name=""/>
              <p:cNvSpPr/>
              <p:nvPr/>
            </p:nvSpPr>
            <p:spPr>
              <a:xfrm>
                <a:off x="1455840" y="2863440"/>
                <a:ext cx="72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"/>
                  </a:rPr>
                  <a:t>(1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1455840" y="3514680"/>
              <a:ext cx="2038320" cy="355680"/>
              <a:chOff x="1455840" y="3514680"/>
              <a:chExt cx="2038320" cy="355680"/>
            </a:xfrm>
          </p:grpSpPr>
          <mc:AlternateContent>
            <mc:Choice xmlns:a14="http://schemas.microsoft.com/office/drawing/2010/main" Requires="a14">
              <p:sp>
                <p:nvSpPr>
                  <p:cNvPr id="398" name=""/>
                  <p:cNvSpPr txBox="1"/>
                  <p:nvPr/>
                </p:nvSpPr>
                <p:spPr>
                  <a:xfrm>
                    <a:off x="2151000" y="3514680"/>
                    <a:ext cx="1343160" cy="355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9" name=""/>
              <p:cNvSpPr/>
              <p:nvPr/>
            </p:nvSpPr>
            <p:spPr>
              <a:xfrm>
                <a:off x="1455840" y="3521160"/>
                <a:ext cx="72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"/>
                  </a:rPr>
                  <a:t>(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702240" y="3255840"/>
              <a:ext cx="2931840" cy="895320"/>
              <a:chOff x="3702240" y="3255840"/>
              <a:chExt cx="2931840" cy="895320"/>
            </a:xfrm>
          </p:grpSpPr>
          <p:sp>
            <p:nvSpPr>
              <p:cNvPr id="401" name=""/>
              <p:cNvSpPr/>
              <p:nvPr/>
            </p:nvSpPr>
            <p:spPr>
              <a:xfrm>
                <a:off x="3702240" y="3679560"/>
                <a:ext cx="73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02" name=""/>
                  <p:cNvSpPr txBox="1"/>
                  <p:nvPr/>
                </p:nvSpPr>
                <p:spPr>
                  <a:xfrm>
                    <a:off x="4554720" y="3255840"/>
                    <a:ext cx="2079360" cy="89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I</m:t>
                                    </m:r>
                                  </m:den>
                                </m:f>
                              </m:e>
                            </m:rad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403" name=""/>
          <p:cNvGrpSpPr/>
          <p:nvPr/>
        </p:nvGrpSpPr>
        <p:grpSpPr>
          <a:xfrm>
            <a:off x="2057400" y="4038480"/>
            <a:ext cx="6191280" cy="2482920"/>
            <a:chOff x="2057400" y="4038480"/>
            <a:chExt cx="6191280" cy="2482920"/>
          </a:xfrm>
        </p:grpSpPr>
        <p:sp>
          <p:nvSpPr>
            <p:cNvPr id="404" name=""/>
            <p:cNvSpPr/>
            <p:nvPr/>
          </p:nvSpPr>
          <p:spPr>
            <a:xfrm>
              <a:off x="2075400" y="4038480"/>
              <a:ext cx="15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Indicating that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2152800" y="4389480"/>
                  <a:ext cx="3085920" cy="73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P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EI</m:t>
                              </m:r>
                            </m:den>
                          </m:f>
                        </m:e>
                      </m:rad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,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6" name=""/>
            <p:cNvSpPr/>
            <p:nvPr/>
          </p:nvSpPr>
          <p:spPr>
            <a:xfrm>
              <a:off x="5445000" y="4582800"/>
              <a:ext cx="265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Many solutions…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77200" y="5257800"/>
              <a:ext cx="117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Therefore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2243160" y="5661000"/>
                  <a:ext cx="337644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π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E</m:t>
                          </m:r>
                          <m:r>
                            <m:t xml:space="preserve">I</m:t>
                          </m:r>
                        </m:num>
                        <m:den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,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9" name=""/>
            <p:cNvSpPr/>
            <p:nvPr/>
          </p:nvSpPr>
          <p:spPr>
            <a:xfrm>
              <a:off x="5597640" y="5906880"/>
              <a:ext cx="26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Many critical loads…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57400" y="5241960"/>
              <a:ext cx="3535200" cy="1279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rsional 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3886200"/>
            <a:ext cx="3962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424480" cy="2362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600200" y="4495680"/>
            <a:ext cx="5965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38160"/>
            <a:ext cx="914400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ial compression --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ng columns: end conditions + critical load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i="1" lang="en-US" sz="2800" spc="-1" strike="noStrike" baseline="-10000">
                <a:solidFill>
                  <a:srgbClr val="333399"/>
                </a:solidFill>
                <a:latin typeface="Times New Roman"/>
              </a:rPr>
              <a:t>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11320" y="105732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ypically, designs are based on the smallest critical load.  Therefo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397160" y="1630440"/>
            <a:ext cx="6402240" cy="971640"/>
            <a:chOff x="1397160" y="1630440"/>
            <a:chExt cx="6402240" cy="971640"/>
          </a:xfrm>
        </p:grpSpPr>
        <p:grpSp>
          <p:nvGrpSpPr>
            <p:cNvPr id="414" name=""/>
            <p:cNvGrpSpPr/>
            <p:nvPr/>
          </p:nvGrpSpPr>
          <p:grpSpPr>
            <a:xfrm>
              <a:off x="1397160" y="1630440"/>
              <a:ext cx="3200400" cy="971640"/>
              <a:chOff x="1397160" y="1630440"/>
              <a:chExt cx="3200400" cy="971640"/>
            </a:xfrm>
          </p:grpSpPr>
          <mc:AlternateContent>
            <mc:Choice xmlns:a14="http://schemas.microsoft.com/office/drawing/2010/main" Requires="a14">
              <p:sp>
                <p:nvSpPr>
                  <p:cNvPr id="415" name=""/>
                  <p:cNvSpPr txBox="1"/>
                  <p:nvPr/>
                </p:nvSpPr>
                <p:spPr>
                  <a:xfrm>
                    <a:off x="1673280" y="1743120"/>
                    <a:ext cx="2705040" cy="738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for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6" name=""/>
              <p:cNvSpPr/>
              <p:nvPr/>
            </p:nvSpPr>
            <p:spPr>
              <a:xfrm>
                <a:off x="1397160" y="1630440"/>
                <a:ext cx="3200400" cy="971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687920" y="1770120"/>
              <a:ext cx="3111480" cy="690840"/>
              <a:chOff x="4687920" y="1770120"/>
              <a:chExt cx="3111480" cy="690840"/>
            </a:xfrm>
          </p:grpSpPr>
          <p:sp>
            <p:nvSpPr>
              <p:cNvPr id="418" name=""/>
              <p:cNvSpPr/>
              <p:nvPr/>
            </p:nvSpPr>
            <p:spPr>
              <a:xfrm>
                <a:off x="4687920" y="1944720"/>
                <a:ext cx="80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Arial"/>
                  </a:rPr>
                  <a:t>using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19" name=""/>
                  <p:cNvSpPr txBox="1"/>
                  <p:nvPr/>
                </p:nvSpPr>
                <p:spPr>
                  <a:xfrm>
                    <a:off x="5538960" y="1770120"/>
                    <a:ext cx="2260440" cy="690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and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420" name=""/>
          <p:cNvGrpSpPr/>
          <p:nvPr/>
        </p:nvGrpSpPr>
        <p:grpSpPr>
          <a:xfrm>
            <a:off x="703440" y="2541600"/>
            <a:ext cx="8046360" cy="2752560"/>
            <a:chOff x="703440" y="2541600"/>
            <a:chExt cx="8046360" cy="2752560"/>
          </a:xfrm>
        </p:grpSpPr>
        <mc:AlternateContent>
          <mc:Choice xmlns:a14="http://schemas.microsoft.com/office/drawing/2010/main" Requires="a14">
            <p:sp>
              <p:nvSpPr>
                <p:cNvPr id="421" name=""/>
                <p:cNvSpPr txBox="1"/>
                <p:nvPr/>
              </p:nvSpPr>
              <p:spPr>
                <a:xfrm>
                  <a:off x="1114560" y="3541680"/>
                  <a:ext cx="257004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r</m:t>
                              </m:r>
                            </m:sub>
                          </m:sSub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E</m:t>
                          </m:r>
                        </m:num>
                        <m:den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for 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2" name=""/>
            <p:cNvSpPr/>
            <p:nvPr/>
          </p:nvSpPr>
          <p:spPr>
            <a:xfrm>
              <a:off x="3867120" y="3637080"/>
              <a:ext cx="2782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Critical </a:t>
              </a: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load per unit area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 in terms of slenderness rat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1014120" y="4389480"/>
              <a:ext cx="4391280" cy="757080"/>
              <a:chOff x="1014120" y="4389480"/>
              <a:chExt cx="4391280" cy="757080"/>
            </a:xfrm>
          </p:grpSpPr>
          <p:sp>
            <p:nvSpPr>
              <p:cNvPr id="424" name=""/>
              <p:cNvSpPr/>
              <p:nvPr/>
            </p:nvSpPr>
            <p:spPr>
              <a:xfrm>
                <a:off x="1014120" y="4602240"/>
                <a:ext cx="2494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"/>
                  </a:rPr>
                  <a:t>Corresponding deflection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25" name=""/>
                  <p:cNvSpPr txBox="1"/>
                  <p:nvPr/>
                </p:nvSpPr>
                <p:spPr>
                  <a:xfrm>
                    <a:off x="3614760" y="4389480"/>
                    <a:ext cx="1790640" cy="75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26" name=""/>
            <p:cNvSpPr/>
            <p:nvPr/>
          </p:nvSpPr>
          <p:spPr>
            <a:xfrm>
              <a:off x="703440" y="3170160"/>
              <a:ext cx="6105240" cy="212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92840" y="3608280"/>
              <a:ext cx="12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ff0000"/>
                  </a:solidFill>
                  <a:uFillTx/>
                  <a:latin typeface="Arial"/>
                </a:rPr>
                <a:t>For BC’s</a:t>
              </a: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6689880" y="3952800"/>
              <a:ext cx="2059920" cy="355320"/>
              <a:chOff x="6689880" y="3952800"/>
              <a:chExt cx="2059920" cy="355320"/>
            </a:xfrm>
          </p:grpSpPr>
          <mc:AlternateContent>
            <mc:Choice xmlns:a14="http://schemas.microsoft.com/office/drawing/2010/main" Requires="a14">
              <p:sp>
                <p:nvSpPr>
                  <p:cNvPr id="429" name=""/>
                  <p:cNvSpPr txBox="1"/>
                  <p:nvPr/>
                </p:nvSpPr>
                <p:spPr>
                  <a:xfrm>
                    <a:off x="7362720" y="3952800"/>
                    <a:ext cx="1387080" cy="35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0" name=""/>
              <p:cNvSpPr/>
              <p:nvPr/>
            </p:nvSpPr>
            <p:spPr>
              <a:xfrm>
                <a:off x="6689880" y="3958920"/>
                <a:ext cx="72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"/>
                  </a:rPr>
                  <a:t>(1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6696000" y="4305240"/>
              <a:ext cx="2038320" cy="355680"/>
              <a:chOff x="6696000" y="4305240"/>
              <a:chExt cx="2038320" cy="355680"/>
            </a:xfrm>
          </p:grpSpPr>
          <mc:AlternateContent>
            <mc:Choice xmlns:a14="http://schemas.microsoft.com/office/drawing/2010/main" Requires="a14">
              <p:sp>
                <p:nvSpPr>
                  <p:cNvPr id="432" name=""/>
                  <p:cNvSpPr txBox="1"/>
                  <p:nvPr/>
                </p:nvSpPr>
                <p:spPr>
                  <a:xfrm>
                    <a:off x="7391160" y="4305240"/>
                    <a:ext cx="1343160" cy="355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3" name=""/>
              <p:cNvSpPr/>
              <p:nvPr/>
            </p:nvSpPr>
            <p:spPr>
              <a:xfrm>
                <a:off x="6696000" y="4311720"/>
                <a:ext cx="72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"/>
                  </a:rPr>
                  <a:t>(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 flipH="1">
              <a:off x="5597280" y="2541600"/>
              <a:ext cx="771480" cy="3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3520" y="76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ial compression --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ng columns: other BC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11320" y="1057320"/>
            <a:ext cx="715320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 order to take into account other boundary conditions, the concept of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effective length, </a:t>
            </a: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i="1" lang="en-US" sz="2200" spc="-1" strike="noStrike" baseline="-10000">
                <a:solidFill>
                  <a:srgbClr val="333399"/>
                </a:solidFill>
                <a:latin typeface="Times New Roman"/>
              </a:rPr>
              <a:t>eff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, is introduc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862360" y="1892160"/>
                <a:ext cx="9604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38" name=""/>
          <p:cNvGrpSpPr/>
          <p:nvPr/>
        </p:nvGrpSpPr>
        <p:grpSpPr>
          <a:xfrm>
            <a:off x="4049640" y="1871640"/>
            <a:ext cx="2144880" cy="757440"/>
            <a:chOff x="4049640" y="1871640"/>
            <a:chExt cx="2144880" cy="757440"/>
          </a:xfrm>
        </p:grpSpPr>
        <p:sp>
          <p:nvSpPr>
            <p:cNvPr id="439" name=""/>
            <p:cNvSpPr/>
            <p:nvPr/>
          </p:nvSpPr>
          <p:spPr>
            <a:xfrm>
              <a:off x="4049640" y="2251080"/>
              <a:ext cx="73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4965840" y="1871640"/>
                  <a:ext cx="122868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r</m:t>
                              </m:r>
                            </m:sub>
                          </m:sSub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E</m:t>
                          </m:r>
                        </m:num>
                        <m:den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41" name="" descr=""/>
          <p:cNvPicPr/>
          <p:nvPr/>
        </p:nvPicPr>
        <p:blipFill>
          <a:blip r:embed="rId1"/>
          <a:srcRect l="0" t="7298" r="0" b="4493"/>
          <a:stretch/>
        </p:blipFill>
        <p:spPr>
          <a:xfrm>
            <a:off x="457200" y="3124080"/>
            <a:ext cx="8319960" cy="28958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569880" y="3048120"/>
            <a:ext cx="8077320" cy="304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38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ing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neral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111320" y="2143080"/>
            <a:ext cx="7153200" cy="1486440"/>
            <a:chOff x="1111320" y="2143080"/>
            <a:chExt cx="7153200" cy="1486440"/>
          </a:xfrm>
        </p:grpSpPr>
        <p:sp>
          <p:nvSpPr>
            <p:cNvPr id="445" name=""/>
            <p:cNvSpPr/>
            <p:nvPr/>
          </p:nvSpPr>
          <p:spPr>
            <a:xfrm>
              <a:off x="1111320" y="2143080"/>
              <a:ext cx="715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2)  Determine cross-section parameters of a proposed colum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55680" y="2557440"/>
              <a:ext cx="320040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rea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oment of inertia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Radius of gyration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111320" y="3654360"/>
            <a:ext cx="7170840" cy="1385280"/>
            <a:chOff x="1111320" y="3654360"/>
            <a:chExt cx="7170840" cy="1385280"/>
          </a:xfrm>
        </p:grpSpPr>
        <p:sp>
          <p:nvSpPr>
            <p:cNvPr id="448" name=""/>
            <p:cNvSpPr/>
            <p:nvPr/>
          </p:nvSpPr>
          <p:spPr>
            <a:xfrm>
              <a:off x="1111320" y="3809880"/>
              <a:ext cx="715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3)  Determine slenderness ratio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55680" y="4365720"/>
              <a:ext cx="61264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1"/>
                </a:spcBef>
                <a:buClr>
                  <a:srgbClr val="000000"/>
                </a:buClr>
                <a:buSzPct val="13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Identify boundary conditions (BC’s) and apply appropriate value for the effective length </a:t>
              </a:r>
              <a:r>
                <a:rPr b="1" i="1" lang="en-US" sz="21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i="1" lang="en-US" sz="2100" spc="-1" strike="noStrike" baseline="-10000">
                  <a:solidFill>
                    <a:srgbClr val="ff0000"/>
                  </a:solidFill>
                  <a:latin typeface="Times New Roman"/>
                </a:rPr>
                <a:t>eff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--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use appropriate table (Table 4-3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4564080" y="3654360"/>
                  <a:ext cx="96048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ff</m:t>
                              </m:r>
                            </m:sub>
                          </m:sSub>
                        </m:num>
                        <m:den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1" name=""/>
          <p:cNvSpPr/>
          <p:nvPr/>
        </p:nvSpPr>
        <p:spPr>
          <a:xfrm>
            <a:off x="1101600" y="5372280"/>
            <a:ext cx="715356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)  Identify material to use and its corresponding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compressive yield      strength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i="1" lang="en-US" sz="2200" spc="-1" strike="noStrike" baseline="-10000">
                <a:solidFill>
                  <a:srgbClr val="333399"/>
                </a:solidFill>
                <a:latin typeface="Times New Roman"/>
              </a:rPr>
              <a:t>yc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elastic modulu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108080" y="1041480"/>
            <a:ext cx="72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)  Determine force to be supported and expected length of the column (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design objective and corresponding constraint(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).  Use free-body diagram(s) and equilibrium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025640" y="186228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) Determine slenderness ratio at half-yie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50960" y="2276640"/>
            <a:ext cx="32004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200" spc="-1" strike="noStrike" baseline="-1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200" spc="-1" strike="noStrike" baseline="-1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is obtained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667480" y="1876320"/>
                <a:ext cx="6728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1809720" y="2876400"/>
            <a:ext cx="32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 Set the load per unit area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011560" y="2698920"/>
                <a:ext cx="11145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6245280" y="2790720"/>
            <a:ext cx="208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Half the yield strength value in compression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19440" y="3533760"/>
            <a:ext cx="32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 Therefo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443400" y="3332160"/>
                <a:ext cx="12715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E</m:t>
                        </m:r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1828800" y="4267080"/>
            <a:ext cx="65152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 Solve for slenderness ratio -- using previous equation, (b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his is the slenderness ratio at half-yield in compr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417840" y="4998960"/>
                <a:ext cx="17496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E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c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>
            <a:off x="6421320" y="18795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Design criterio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371600" y="53352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ing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neral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495360" y="145908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5) Determine type of colum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39720" y="1882800"/>
            <a:ext cx="41562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Johnso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i="1" lang="en-US" sz="2000" spc="-1" strike="noStrike" baseline="-10000">
                <a:solidFill>
                  <a:srgbClr val="333399"/>
                </a:solidFill>
                <a:latin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tep 3) &lt; 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i="1" lang="en-US" sz="2000" spc="-1" strike="noStrike" baseline="-10000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-10000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Step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uler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i="1" lang="en-US" sz="2000" spc="-1" strike="noStrike" baseline="-10000">
                <a:solidFill>
                  <a:srgbClr val="333399"/>
                </a:solidFill>
                <a:latin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tep 3) &gt; 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i="1" lang="en-US" sz="2000" spc="-1" strike="noStrike" baseline="-10000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-10000">
                <a:solidFill>
                  <a:srgbClr val="333399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Step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5029200" y="3124080"/>
            <a:ext cx="3733920" cy="32767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533520" y="304812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6) Determine critical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54040" y="3713040"/>
            <a:ext cx="415620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Johnso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uler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755720" y="3432240"/>
                <a:ext cx="3017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c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yc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467000" y="4557600"/>
                <a:ext cx="13856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E</m:t>
                        </m:r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762120" y="3049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ing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neral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171440" y="1698480"/>
            <a:ext cx="71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) Determine allowed lo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97120" y="2112840"/>
            <a:ext cx="320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160880" y="1547640"/>
                <a:ext cx="147492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llow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2206800" y="2243160"/>
            <a:ext cx="41558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i="1" lang="en-US" sz="2000" spc="-1" strike="noStrike" baseline="-10000">
                <a:solidFill>
                  <a:srgbClr val="333399"/>
                </a:solidFill>
                <a:latin typeface="Times New Roman"/>
              </a:rPr>
              <a:t>c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s the critical load (step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F</a:t>
            </a:r>
            <a:r>
              <a:rPr b="0" i="1" lang="en-US" sz="2000" spc="-1" strike="noStrike" baseline="-10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s the security factor ( &gt;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62080" y="3279600"/>
            <a:ext cx="7153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) I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i="1" lang="en-US" sz="2000" spc="-1" strike="noStrike" baseline="-10000">
                <a:solidFill>
                  <a:srgbClr val="333399"/>
                </a:solidFill>
                <a:latin typeface="Times New Roman"/>
              </a:rPr>
              <a:t>allowed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is &gt; than force to be supported, then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, a satisfactory design has been obtained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--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 necessarily the optima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!!  Go to step (1) and refine your design,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if possibl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190520" y="4603680"/>
            <a:ext cx="715356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9) I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i="1" lang="en-US" sz="2000" spc="-1" strike="noStrike" baseline="-10000">
                <a:solidFill>
                  <a:srgbClr val="333399"/>
                </a:solidFill>
                <a:latin typeface="Times New Roman"/>
              </a:rPr>
              <a:t>allowed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is &lt; than force to be supported, then, go to step (1) and improve design. 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You can select a different section and/or materia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6880" y="5791320"/>
            <a:ext cx="3932280" cy="580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Use of MathCad or TKSolver is strongly recommended 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ing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neral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rsional Lo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s for Closed Circular Cross Se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105520" y="152280"/>
            <a:ext cx="3809880" cy="165888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455760" y="2668680"/>
            <a:ext cx="6346800" cy="3884400"/>
            <a:chOff x="455760" y="2668680"/>
            <a:chExt cx="6346800" cy="3884400"/>
          </a:xfrm>
        </p:grpSpPr>
        <p:grpSp>
          <p:nvGrpSpPr>
            <p:cNvPr id="156" name=""/>
            <p:cNvGrpSpPr/>
            <p:nvPr/>
          </p:nvGrpSpPr>
          <p:grpSpPr>
            <a:xfrm>
              <a:off x="533520" y="2819520"/>
              <a:ext cx="6269040" cy="3663720"/>
              <a:chOff x="533520" y="2819520"/>
              <a:chExt cx="6269040" cy="3663720"/>
            </a:xfrm>
          </p:grpSpPr>
          <p:pic>
            <p:nvPicPr>
              <p:cNvPr id="1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520" y="2819520"/>
                <a:ext cx="6269040" cy="329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9480" y="6019920"/>
                <a:ext cx="6134400" cy="46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" name=""/>
            <p:cNvSpPr/>
            <p:nvPr/>
          </p:nvSpPr>
          <p:spPr>
            <a:xfrm>
              <a:off x="455760" y="2668680"/>
              <a:ext cx="6252840" cy="38844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858000" y="2666880"/>
            <a:ext cx="2138400" cy="3884760"/>
            <a:chOff x="6858000" y="2666880"/>
            <a:chExt cx="2138400" cy="38847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7238880" y="5410080"/>
              <a:ext cx="140976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6934320" y="2819520"/>
              <a:ext cx="1949400" cy="25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"/>
            <p:cNvGrpSpPr/>
            <p:nvPr/>
          </p:nvGrpSpPr>
          <p:grpSpPr>
            <a:xfrm>
              <a:off x="6934320" y="3733920"/>
              <a:ext cx="1890720" cy="750240"/>
              <a:chOff x="6934320" y="3733920"/>
              <a:chExt cx="1890720" cy="750240"/>
            </a:xfrm>
          </p:grpSpPr>
          <p:pic>
            <p:nvPicPr>
              <p:cNvPr id="16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315200" y="3886200"/>
                <a:ext cx="1206360" cy="59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34320" y="3733920"/>
                <a:ext cx="396720" cy="21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315200" y="3733920"/>
                <a:ext cx="15098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7" name="" descr=""/>
            <p:cNvPicPr/>
            <p:nvPr/>
          </p:nvPicPr>
          <p:blipFill>
            <a:blip r:embed="rId9"/>
            <a:stretch/>
          </p:blipFill>
          <p:spPr>
            <a:xfrm>
              <a:off x="6934320" y="5181480"/>
              <a:ext cx="204948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6858000" y="2666880"/>
              <a:ext cx="2138400" cy="3884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rsional Lo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s for Non-Circular Cross Se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2133720"/>
            <a:ext cx="6251400" cy="4343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03252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087880" cy="4319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515484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609480" y="380880"/>
            <a:ext cx="5333760" cy="2814480"/>
            <a:chOff x="609480" y="380880"/>
            <a:chExt cx="5333760" cy="281448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609480" y="380880"/>
              <a:ext cx="522936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609480" y="1790640"/>
              <a:ext cx="5333760" cy="140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019920" y="228600"/>
            <a:ext cx="1071360" cy="1585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467480" y="304920"/>
            <a:ext cx="1374840" cy="1468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6019920" y="1905120"/>
            <a:ext cx="1307880" cy="1400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7543800" y="1828800"/>
            <a:ext cx="1409760" cy="140976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609480" y="3352680"/>
            <a:ext cx="7777440" cy="3156120"/>
            <a:chOff x="609480" y="3352680"/>
            <a:chExt cx="7777440" cy="3156120"/>
          </a:xfrm>
        </p:grpSpPr>
        <p:grpSp>
          <p:nvGrpSpPr>
            <p:cNvPr id="183" name=""/>
            <p:cNvGrpSpPr/>
            <p:nvPr/>
          </p:nvGrpSpPr>
          <p:grpSpPr>
            <a:xfrm>
              <a:off x="609480" y="3352680"/>
              <a:ext cx="7777440" cy="3156120"/>
              <a:chOff x="609480" y="3352680"/>
              <a:chExt cx="7777440" cy="3156120"/>
            </a:xfrm>
          </p:grpSpPr>
          <p:pic>
            <p:nvPicPr>
              <p:cNvPr id="18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09480" y="3352680"/>
                <a:ext cx="6032520" cy="315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315200" y="4114800"/>
                <a:ext cx="1071720" cy="15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6" name=""/>
            <p:cNvSpPr/>
            <p:nvPr/>
          </p:nvSpPr>
          <p:spPr>
            <a:xfrm>
              <a:off x="4876920" y="5486400"/>
              <a:ext cx="533160" cy="457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5999400" cy="817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010280" y="2438280"/>
            <a:ext cx="1746360" cy="1881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447920" y="2590920"/>
            <a:ext cx="5189400" cy="2430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sion tube design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4191120"/>
            <a:ext cx="53352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sion tube design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85800" y="990720"/>
            <a:ext cx="6032520" cy="2514600"/>
            <a:chOff x="685800" y="990720"/>
            <a:chExt cx="6032520" cy="251460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rcRect l="0" t="0" r="0" b="34490"/>
            <a:stretch/>
          </p:blipFill>
          <p:spPr>
            <a:xfrm>
              <a:off x="685800" y="990720"/>
              <a:ext cx="60325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876920" y="2971800"/>
              <a:ext cx="533160" cy="381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86600" y="1905120"/>
            <a:ext cx="1577880" cy="177156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762120" y="3505320"/>
            <a:ext cx="7961040" cy="3235320"/>
            <a:chOff x="762120" y="3505320"/>
            <a:chExt cx="7961040" cy="323532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762120" y="3505320"/>
              <a:ext cx="5830920" cy="10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7010280" y="3962520"/>
              <a:ext cx="1712880" cy="191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" name=""/>
            <p:cNvGrpSpPr/>
            <p:nvPr/>
          </p:nvGrpSpPr>
          <p:grpSpPr>
            <a:xfrm>
              <a:off x="1447920" y="4495680"/>
              <a:ext cx="5189400" cy="2244960"/>
              <a:chOff x="1447920" y="4495680"/>
              <a:chExt cx="5189400" cy="2244960"/>
            </a:xfrm>
          </p:grpSpPr>
          <p:pic>
            <p:nvPicPr>
              <p:cNvPr id="2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7920" y="4495680"/>
                <a:ext cx="5189400" cy="224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4952880" y="6248520"/>
                <a:ext cx="457200" cy="3808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0T19:49:40Z</dcterms:created>
  <dc:creator>R. L. Norton</dc:creator>
  <dc:description/>
  <dc:language>en-US</dc:language>
  <cp:lastModifiedBy>norton</cp:lastModifiedBy>
  <dcterms:modified xsi:type="dcterms:W3CDTF">2006-01-08T00:30:07Z</dcterms:modified>
  <cp:revision>16</cp:revision>
  <dc:subject/>
  <dc:title>Torsion, Columns, and Other Neat Stuff</dc:title>
</cp:coreProperties>
</file>