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8675-233B-4A90-BFCF-2C81A8CE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45BA-9A7D-4C25-8BF5-98AE78AA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AE98-291C-45E0-9FF7-74E6701B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BACA7-373F-4997-B004-3D00F7D6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1534-F726-414C-8F2E-759B483F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15A5-AA52-4D46-AED7-35EC9709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AC54-6B92-4EE3-B409-080FD02E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96C6-099D-48CC-A241-6B2FD735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6CC8-A783-47E0-A01E-75E7F888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3CF6-7A54-4830-9A88-E4895B77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0C89-9138-47CB-B597-D7516AC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D29D-5C75-4A81-9C31-C7D0747B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9DC6-FBB9-4E9A-9F64-3EF79AA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878C-0247-4CE0-957F-7F30A56E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CBB8-DA10-4E9F-BA87-0740009E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427F-2CCF-4919-AB7B-C4BE227E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0FA3-0E99-44DB-9D3B-03EB65A4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4C1E-C482-478D-8EE2-AE99A84D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97C0-860A-46F2-A51C-CB825B9B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B23D-F214-4761-B780-2F6A358C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0552-2625-45FD-8853-0FE959B9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9AB3-9677-4BBD-8CEF-E5886E2D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5502-582F-4371-ABA8-4C58DCC0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D788-E501-41DA-BA5C-3EBDBCA1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CC2F-3082-430A-BC87-108569F78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0FC5-5536-498D-90AA-3DD860848B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1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no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ors 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19:22:06Z</dcterms:created>
  <dc:creator>R. L. Norton</dc:creator>
  <dc:description/>
  <dc:language>en-US</dc:language>
  <cp:lastModifiedBy>R. L. Norton</cp:lastModifiedBy>
  <dcterms:modified xsi:type="dcterms:W3CDTF">2005-12-31T19:24:36Z</dcterms:modified>
  <cp:revision>1</cp:revision>
  <dc:subject/>
  <dc:title>Quiz 1</dc:title>
</cp:coreProperties>
</file>