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0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36B-0993-49C2-9BC8-F502406C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9AB-716D-42B3-B1DC-E6B9BEBF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FA3-147C-4250-83F1-B24778E7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F7D-A2F0-4435-9B73-99568385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B754E-3405-45D0-B3F6-C7FFDE97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C9C90-1B58-43A1-B3E2-991E03DA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327A7-1238-45C9-B010-279C4C4B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79F92-886B-435B-AE88-1B6B7C56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63F73-3F3C-4558-A6CD-F4E92F91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AF657-D4E2-4D31-B684-1605D8C0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C413D-CA73-4BD9-8AA4-19FDAD62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B89-83DC-4C24-9552-1A6F0FA2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97CE9-C36B-4600-A609-631DCE1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724F2-23D2-44F5-9981-E0B26901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AD229-A12A-4193-8678-12B5A34B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43E0F-60CA-4721-B8BF-AEBD7B5D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AE00D-AFD5-46DE-890E-3ECD363C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6ABB-309F-40BB-8F29-BA2E7CBE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E4D9-B052-4BB1-B79F-CAAE3ED3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63FC-A9AF-46C8-B5E2-88133443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C39B0-CE31-45EF-B76D-318AAC5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0F1E4-7273-4F78-929C-751B0F2A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547-8E07-4886-955C-27A070F1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E7562-34D8-45CE-AB15-FB5A202D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CC301-76DA-40D6-A3DF-846EF87E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C7CD-327A-4966-A3D0-E394AE6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15B5-6BB9-4F78-9FE4-0A4439B9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0A63-5DE0-4EBF-95EB-B595F65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B065-2515-45FB-A8BC-714F042E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C1A2-DFB2-4B63-B996-8B589435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DBB-919A-443E-BC3C-9936A963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E67-532B-42CC-8C1F-32CBC4F9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3D5-76C8-44AC-89BB-333FDB66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B69-2C79-44FC-BA93-6E2E8FA9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5CC-BC82-46E0-8FDB-7BBF1256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971-7051-4DBC-9EA1-69B1394B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05BF-D8C7-404C-855C-59677C9EA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C0D4-21A0-47AB-9F89-EF01F3994A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B7FD-5918-4496-A85B-172A79704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lure Specimen B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596960" y="1755720"/>
                <a:ext cx="1139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uctile materials: total strain ener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81800" y="1285920"/>
            <a:ext cx="52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sing previous expressions, total strain energy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93400" y="2467080"/>
            <a:ext cx="3962880" cy="831600"/>
            <a:chOff x="1193400" y="2467080"/>
            <a:chExt cx="3962880" cy="831600"/>
          </a:xfrm>
        </p:grpSpPr>
        <p:sp>
          <p:nvSpPr>
            <p:cNvPr id="212" name=""/>
            <p:cNvSpPr/>
            <p:nvPr/>
          </p:nvSpPr>
          <p:spPr>
            <a:xfrm>
              <a:off x="1193400" y="2467080"/>
              <a:ext cx="293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which can be expressed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3749760" y="2943000"/>
                  <a:ext cx="140652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1422360" y="3371760"/>
            <a:ext cx="3065040" cy="3222720"/>
            <a:chOff x="1422360" y="3371760"/>
            <a:chExt cx="3065040" cy="3222720"/>
          </a:xfrm>
        </p:grpSpPr>
        <p:sp>
          <p:nvSpPr>
            <p:cNvPr id="215" name=""/>
            <p:cNvSpPr/>
            <p:nvPr/>
          </p:nvSpPr>
          <p:spPr>
            <a:xfrm flipV="1">
              <a:off x="3751200" y="3371760"/>
              <a:ext cx="628200" cy="52056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63360" y="3909960"/>
              <a:ext cx="196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Hydrostatic ener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798560" y="4394160"/>
                  <a:ext cx="205704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ν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E</m:t>
                          </m:r>
                        </m:den>
                      </m:f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820520" y="5221080"/>
                  <a:ext cx="2012760" cy="69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1490400" y="6216480"/>
                  <a:ext cx="29970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0" name=""/>
            <p:cNvSpPr/>
            <p:nvPr/>
          </p:nvSpPr>
          <p:spPr>
            <a:xfrm>
              <a:off x="1422360" y="5919840"/>
              <a:ext cx="226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Obtained by setting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889520" y="3392280"/>
            <a:ext cx="3475080" cy="2644560"/>
            <a:chOff x="4889520" y="3392280"/>
            <a:chExt cx="3475080" cy="2644560"/>
          </a:xfrm>
        </p:grpSpPr>
        <p:sp>
          <p:nvSpPr>
            <p:cNvPr id="222" name=""/>
            <p:cNvSpPr/>
            <p:nvPr/>
          </p:nvSpPr>
          <p:spPr>
            <a:xfrm flipH="1" flipV="1">
              <a:off x="4958640" y="3391920"/>
              <a:ext cx="569880" cy="46980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92840" y="3909960"/>
              <a:ext cx="21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Distortion ener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4967280" y="4394160"/>
                  <a:ext cx="3198960" cy="107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ν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E</m:t>
                              </m:r>
                            </m:den>
                          </m:f>
                          <m:r>
                            <m:t xml:space="preserve">[</m:t>
                          </m:r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954840" y="5681520"/>
                  <a:ext cx="140976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4889520" y="5689440"/>
              <a:ext cx="226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Obtained by setting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43280" y="1746360"/>
                <a:ext cx="5118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[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drostatic Str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2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uniform and equal in all dir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 ball bearing at the ocean botto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cks in earth’s mantle see 5500 psi/mile versus  their ultimate compressive strength of 3000 ps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ll hydrostatic compressive stress fail a materia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.  Its Mohr’s circle is a dot on the Sigma ax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 hydrostatic tension will not fail a glass mar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ffe’s experiment with a ‘cool’ mar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19000" y="458640"/>
            <a:ext cx="7539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uctile materials: distortion ener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16000" y="1635120"/>
                <a:ext cx="51642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[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1413000" y="2633760"/>
            <a:ext cx="6273720" cy="1774800"/>
            <a:chOff x="1413000" y="2633760"/>
            <a:chExt cx="6273720" cy="1774800"/>
          </a:xfrm>
        </p:grpSpPr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4000680" y="3257640"/>
                  <a:ext cx="89532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057560" y="3645000"/>
                  <a:ext cx="7812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4068720" y="4052880"/>
                  <a:ext cx="7574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1413000" y="2633760"/>
              <a:ext cx="627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A tensile test specimen has a </a:t>
              </a:r>
              <a:r>
                <a:rPr b="1" i="1" lang="en-US" sz="1600" spc="-1" strike="noStrike" u="sng">
                  <a:solidFill>
                    <a:srgbClr val="333399"/>
                  </a:solidFill>
                  <a:uFillTx/>
                  <a:latin typeface="Arial"/>
                </a:rPr>
                <a:t>uniaxial  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stress state, so at yiel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27360" y="3232080"/>
              <a:ext cx="1789200" cy="115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527120" y="4565520"/>
            <a:ext cx="6962760" cy="1276560"/>
            <a:chOff x="1527120" y="4565520"/>
            <a:chExt cx="6962760" cy="1276560"/>
          </a:xfrm>
        </p:grpSpPr>
        <p:sp>
          <p:nvSpPr>
            <p:cNvPr id="239" name=""/>
            <p:cNvSpPr/>
            <p:nvPr/>
          </p:nvSpPr>
          <p:spPr>
            <a:xfrm>
              <a:off x="1527120" y="4565520"/>
              <a:ext cx="596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Therefore the distortion energy in the test specimen at yield i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3695760" y="5151600"/>
                  <a:ext cx="151776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ν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E</m:t>
                          </m:r>
                        </m:den>
                      </m:f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41" name=""/>
            <p:cNvSpPr/>
            <p:nvPr/>
          </p:nvSpPr>
          <p:spPr>
            <a:xfrm>
              <a:off x="5506920" y="5168880"/>
              <a:ext cx="2982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333399"/>
                  </a:solidFill>
                  <a:uFillTx/>
                  <a:latin typeface="Arial"/>
                </a:rPr>
                <a:t>Uniaxial yield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stress  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(at tensile test yield failu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62000" y="212760"/>
            <a:ext cx="6699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uctile materials: distortion ener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77880" y="1208160"/>
            <a:ext cx="6280200" cy="1220760"/>
            <a:chOff x="677880" y="1208160"/>
            <a:chExt cx="6280200" cy="1220760"/>
          </a:xfrm>
        </p:grpSpPr>
        <p:sp>
          <p:nvSpPr>
            <p:cNvPr id="244" name=""/>
            <p:cNvSpPr/>
            <p:nvPr/>
          </p:nvSpPr>
          <p:spPr>
            <a:xfrm>
              <a:off x="677880" y="1208160"/>
              <a:ext cx="604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For a general state of combined multiaxial stress in a par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1792440" y="1738440"/>
                  <a:ext cx="516564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ν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E</m:t>
                          </m:r>
                        </m:den>
                      </m:f>
                      <m:r>
                        <m:t xml:space="preserve">[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"/>
          <p:cNvGrpSpPr/>
          <p:nvPr/>
        </p:nvGrpSpPr>
        <p:grpSpPr>
          <a:xfrm>
            <a:off x="595440" y="2784600"/>
            <a:ext cx="8150040" cy="3209040"/>
            <a:chOff x="595440" y="2784600"/>
            <a:chExt cx="8150040" cy="3209040"/>
          </a:xfrm>
        </p:grpSpPr>
        <p:grpSp>
          <p:nvGrpSpPr>
            <p:cNvPr id="247" name=""/>
            <p:cNvGrpSpPr/>
            <p:nvPr/>
          </p:nvGrpSpPr>
          <p:grpSpPr>
            <a:xfrm>
              <a:off x="1790640" y="4330800"/>
              <a:ext cx="1827360" cy="1662840"/>
              <a:chOff x="1790640" y="4330800"/>
              <a:chExt cx="1827360" cy="1662840"/>
            </a:xfrm>
          </p:grpSpPr>
          <p:sp>
            <p:nvSpPr>
              <p:cNvPr id="248" name=""/>
              <p:cNvSpPr/>
              <p:nvPr/>
            </p:nvSpPr>
            <p:spPr>
              <a:xfrm flipH="1" flipV="1">
                <a:off x="2432160" y="4330800"/>
                <a:ext cx="325440" cy="641520"/>
              </a:xfrm>
              <a:custGeom>
                <a:avLst/>
                <a:gdLst/>
                <a:ahLst/>
                <a:rect l="l" t="t" r="r" b="b"/>
                <a:pathLst>
                  <a:path w="857" h="395">
                    <a:moveTo>
                      <a:pt x="0" y="24"/>
                    </a:moveTo>
                    <a:cubicBezTo>
                      <a:pt x="131" y="80"/>
                      <a:pt x="263" y="136"/>
                      <a:pt x="320" y="139"/>
                    </a:cubicBezTo>
                    <a:cubicBezTo>
                      <a:pt x="377" y="142"/>
                      <a:pt x="256" y="0"/>
                      <a:pt x="345" y="43"/>
                    </a:cubicBezTo>
                    <a:cubicBezTo>
                      <a:pt x="434" y="86"/>
                      <a:pt x="769" y="315"/>
                      <a:pt x="857" y="395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90640" y="4926240"/>
                <a:ext cx="18273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Distortion energy in a uniaxially loaded test specimen at yiel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792680" y="4296960"/>
              <a:ext cx="1827360" cy="1495800"/>
              <a:chOff x="4792680" y="4296960"/>
              <a:chExt cx="1827360" cy="1495800"/>
            </a:xfrm>
          </p:grpSpPr>
          <p:sp>
            <p:nvSpPr>
              <p:cNvPr id="251" name=""/>
              <p:cNvSpPr/>
              <p:nvPr/>
            </p:nvSpPr>
            <p:spPr>
              <a:xfrm flipH="1" flipV="1">
                <a:off x="5421240" y="4296600"/>
                <a:ext cx="325440" cy="641160"/>
              </a:xfrm>
              <a:custGeom>
                <a:avLst/>
                <a:gdLst/>
                <a:ahLst/>
                <a:rect l="l" t="t" r="r" b="b"/>
                <a:pathLst>
                  <a:path w="857" h="395">
                    <a:moveTo>
                      <a:pt x="0" y="24"/>
                    </a:moveTo>
                    <a:cubicBezTo>
                      <a:pt x="131" y="80"/>
                      <a:pt x="263" y="136"/>
                      <a:pt x="320" y="139"/>
                    </a:cubicBezTo>
                    <a:cubicBezTo>
                      <a:pt x="377" y="142"/>
                      <a:pt x="256" y="0"/>
                      <a:pt x="345" y="43"/>
                    </a:cubicBezTo>
                    <a:cubicBezTo>
                      <a:pt x="434" y="86"/>
                      <a:pt x="769" y="315"/>
                      <a:pt x="857" y="395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92680" y="4968720"/>
                <a:ext cx="1827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Distortion energy: in a part loaded in combined str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1854360" y="3643200"/>
                  <a:ext cx="93636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ν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E</m:t>
                          </m:r>
                        </m:den>
                      </m:f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"/>
            <p:cNvSpPr/>
            <p:nvPr/>
          </p:nvSpPr>
          <p:spPr>
            <a:xfrm>
              <a:off x="595440" y="2784600"/>
              <a:ext cx="815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A failure criterion is obtained by setting a part’s distortion energy from its combined multiaxial stres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equal to that of a uniaxial test specimen at yiel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3510000" y="3630600"/>
                  <a:ext cx="458316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ν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E</m:t>
                          </m:r>
                        </m:den>
                      </m:f>
                      <m:r>
                        <m:t xml:space="preserve">[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990880" y="3929040"/>
                  <a:ext cx="24588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7" name=""/>
          <p:cNvSpPr/>
          <p:nvPr/>
        </p:nvSpPr>
        <p:spPr>
          <a:xfrm>
            <a:off x="852480" y="6091200"/>
            <a:ext cx="63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en these are equal, the part has yielded and so has fai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1080" y="351000"/>
            <a:ext cx="8793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uctile materials: distortion energy --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Von Mises effective st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78200" y="21225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om previous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67480" y="36576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refo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09880" y="4062240"/>
            <a:ext cx="5252760" cy="119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71360" y="459900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(at yiel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670040" y="2647800"/>
            <a:ext cx="5931000" cy="750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274840" y="4167360"/>
            <a:ext cx="4548240" cy="1028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80960" y="5448240"/>
            <a:ext cx="47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a two-dimensional stress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3483000" y="5896080"/>
            <a:ext cx="24541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43344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-D Distortion-Energy El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27120" y="1525680"/>
            <a:ext cx="78883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3320" y="26676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3-D Distortion Energy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69880" y="1228680"/>
            <a:ext cx="80247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33320" y="26676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3-D Distortion Energy Cylinder and its Ellip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50800" y="1171440"/>
            <a:ext cx="783900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71560" y="266760"/>
            <a:ext cx="68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Von Mises effective st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48080" y="2447280"/>
            <a:ext cx="325440" cy="641160"/>
          </a:xfrm>
          <a:custGeom>
            <a:avLst/>
            <a:gdLst/>
            <a:ahLst/>
            <a:rect l="l" t="t" r="r" b="b"/>
            <a:pathLst>
              <a:path w="857" h="395">
                <a:moveTo>
                  <a:pt x="0" y="24"/>
                </a:moveTo>
                <a:cubicBezTo>
                  <a:pt x="131" y="80"/>
                  <a:pt x="263" y="136"/>
                  <a:pt x="320" y="139"/>
                </a:cubicBezTo>
                <a:cubicBezTo>
                  <a:pt x="377" y="142"/>
                  <a:pt x="256" y="0"/>
                  <a:pt x="345" y="43"/>
                </a:cubicBezTo>
                <a:cubicBezTo>
                  <a:pt x="434" y="86"/>
                  <a:pt x="769" y="315"/>
                  <a:pt x="857" y="395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73240" y="2927520"/>
            <a:ext cx="29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von Mises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effective s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0480" y="3543480"/>
            <a:ext cx="79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Von Mises effective stress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: the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uniaxial tensile stress that would create the same distortion energy as is created by an actual combination of applied st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1400" y="490536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Safety fac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984400" y="4749840"/>
                <a:ext cx="15192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4614840" y="4564080"/>
            <a:ext cx="3546360" cy="337320"/>
            <a:chOff x="4614840" y="4564080"/>
            <a:chExt cx="3546360" cy="337320"/>
          </a:xfrm>
        </p:grpSpPr>
        <p:sp>
          <p:nvSpPr>
            <p:cNvPr id="280" name=""/>
            <p:cNvSpPr/>
            <p:nvPr/>
          </p:nvSpPr>
          <p:spPr>
            <a:xfrm flipH="1">
              <a:off x="4614840" y="4714920"/>
              <a:ext cx="588960" cy="14112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16400" y="4564080"/>
              <a:ext cx="29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Yield strength of the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573440" y="5400360"/>
            <a:ext cx="3222360" cy="408960"/>
            <a:chOff x="4573440" y="5400360"/>
            <a:chExt cx="3222360" cy="408960"/>
          </a:xfrm>
        </p:grpSpPr>
        <p:sp>
          <p:nvSpPr>
            <p:cNvPr id="283" name=""/>
            <p:cNvSpPr/>
            <p:nvPr/>
          </p:nvSpPr>
          <p:spPr>
            <a:xfrm>
              <a:off x="5286240" y="5472000"/>
              <a:ext cx="25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von Mises effective st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573440" y="5400000"/>
              <a:ext cx="588960" cy="18396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811600" y="4643280"/>
            <a:ext cx="1717560" cy="89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133280" y="2093760"/>
            <a:ext cx="5814720" cy="444600"/>
            <a:chOff x="1133280" y="2093760"/>
            <a:chExt cx="5814720" cy="444600"/>
          </a:xfrm>
        </p:grpSpPr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2363760" y="2093760"/>
                  <a:ext cx="458424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"/>
            <p:cNvSpPr/>
            <p:nvPr/>
          </p:nvSpPr>
          <p:spPr>
            <a:xfrm>
              <a:off x="1133280" y="213192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finiti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77960" y="851040"/>
            <a:ext cx="78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tortion energy theory is used to create a so-called von Mises effective stress to allow direct comparison of a multiaxial stress state with the available uniaxial yield strength data to create a static safety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uctile materials: distortion ener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99800" y="119052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ample: pure shear st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08680" y="2300400"/>
            <a:ext cx="4419000" cy="1465200"/>
            <a:chOff x="1408680" y="2300400"/>
            <a:chExt cx="4419000" cy="1465200"/>
          </a:xfrm>
        </p:grpSpPr>
        <p:grpSp>
          <p:nvGrpSpPr>
            <p:cNvPr id="293" name=""/>
            <p:cNvGrpSpPr/>
            <p:nvPr/>
          </p:nvGrpSpPr>
          <p:grpSpPr>
            <a:xfrm>
              <a:off x="1408680" y="2300400"/>
              <a:ext cx="3718800" cy="876240"/>
              <a:chOff x="1408680" y="2300400"/>
              <a:chExt cx="3718800" cy="876240"/>
            </a:xfrm>
          </p:grpSpPr>
          <mc:AlternateContent>
            <mc:Choice xmlns:a14="http://schemas.microsoft.com/office/drawing/2010/main" Requires="a14">
              <p:sp>
                <p:nvSpPr>
                  <p:cNvPr id="294" name=""/>
                  <p:cNvSpPr txBox="1"/>
                  <p:nvPr/>
                </p:nvSpPr>
                <p:spPr>
                  <a:xfrm>
                    <a:off x="2063880" y="2709720"/>
                    <a:ext cx="3063600" cy="46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" name=""/>
              <p:cNvSpPr/>
              <p:nvPr/>
            </p:nvSpPr>
            <p:spPr>
              <a:xfrm>
                <a:off x="1408680" y="2300400"/>
                <a:ext cx="123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Therefore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2451240" y="3298680"/>
                  <a:ext cx="337644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"/>
          <p:cNvGrpSpPr/>
          <p:nvPr/>
        </p:nvGrpSpPr>
        <p:grpSpPr>
          <a:xfrm>
            <a:off x="1402560" y="1647720"/>
            <a:ext cx="5777640" cy="422280"/>
            <a:chOff x="1402560" y="1647720"/>
            <a:chExt cx="5777640" cy="422280"/>
          </a:xfrm>
        </p:grpSpPr>
        <p:sp>
          <p:nvSpPr>
            <p:cNvPr id="298" name=""/>
            <p:cNvSpPr/>
            <p:nvPr/>
          </p:nvSpPr>
          <p:spPr>
            <a:xfrm>
              <a:off x="1402560" y="169704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Using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2773080" y="1647720"/>
                  <a:ext cx="44071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475000" y="3859200"/>
                <a:ext cx="14097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130800" y="2055960"/>
            <a:ext cx="2475000" cy="226836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1582200" y="4322880"/>
            <a:ext cx="5860800" cy="882360"/>
            <a:chOff x="1582200" y="4322880"/>
            <a:chExt cx="5860800" cy="882360"/>
          </a:xfrm>
        </p:grpSpPr>
        <p:grpSp>
          <p:nvGrpSpPr>
            <p:cNvPr id="303" name=""/>
            <p:cNvGrpSpPr/>
            <p:nvPr/>
          </p:nvGrpSpPr>
          <p:grpSpPr>
            <a:xfrm>
              <a:off x="1582200" y="4322880"/>
              <a:ext cx="2159640" cy="846000"/>
              <a:chOff x="1582200" y="4322880"/>
              <a:chExt cx="2159640" cy="846000"/>
            </a:xfrm>
          </p:grpSpPr>
          <p:sp>
            <p:nvSpPr>
              <p:cNvPr id="304" name=""/>
              <p:cNvSpPr/>
              <p:nvPr/>
            </p:nvSpPr>
            <p:spPr>
              <a:xfrm>
                <a:off x="1582200" y="432288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5" name=""/>
                  <p:cNvSpPr txBox="1"/>
                  <p:nvPr/>
                </p:nvSpPr>
                <p:spPr>
                  <a:xfrm>
                    <a:off x="2470320" y="4457880"/>
                    <a:ext cx="1271520" cy="711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06" name=""/>
            <p:cNvSpPr/>
            <p:nvPr/>
          </p:nvSpPr>
          <p:spPr>
            <a:xfrm>
              <a:off x="4159800" y="4624560"/>
              <a:ext cx="328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failure occurs, </a:t>
              </a:r>
              <a:r>
                <a:rPr b="0" i="1" lang="en-US" sz="1600" spc="-1" strike="noStrike" u="sng">
                  <a:solidFill>
                    <a:srgbClr val="333399"/>
                  </a:solidFill>
                  <a:uFillTx/>
                  <a:latin typeface="Arial"/>
                </a:rPr>
                <a:t>in pure shear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,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this equation holds 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77880" y="5419800"/>
            <a:ext cx="7996320" cy="792000"/>
            <a:chOff x="677880" y="5419800"/>
            <a:chExt cx="7996320" cy="792000"/>
          </a:xfrm>
        </p:grpSpPr>
        <p:grpSp>
          <p:nvGrpSpPr>
            <p:cNvPr id="308" name=""/>
            <p:cNvGrpSpPr/>
            <p:nvPr/>
          </p:nvGrpSpPr>
          <p:grpSpPr>
            <a:xfrm>
              <a:off x="763560" y="5459400"/>
              <a:ext cx="7764480" cy="711360"/>
              <a:chOff x="763560" y="5459400"/>
              <a:chExt cx="7764480" cy="711360"/>
            </a:xfrm>
          </p:grpSpPr>
          <p:sp>
            <p:nvSpPr>
              <p:cNvPr id="309" name=""/>
              <p:cNvSpPr/>
              <p:nvPr/>
            </p:nvSpPr>
            <p:spPr>
              <a:xfrm>
                <a:off x="763560" y="5641920"/>
                <a:ext cx="390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"/>
                  </a:rPr>
                  <a:t>Stress at failure, in this case, is therefore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0" name=""/>
                  <p:cNvSpPr txBox="1"/>
                  <p:nvPr/>
                </p:nvSpPr>
                <p:spPr>
                  <a:xfrm>
                    <a:off x="6022800" y="5459400"/>
                    <a:ext cx="2505240" cy="711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11" name=""/>
            <p:cNvSpPr/>
            <p:nvPr/>
          </p:nvSpPr>
          <p:spPr>
            <a:xfrm>
              <a:off x="677880" y="5419800"/>
              <a:ext cx="7996320" cy="792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tic Failure of Ductile Materi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uctile materials: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aximum shear-stress the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20160" y="1219320"/>
            <a:ext cx="690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Mohr Circle.  This theory states that failure occur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865160" y="1866960"/>
            <a:ext cx="5272200" cy="1117440"/>
            <a:chOff x="1865160" y="1866960"/>
            <a:chExt cx="5272200" cy="1117440"/>
          </a:xfrm>
        </p:grpSpPr>
        <p:sp>
          <p:nvSpPr>
            <p:cNvPr id="315" name=""/>
            <p:cNvSpPr/>
            <p:nvPr/>
          </p:nvSpPr>
          <p:spPr>
            <a:xfrm>
              <a:off x="2058480" y="2476440"/>
              <a:ext cx="488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Maximum stress before failure -- shear-stress the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3840120" y="2013120"/>
                  <a:ext cx="132084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1865160" y="1866960"/>
              <a:ext cx="5272200" cy="1117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274920" y="3564000"/>
            <a:ext cx="2667240" cy="2398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009080" y="3191040"/>
            <a:ext cx="75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hr circle of tensile 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ows that shear stress is half tensile at fail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8120" y="6116760"/>
            <a:ext cx="84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is more conservative than von Mises and so is OK to use but is less accu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uctile mate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116000" y="1352520"/>
            <a:ext cx="664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Normal Stress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39840" y="874800"/>
            <a:ext cx="8462880" cy="20257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693800" y="2817720"/>
            <a:ext cx="5965920" cy="2944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1120" y="5923080"/>
            <a:ext cx="78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failure envelope for normal stress is outside the distortion energy ellipse and so is an unsafe predictor of failure in ductile materi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819000" y="266760"/>
            <a:ext cx="7537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ptable 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For Ductile mate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29880" y="131112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afety fact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917800" y="1936800"/>
                <a:ext cx="15192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30" name=""/>
          <p:cNvGrpSpPr/>
          <p:nvPr/>
        </p:nvGrpSpPr>
        <p:grpSpPr>
          <a:xfrm>
            <a:off x="4548240" y="1703520"/>
            <a:ext cx="3546360" cy="337320"/>
            <a:chOff x="4548240" y="1703520"/>
            <a:chExt cx="3546360" cy="337320"/>
          </a:xfrm>
        </p:grpSpPr>
        <p:sp>
          <p:nvSpPr>
            <p:cNvPr id="331" name=""/>
            <p:cNvSpPr/>
            <p:nvPr/>
          </p:nvSpPr>
          <p:spPr>
            <a:xfrm flipH="1">
              <a:off x="4548240" y="1854000"/>
              <a:ext cx="588960" cy="14076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49800" y="1703520"/>
              <a:ext cx="29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Yield strength of the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506840" y="2587320"/>
            <a:ext cx="3222360" cy="408960"/>
            <a:chOff x="4506840" y="2587320"/>
            <a:chExt cx="3222360" cy="408960"/>
          </a:xfrm>
        </p:grpSpPr>
        <p:sp>
          <p:nvSpPr>
            <p:cNvPr id="334" name=""/>
            <p:cNvSpPr/>
            <p:nvPr/>
          </p:nvSpPr>
          <p:spPr>
            <a:xfrm>
              <a:off x="5219640" y="2658960"/>
              <a:ext cx="25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von Mises effective st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4506840" y="2586960"/>
              <a:ext cx="588960" cy="18396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725560" y="1830240"/>
            <a:ext cx="1717920" cy="89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95680" y="1979640"/>
            <a:ext cx="17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istorti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o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814680" y="4754520"/>
            <a:ext cx="7066800" cy="1513440"/>
            <a:chOff x="814680" y="4754520"/>
            <a:chExt cx="7066800" cy="1513440"/>
          </a:xfrm>
        </p:grpSpPr>
        <p:grpSp>
          <p:nvGrpSpPr>
            <p:cNvPr id="339" name=""/>
            <p:cNvGrpSpPr/>
            <p:nvPr/>
          </p:nvGrpSpPr>
          <p:grpSpPr>
            <a:xfrm>
              <a:off x="2725560" y="5032080"/>
              <a:ext cx="2549520" cy="893880"/>
              <a:chOff x="2725560" y="5032080"/>
              <a:chExt cx="2549520" cy="893880"/>
            </a:xfrm>
          </p:grpSpPr>
          <mc:AlternateContent>
            <mc:Choice xmlns:a14="http://schemas.microsoft.com/office/drawing/2010/main" Requires="a14">
              <p:sp>
                <p:nvSpPr>
                  <p:cNvPr id="340" name=""/>
                  <p:cNvSpPr txBox="1"/>
                  <p:nvPr/>
                </p:nvSpPr>
                <p:spPr>
                  <a:xfrm>
                    <a:off x="3122280" y="5127480"/>
                    <a:ext cx="1700280" cy="71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1" name=""/>
              <p:cNvSpPr/>
              <p:nvPr/>
            </p:nvSpPr>
            <p:spPr>
              <a:xfrm>
                <a:off x="2725560" y="5032080"/>
                <a:ext cx="2549520" cy="8938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814680" y="5189400"/>
              <a:ext cx="179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Max. shear-st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theor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5643360" y="4754520"/>
                  <a:ext cx="127296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4" name=""/>
            <p:cNvSpPr/>
            <p:nvPr/>
          </p:nvSpPr>
          <p:spPr>
            <a:xfrm flipH="1">
              <a:off x="4933800" y="4941720"/>
              <a:ext cx="588960" cy="14112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32000" y="5859360"/>
              <a:ext cx="2949480" cy="408600"/>
              <a:chOff x="4932000" y="5859360"/>
              <a:chExt cx="2949480" cy="408600"/>
            </a:xfrm>
          </p:grpSpPr>
          <p:sp>
            <p:nvSpPr>
              <p:cNvPr id="346" name=""/>
              <p:cNvSpPr/>
              <p:nvPr/>
            </p:nvSpPr>
            <p:spPr>
              <a:xfrm>
                <a:off x="5646240" y="5930640"/>
                <a:ext cx="22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Maximum shear-str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932000" y="5859360"/>
                <a:ext cx="588960" cy="184320"/>
              </a:xfrm>
              <a:custGeom>
                <a:avLst/>
                <a:gdLst/>
                <a:ahLst/>
                <a:rect l="l" t="t" r="r" b="b"/>
                <a:pathLst>
                  <a:path w="857" h="395">
                    <a:moveTo>
                      <a:pt x="0" y="24"/>
                    </a:moveTo>
                    <a:cubicBezTo>
                      <a:pt x="131" y="80"/>
                      <a:pt x="263" y="136"/>
                      <a:pt x="320" y="139"/>
                    </a:cubicBezTo>
                    <a:cubicBezTo>
                      <a:pt x="377" y="142"/>
                      <a:pt x="256" y="0"/>
                      <a:pt x="345" y="43"/>
                    </a:cubicBezTo>
                    <a:cubicBezTo>
                      <a:pt x="434" y="86"/>
                      <a:pt x="769" y="315"/>
                      <a:pt x="857" y="395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655920" y="3233880"/>
            <a:ext cx="6927840" cy="1345320"/>
            <a:chOff x="655920" y="3233880"/>
            <a:chExt cx="6927840" cy="1345320"/>
          </a:xfrm>
        </p:grpSpPr>
        <p:sp>
          <p:nvSpPr>
            <p:cNvPr id="349" name=""/>
            <p:cNvSpPr/>
            <p:nvPr/>
          </p:nvSpPr>
          <p:spPr>
            <a:xfrm>
              <a:off x="655920" y="350388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Distortion ener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theory (pure shear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3122280" y="3467160"/>
                  <a:ext cx="169992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F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y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2725560" y="3372120"/>
              <a:ext cx="2549160" cy="893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5662440" y="3233880"/>
                  <a:ext cx="156636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77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3" name=""/>
            <p:cNvSpPr/>
            <p:nvPr/>
          </p:nvSpPr>
          <p:spPr>
            <a:xfrm flipH="1">
              <a:off x="4999680" y="3429000"/>
              <a:ext cx="588600" cy="14148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5074560" y="4170600"/>
              <a:ext cx="2509200" cy="408600"/>
              <a:chOff x="5074560" y="4170600"/>
              <a:chExt cx="2509200" cy="408600"/>
            </a:xfrm>
          </p:grpSpPr>
          <p:sp>
            <p:nvSpPr>
              <p:cNvPr id="355" name=""/>
              <p:cNvSpPr/>
              <p:nvPr/>
            </p:nvSpPr>
            <p:spPr>
              <a:xfrm>
                <a:off x="5789160" y="4241880"/>
                <a:ext cx="1794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Max. shear-str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5074200" y="4170600"/>
                <a:ext cx="588600" cy="184320"/>
              </a:xfrm>
              <a:custGeom>
                <a:avLst/>
                <a:gdLst/>
                <a:ahLst/>
                <a:rect l="l" t="t" r="r" b="b"/>
                <a:pathLst>
                  <a:path w="857" h="395">
                    <a:moveTo>
                      <a:pt x="0" y="24"/>
                    </a:moveTo>
                    <a:cubicBezTo>
                      <a:pt x="131" y="80"/>
                      <a:pt x="263" y="136"/>
                      <a:pt x="320" y="139"/>
                    </a:cubicBezTo>
                    <a:cubicBezTo>
                      <a:pt x="377" y="142"/>
                      <a:pt x="256" y="0"/>
                      <a:pt x="345" y="43"/>
                    </a:cubicBezTo>
                    <a:cubicBezTo>
                      <a:pt x="434" y="86"/>
                      <a:pt x="769" y="315"/>
                      <a:pt x="857" y="395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uctile mate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247760" y="1000080"/>
            <a:ext cx="6850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85840" y="1320840"/>
            <a:ext cx="86994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1320" y="127620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fferent failure theories apply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46320" y="1706400"/>
            <a:ext cx="41562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ctile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ittle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280" y="257040"/>
            <a:ext cx="76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ads are assumed to be constant with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43080" y="548172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y do we need different theories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8120" y="2754360"/>
            <a:ext cx="62690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Vs. Uneven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000" y="1131840"/>
            <a:ext cx="377496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equal tensile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v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strength is less than tens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 to be ductile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: wrought steel, aluminum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anium, magnesium, a few pla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82760" y="1090440"/>
            <a:ext cx="467820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ven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higher compressive than tensile str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ar strength is between tensile and com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d to be brittle (cast or sintered)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cast iron, cast aluminum, sintered metal, ceram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262400" y="3508200"/>
            <a:ext cx="4589640" cy="2811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1880" y="3740040"/>
            <a:ext cx="28274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n does a material break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1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kage occurs when a material’s weakest strength is exceeded by its type of str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ctile materials tend to fail in shea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ittle (cast/sintered) materials tend to fail in ten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 materials will break first in compres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 even material, being ductile, will yield and “squash” rather than break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 uneven material, being weaker in shear than compression, will fail in shear before comp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01920" y="1374840"/>
            <a:ext cx="4392720" cy="2193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319480" y="3905280"/>
            <a:ext cx="4689360" cy="212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ension t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63400" y="3506760"/>
            <a:ext cx="1462320" cy="265896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5140440" y="5380200"/>
            <a:ext cx="1730520" cy="1154520"/>
            <a:chOff x="5140440" y="5380200"/>
            <a:chExt cx="1730520" cy="1154520"/>
          </a:xfrm>
        </p:grpSpPr>
        <p:sp>
          <p:nvSpPr>
            <p:cNvPr id="162" name=""/>
            <p:cNvSpPr/>
            <p:nvPr/>
          </p:nvSpPr>
          <p:spPr>
            <a:xfrm>
              <a:off x="5140440" y="5380200"/>
              <a:ext cx="579240" cy="872640"/>
            </a:xfrm>
            <a:custGeom>
              <a:avLst/>
              <a:gdLst/>
              <a:ahLst/>
              <a:rect l="l" t="t" r="r" b="b"/>
              <a:pathLst>
                <a:path w="250" h="710">
                  <a:moveTo>
                    <a:pt x="67" y="0"/>
                  </a:moveTo>
                  <a:cubicBezTo>
                    <a:pt x="36" y="144"/>
                    <a:pt x="6" y="289"/>
                    <a:pt x="3" y="352"/>
                  </a:cubicBezTo>
                  <a:cubicBezTo>
                    <a:pt x="0" y="415"/>
                    <a:pt x="10" y="384"/>
                    <a:pt x="47" y="378"/>
                  </a:cubicBezTo>
                  <a:cubicBezTo>
                    <a:pt x="84" y="372"/>
                    <a:pt x="204" y="259"/>
                    <a:pt x="227" y="314"/>
                  </a:cubicBezTo>
                  <a:cubicBezTo>
                    <a:pt x="250" y="369"/>
                    <a:pt x="218" y="623"/>
                    <a:pt x="188" y="71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41320" y="6227640"/>
              <a:ext cx="152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Why nearly 0</a:t>
              </a:r>
              <a:r>
                <a:rPr b="0" lang="en-US" sz="1400" spc="-1" strike="noStrike" baseline="30000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 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157880" y="1468440"/>
            <a:ext cx="1847880" cy="1662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7093080" y="4149720"/>
            <a:ext cx="1847880" cy="1662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264960" y="1442880"/>
            <a:ext cx="248940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mpression t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88840" y="1976400"/>
            <a:ext cx="6851880" cy="2684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30440" y="2930400"/>
            <a:ext cx="1179720" cy="1123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8840" y="3929040"/>
            <a:ext cx="14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oes not 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040440" y="3029040"/>
            <a:ext cx="2333520" cy="1218240"/>
            <a:chOff x="6040440" y="3029040"/>
            <a:chExt cx="2333520" cy="1218240"/>
          </a:xfrm>
        </p:grpSpPr>
        <p:sp>
          <p:nvSpPr>
            <p:cNvPr id="172" name=""/>
            <p:cNvSpPr/>
            <p:nvPr/>
          </p:nvSpPr>
          <p:spPr>
            <a:xfrm>
              <a:off x="6040440" y="3029040"/>
              <a:ext cx="1179360" cy="1123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8840" y="3940200"/>
              <a:ext cx="13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Brea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310440" y="4151160"/>
            <a:ext cx="396720" cy="1127160"/>
          </a:xfrm>
          <a:custGeom>
            <a:avLst/>
            <a:gdLst/>
            <a:ahLst/>
            <a:rect l="l" t="t" r="r" b="b"/>
            <a:pathLst>
              <a:path w="250" h="710">
                <a:moveTo>
                  <a:pt x="67" y="0"/>
                </a:moveTo>
                <a:cubicBezTo>
                  <a:pt x="36" y="144"/>
                  <a:pt x="6" y="289"/>
                  <a:pt x="3" y="352"/>
                </a:cubicBezTo>
                <a:cubicBezTo>
                  <a:pt x="0" y="415"/>
                  <a:pt x="10" y="384"/>
                  <a:pt x="47" y="378"/>
                </a:cubicBezTo>
                <a:cubicBezTo>
                  <a:pt x="84" y="372"/>
                  <a:pt x="204" y="259"/>
                  <a:pt x="227" y="314"/>
                </a:cubicBezTo>
                <a:cubicBezTo>
                  <a:pt x="250" y="369"/>
                  <a:pt x="218" y="623"/>
                  <a:pt x="188" y="71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76800" y="5337000"/>
            <a:ext cx="2375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Why does it break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Why breaks at about 45</a:t>
            </a:r>
            <a:r>
              <a:rPr b="0" lang="en-US" sz="1400" spc="-1" strike="noStrike" baseline="30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27520" y="4122720"/>
            <a:ext cx="396720" cy="1127160"/>
          </a:xfrm>
          <a:custGeom>
            <a:avLst/>
            <a:gdLst/>
            <a:ahLst/>
            <a:rect l="l" t="t" r="r" b="b"/>
            <a:pathLst>
              <a:path w="250" h="710">
                <a:moveTo>
                  <a:pt x="67" y="0"/>
                </a:moveTo>
                <a:cubicBezTo>
                  <a:pt x="36" y="144"/>
                  <a:pt x="6" y="289"/>
                  <a:pt x="3" y="352"/>
                </a:cubicBezTo>
                <a:cubicBezTo>
                  <a:pt x="0" y="415"/>
                  <a:pt x="10" y="384"/>
                  <a:pt x="47" y="378"/>
                </a:cubicBezTo>
                <a:cubicBezTo>
                  <a:pt x="84" y="372"/>
                  <a:pt x="204" y="259"/>
                  <a:pt x="227" y="314"/>
                </a:cubicBezTo>
                <a:cubicBezTo>
                  <a:pt x="250" y="369"/>
                  <a:pt x="218" y="623"/>
                  <a:pt x="188" y="71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5840" y="5346720"/>
            <a:ext cx="20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Why doesn’t it break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999120" y="236520"/>
            <a:ext cx="184788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74720" y="297000"/>
            <a:ext cx="76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3120" y="1057320"/>
            <a:ext cx="8631360" cy="2175480"/>
            <a:chOff x="303120" y="1057320"/>
            <a:chExt cx="8631360" cy="2175480"/>
          </a:xfrm>
        </p:grpSpPr>
        <p:sp>
          <p:nvSpPr>
            <p:cNvPr id="181" name=""/>
            <p:cNvSpPr/>
            <p:nvPr/>
          </p:nvSpPr>
          <p:spPr>
            <a:xfrm>
              <a:off x="303120" y="1057320"/>
              <a:ext cx="86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Failure theories that can apply to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uctile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material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46320" y="1487520"/>
              <a:ext cx="6156360" cy="174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otal strain energy theory (unsaf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istortion energy theory (most accura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ure shear-stress theory (unsaf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ximum shear-stress theory (conservativ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ximum normal stress theory (unsaf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94000" y="2011320"/>
              <a:ext cx="588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94000" y="2658960"/>
              <a:ext cx="588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04920" y="3344760"/>
            <a:ext cx="8642160" cy="1587960"/>
            <a:chOff x="304920" y="3344760"/>
            <a:chExt cx="8642160" cy="1587960"/>
          </a:xfrm>
        </p:grpSpPr>
        <p:sp>
          <p:nvSpPr>
            <p:cNvPr id="186" name=""/>
            <p:cNvSpPr/>
            <p:nvPr/>
          </p:nvSpPr>
          <p:spPr>
            <a:xfrm>
              <a:off x="304920" y="3344760"/>
              <a:ext cx="864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Failure theories that can apply to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rittle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material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47760" y="3860640"/>
              <a:ext cx="641196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ximum normal stress theory (unsaf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ulomb-Mohr theory (conservativ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odified Mohr theory (most accura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06600" y="4390920"/>
              <a:ext cx="588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06600" y="4753080"/>
              <a:ext cx="588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38120" y="5154480"/>
            <a:ext cx="84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rrows point to theories that correctly predict failure within reasonable err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3960" y="5657760"/>
            <a:ext cx="84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 NOT use any that are not indicated with red arrows in each cas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66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uctile mate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11320" y="1228680"/>
            <a:ext cx="71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otal strain energy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362480" y="1306440"/>
            <a:ext cx="324468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330280" y="2023920"/>
            <a:ext cx="2903760" cy="1024920"/>
            <a:chOff x="2330280" y="2023920"/>
            <a:chExt cx="2903760" cy="102492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506680" y="2023920"/>
                  <a:ext cx="1139760" cy="69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E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3873600" y="2178000"/>
              <a:ext cx="1360440" cy="62712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30280" y="2711520"/>
              <a:ext cx="15638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0" i="1" lang="en-US" sz="1600" spc="-1" strike="noStrike" u="sng">
                  <a:solidFill>
                    <a:srgbClr val="333399"/>
                  </a:solidFill>
                  <a:uFillTx/>
                  <a:latin typeface="Arial"/>
                </a:rPr>
                <a:t>Elastic range</a:t>
              </a: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874800" y="4064040"/>
                <a:ext cx="3956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1628640" y="4701960"/>
            <a:ext cx="3302280" cy="1191600"/>
            <a:chOff x="1628640" y="4701960"/>
            <a:chExt cx="3302280" cy="1191600"/>
          </a:xfrm>
        </p:grpSpPr>
        <p:sp>
          <p:nvSpPr>
            <p:cNvPr id="201" name=""/>
            <p:cNvSpPr/>
            <p:nvPr/>
          </p:nvSpPr>
          <p:spPr>
            <a:xfrm>
              <a:off x="1628640" y="5556240"/>
              <a:ext cx="330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0" i="1" lang="en-US" sz="1600" spc="-1" strike="noStrike" u="sng">
                  <a:solidFill>
                    <a:srgbClr val="333399"/>
                  </a:solidFill>
                  <a:uFillTx/>
                  <a:latin typeface="Arial"/>
                </a:rPr>
                <a:t>Principal 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stresses and strains</a:t>
              </a: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182760" y="4701600"/>
              <a:ext cx="468360" cy="906120"/>
            </a:xfrm>
            <a:custGeom>
              <a:avLst/>
              <a:gdLst/>
              <a:ahLst/>
              <a:rect l="l" t="t" r="r" b="b"/>
              <a:pathLst>
                <a:path w="857" h="395">
                  <a:moveTo>
                    <a:pt x="0" y="24"/>
                  </a:moveTo>
                  <a:cubicBezTo>
                    <a:pt x="131" y="80"/>
                    <a:pt x="263" y="136"/>
                    <a:pt x="320" y="139"/>
                  </a:cubicBezTo>
                  <a:cubicBezTo>
                    <a:pt x="377" y="142"/>
                    <a:pt x="256" y="0"/>
                    <a:pt x="345" y="43"/>
                  </a:cubicBezTo>
                  <a:cubicBezTo>
                    <a:pt x="434" y="86"/>
                    <a:pt x="769" y="315"/>
                    <a:pt x="857" y="39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35640" y="3952800"/>
            <a:ext cx="3038400" cy="2235240"/>
            <a:chOff x="5435640" y="3952800"/>
            <a:chExt cx="3038400" cy="223524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65600" y="4041720"/>
                  <a:ext cx="286092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E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ν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ν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5565600" y="4714920"/>
                  <a:ext cx="277200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E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ν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ν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565600" y="5416560"/>
                  <a:ext cx="274968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E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ν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ν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5435640" y="3952800"/>
              <a:ext cx="3038400" cy="2235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/>
  <dc:language>en-US</dc:language>
  <cp:lastModifiedBy>norton</cp:lastModifiedBy>
  <cp:lastPrinted>2003-01-25T19:43:07Z</cp:lastPrinted>
  <dcterms:modified xsi:type="dcterms:W3CDTF">2006-01-08T00:24:05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