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0D12-BA91-4924-A264-2311B51B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B6B8E-565A-4CE1-BC57-E6EDCE82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DCA54-2280-4BC3-BAFC-C57F6913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21196-5171-48F0-A2A4-B030A667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8731-16F4-480B-B6BC-21F54048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BA9D-DF8E-458C-A653-F8417DC4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BE40-C4D2-4F64-8887-609C8BAD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73F3-1FCF-4BBA-8BA2-B77A8362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123A-B525-48A2-AA42-83CF0FF6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B60D-D25C-438B-A71A-7A7C8EB7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FF5D-FC79-4E98-A654-591ACFB5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607C2-494F-4752-A691-EF919318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389E-BD32-4099-A656-641B8DB5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C3EB-62AD-4BA7-8337-7DC7214A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1163-D817-4CB6-B8A2-D6FD8DCE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1591-07EB-423F-BC47-5212010E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01EB-81AE-482F-A86B-282F13FF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D670-30CD-437F-8C5A-22D5B327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F5ED2-F775-48B4-992E-B9CFCE02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9899C-3206-4B93-A415-AB28E2D3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EF23A-A2F0-49E0-85F9-535E00CF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2206-B447-466D-A3CB-00B1AEFC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5CA7-C86E-43A6-AF5E-43A3F41B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1D364-9ECF-4340-BC6A-E2B0DFFA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3600-0680-443F-AE11-E9A0533C0A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058F-882B-4530-A724-2C75DF03C7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Quiz 5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2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z 5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b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no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culators all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 min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2:36:35Z</dcterms:created>
  <dc:creator>R. L. Norton</dc:creator>
  <dc:description/>
  <dc:language>en-US</dc:language>
  <cp:lastModifiedBy>R. L. Norton</cp:lastModifiedBy>
  <dcterms:modified xsi:type="dcterms:W3CDTF">2006-01-03T02:24:19Z</dcterms:modified>
  <cp:revision>5</cp:revision>
  <dc:subject/>
  <dc:title>Quiz 2</dc:title>
</cp:coreProperties>
</file>