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13D05-BC3A-4562-8FDE-C29DF61BA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104A0-9F10-43D6-84C9-92747DF0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601DB-4021-4756-B37C-92F3493E8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1F46B-7334-4857-A9AF-062FF03A3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471E-0EA5-4D32-A907-4BF166299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1D4D-1C09-4C44-8DE3-AB44B328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41F0-7B9C-4D49-8F6D-85325204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F0C9-AC1F-46C6-8675-32823D3D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11A7-D77F-4939-841C-E842F59A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A2DB-2A06-4B9B-A7A2-2107DF6E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1E5B-896E-4AC9-A2C9-F20E7988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91DE7-A7B0-4825-A9FE-44199903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7416-85DB-428A-AC58-E5642678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4140-85DC-4E4A-BB40-3685942F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24E5-548C-46DC-A4F0-A8CD62DD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4D39-5A3C-4E60-A2FB-D78CE1919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B527-4FB3-4C37-916D-67B7CF1C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BD100-C20A-4DDF-BAC8-15917483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08AB5-B7D6-4840-8C86-B96609DE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A754F-7434-4D96-BFA3-EBF5039A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8D0F9-97F2-4317-AA12-AE1CCD34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EEB53-71D4-4A4A-AD88-70C5AA44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BE4E4-D4BE-40A5-B11A-4FF05354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F6539-F834-46FF-BD6E-322E7A75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2301-FC1E-453A-AFD1-0752A8EF85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556A-C849-478C-B2AA-47A8D26303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Quiz 6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 3320 Lecture 2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. L. Nort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iz 6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bo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no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lculators allow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0 minu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31T22:36:35Z</dcterms:created>
  <dc:creator>R. L. Norton</dc:creator>
  <dc:description/>
  <dc:language>en-US</dc:language>
  <cp:lastModifiedBy>R. L. Norton</cp:lastModifiedBy>
  <dcterms:modified xsi:type="dcterms:W3CDTF">2006-01-03T02:25:02Z</dcterms:modified>
  <cp:revision>6</cp:revision>
  <dc:subject/>
  <dc:title>Quiz 2</dc:title>
</cp:coreProperties>
</file>