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1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EDC-E9FE-43AF-9A52-47EAA019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884-05B9-486E-99F4-FD3AD925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2F9-1319-43F6-971D-316A58D2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41D-0A69-463F-B801-FA92E2C5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4DDF0-47A7-4394-B851-BAB25666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5F8EA-EB73-418D-B052-688A94DB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DC128-717E-4505-BCE4-6FD02D21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972F1-40CF-4E10-A7F3-6905A054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F1D85-AB8B-4218-ADCF-198F996A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156DC-419B-4396-A1B9-CF2D7140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A3C7E-D38C-4A11-AFFC-807A524A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8AC-F86E-47E7-BA06-25AC22F5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67400-86C8-4396-881D-F0488E51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28A9E-2F9F-43E3-AB8B-218F22D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E52AD-AE00-441B-B8F5-1F7A3EAA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8D2EE-2DF1-4811-9ABD-89176283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6B4F9-F998-4C4B-A923-42D5760D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7C51-0507-48D0-97D1-7F1229A8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C604-2A25-4E18-90EC-BA0071BC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2472-F876-4E03-B9F0-A99D0FA0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8551-8B63-424C-ADC9-79F238C5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F955-4367-4D7F-AE20-525D5D8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983-1BB9-4286-AFDE-97252E91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F60C-EBC0-4266-91C0-7A395D7A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ABA3-C208-4BFA-B82D-11E9DEB3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9B1F-9038-4FDB-8FE5-3DF58CF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CBED-81DE-4487-BF52-DE971E2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DDB6-896A-4956-8622-CFB60901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5880-1EFB-4FF9-9C99-4A84F3A7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0B66-B055-411B-BEDB-D56A606F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C4D-AA53-4071-8EAA-9FA1B8ED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CD9-5003-4189-A9EF-5F336481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87B-F5E6-47C6-AD25-EEE43D2F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5CC-D9B9-43EC-BFD5-A39877B9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A15-6F0C-44AE-BB1B-39CED9AD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CBC-3D48-4EAE-BEE9-999C5D4A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5EC1-95B3-4E8C-9C8C-019676AC2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2396-BB7B-43EE-84DB-27FBA3A1CC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2824-FAD0-4508-9C1C-C2B95F0815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atigue Failure Theor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perimental observations: materials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without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 a “kne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106640" y="1339920"/>
            <a:ext cx="7027560" cy="4879800"/>
            <a:chOff x="1106640" y="1339920"/>
            <a:chExt cx="7027560" cy="4879800"/>
          </a:xfrm>
        </p:grpSpPr>
        <p:sp>
          <p:nvSpPr>
            <p:cNvPr id="244" name=""/>
            <p:cNvSpPr/>
            <p:nvPr/>
          </p:nvSpPr>
          <p:spPr>
            <a:xfrm>
              <a:off x="1106640" y="1339920"/>
              <a:ext cx="7027560" cy="48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1355760" y="1452600"/>
              <a:ext cx="6580080" cy="459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How Determine Fatigue Strength?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est, Test ,Tes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468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at if have no test data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ke your best estimate based on: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istorical test dat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servative engineering practi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88880" y="1616040"/>
            <a:ext cx="8410680" cy="479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timating fatigue failur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Based on experimental observations (bending, torsion, axial fatigue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52320" y="2108160"/>
            <a:ext cx="7596360" cy="809640"/>
            <a:chOff x="652320" y="2108160"/>
            <a:chExt cx="7596360" cy="809640"/>
          </a:xfrm>
        </p:grpSpPr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2016000" y="2108160"/>
                  <a:ext cx="27352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0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5110200" y="2124000"/>
                  <a:ext cx="31384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0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0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>
              <a:off x="652320" y="2328840"/>
              <a:ext cx="13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steel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52320" y="3013200"/>
            <a:ext cx="7326360" cy="809640"/>
            <a:chOff x="652320" y="3013200"/>
            <a:chExt cx="7326360" cy="80964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016000" y="3013200"/>
                  <a:ext cx="262440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5110200" y="3029040"/>
                  <a:ext cx="2868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"/>
            <p:cNvSpPr/>
            <p:nvPr/>
          </p:nvSpPr>
          <p:spPr>
            <a:xfrm>
              <a:off x="652320" y="3224160"/>
              <a:ext cx="13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iron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85840" y="4363920"/>
            <a:ext cx="8389800" cy="851040"/>
            <a:chOff x="285840" y="4363920"/>
            <a:chExt cx="8389800" cy="851040"/>
          </a:xfrm>
        </p:grpSpPr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2016000" y="4363920"/>
                  <a:ext cx="349740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807160" y="4400640"/>
                  <a:ext cx="2868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"/>
            <p:cNvSpPr/>
            <p:nvPr/>
          </p:nvSpPr>
          <p:spPr>
            <a:xfrm>
              <a:off x="285840" y="4605480"/>
              <a:ext cx="168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aluminum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543040" y="1639800"/>
            <a:ext cx="42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me materials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with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a “kn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33680" y="3944880"/>
            <a:ext cx="42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me materials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withou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a “kn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85840" y="5383080"/>
            <a:ext cx="8389800" cy="851040"/>
            <a:chOff x="285840" y="5383080"/>
            <a:chExt cx="8389800" cy="85104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6000" y="5383080"/>
                  <a:ext cx="349740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807160" y="5419800"/>
                  <a:ext cx="2868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285840" y="5510160"/>
              <a:ext cx="16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copper alloy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3000" y="1600200"/>
            <a:ext cx="7315200" cy="449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orrecting theoretical fatigu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76200" y="1671480"/>
            <a:ext cx="6670440" cy="852480"/>
            <a:chOff x="1276200" y="1671480"/>
            <a:chExt cx="6670440" cy="85248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141280" y="2120760"/>
                  <a:ext cx="528804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ad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ize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rface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emperature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liability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e</m:t>
                          </m:r>
                          <m:r>
                            <m:t xml:space="preserve">'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276200" y="1671480"/>
              <a:ext cx="66704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Materials </a:t>
              </a:r>
              <a:r>
                <a:rPr b="1" lang="en-US" sz="16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with</a:t>
              </a: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 a “knee.”  Correcting functio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684440" y="4529160"/>
            <a:ext cx="6689520" cy="1428480"/>
            <a:chOff x="1684440" y="4529160"/>
            <a:chExt cx="6689520" cy="1428480"/>
          </a:xfrm>
        </p:grpSpPr>
        <p:sp>
          <p:nvSpPr>
            <p:cNvPr id="277" name=""/>
            <p:cNvSpPr/>
            <p:nvPr/>
          </p:nvSpPr>
          <p:spPr>
            <a:xfrm>
              <a:off x="1684440" y="4529160"/>
              <a:ext cx="668952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Correction factor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mic Sans MS"/>
                </a:rPr>
                <a:t>Other factors may need to be added… depending on the type (&amp; service) of components being designed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804760" y="4917960"/>
                  <a:ext cx="42336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a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ize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rface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emperature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liabilit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1276200" y="2938320"/>
            <a:ext cx="6734160" cy="1680120"/>
            <a:chOff x="1276200" y="2938320"/>
            <a:chExt cx="6734160" cy="1680120"/>
          </a:xfrm>
        </p:grpSpPr>
        <p:sp>
          <p:nvSpPr>
            <p:cNvPr id="280" name=""/>
            <p:cNvSpPr/>
            <p:nvPr/>
          </p:nvSpPr>
          <p:spPr>
            <a:xfrm>
              <a:off x="1276200" y="2938320"/>
              <a:ext cx="66704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Materials </a:t>
              </a:r>
              <a:r>
                <a:rPr b="1" lang="en-US" sz="16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without</a:t>
              </a: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 a “knee.”  Correcting functio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097000" y="3416040"/>
                  <a:ext cx="53766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ad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ize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rface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emperature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liability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'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2" name=""/>
            <p:cNvSpPr/>
            <p:nvPr/>
          </p:nvSpPr>
          <p:spPr>
            <a:xfrm>
              <a:off x="6911640" y="3786120"/>
              <a:ext cx="279360" cy="475920"/>
            </a:xfrm>
            <a:custGeom>
              <a:avLst/>
              <a:gdLst/>
              <a:ahLst/>
              <a:rect l="l" t="t" r="r" b="b"/>
              <a:pathLst>
                <a:path w="234" h="352">
                  <a:moveTo>
                    <a:pt x="192" y="0"/>
                  </a:moveTo>
                  <a:cubicBezTo>
                    <a:pt x="132" y="49"/>
                    <a:pt x="72" y="98"/>
                    <a:pt x="64" y="121"/>
                  </a:cubicBezTo>
                  <a:cubicBezTo>
                    <a:pt x="56" y="144"/>
                    <a:pt x="117" y="136"/>
                    <a:pt x="141" y="141"/>
                  </a:cubicBezTo>
                  <a:cubicBezTo>
                    <a:pt x="165" y="146"/>
                    <a:pt x="234" y="118"/>
                    <a:pt x="211" y="153"/>
                  </a:cubicBezTo>
                  <a:cubicBezTo>
                    <a:pt x="188" y="188"/>
                    <a:pt x="36" y="317"/>
                    <a:pt x="0" y="352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91120" y="4281120"/>
              <a:ext cx="20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at 5 x 10 </a:t>
              </a:r>
              <a:r>
                <a:rPr b="0" i="1" lang="en-US" sz="1600" spc="-1" strike="noStrike" baseline="30000">
                  <a:solidFill>
                    <a:srgbClr val="333399"/>
                  </a:solidFill>
                  <a:latin typeface="Comic Sans MS"/>
                </a:rPr>
                <a:t>8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 cyc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371600" y="1981080"/>
            <a:ext cx="6019920" cy="228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orrecting theoretical fatigu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578400" y="2832120"/>
                <a:ext cx="27874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nding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xial Loadin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1600200" y="21337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Loading effects (correctio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1371600"/>
            <a:ext cx="723888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orrecting theoretical fatigu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440000" y="2114640"/>
                <a:ext cx="6265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d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in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mm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69</m:t>
                                    </m:r>
                                    <m:s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97</m:t>
                                        </m:r>
                                      </m:sup>
                                    </m:sSup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in 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d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i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9</m:t>
                                    </m:r>
                                    <m:s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97</m:t>
                                        </m:r>
                                      </m:sup>
                                    </m:sSup>
                                  </m:e>
                                  <m:e>
                                    <m:r>
                                      <m:t xml:space="preserve">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 mm 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d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mm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rger sizes use 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⇐</m:t>
                    </m:r>
                    <m:r>
                      <m:rPr>
                        <m:lit/>
                        <m:nor/>
                      </m:rPr>
                      <m:t xml:space="preserve">cylindrical par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1200240" y="1519200"/>
            <a:ext cx="6670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ize effects (correction;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cylindrical parts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219320" y="3733920"/>
            <a:ext cx="6670440" cy="2558880"/>
            <a:chOff x="1219320" y="3733920"/>
            <a:chExt cx="6670440" cy="2558880"/>
          </a:xfrm>
        </p:grpSpPr>
        <p:sp>
          <p:nvSpPr>
            <p:cNvPr id="293" name=""/>
            <p:cNvSpPr/>
            <p:nvPr/>
          </p:nvSpPr>
          <p:spPr>
            <a:xfrm>
              <a:off x="1219320" y="3733920"/>
              <a:ext cx="66704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Size effects (correction; </a:t>
              </a:r>
              <a:r>
                <a:rPr b="1" lang="en-US" sz="16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non-cylindrical parts</a:t>
              </a: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)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1828800" y="4233960"/>
                  <a:ext cx="5526000" cy="84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uiv</m:t>
                              </m:r>
                            </m:sub>
                          </m:sSub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uiv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95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66</m:t>
                                  </m:r>
                                </m:den>
                              </m:f>
                            </m:e>
                          </m:rad>
                        </m:e>
                      </m:d>
                      <m:r>
                        <m:t xml:space="preserve">⇐</m:t>
                      </m:r>
                      <m:r>
                        <m:rPr>
                          <m:lit/>
                          <m:nor/>
                        </m:rPr>
                        <m:t xml:space="preserve">non-cylindrical part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2340000" y="5194440"/>
                  <a:ext cx="4502160" cy="10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95</m:t>
                          </m:r>
                        </m:sub>
                      </m:sSub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ortion of the cross-sectional area of a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nround part that is stressed between</m:t>
                              </m:r>
                            </m:e>
                            <m:e/>
                          </m:d>
                        </m:e>
                      </m:eqArr>
                      <m:d>
                        <m:dPr>
                          <m:begChr m:val="{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66680" y="1295280"/>
            <a:ext cx="7010640" cy="541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orrecting theoretical fatigu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00240" y="1366920"/>
            <a:ext cx="6670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urface effects (correctio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111640" y="1444680"/>
                <a:ext cx="26607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rfac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e Figure 6-2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82148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43000" y="1676520"/>
            <a:ext cx="7010280" cy="441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orrecting theoretical fatigu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00240" y="1747800"/>
            <a:ext cx="6670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urface effects (correction; Shigley and Mischk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468520" y="2303640"/>
                <a:ext cx="4245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r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r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357200" y="3090960"/>
            <a:ext cx="64087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19320" y="2286000"/>
            <a:ext cx="662940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orrecting theoretical fatigu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124000" y="3033720"/>
                <a:ext cx="508788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295280" y="24382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Temperature effects (correctio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1295280"/>
            <a:ext cx="800100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970360"/>
            <a:ext cx="3733920" cy="358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28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 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Mechanisms of 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1292400"/>
            <a:ext cx="747252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Fatigue failures always begin at a c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may be present in raw material used for fabrication (crystallographic defects; inclusions;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may be introduced during fabr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develop over time due to cyclic loading (&amp; corro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develop around stress concent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57400" y="3249720"/>
            <a:ext cx="2752560" cy="2606040"/>
            <a:chOff x="1157400" y="3249720"/>
            <a:chExt cx="2752560" cy="26060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1157400" y="3546360"/>
              <a:ext cx="2752560" cy="23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416240" y="3249720"/>
              <a:ext cx="223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Shaft with key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72000" y="2971800"/>
            <a:ext cx="4097160" cy="3583080"/>
            <a:chOff x="4572000" y="2971800"/>
            <a:chExt cx="4097160" cy="3583080"/>
          </a:xfrm>
        </p:grpSpPr>
        <p:sp>
          <p:nvSpPr>
            <p:cNvPr id="151" name=""/>
            <p:cNvSpPr/>
            <p:nvPr/>
          </p:nvSpPr>
          <p:spPr>
            <a:xfrm>
              <a:off x="4572000" y="2971800"/>
              <a:ext cx="4038480" cy="358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663800" y="3054240"/>
              <a:ext cx="4005360" cy="3479760"/>
              <a:chOff x="4663800" y="3054240"/>
              <a:chExt cx="4005360" cy="34797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4663800" y="3054240"/>
                <a:ext cx="3218040" cy="3479760"/>
                <a:chOff x="4663800" y="3054240"/>
                <a:chExt cx="3218040" cy="3479760"/>
              </a:xfrm>
            </p:grpSpPr>
            <p:pic>
              <p:nvPicPr>
                <p:cNvPr id="15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63800" y="3573360"/>
                  <a:ext cx="3218040" cy="296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>
                  <a:off x="5197680" y="3054240"/>
                  <a:ext cx="215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333399"/>
                      </a:solidFill>
                      <a:latin typeface="Comic Sans MS"/>
                    </a:rPr>
                    <a:t>Shaft failed in fatigue.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333399"/>
                      </a:solidFill>
                      <a:latin typeface="Comic Sans MS"/>
                    </a:rPr>
                    <a:t>Crack initiated at keywa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7022880" y="3857400"/>
                <a:ext cx="1646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99"/>
                    </a:solidFill>
                    <a:latin typeface="Comic Sans MS"/>
                  </a:rPr>
                  <a:t>Failure due to rotating ben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66680" y="1676520"/>
            <a:ext cx="7162920" cy="464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orrecting theoretical fatigu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23920" y="1747800"/>
            <a:ext cx="66708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Reliability effects (correctio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264280" y="1828800"/>
                <a:ext cx="24303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ia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e Table 6-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395520" y="2540160"/>
            <a:ext cx="2216160" cy="364320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5119560" y="3044880"/>
            <a:ext cx="2940120" cy="337320"/>
            <a:chOff x="5119560" y="3044880"/>
            <a:chExt cx="2940120" cy="337320"/>
          </a:xfrm>
        </p:grpSpPr>
        <p:sp>
          <p:nvSpPr>
            <p:cNvPr id="316" name=""/>
            <p:cNvSpPr/>
            <p:nvPr/>
          </p:nvSpPr>
          <p:spPr>
            <a:xfrm>
              <a:off x="5256000" y="3044880"/>
              <a:ext cx="28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Standard dev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119560" y="3219480"/>
              <a:ext cx="10368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orrecting theoretical fatigu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00240" y="1366920"/>
            <a:ext cx="73515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Once fatigue strength/endurance limit has been corrected…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construct estimated (corrected) S-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85800" y="2362320"/>
            <a:ext cx="8077320" cy="3276360"/>
            <a:chOff x="685800" y="2362320"/>
            <a:chExt cx="8077320" cy="3276360"/>
          </a:xfrm>
        </p:grpSpPr>
        <p:sp>
          <p:nvSpPr>
            <p:cNvPr id="321" name=""/>
            <p:cNvSpPr/>
            <p:nvPr/>
          </p:nvSpPr>
          <p:spPr>
            <a:xfrm>
              <a:off x="762120" y="2362320"/>
              <a:ext cx="8001000" cy="32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85800" y="2819520"/>
              <a:ext cx="7897680" cy="2468520"/>
              <a:chOff x="685800" y="2819520"/>
              <a:chExt cx="7897680" cy="2468520"/>
            </a:xfrm>
          </p:grpSpPr>
          <p:pic>
            <p:nvPicPr>
              <p:cNvPr id="3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8120" y="2819520"/>
                <a:ext cx="7515360" cy="246852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324" name=""/>
                  <p:cNvSpPr txBox="1"/>
                  <p:nvPr/>
                </p:nvSpPr>
                <p:spPr>
                  <a:xfrm>
                    <a:off x="5137200" y="3206880"/>
                    <a:ext cx="311040" cy="35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1861920" y="3940200"/>
                    <a:ext cx="271440" cy="31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6" name=""/>
              <p:cNvSpPr/>
              <p:nvPr/>
            </p:nvSpPr>
            <p:spPr>
              <a:xfrm>
                <a:off x="5682960" y="3943440"/>
                <a:ext cx="286560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25320" y="4224600"/>
                <a:ext cx="371520" cy="558720"/>
              </a:xfrm>
              <a:custGeom>
                <a:avLst/>
                <a:gdLst/>
                <a:ahLst/>
                <a:rect l="l" t="t" r="r" b="b"/>
                <a:pathLst>
                  <a:path w="234" h="352">
                    <a:moveTo>
                      <a:pt x="192" y="0"/>
                    </a:moveTo>
                    <a:cubicBezTo>
                      <a:pt x="132" y="49"/>
                      <a:pt x="72" y="98"/>
                      <a:pt x="64" y="121"/>
                    </a:cubicBezTo>
                    <a:cubicBezTo>
                      <a:pt x="56" y="144"/>
                      <a:pt x="117" y="136"/>
                      <a:pt x="141" y="141"/>
                    </a:cubicBezTo>
                    <a:cubicBezTo>
                      <a:pt x="165" y="146"/>
                      <a:pt x="234" y="118"/>
                      <a:pt x="211" y="153"/>
                    </a:cubicBezTo>
                    <a:cubicBezTo>
                      <a:pt x="188" y="188"/>
                      <a:pt x="36" y="317"/>
                      <a:pt x="0" y="35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19520" y="3272040"/>
                <a:ext cx="863640" cy="163440"/>
              </a:xfrm>
              <a:custGeom>
                <a:avLst/>
                <a:gdLst/>
                <a:ahLst/>
                <a:rect l="l" t="t" r="r" b="b"/>
                <a:pathLst>
                  <a:path w="544" h="103">
                    <a:moveTo>
                      <a:pt x="0" y="34"/>
                    </a:moveTo>
                    <a:cubicBezTo>
                      <a:pt x="77" y="19"/>
                      <a:pt x="154" y="4"/>
                      <a:pt x="205" y="2"/>
                    </a:cubicBezTo>
                    <a:cubicBezTo>
                      <a:pt x="256" y="0"/>
                      <a:pt x="304" y="5"/>
                      <a:pt x="307" y="21"/>
                    </a:cubicBezTo>
                    <a:cubicBezTo>
                      <a:pt x="310" y="37"/>
                      <a:pt x="185" y="93"/>
                      <a:pt x="224" y="98"/>
                    </a:cubicBezTo>
                    <a:cubicBezTo>
                      <a:pt x="263" y="103"/>
                      <a:pt x="403" y="78"/>
                      <a:pt x="544" y="53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45000" y="3070440"/>
                <a:ext cx="133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Correct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800" y="4730760"/>
                <a:ext cx="13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Correct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08560" y="3867120"/>
                <a:ext cx="302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Materials </a:t>
                </a:r>
                <a:r>
                  <a:rPr b="0" i="1" lang="en-US" sz="1600" spc="-1" strike="noStrike" u="sng">
                    <a:solidFill>
                      <a:srgbClr val="333399"/>
                    </a:solidFill>
                    <a:uFillTx/>
                    <a:latin typeface="Comic Sans MS"/>
                  </a:rPr>
                  <a:t>with</a:t>
                </a: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 a “knee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6440" y="4324320"/>
                <a:ext cx="302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Materials </a:t>
                </a:r>
                <a:r>
                  <a:rPr b="0" i="1" lang="en-US" sz="1600" spc="-1" strike="noStrike" u="sng">
                    <a:solidFill>
                      <a:srgbClr val="333399"/>
                    </a:solidFill>
                    <a:uFillTx/>
                    <a:latin typeface="Comic Sans MS"/>
                  </a:rPr>
                  <a:t>without</a:t>
                </a: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 a “knee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2895480" y="236232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mic Sans MS"/>
                </a:rPr>
                <a:t>Corrected S-N di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90720" y="1219320"/>
            <a:ext cx="6858000" cy="533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reation of estimated S-N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85760" y="1274760"/>
            <a:ext cx="66708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Fatigue strength at 10</a:t>
            </a:r>
            <a:r>
              <a:rPr b="1" lang="en-US" sz="1600" spc="-1" strike="noStrike" baseline="30000">
                <a:solidFill>
                  <a:srgbClr val="000066"/>
                </a:solidFill>
                <a:latin typeface="Comic Sans MS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cyc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302080" y="2041560"/>
                <a:ext cx="357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057400" y="1752480"/>
                <a:ext cx="5013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t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nding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t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xial Loading</m:t>
                              </m:r>
                            </m:e>
                          </m:mr>
                        </m:m>
                      </m:e>
                    </m:d>
                    <m:r>
                      <m:t xml:space="preserve">⇐</m:t>
                    </m:r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cycle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357880" cy="36115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51897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2280" y="1523880"/>
            <a:ext cx="883944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Creation of estimated S-N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00240" y="1747800"/>
            <a:ext cx="6670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Curve fitting of model (HCF-high cycle fatigue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121520" y="1771560"/>
                <a:ext cx="1249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N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57360" y="1660680"/>
            <a:ext cx="7945200" cy="630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27160" y="3035160"/>
            <a:ext cx="8632800" cy="2903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95360" y="3487680"/>
            <a:ext cx="752400" cy="366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82800" y="3902040"/>
            <a:ext cx="752400" cy="5097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48280" y="3486240"/>
            <a:ext cx="752400" cy="3664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42360" y="3913200"/>
            <a:ext cx="752400" cy="50940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8354880" y="3676680"/>
            <a:ext cx="270000" cy="479520"/>
          </a:xfrm>
          <a:custGeom>
            <a:avLst/>
            <a:gdLst/>
            <a:ahLst/>
            <a:rect l="l" t="t" r="r" b="b"/>
            <a:pathLst>
              <a:path w="234" h="352">
                <a:moveTo>
                  <a:pt x="192" y="0"/>
                </a:moveTo>
                <a:cubicBezTo>
                  <a:pt x="132" y="49"/>
                  <a:pt x="72" y="98"/>
                  <a:pt x="64" y="121"/>
                </a:cubicBezTo>
                <a:cubicBezTo>
                  <a:pt x="56" y="144"/>
                  <a:pt x="117" y="136"/>
                  <a:pt x="141" y="141"/>
                </a:cubicBezTo>
                <a:cubicBezTo>
                  <a:pt x="165" y="146"/>
                  <a:pt x="234" y="118"/>
                  <a:pt x="211" y="153"/>
                </a:cubicBezTo>
                <a:cubicBezTo>
                  <a:pt x="188" y="188"/>
                  <a:pt x="36" y="317"/>
                  <a:pt x="0" y="352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2520" y="3351240"/>
            <a:ext cx="20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at 5 x 10 </a:t>
            </a:r>
            <a:r>
              <a:rPr b="0" i="1" lang="en-US" sz="1600" spc="-1" strike="noStrike" baseline="30000">
                <a:solidFill>
                  <a:srgbClr val="333399"/>
                </a:solidFill>
                <a:latin typeface="Comic Sans MS"/>
              </a:rPr>
              <a:t>8</a:t>
            </a: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916360" y="2584440"/>
                <a:ext cx="31366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corrected values for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r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Other Factors to Consi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lectroplating reduces fatigue strength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ydrogen embrittles ste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ulfur embrittles ste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resh water is bad, salt water is wors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auses corrosion fatigue – must test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3962520"/>
            <a:ext cx="8308800" cy="2587680"/>
            <a:chOff x="457200" y="3962520"/>
            <a:chExt cx="8308800" cy="2587680"/>
          </a:xfrm>
        </p:grpSpPr>
        <p:sp>
          <p:nvSpPr>
            <p:cNvPr id="357" name=""/>
            <p:cNvSpPr/>
            <p:nvPr/>
          </p:nvSpPr>
          <p:spPr>
            <a:xfrm>
              <a:off x="457200" y="3962520"/>
              <a:ext cx="8308800" cy="258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4649760" y="4341960"/>
              <a:ext cx="390672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533520" y="4038840"/>
              <a:ext cx="394020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00080" y="1366920"/>
            <a:ext cx="7494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tudy Example 6-1: Ferrous materials (with a “kne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tudy Example 6-2: Nonferrous materials (without a “kne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acture Mechanics      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ages of crack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4648320"/>
            <a:ext cx="5334120" cy="1904760"/>
            <a:chOff x="3657600" y="4648320"/>
            <a:chExt cx="5334120" cy="1904760"/>
          </a:xfrm>
        </p:grpSpPr>
        <p:sp>
          <p:nvSpPr>
            <p:cNvPr id="159" name=""/>
            <p:cNvSpPr/>
            <p:nvPr/>
          </p:nvSpPr>
          <p:spPr>
            <a:xfrm>
              <a:off x="3657600" y="4648320"/>
              <a:ext cx="5334120" cy="1904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rcRect l="0" t="6974" r="0" b="5317"/>
            <a:stretch/>
          </p:blipFill>
          <p:spPr>
            <a:xfrm>
              <a:off x="3733920" y="4724280"/>
              <a:ext cx="52117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228600" y="685800"/>
            <a:ext cx="4038480" cy="2666880"/>
            <a:chOff x="228600" y="685800"/>
            <a:chExt cx="4038480" cy="2666880"/>
          </a:xfrm>
        </p:grpSpPr>
        <p:sp>
          <p:nvSpPr>
            <p:cNvPr id="162" name=""/>
            <p:cNvSpPr/>
            <p:nvPr/>
          </p:nvSpPr>
          <p:spPr>
            <a:xfrm>
              <a:off x="228600" y="685800"/>
              <a:ext cx="4038480" cy="266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520" y="762120"/>
              <a:ext cx="3581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51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There are three stages of fatigue failure:</a:t>
              </a:r>
              <a:r>
                <a:rPr b="1" lang="en-U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ack initiation: Region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ack propagation: Region 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dden fracture: Region I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51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mic Sans MS"/>
                </a:rPr>
                <a:t>Crack growth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Valid only in Region II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defined by the Paris equation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19720" y="685800"/>
            <a:ext cx="4572720" cy="3809880"/>
            <a:chOff x="4419720" y="685800"/>
            <a:chExt cx="4572720" cy="3809880"/>
          </a:xfrm>
        </p:grpSpPr>
        <p:sp>
          <p:nvSpPr>
            <p:cNvPr id="165" name=""/>
            <p:cNvSpPr/>
            <p:nvPr/>
          </p:nvSpPr>
          <p:spPr>
            <a:xfrm>
              <a:off x="4419720" y="685800"/>
              <a:ext cx="4571640" cy="3809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800600" y="838080"/>
              <a:ext cx="4191840" cy="3584520"/>
              <a:chOff x="4800600" y="838080"/>
              <a:chExt cx="4191840" cy="358452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838080"/>
                <a:ext cx="3822120" cy="35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5516280" y="2428560"/>
                <a:ext cx="139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Reg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08600" y="2228760"/>
                <a:ext cx="139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Reg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00320" y="2226960"/>
                <a:ext cx="139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Reg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3429000"/>
            <a:ext cx="3352680" cy="3124080"/>
            <a:chOff x="228600" y="3429000"/>
            <a:chExt cx="3352680" cy="3124080"/>
          </a:xfrm>
        </p:grpSpPr>
        <p:grpSp>
          <p:nvGrpSpPr>
            <p:cNvPr id="172" name=""/>
            <p:cNvGrpSpPr/>
            <p:nvPr/>
          </p:nvGrpSpPr>
          <p:grpSpPr>
            <a:xfrm>
              <a:off x="228600" y="3429000"/>
              <a:ext cx="3352680" cy="3124080"/>
              <a:chOff x="228600" y="3429000"/>
              <a:chExt cx="3352680" cy="3124080"/>
            </a:xfrm>
          </p:grpSpPr>
          <p:sp>
            <p:nvSpPr>
              <p:cNvPr id="173" name=""/>
              <p:cNvSpPr/>
              <p:nvPr/>
            </p:nvSpPr>
            <p:spPr>
              <a:xfrm>
                <a:off x="228600" y="3429000"/>
                <a:ext cx="3352680" cy="3124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5800" y="3505320"/>
                <a:ext cx="243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he Paris Equation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914400" y="3962520"/>
                  <a:ext cx="167796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(</m:t>
                      </m:r>
                      <m:r>
                        <m:t xml:space="preserve">ΔK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274680" y="4667400"/>
                  <a:ext cx="299880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K</m:t>
                      </m:r>
                      <m:r>
                        <m:t xml:space="preserve">=</m:t>
                      </m:r>
                      <m:r>
                        <m:t xml:space="preserve">β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π</m:t>
                          </m:r>
                          <m:r>
                            <m:t xml:space="preserve">a</m:t>
                          </m:r>
                        </m:e>
                      </m:rad>
                      <m:r>
                        <m:t xml:space="preserve">(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7" name=""/>
            <p:cNvGrpSpPr/>
            <p:nvPr/>
          </p:nvGrpSpPr>
          <p:grpSpPr>
            <a:xfrm>
              <a:off x="609480" y="5181480"/>
              <a:ext cx="2697120" cy="1278000"/>
              <a:chOff x="609480" y="5181480"/>
              <a:chExt cx="2697120" cy="1278000"/>
            </a:xfrm>
          </p:grpSpPr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798120" y="5181480"/>
                    <a:ext cx="157140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rack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9" name=""/>
                  <p:cNvSpPr txBox="1"/>
                  <p:nvPr/>
                </p:nvSpPr>
                <p:spPr>
                  <a:xfrm>
                    <a:off x="740880" y="5432400"/>
                    <a:ext cx="1803240" cy="2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umber of cycle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0" name=""/>
                  <p:cNvSpPr txBox="1"/>
                  <p:nvPr/>
                </p:nvSpPr>
                <p:spPr>
                  <a:xfrm>
                    <a:off x="609480" y="5670360"/>
                    <a:ext cx="269712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aris-equation parameter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634680" y="5930640"/>
                    <a:ext cx="219996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tress intensity facto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763200" y="6197400"/>
                    <a:ext cx="213336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eometry-load fact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1503360"/>
            <a:ext cx="7467480" cy="475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rack Growth Striation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3372"/>
          <a:stretch/>
        </p:blipFill>
        <p:spPr>
          <a:xfrm>
            <a:off x="1066680" y="1828800"/>
            <a:ext cx="70866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1447920"/>
            <a:ext cx="8076960" cy="472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 and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2960" y="2970360"/>
            <a:ext cx="769932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Fatigue failur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Stress-life (S-N) approach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used in HCF. 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Stress based model.  In this model, we seek to obtain designs in which the maximum cyclic stress induced in the component is lower than the </a:t>
            </a:r>
            <a:r>
              <a:rPr b="1" i="1" lang="en-US" sz="1400" spc="-1" strike="noStrike">
                <a:solidFill>
                  <a:srgbClr val="333399"/>
                </a:solidFill>
                <a:latin typeface="Comic Sans MS"/>
              </a:rPr>
              <a:t>fatigue strength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and/or </a:t>
            </a:r>
            <a:r>
              <a:rPr b="1" i="1" lang="en-US" sz="1400" spc="-1" strike="noStrike">
                <a:solidFill>
                  <a:srgbClr val="333399"/>
                </a:solidFill>
                <a:latin typeface="Comic Sans MS"/>
              </a:rPr>
              <a:t>endurance limit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of the material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rain-life 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-N) approach: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d in LCF. 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Strain based model.  Used when the cyclic load is high enough to cause local yielding.  Also used when cyclic and thermal loads are considered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ear-elastic fracture-mechanics (LEFM) approach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used in LCF and finite life situations.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 Used to design and model in the crack propagation stage (Region II).  Used when the cyclic load is high enough to cause the formation of c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2057400"/>
            <a:ext cx="7677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Fatigue reg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-cycle fatigue (LC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igh-cycle fatigue (HCF)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Comic Sans MS"/>
              </a:rPr>
              <a:t>when number of cycles, </a:t>
            </a:r>
            <a:r>
              <a:rPr b="0" i="1" lang="en-US" sz="1400" spc="-1" strike="noStrike" u="sng">
                <a:solidFill>
                  <a:srgbClr val="333399"/>
                </a:solidFill>
                <a:uFillTx/>
                <a:latin typeface="Arial Rounded MT Bold"/>
              </a:rPr>
              <a:t>N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 Rounded MT Bold"/>
              </a:rPr>
              <a:t> &gt; 10</a:t>
            </a:r>
            <a:r>
              <a:rPr b="0" lang="en-US" sz="1400" spc="-1" strike="noStrike" u="sng" baseline="30000">
                <a:solidFill>
                  <a:srgbClr val="333399"/>
                </a:solidFill>
                <a:uFillTx/>
                <a:latin typeface="Arial Rounded MT Bold"/>
              </a:rPr>
              <a:t>3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Comic Sans MS"/>
              </a:rPr>
              <a:t> cycles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Crankshafts of cars rotate about </a:t>
            </a:r>
            <a:r>
              <a:rPr b="0" lang="en-US" sz="1400" spc="-1" strike="noStrike">
                <a:solidFill>
                  <a:srgbClr val="333399"/>
                </a:solidFill>
                <a:latin typeface="Arial Rounded MT Bold"/>
              </a:rPr>
              <a:t>2.5x10</a:t>
            </a:r>
            <a:r>
              <a:rPr b="0" lang="en-US" sz="1400" spc="-1" strike="noStrike" baseline="30000">
                <a:solidFill>
                  <a:srgbClr val="333399"/>
                </a:solidFill>
                <a:latin typeface="Arial Rounded MT Bold"/>
              </a:rPr>
              <a:t>8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cycles in </a:t>
            </a:r>
            <a:r>
              <a:rPr b="0" lang="en-US" sz="1400" spc="-1" strike="noStrike">
                <a:solidFill>
                  <a:srgbClr val="333399"/>
                </a:solidFill>
                <a:latin typeface="Arial Rounded MT Bold"/>
              </a:rPr>
              <a:t>100,000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m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3720" y="1419120"/>
            <a:ext cx="7677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Our design should minimize stress concentrations -- to minimize effects of c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048120"/>
            <a:ext cx="777240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4038480"/>
            <a:ext cx="8229600" cy="243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371600"/>
            <a:ext cx="8229600" cy="24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71680" y="1662120"/>
            <a:ext cx="2361960" cy="1930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343320" y="1681200"/>
            <a:ext cx="2178000" cy="1911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026040" y="1606680"/>
            <a:ext cx="2476440" cy="200664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1450800" y="4064040"/>
            <a:ext cx="4203720" cy="666720"/>
            <a:chOff x="1450800" y="4064040"/>
            <a:chExt cx="4203720" cy="66672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706920" y="4100760"/>
                  <a:ext cx="19476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1450800" y="4064040"/>
              <a:ext cx="23529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Stress rang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450800" y="4773600"/>
            <a:ext cx="6612120" cy="785880"/>
            <a:chOff x="1450800" y="4773600"/>
            <a:chExt cx="6612120" cy="785880"/>
          </a:xfrm>
        </p:grpSpPr>
        <p:sp>
          <p:nvSpPr>
            <p:cNvPr id="202" name=""/>
            <p:cNvSpPr/>
            <p:nvPr/>
          </p:nvSpPr>
          <p:spPr>
            <a:xfrm>
              <a:off x="1450800" y="4892400"/>
              <a:ext cx="3936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Alternating stress component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5419800" y="4773600"/>
                  <a:ext cx="26431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σ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"/>
          <p:cNvGrpSpPr/>
          <p:nvPr/>
        </p:nvGrpSpPr>
        <p:grpSpPr>
          <a:xfrm>
            <a:off x="1450800" y="5583240"/>
            <a:ext cx="5561280" cy="785880"/>
            <a:chOff x="1450800" y="5583240"/>
            <a:chExt cx="5561280" cy="785880"/>
          </a:xfrm>
        </p:grpSpPr>
        <p:sp>
          <p:nvSpPr>
            <p:cNvPr id="205" name=""/>
            <p:cNvSpPr/>
            <p:nvPr/>
          </p:nvSpPr>
          <p:spPr>
            <a:xfrm>
              <a:off x="1450800" y="5702400"/>
              <a:ext cx="39369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Mean stress component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040360" y="5583240"/>
                  <a:ext cx="197172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6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4360" y="1011240"/>
            <a:ext cx="8345520" cy="566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16160" y="1025640"/>
            <a:ext cx="534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Wohler strength-life or S-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90520" y="2211480"/>
            <a:ext cx="7515360" cy="2468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770120" y="1438200"/>
            <a:ext cx="5902200" cy="666720"/>
            <a:chOff x="1770120" y="1438200"/>
            <a:chExt cx="5902200" cy="666720"/>
          </a:xfrm>
        </p:grpSpPr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7269120" y="1481040"/>
                  <a:ext cx="4032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'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1770120" y="1438200"/>
              <a:ext cx="55418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Theoretical </a:t>
              </a:r>
              <a:r>
                <a:rPr b="1" i="1" lang="en-US" sz="16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or uncorrected</a:t>
              </a: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 fatigue strength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770120" y="1876320"/>
            <a:ext cx="5735520" cy="666720"/>
            <a:chOff x="1770120" y="1876320"/>
            <a:chExt cx="5735520" cy="666720"/>
          </a:xfrm>
        </p:grpSpPr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7149960" y="1923840"/>
                  <a:ext cx="35568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e</m:t>
                          </m:r>
                          <m:r>
                            <m:t xml:space="preserve">'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"/>
            <p:cNvSpPr/>
            <p:nvPr/>
          </p:nvSpPr>
          <p:spPr>
            <a:xfrm>
              <a:off x="1770120" y="1876320"/>
              <a:ext cx="55418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Theoretical </a:t>
              </a:r>
              <a:r>
                <a:rPr b="1" i="1" lang="en-US" sz="16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or uncorrected</a:t>
              </a: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 endurance limit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292480" y="2682720"/>
            <a:ext cx="95040" cy="1144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520" y="2565360"/>
            <a:ext cx="3154680" cy="4965480"/>
            <a:chOff x="533520" y="2565360"/>
            <a:chExt cx="3154680" cy="4965480"/>
          </a:xfrm>
        </p:grpSpPr>
        <p:sp>
          <p:nvSpPr>
            <p:cNvPr id="219" name=""/>
            <p:cNvSpPr/>
            <p:nvPr/>
          </p:nvSpPr>
          <p:spPr>
            <a:xfrm>
              <a:off x="1905120" y="2565360"/>
              <a:ext cx="365040" cy="36504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33520" y="4454640"/>
              <a:ext cx="3047760" cy="2174760"/>
              <a:chOff x="533520" y="4454640"/>
              <a:chExt cx="3047760" cy="2174760"/>
            </a:xfrm>
          </p:grpSpPr>
          <p:pic>
            <p:nvPicPr>
              <p:cNvPr id="2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520" y="4454640"/>
                <a:ext cx="3047760" cy="217476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925200" y="4759200"/>
                <a:ext cx="293400" cy="30456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H="1">
              <a:off x="1036440" y="2749680"/>
              <a:ext cx="2651760" cy="478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21" y="817"/>
                  </a:moveTo>
                  <a:arcTo wR="10800" hR="10800" stAng="-4054259" swAng="331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21" y="817"/>
                  </a:moveTo>
                  <a:arcTo wR="10800" hR="10800" stAng="-4054259" swAng="3315257"/>
                </a:path>
              </a:pathLst>
            </a:custGeom>
            <a:noFill/>
            <a:ln w="19080">
              <a:solidFill>
                <a:srgbClr val="33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71600" y="1371600"/>
            <a:ext cx="6477120" cy="502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81120" y="1585800"/>
            <a:ext cx="5340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terial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with a “knee”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in the S-N cur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35080" y="1998720"/>
            <a:ext cx="520380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Many low-strength carbon and alloy ste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ome stainless ste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I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Molybde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Titanium, and some poly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Knee typically appears at nearly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 Rounded MT Bold"/>
              </a:rPr>
              <a:t>10</a:t>
            </a:r>
            <a:r>
              <a:rPr b="1" lang="en-US" sz="1600" spc="-1" strike="noStrike" baseline="30000">
                <a:solidFill>
                  <a:srgbClr val="000066"/>
                </a:solidFill>
                <a:latin typeface="Arial Rounded MT Bold"/>
              </a:rPr>
              <a:t>6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Endurance limit at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 Rounded MT Bold"/>
              </a:rPr>
              <a:t>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 Rounded MT Bold"/>
              </a:rPr>
              <a:t>6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 cycles is typically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81120" y="4262400"/>
            <a:ext cx="5200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terial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without a “knee”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in the S-N cur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25720" y="4675320"/>
            <a:ext cx="551808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Aluminum, magnesium, c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Nickel allo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ome stainless ste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High-strength carbon and alloy ste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Fatigue strength at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 Rounded MT Bold"/>
              </a:rPr>
              <a:t>5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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 Rounded MT Bold"/>
              </a:rPr>
              <a:t>10</a:t>
            </a:r>
            <a:r>
              <a:rPr b="1" lang="en-US" sz="1600" spc="-1" strike="noStrike" u="sng" baseline="30000">
                <a:solidFill>
                  <a:srgbClr val="ff0000"/>
                </a:solidFill>
                <a:uFillTx/>
                <a:latin typeface="Arial Rounded MT Bold"/>
              </a:rPr>
              <a:t>8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 cycles is typically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perimental observations: materials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 a “kne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27120" y="2039760"/>
            <a:ext cx="7978680" cy="3668760"/>
            <a:chOff x="627120" y="2039760"/>
            <a:chExt cx="7978680" cy="3668760"/>
          </a:xfrm>
        </p:grpSpPr>
        <p:sp>
          <p:nvSpPr>
            <p:cNvPr id="232" name=""/>
            <p:cNvSpPr/>
            <p:nvPr/>
          </p:nvSpPr>
          <p:spPr>
            <a:xfrm>
              <a:off x="627120" y="2039760"/>
              <a:ext cx="7921440" cy="3668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807840" y="2182680"/>
              <a:ext cx="6603840" cy="2759040"/>
              <a:chOff x="807840" y="2182680"/>
              <a:chExt cx="6603840" cy="2759040"/>
            </a:xfrm>
          </p:grpSpPr>
          <p:pic>
            <p:nvPicPr>
              <p:cNvPr id="2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07840" y="2182680"/>
                <a:ext cx="6603840" cy="275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1641240" y="3916080"/>
                <a:ext cx="2581200" cy="34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Wrought steel,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1600" spc="-1" strike="noStrike" baseline="-14000">
                    <a:solidFill>
                      <a:srgbClr val="000000"/>
                    </a:solidFill>
                    <a:latin typeface="Times New Roman"/>
                  </a:rPr>
                  <a:t>ut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 &lt; 200 ks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943240" y="4709520"/>
              <a:ext cx="1565640" cy="643320"/>
              <a:chOff x="5943240" y="4709520"/>
              <a:chExt cx="1565640" cy="643320"/>
            </a:xfrm>
          </p:grpSpPr>
          <p:cxnSp>
            <p:nvCxnSpPr>
              <p:cNvPr id="237" name=""/>
              <p:cNvCxnSpPr/>
              <p:nvPr/>
            </p:nvCxnSpPr>
            <p:spPr>
              <a:xfrm rot="10800000">
                <a:off x="5942880" y="4709160"/>
                <a:ext cx="518400" cy="457920"/>
              </a:xfrm>
              <a:prstGeom prst="curvedConnector5">
                <a:avLst>
                  <a:gd name="adj1" fmla="val 77553"/>
                  <a:gd name="adj2" fmla="val 49960"/>
                  <a:gd name="adj3" fmla="val 77553"/>
                </a:avLst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</p:cxnSp>
          <p:sp>
            <p:nvSpPr>
              <p:cNvPr id="238" name=""/>
              <p:cNvSpPr/>
              <p:nvPr/>
            </p:nvSpPr>
            <p:spPr>
              <a:xfrm>
                <a:off x="6258240" y="4984560"/>
                <a:ext cx="125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3399"/>
                    </a:solidFill>
                    <a:latin typeface="Comic Sans MS"/>
                  </a:rPr>
                  <a:t>“</a:t>
                </a:r>
                <a:r>
                  <a:rPr b="1" i="1" lang="en-US" sz="1800" spc="-1" strike="noStrike">
                    <a:solidFill>
                      <a:srgbClr val="333399"/>
                    </a:solidFill>
                    <a:latin typeface="Comic Sans MS"/>
                  </a:rPr>
                  <a:t>Knee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7130880" y="3359160"/>
              <a:ext cx="1474920" cy="630000"/>
              <a:chOff x="7130880" y="3359160"/>
              <a:chExt cx="1474920" cy="630000"/>
            </a:xfrm>
          </p:grpSpPr>
          <p:sp>
            <p:nvSpPr>
              <p:cNvPr id="240" name=""/>
              <p:cNvSpPr/>
              <p:nvPr/>
            </p:nvSpPr>
            <p:spPr>
              <a:xfrm>
                <a:off x="7130880" y="3359160"/>
                <a:ext cx="1474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Endurance lim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32400" y="3889440"/>
                <a:ext cx="345960" cy="99720"/>
              </a:xfrm>
              <a:custGeom>
                <a:avLst/>
                <a:gdLst/>
                <a:ahLst/>
                <a:rect l="l" t="t" r="r" b="b"/>
                <a:pathLst>
                  <a:path w="218" h="63">
                    <a:moveTo>
                      <a:pt x="218" y="0"/>
                    </a:moveTo>
                    <a:cubicBezTo>
                      <a:pt x="184" y="25"/>
                      <a:pt x="151" y="51"/>
                      <a:pt x="122" y="57"/>
                    </a:cubicBezTo>
                    <a:cubicBezTo>
                      <a:pt x="93" y="63"/>
                      <a:pt x="65" y="47"/>
                      <a:pt x="45" y="38"/>
                    </a:cubicBezTo>
                    <a:cubicBezTo>
                      <a:pt x="25" y="29"/>
                      <a:pt x="12" y="1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19:25:09Z</dcterms:created>
  <dc:creator>R. L. Norton</dc:creator>
  <dc:description/>
  <dc:language>en-US</dc:language>
  <cp:lastModifiedBy>norton</cp:lastModifiedBy>
  <dcterms:modified xsi:type="dcterms:W3CDTF">2006-01-07T23:33:47Z</dcterms:modified>
  <cp:revision>15</cp:revision>
  <dc:subject/>
  <dc:title>Fatigue Failure</dc:title>
</cp:coreProperties>
</file>