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1.wmf" ContentType="image/x-wmf"/>
  <Override PartName="/ppt/media/image5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30.wmf" ContentType="image/x-wmf"/>
  <Override PartName="/ppt/media/image32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3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4.wmf" ContentType="image/x-wmf"/>
  <Override PartName="/ppt/media/image15.jpeg" ContentType="image/jpeg"/>
  <Override PartName="/ppt/media/image2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A9C-8D54-4C13-B0AC-72B76E4E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4F0-C784-4E06-9F4A-1E9EF5A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0AD-E551-488B-A4AB-4E4D2CD2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4A9-6266-4C22-8A20-671580D0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98C9F-4159-4502-BF3E-D3DBBBC0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8F47-CC92-484D-9EC5-695676D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111F1-DA52-4ABD-B983-4AD4407E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E8CF7-5C99-402D-A597-D0DB3EF8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5E92C-8073-494B-AFD3-7FFA733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8B072-3D88-47D6-93FB-A3D4C53C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9DF1-9981-431C-989C-A80C153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5BD-7990-479A-A5FE-E7481ACC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FF922-3889-41CD-9C2C-81945F0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1D797-F5A5-4BF8-B48F-9F48F2A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3E961-A0BF-4936-9140-11128F4D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6F336-BAFA-4165-8CE6-0AE2545B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0FE0-87DC-4EFB-9023-0C009096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FCA6-5F99-45DD-B3EC-88DD23C1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AFDF-FE51-4F28-B368-F906889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BCD7-FD4D-492F-A9F3-9434EEB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CA35-AE5D-4030-A77D-4D9C892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95A4-32AF-4218-B4E2-79388825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6CC-5192-44D3-A2C7-4E0D8DDF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415E-ABAB-477A-9518-6F2FAC81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011C-6693-45EF-8636-B59ECF2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DBB4-E18E-44A3-BF6C-98CD811F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481C-D45F-438E-8080-49A416F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D71A-D7FC-48F4-85CD-27E7ACD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F7BE-428D-438F-9C89-2E1FA368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5EE7-E6A0-436C-9002-D9B926A9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150-549D-4EEC-94E5-7BB2E0F9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C01-005C-4A4B-BC6B-F50D33B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8AD-7626-483C-A7F8-2E63DBD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1BD-D015-4D66-8207-63A499C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983-DE05-4568-9C57-A3821753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2EE-B80E-491F-AB84-4F0BFF0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A79A-F513-434C-8992-9C41E9ED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3199-26DF-4308-8D5D-6000AB1FFB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0D2D-4BE4-4AF4-B29F-9C856E76A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kf.com/portal/skf/home/products?paf_dm=shared&amp;maincatalogue=1&amp;lang=en&amp;newlink=1_0_2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olling Bearing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2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1828800"/>
            <a:ext cx="7848720" cy="411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Roller Bearing Lif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997" t="0" r="0" b="0"/>
          <a:stretch/>
        </p:blipFill>
        <p:spPr>
          <a:xfrm>
            <a:off x="838080" y="1981080"/>
            <a:ext cx="75772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15960" y="819000"/>
            <a:ext cx="8209080" cy="558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763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lection of rolling-element bearings: dynamic load ra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428920" y="1581120"/>
                <a:ext cx="1463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871560" y="1003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ased on experimental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428920" y="2136600"/>
                <a:ext cx="17049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01680" y="13446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Ball bearing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1680" y="190008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Roller bearing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13320" y="1606680"/>
                <a:ext cx="2397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675320" y="157968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Fatigue life in millions of rev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03600" y="1898640"/>
                <a:ext cx="258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675320" y="189396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Basic dynamic load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503600" y="2244600"/>
                <a:ext cx="25884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675320" y="2217600"/>
            <a:ext cx="32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Equivalent appli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05320" y="1517760"/>
            <a:ext cx="4094280" cy="10872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0920" y="3013200"/>
            <a:ext cx="69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ased on experimental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76720" y="3529080"/>
                <a:ext cx="1987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5440" y="4368960"/>
                <a:ext cx="3031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031840" y="4375080"/>
            <a:ext cx="37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applied constant radial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741320" y="4719600"/>
                <a:ext cx="327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031840" y="4727520"/>
            <a:ext cx="40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applied constant thrust (axial)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809720" y="4065480"/>
                <a:ext cx="2588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2039760" y="402732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Equivalent appli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765440" y="5113440"/>
                <a:ext cx="3031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039760" y="5075280"/>
            <a:ext cx="62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radial factor (see Fig. 10-24 or other bearing specifica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809720" y="5435640"/>
                <a:ext cx="2588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2049480" y="5408640"/>
            <a:ext cx="63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rotation factor (see Fig. 10-24 or other bearing specifica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85960" y="5780160"/>
                <a:ext cx="2602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39760" y="5742000"/>
            <a:ext cx="62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thrust factor (see Fig. 10-24 or other bearing specifica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31960" y="584280"/>
            <a:ext cx="6964200" cy="353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16160" y="692280"/>
            <a:ext cx="6032520" cy="2590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886040" y="3470400"/>
            <a:ext cx="6573600" cy="5364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1720800" y="4335480"/>
            <a:ext cx="6975360" cy="1776240"/>
            <a:chOff x="1720800" y="4335480"/>
            <a:chExt cx="6975360" cy="1776240"/>
          </a:xfrm>
        </p:grpSpPr>
        <p:sp>
          <p:nvSpPr>
            <p:cNvPr id="256" name=""/>
            <p:cNvSpPr/>
            <p:nvPr/>
          </p:nvSpPr>
          <p:spPr>
            <a:xfrm>
              <a:off x="1720800" y="4335480"/>
              <a:ext cx="6975360" cy="1776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778040" y="4446360"/>
              <a:ext cx="6754680" cy="1472400"/>
              <a:chOff x="1778040" y="4446360"/>
              <a:chExt cx="6754680" cy="1472400"/>
            </a:xfrm>
          </p:grpSpPr>
          <p:pic>
            <p:nvPicPr>
              <p:cNvPr id="2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8640" y="4706280"/>
                <a:ext cx="3265560" cy="39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78040" y="5299920"/>
                <a:ext cx="447984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178680" y="4446360"/>
                <a:ext cx="2354040" cy="82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256440" y="5270040"/>
                <a:ext cx="2219400" cy="64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2" name=""/>
          <p:cNvSpPr/>
          <p:nvPr/>
        </p:nvSpPr>
        <p:spPr>
          <a:xfrm>
            <a:off x="6942240" y="5419800"/>
            <a:ext cx="72216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23080" y="5435640"/>
            <a:ext cx="72252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1320" y="5451480"/>
            <a:ext cx="72252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57800" y="5445000"/>
            <a:ext cx="72252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9120" y="4586400"/>
            <a:ext cx="1308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6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550880" y="276120"/>
            <a:ext cx="7380360" cy="267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49440" y="3071880"/>
            <a:ext cx="7346880" cy="359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620720" y="3130560"/>
            <a:ext cx="7213680" cy="3425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49600" y="5605560"/>
            <a:ext cx="72252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27200" y="5253120"/>
            <a:ext cx="72252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12160" y="5272200"/>
            <a:ext cx="72216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036880" y="396720"/>
            <a:ext cx="6067440" cy="2514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38240" y="264960"/>
            <a:ext cx="1307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0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6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20" y="3267000"/>
            <a:ext cx="1307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6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62040" y="135000"/>
            <a:ext cx="7346880" cy="359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33680" y="193680"/>
            <a:ext cx="7213320" cy="3425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562200" y="2668680"/>
            <a:ext cx="72252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8480" y="2693880"/>
            <a:ext cx="72216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40160" y="2316240"/>
            <a:ext cx="72216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70320" y="2309760"/>
            <a:ext cx="72252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24760" y="2335320"/>
            <a:ext cx="722520" cy="307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63840" y="3921120"/>
            <a:ext cx="7305480" cy="2679840"/>
            <a:chOff x="1563840" y="3921120"/>
            <a:chExt cx="7305480" cy="2679840"/>
          </a:xfrm>
        </p:grpSpPr>
        <p:sp>
          <p:nvSpPr>
            <p:cNvPr id="284" name=""/>
            <p:cNvSpPr/>
            <p:nvPr/>
          </p:nvSpPr>
          <p:spPr>
            <a:xfrm>
              <a:off x="1563840" y="3921120"/>
              <a:ext cx="7305480" cy="2679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2093760" y="4070520"/>
              <a:ext cx="599940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2022480" y="4631040"/>
              <a:ext cx="6032520" cy="17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181080" y="3965400"/>
            <a:ext cx="1307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0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6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3440" y="311040"/>
            <a:ext cx="1308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6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6040" y="1679400"/>
            <a:ext cx="8464680" cy="394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earing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73040" y="1846440"/>
            <a:ext cx="82598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58840" y="1679400"/>
            <a:ext cx="6826320" cy="394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oating Bearing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185840" y="1935000"/>
            <a:ext cx="6472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12800" y="1627200"/>
            <a:ext cx="7593120" cy="409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Packaged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076400" y="2232000"/>
            <a:ext cx="3097080" cy="26496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316480" y="2198520"/>
            <a:ext cx="2252880" cy="2692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787400" y="51354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ow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0760" y="50655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ge 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11440" y="17226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with ball or roller bearings in all varie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329000" y="2095560"/>
            <a:ext cx="4256280" cy="379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2680" y="2093760"/>
            <a:ext cx="3808440" cy="379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Packaged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77800" y="2475000"/>
            <a:ext cx="3265560" cy="23540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041480" y="51246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fol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559400" y="2386080"/>
            <a:ext cx="3873240" cy="2700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086440" y="5149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ich Bearing Type to Us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journals whe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ve oscill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an stand high start torqu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ve copious lube avail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hydrostatic flo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ir or water bearing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ant dry lubrican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ant lowest cos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ve high relative veloc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split bearings for assembl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rolling when: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ve continuous rot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low start torqu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encapsulated “lifetime” lubric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accurate loc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preload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combo of radial and thrust resistanc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 stock replacemen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an assemble axiall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8960" y="1308240"/>
            <a:ext cx="8453520" cy="537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lling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tapered roller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29160" y="1501920"/>
            <a:ext cx="4889520" cy="5018040"/>
            <a:chOff x="3629160" y="1501920"/>
            <a:chExt cx="4889520" cy="5018040"/>
          </a:xfrm>
        </p:grpSpPr>
        <p:sp>
          <p:nvSpPr>
            <p:cNvPr id="149" name=""/>
            <p:cNvSpPr/>
            <p:nvPr/>
          </p:nvSpPr>
          <p:spPr>
            <a:xfrm>
              <a:off x="3629160" y="1501920"/>
              <a:ext cx="488952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6360" y="1658880"/>
              <a:ext cx="4532400" cy="470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897360" y="1776240"/>
              <a:ext cx="4327560" cy="449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84280" y="1509840"/>
            <a:ext cx="2882880" cy="5018040"/>
            <a:chOff x="584280" y="1509840"/>
            <a:chExt cx="2882880" cy="5018040"/>
          </a:xfrm>
        </p:grpSpPr>
        <p:sp>
          <p:nvSpPr>
            <p:cNvPr id="153" name=""/>
            <p:cNvSpPr/>
            <p:nvPr/>
          </p:nvSpPr>
          <p:spPr>
            <a:xfrm>
              <a:off x="584280" y="1509840"/>
              <a:ext cx="288288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12720" y="1568520"/>
              <a:ext cx="2770200" cy="4779720"/>
              <a:chOff x="612720" y="1568520"/>
              <a:chExt cx="2770200" cy="477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612720" y="1568520"/>
                <a:ext cx="2770200" cy="174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Comic Sans MS"/>
                  </a:rPr>
                  <a:t>Double reduction spur gear: </a:t>
                </a:r>
                <a:r>
                  <a:rPr b="0" lang="en-US" sz="1400" spc="-1" strike="noStrike">
                    <a:solidFill>
                      <a:srgbClr val="000066"/>
                    </a:solidFill>
                    <a:latin typeface="Comic Sans MS"/>
                  </a:rPr>
                  <a:t>maximum shaft diameter (largest bearing location) is 180 mm.  Input power is 1500 HP at maximum speed of 1500 rpm.  Gear ratio is 8: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040" y="3589200"/>
                <a:ext cx="2376360" cy="275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Help for Bearing Se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designer is never alone in a quest for the proper bearing in an applic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earing manufacturers provide help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ir catalogs and websites are virtual textbooks on bearing sele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e e.g., SKF’s site 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kf.com/portal/skf/home/products?paf_dm=shared&amp;maincatalogue=1&amp;lang=en&amp;newlink=1_0_2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thers are noted on MyWPI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lling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self-aligning ball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3840" y="1222200"/>
            <a:ext cx="9020160" cy="5508720"/>
            <a:chOff x="123840" y="1222200"/>
            <a:chExt cx="9020160" cy="5508720"/>
          </a:xfrm>
        </p:grpSpPr>
        <p:sp>
          <p:nvSpPr>
            <p:cNvPr id="159" name=""/>
            <p:cNvSpPr/>
            <p:nvPr/>
          </p:nvSpPr>
          <p:spPr>
            <a:xfrm>
              <a:off x="174600" y="1222200"/>
              <a:ext cx="8878680" cy="550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612720" y="1855800"/>
              <a:ext cx="806292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3040" y="5099040"/>
              <a:ext cx="60199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Cutting shaft of a planer: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haft diameter (bearings locations) is 40 mm.  Input power is 12 HP at maximum speed of 4500 r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85840" y="1257480"/>
              <a:ext cx="2854440" cy="1263600"/>
              <a:chOff x="2985840" y="1257480"/>
              <a:chExt cx="2854440" cy="1263600"/>
            </a:xfrm>
          </p:grpSpPr>
          <p:sp>
            <p:nvSpPr>
              <p:cNvPr id="163" name=""/>
              <p:cNvSpPr/>
              <p:nvPr/>
            </p:nvSpPr>
            <p:spPr>
              <a:xfrm>
                <a:off x="4836960" y="1824120"/>
                <a:ext cx="372960" cy="6969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85840" y="1257480"/>
                <a:ext cx="285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haft: used for transmission of power and as a machining 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078680" y="1461960"/>
              <a:ext cx="1420560" cy="741600"/>
              <a:chOff x="7078680" y="1461960"/>
              <a:chExt cx="1420560" cy="74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7078680" y="1461960"/>
                <a:ext cx="14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Input pull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34240" y="1762200"/>
                <a:ext cx="178920" cy="4413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8" name="" descr=""/>
            <p:cNvPicPr/>
            <p:nvPr/>
          </p:nvPicPr>
          <p:blipFill>
            <a:blip r:embed="rId2"/>
            <a:srcRect l="0" t="0" r="0" b="8382"/>
            <a:stretch/>
          </p:blipFill>
          <p:spPr>
            <a:xfrm>
              <a:off x="244440" y="4451400"/>
              <a:ext cx="224316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30000" y="154476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Loc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less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19640" y="434808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Flo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heavi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067520" y="3163680"/>
              <a:ext cx="1108080" cy="1463040"/>
              <a:chOff x="7067520" y="3163680"/>
              <a:chExt cx="1108080" cy="1463040"/>
            </a:xfrm>
          </p:grpSpPr>
          <p:sp>
            <p:nvSpPr>
              <p:cNvPr id="172" name=""/>
              <p:cNvSpPr/>
              <p:nvPr/>
            </p:nvSpPr>
            <p:spPr>
              <a:xfrm flipH="1" flipV="1">
                <a:off x="7623000" y="3163320"/>
                <a:ext cx="246240" cy="118260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67520" y="4319640"/>
                <a:ext cx="110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500440" y="1660680"/>
              <a:ext cx="1971720" cy="679320"/>
              <a:chOff x="5500440" y="1660680"/>
              <a:chExt cx="1971720" cy="679320"/>
            </a:xfrm>
          </p:grpSpPr>
          <p:sp>
            <p:nvSpPr>
              <p:cNvPr id="175" name=""/>
              <p:cNvSpPr/>
              <p:nvPr/>
            </p:nvSpPr>
            <p:spPr>
              <a:xfrm>
                <a:off x="5500440" y="1660680"/>
                <a:ext cx="1971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Lubrication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24560" y="1930320"/>
                <a:ext cx="160200" cy="40968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8405640" y="2249640"/>
              <a:ext cx="738360" cy="779400"/>
              <a:chOff x="8405640" y="2249640"/>
              <a:chExt cx="738360" cy="779400"/>
            </a:xfrm>
          </p:grpSpPr>
          <p:sp>
            <p:nvSpPr>
              <p:cNvPr id="178" name=""/>
              <p:cNvSpPr/>
              <p:nvPr/>
            </p:nvSpPr>
            <p:spPr>
              <a:xfrm>
                <a:off x="8405640" y="2249640"/>
                <a:ext cx="7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Cl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45600" y="2549520"/>
                <a:ext cx="25236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3840" y="2033640"/>
              <a:ext cx="890640" cy="971640"/>
              <a:chOff x="123840" y="2033640"/>
              <a:chExt cx="890640" cy="971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23840" y="2033640"/>
                <a:ext cx="89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ealed bearin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21720" y="2525760"/>
                <a:ext cx="28548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50560" y="4927680"/>
              <a:ext cx="1960560" cy="5983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5600" y="2189160"/>
            <a:ext cx="3030480" cy="366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67160" y="149400"/>
            <a:ext cx="5327640" cy="658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8960" y="412920"/>
            <a:ext cx="28497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592440" y="250920"/>
            <a:ext cx="5079960" cy="6383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6520" y="2301840"/>
            <a:ext cx="24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General classification and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040" y="2959200"/>
            <a:ext cx="28386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 fontScale="99000"/>
          </a:bodyPr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Bal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Roller type bea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izes and capacities of ball and roller bearings are standar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owever, depending on the type of machine they are to be used in, and expected application and function, a non-standard or specially design bearing may be preferred (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very expensive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20560" y="1243080"/>
            <a:ext cx="8229600" cy="543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: bal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88920" y="1347840"/>
            <a:ext cx="4268880" cy="253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176640" y="4021200"/>
            <a:ext cx="2413080" cy="2555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49160" y="4025880"/>
            <a:ext cx="2325960" cy="2560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970600" y="156672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64320" y="1960560"/>
            <a:ext cx="297648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igh-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igh-pr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w t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w vib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ep groove ball bearings are selected for radial load and moderate thrust (axial)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ngular contact ball bearings are selected for radial load and larger thrust (axial) loads in only on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6160" y="1093680"/>
            <a:ext cx="8793000" cy="562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58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: roller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5280" y="147168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39000" y="1865160"/>
            <a:ext cx="29764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ng-life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ng endurance for heavy lo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ng endurance for shock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Unless rollers are contoured, they can support load in only one direction (radial or thrust according to bearing desig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Most roller bearings support, both radial and thrust lo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If contact angle is less than 45</a:t>
            </a:r>
            <a:r>
              <a:rPr b="0" lang="en-US" sz="1400" spc="-1" strike="noStrike" baseline="30000">
                <a:solidFill>
                  <a:srgbClr val="00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bearing has larger radial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60360" y="1249200"/>
            <a:ext cx="4341960" cy="2540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89080" y="3935520"/>
            <a:ext cx="3128760" cy="2709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505320" y="3930480"/>
            <a:ext cx="258264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5960" y="1308240"/>
            <a:ext cx="7985160" cy="531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: thrust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98520" y="4363920"/>
            <a:ext cx="3886200" cy="1998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54000" y="1535040"/>
            <a:ext cx="4510080" cy="2668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737320" y="165276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30680" y="2046240"/>
            <a:ext cx="2976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signed to support thrust (axial) load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ome roller bearings with a contact angle larger than 45</a:t>
            </a:r>
            <a:r>
              <a:rPr b="0" lang="en-US" sz="1400" spc="-1" strike="noStrike" baseline="30000">
                <a:solidFill>
                  <a:srgbClr val="00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can be used for thrust (axial) load and moderate radial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74560" y="1403280"/>
            <a:ext cx="8218440" cy="509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Advantages/disadvantages: rolling-element &amp;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12920" y="1936800"/>
            <a:ext cx="72230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ow-starting and operating fr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an withstand radial and thrust (axial)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ess sensitive to interruptions of lubr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ynamic s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ood temperature s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ealed: to be life-time lubr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ess space in axial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08160" y="154944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ome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advantages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of rolling over sliding (journal) bearing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12920" y="4479840"/>
            <a:ext cx="72230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olling bearings fail from fatigue (su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quire more space in the radial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oor damp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igher nois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trict alignment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igher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igher fr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08160" y="4102200"/>
            <a:ext cx="76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ome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disadvantages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of rolling over sliding (journal) bearing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9840" y="2668680"/>
            <a:ext cx="2509560" cy="399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9880" y="169920"/>
            <a:ext cx="5581440" cy="652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9600" y="596880"/>
            <a:ext cx="25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lection of rolling-element bearings: choose type of be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386160" y="243000"/>
            <a:ext cx="5151240" cy="6360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88880" y="2954160"/>
            <a:ext cx="20941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See Figure 10-21</a:t>
            </a: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 and specific recommendations from bearing manufacturers on web p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SK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F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TIM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N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. L. Norton</cp:lastModifiedBy>
  <cp:lastPrinted>2003-02-04T15:34:55Z</cp:lastPrinted>
  <dcterms:modified xsi:type="dcterms:W3CDTF">2006-01-04T01:04:57Z</dcterms:modified>
  <cp:revision>452</cp:revision>
  <dc:subject/>
  <dc:title>Lect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