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3.png" ContentType="image/png"/>
  <Override PartName="/ppt/media/image3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860-9631-47BF-BE3F-2F5120EE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ED1-090A-4DFF-9525-663BCB7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1FB-AB95-44A3-9BF6-E095536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337-BEC9-4656-AC7C-74D0E431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B2703-B5D8-40B3-A60E-B5DD95DB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40283-2979-4725-A3CA-CF8BE64E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86200-90EA-4011-8109-36A7599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BC48-3B27-4D4C-B706-2C55DA77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3E91-8C96-45EC-8E49-82E6DE55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B59F2-149F-49DB-8B4E-4547CA7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738C3-78D0-41F3-B89A-16390D89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4B9-8F97-4017-8F0D-F2DB29A8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0F115-5E97-4AC7-979D-CFDA4EF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FEA0C-0E8F-4FC0-BB02-12B504C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48490-B8A0-45CF-ACC7-D9A6C78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914A3-9624-44A0-96E3-17AF498D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9BEC-8694-4E46-B00D-B9D9F1DE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CA32-B238-454A-94AB-35976DA4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9491-8B27-4DCF-9AD0-3F01AAF3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2165-3609-47D2-AC96-BAF64F4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7BB5-7712-4E60-B9FB-0ABAB499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98C7-47C9-47E9-816E-48C3FCD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6B8-054B-475A-B3C6-E70493A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8250-4454-4B8E-B454-EF378587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54BF-03CE-4AB4-AA14-D8DDB2C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7384-1FDE-4A0E-A0AA-C6A6EC0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FA93-7C1C-454E-8DD3-2EFB118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B20D-8E30-446A-A077-B869B4E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E253-A498-468C-9B67-D7997980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9359-1A31-4860-A137-D18F00A3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058-6E31-48D6-958C-6C6D662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217-A6BC-4A52-9126-9190BA3B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3EE-E2E1-4D4B-8EB0-9151C0B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D91-1E43-4BD5-BE35-C9ABD6B8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B1D-E59F-4C91-95BA-236666C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512-8FFF-46E3-9A6B-383F928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29D3-3A89-4E3E-8537-590F8900D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0F7B-B5CD-4A34-BB31-EEDE54D5AE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80F1-5C2A-4E2F-83D0-59EF9737D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ear Design I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68080" y="0"/>
            <a:ext cx="54356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AGMA Geometry Factor J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93640" y="822240"/>
            <a:ext cx="8199360" cy="2914560"/>
            <a:chOff x="593640" y="822240"/>
            <a:chExt cx="8199360" cy="2914560"/>
          </a:xfrm>
        </p:grpSpPr>
        <p:sp>
          <p:nvSpPr>
            <p:cNvPr id="219" name=""/>
            <p:cNvSpPr/>
            <p:nvPr/>
          </p:nvSpPr>
          <p:spPr>
            <a:xfrm>
              <a:off x="593640" y="822240"/>
              <a:ext cx="8199360" cy="29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rcRect l="0" t="5459" r="0" b="7386"/>
            <a:stretch/>
          </p:blipFill>
          <p:spPr>
            <a:xfrm>
              <a:off x="606240" y="874440"/>
              <a:ext cx="8091720" cy="27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604800" y="3817800"/>
            <a:ext cx="8199360" cy="2909880"/>
            <a:chOff x="604800" y="3817800"/>
            <a:chExt cx="8199360" cy="2909880"/>
          </a:xfrm>
        </p:grpSpPr>
        <p:sp>
          <p:nvSpPr>
            <p:cNvPr id="222" name=""/>
            <p:cNvSpPr/>
            <p:nvPr/>
          </p:nvSpPr>
          <p:spPr>
            <a:xfrm>
              <a:off x="604800" y="3817800"/>
              <a:ext cx="8199360" cy="290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rcRect l="0" t="0" r="0" b="3168"/>
            <a:stretch/>
          </p:blipFill>
          <p:spPr>
            <a:xfrm>
              <a:off x="690480" y="3925800"/>
              <a:ext cx="7923240" cy="27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6108840" y="130320"/>
            <a:ext cx="2665080" cy="620640"/>
            <a:chOff x="6108840" y="130320"/>
            <a:chExt cx="2665080" cy="620640"/>
          </a:xfrm>
        </p:grpSpPr>
        <p:sp>
          <p:nvSpPr>
            <p:cNvPr id="225" name=""/>
            <p:cNvSpPr/>
            <p:nvPr/>
          </p:nvSpPr>
          <p:spPr>
            <a:xfrm>
              <a:off x="6108840" y="130320"/>
              <a:ext cx="2665080" cy="62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288120" y="173160"/>
                  <a:ext cx="223524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J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683400" y="360360"/>
            <a:ext cx="654120" cy="352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Other AGMA Facto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4360" y="2638440"/>
            <a:ext cx="2109600" cy="2573280"/>
            <a:chOff x="414360" y="2638440"/>
            <a:chExt cx="2109600" cy="2573280"/>
          </a:xfrm>
        </p:grpSpPr>
        <p:sp>
          <p:nvSpPr>
            <p:cNvPr id="230" name=""/>
            <p:cNvSpPr/>
            <p:nvPr/>
          </p:nvSpPr>
          <p:spPr>
            <a:xfrm>
              <a:off x="414360" y="2638440"/>
              <a:ext cx="2109600" cy="257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"/>
            <a:srcRect l="0" t="0" r="0" b="6775"/>
            <a:stretch/>
          </p:blipFill>
          <p:spPr>
            <a:xfrm>
              <a:off x="466560" y="2951280"/>
              <a:ext cx="1949040" cy="16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2652840" y="2646360"/>
            <a:ext cx="6078240" cy="2573280"/>
            <a:chOff x="2652840" y="2646360"/>
            <a:chExt cx="6078240" cy="2573280"/>
          </a:xfrm>
        </p:grpSpPr>
        <p:sp>
          <p:nvSpPr>
            <p:cNvPr id="233" name=""/>
            <p:cNvSpPr/>
            <p:nvPr/>
          </p:nvSpPr>
          <p:spPr>
            <a:xfrm>
              <a:off x="2652840" y="2646360"/>
              <a:ext cx="6078240" cy="257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2"/>
            <a:srcRect l="0" t="0" r="0" b="7198"/>
            <a:stretch/>
          </p:blipFill>
          <p:spPr>
            <a:xfrm>
              <a:off x="2776320" y="2908440"/>
              <a:ext cx="5660640" cy="182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3378240" y="1479600"/>
            <a:ext cx="2665080" cy="620640"/>
            <a:chOff x="3378240" y="1479600"/>
            <a:chExt cx="2665080" cy="620640"/>
          </a:xfrm>
        </p:grpSpPr>
        <p:sp>
          <p:nvSpPr>
            <p:cNvPr id="236" name=""/>
            <p:cNvSpPr/>
            <p:nvPr/>
          </p:nvSpPr>
          <p:spPr>
            <a:xfrm>
              <a:off x="3378240" y="1479600"/>
              <a:ext cx="2665080" cy="62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557520" y="1522440"/>
                  <a:ext cx="223524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J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/>
          <p:cNvSpPr/>
          <p:nvPr/>
        </p:nvSpPr>
        <p:spPr>
          <a:xfrm>
            <a:off x="4444920" y="1498680"/>
            <a:ext cx="642960" cy="352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More AGMA Facto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6520" y="2182680"/>
            <a:ext cx="561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= Size factor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t to 1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= Rim thickness facto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t to 1 for a solid gear (no rim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e text for other cas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= Idler facto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t to 1 for a non-idler gea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t to 1.42 for an idler gea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dler sees fully reversed str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f twice the range of non-idl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79600" y="1239840"/>
            <a:ext cx="2665080" cy="620640"/>
            <a:chOff x="3279600" y="1239840"/>
            <a:chExt cx="2665080" cy="620640"/>
          </a:xfrm>
        </p:grpSpPr>
        <p:sp>
          <p:nvSpPr>
            <p:cNvPr id="242" name=""/>
            <p:cNvSpPr/>
            <p:nvPr/>
          </p:nvSpPr>
          <p:spPr>
            <a:xfrm>
              <a:off x="3279600" y="1239840"/>
              <a:ext cx="2665080" cy="62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458880" y="1282680"/>
                  <a:ext cx="223524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J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4" name=""/>
          <p:cNvSpPr/>
          <p:nvPr/>
        </p:nvSpPr>
        <p:spPr>
          <a:xfrm>
            <a:off x="4869000" y="1349280"/>
            <a:ext cx="874440" cy="352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21320" y="1255680"/>
            <a:ext cx="2181240" cy="5126040"/>
            <a:chOff x="6421320" y="1255680"/>
            <a:chExt cx="2181240" cy="5126040"/>
          </a:xfrm>
        </p:grpSpPr>
        <p:sp>
          <p:nvSpPr>
            <p:cNvPr id="246" name=""/>
            <p:cNvSpPr/>
            <p:nvPr/>
          </p:nvSpPr>
          <p:spPr>
            <a:xfrm>
              <a:off x="6421320" y="1255680"/>
              <a:ext cx="2181240" cy="5126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rcRect l="0" t="0" r="13502" b="14557"/>
            <a:stretch/>
          </p:blipFill>
          <p:spPr>
            <a:xfrm>
              <a:off x="6602040" y="1363680"/>
              <a:ext cx="1860480" cy="49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urface Stress in Gear Teeth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 design teeth to never fail in bend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ut they will eventually fail in surface fatigu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076400" y="3095640"/>
            <a:ext cx="7223040" cy="2894040"/>
            <a:chOff x="1076400" y="3095640"/>
            <a:chExt cx="7223040" cy="2894040"/>
          </a:xfrm>
        </p:grpSpPr>
        <p:sp>
          <p:nvSpPr>
            <p:cNvPr id="251" name=""/>
            <p:cNvSpPr/>
            <p:nvPr/>
          </p:nvSpPr>
          <p:spPr>
            <a:xfrm>
              <a:off x="1076400" y="3095640"/>
              <a:ext cx="7223040" cy="289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87520" y="3255840"/>
              <a:ext cx="6118200" cy="1114560"/>
              <a:chOff x="1487520" y="3255840"/>
              <a:chExt cx="6118200" cy="1114560"/>
            </a:xfrm>
          </p:grpSpPr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8280" y="3273480"/>
                <a:ext cx="606744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1487520" y="3255840"/>
                <a:ext cx="29196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1557360" y="4416480"/>
              <a:ext cx="6067440" cy="13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808600" y="271440"/>
            <a:ext cx="278280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134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lastic Coefficient Cp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70680" y="461880"/>
            <a:ext cx="2084400" cy="590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426360" y="635040"/>
            <a:ext cx="392040" cy="261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5440" y="1477800"/>
            <a:ext cx="6421680" cy="2702160"/>
            <a:chOff x="1225440" y="1477800"/>
            <a:chExt cx="6421680" cy="2702160"/>
          </a:xfrm>
        </p:grpSpPr>
        <p:sp>
          <p:nvSpPr>
            <p:cNvPr id="261" name=""/>
            <p:cNvSpPr/>
            <p:nvPr/>
          </p:nvSpPr>
          <p:spPr>
            <a:xfrm>
              <a:off x="1225440" y="1477800"/>
              <a:ext cx="6421680" cy="270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1366920" y="1577880"/>
              <a:ext cx="6067440" cy="25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1368360" y="2119320"/>
            <a:ext cx="6612120" cy="4281480"/>
            <a:chOff x="1368360" y="2119320"/>
            <a:chExt cx="6612120" cy="4281480"/>
          </a:xfrm>
        </p:grpSpPr>
        <p:sp>
          <p:nvSpPr>
            <p:cNvPr id="264" name=""/>
            <p:cNvSpPr/>
            <p:nvPr/>
          </p:nvSpPr>
          <p:spPr>
            <a:xfrm>
              <a:off x="1368360" y="2119320"/>
              <a:ext cx="6612120" cy="4281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rcRect l="0" t="531" r="0" b="0"/>
            <a:stretch/>
          </p:blipFill>
          <p:spPr>
            <a:xfrm>
              <a:off x="1617840" y="2286000"/>
              <a:ext cx="5932440" cy="384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808600" y="271440"/>
            <a:ext cx="278280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134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urface Geometry Factor  I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"/>
          <p:cNvSpPr/>
          <p:nvPr/>
        </p:nvSpPr>
        <p:spPr>
          <a:xfrm>
            <a:off x="452520" y="1438200"/>
            <a:ext cx="8369280" cy="507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33520" y="1571760"/>
            <a:ext cx="6032520" cy="1358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487520" y="2949480"/>
            <a:ext cx="6269040" cy="3433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070680" y="461880"/>
            <a:ext cx="2084400" cy="590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807240" y="746280"/>
            <a:ext cx="392040" cy="261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Gear Material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827080" y="1539360"/>
            <a:ext cx="3606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st I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ronz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nmetallic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yl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lr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henolic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Gear Material Strength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8040" y="13287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GMA has done extensive testing to establish fatigue strengths for gear materials in both bending and surface fatigue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se data were generated with proper size, geometry, surface finish, etc., and so are partially corrected fatigue strengths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y are stated at 1E7 cycles (unlike other data at 1E6 or 5E8) and are at 99% reliability level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test load was fluctuating, containing the mean stress component, so these data can be compared directly to the alternating stress on the tooth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 Goodman line analysis is not needed here as the strength data already are in the Goodman domain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Gear Bending Fatigue Strength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8880" y="1319040"/>
            <a:ext cx="7245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bular data are published (see Table 11-20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mulae are also defined based on Brinell hardnes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374840" y="2763720"/>
            <a:ext cx="6251400" cy="3757680"/>
            <a:chOff x="1374840" y="2763720"/>
            <a:chExt cx="6251400" cy="3757680"/>
          </a:xfrm>
        </p:grpSpPr>
        <p:sp>
          <p:nvSpPr>
            <p:cNvPr id="280" name=""/>
            <p:cNvSpPr/>
            <p:nvPr/>
          </p:nvSpPr>
          <p:spPr>
            <a:xfrm>
              <a:off x="1374840" y="2763720"/>
              <a:ext cx="6251400" cy="3757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1604880" y="2943360"/>
              <a:ext cx="5560920" cy="342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384120" y="125280"/>
            <a:ext cx="8369280" cy="6562800"/>
            <a:chOff x="384120" y="125280"/>
            <a:chExt cx="8369280" cy="6562800"/>
          </a:xfrm>
        </p:grpSpPr>
        <p:sp>
          <p:nvSpPr>
            <p:cNvPr id="283" name=""/>
            <p:cNvSpPr/>
            <p:nvPr/>
          </p:nvSpPr>
          <p:spPr>
            <a:xfrm>
              <a:off x="384120" y="125280"/>
              <a:ext cx="8369280" cy="6562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592200" y="172800"/>
              <a:ext cx="8145360" cy="644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2080" y="1025640"/>
            <a:ext cx="8681760" cy="564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Forces on pinion and gear sets – time-varying fo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94320" y="1300320"/>
                <a:ext cx="22986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36480" y="141768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Tangential force compon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4320" y="2062080"/>
                <a:ext cx="12538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95360" y="3200400"/>
            <a:ext cx="8294400" cy="3044520"/>
            <a:chOff x="495360" y="3200400"/>
            <a:chExt cx="8294400" cy="30445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87160" y="3200400"/>
              <a:ext cx="8202600" cy="294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95360" y="5914440"/>
              <a:ext cx="1279080" cy="33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931040" y="204624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adial force compon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95320" y="26161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sultant for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94320" y="2614680"/>
                <a:ext cx="152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289160" y="1228680"/>
            <a:ext cx="6543720" cy="1838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0760" y="6245280"/>
            <a:ext cx="765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Note: for contact ratios &gt; 1, there exists a HIGHEST POINT OF SINGLE-TOOTH CONTACT (HPS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246320" y="1135080"/>
            <a:ext cx="6491160" cy="160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6560" y="12384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orrecting Gear Bending Fatigue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38280" y="1257480"/>
            <a:ext cx="599904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1257480" y="1811160"/>
            <a:ext cx="6491160" cy="2451240"/>
            <a:chOff x="1257480" y="1811160"/>
            <a:chExt cx="6491160" cy="2451240"/>
          </a:xfrm>
        </p:grpSpPr>
        <p:grpSp>
          <p:nvGrpSpPr>
            <p:cNvPr id="289" name=""/>
            <p:cNvGrpSpPr/>
            <p:nvPr/>
          </p:nvGrpSpPr>
          <p:grpSpPr>
            <a:xfrm>
              <a:off x="1257480" y="2865240"/>
              <a:ext cx="6491160" cy="1397160"/>
              <a:chOff x="1257480" y="2865240"/>
              <a:chExt cx="6491160" cy="1397160"/>
            </a:xfrm>
          </p:grpSpPr>
          <p:sp>
            <p:nvSpPr>
              <p:cNvPr id="290" name=""/>
              <p:cNvSpPr/>
              <p:nvPr/>
            </p:nvSpPr>
            <p:spPr>
              <a:xfrm>
                <a:off x="1257480" y="2865240"/>
                <a:ext cx="6491160" cy="1397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1" name="" descr=""/>
              <p:cNvPicPr/>
              <p:nvPr/>
            </p:nvPicPr>
            <p:blipFill>
              <a:blip r:embed="rId2"/>
              <a:srcRect l="0" t="0" r="0" b="11973"/>
              <a:stretch/>
            </p:blipFill>
            <p:spPr>
              <a:xfrm>
                <a:off x="1374840" y="2946240"/>
                <a:ext cx="6067440" cy="12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"/>
            <p:cNvSpPr/>
            <p:nvPr/>
          </p:nvSpPr>
          <p:spPr>
            <a:xfrm>
              <a:off x="4073400" y="1811160"/>
              <a:ext cx="392400" cy="262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258920" y="1812960"/>
            <a:ext cx="6481800" cy="4683240"/>
            <a:chOff x="1258920" y="1812960"/>
            <a:chExt cx="6481800" cy="4683240"/>
          </a:xfrm>
        </p:grpSpPr>
        <p:grpSp>
          <p:nvGrpSpPr>
            <p:cNvPr id="294" name=""/>
            <p:cNvGrpSpPr/>
            <p:nvPr/>
          </p:nvGrpSpPr>
          <p:grpSpPr>
            <a:xfrm>
              <a:off x="1258920" y="4416480"/>
              <a:ext cx="6481800" cy="2079720"/>
              <a:chOff x="1258920" y="4416480"/>
              <a:chExt cx="6481800" cy="2079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258920" y="4416480"/>
                <a:ext cx="6481800" cy="2079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" descr=""/>
              <p:cNvPicPr/>
              <p:nvPr/>
            </p:nvPicPr>
            <p:blipFill>
              <a:blip r:embed="rId3"/>
              <a:srcRect l="0" t="0" r="22719" b="0"/>
              <a:stretch/>
            </p:blipFill>
            <p:spPr>
              <a:xfrm>
                <a:off x="5586480" y="4495680"/>
                <a:ext cx="1506600" cy="19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1527120" y="5275440"/>
                <a:ext cx="3386160" cy="84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7000"/>
                  </a:lnSpc>
                  <a:spcBef>
                    <a:spcPts val="1001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66"/>
                    </a:solidFill>
                    <a:latin typeface="Comic Sans MS"/>
                  </a:rPr>
                  <a:t>Note that these are different factors than in Chapter 6 because these data are based on 99% reliability not 5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16040" y="4702320"/>
                <a:ext cx="256392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7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eliability Fa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325760" y="1812960"/>
              <a:ext cx="392400" cy="262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587760" y="663480"/>
            <a:ext cx="1828800" cy="66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78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ending Strength Life Factor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1" i="1" lang="en-US" sz="3200" spc="-1" strike="noStrike" baseline="-10000">
                <a:solidFill>
                  <a:srgbClr val="000000"/>
                </a:solidFill>
                <a:latin typeface="Arial Rounded MT Bold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5960" y="1429920"/>
            <a:ext cx="69328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odifies strength based on your cycle lif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1949400"/>
            <a:ext cx="7939080" cy="4602240"/>
            <a:chOff x="501480" y="1949400"/>
            <a:chExt cx="7939080" cy="4602240"/>
          </a:xfrm>
        </p:grpSpPr>
        <p:sp>
          <p:nvSpPr>
            <p:cNvPr id="304" name=""/>
            <p:cNvSpPr/>
            <p:nvPr/>
          </p:nvSpPr>
          <p:spPr>
            <a:xfrm>
              <a:off x="501480" y="1949400"/>
              <a:ext cx="7939080" cy="4602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558720" y="2022480"/>
              <a:ext cx="7753320" cy="444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768840" y="744480"/>
            <a:ext cx="1374840" cy="4888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222800" y="716040"/>
            <a:ext cx="531720" cy="29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Gear Surface Fatigue Strength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7840" y="1278000"/>
            <a:ext cx="7837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GMA has done extensive testing on gea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abular data are published (see Table 11-21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rmulae are also defined based on Brinell hardne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195560" y="2612880"/>
            <a:ext cx="6251400" cy="3757320"/>
            <a:chOff x="1195560" y="2612880"/>
            <a:chExt cx="6251400" cy="3757320"/>
          </a:xfrm>
        </p:grpSpPr>
        <p:sp>
          <p:nvSpPr>
            <p:cNvPr id="311" name=""/>
            <p:cNvSpPr/>
            <p:nvPr/>
          </p:nvSpPr>
          <p:spPr>
            <a:xfrm>
              <a:off x="1195560" y="2612880"/>
              <a:ext cx="6251400" cy="375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11200" y="2749320"/>
              <a:ext cx="5729040" cy="351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Gear Surface Fatigue Strength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0" t="0" r="0" b="3407"/>
          <a:stretch/>
        </p:blipFill>
        <p:spPr>
          <a:xfrm>
            <a:off x="363600" y="20520"/>
            <a:ext cx="802476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46040" y="1436760"/>
            <a:ext cx="6500880" cy="350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orrecting Gear Surface Fatigue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531800" y="1571760"/>
            <a:ext cx="6067440" cy="20080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527120" y="3390840"/>
            <a:ext cx="6099120" cy="1325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017960" y="2914560"/>
            <a:ext cx="662040" cy="34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22200" y="5156280"/>
            <a:ext cx="7164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is the same as </a:t>
            </a: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defined earli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is the same as </a:t>
            </a: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i="1" lang="en-US" sz="2800" spc="-1" strike="noStrike" baseline="-10000">
                <a:solidFill>
                  <a:srgbClr val="000000"/>
                </a:solidFill>
                <a:latin typeface="Arial Rounded MT Bold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defined earli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476520" y="1397160"/>
            <a:ext cx="212112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urface Strength Life Factor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1" i="1" lang="en-US" sz="3600" spc="-1" strike="noStrike" baseline="-10000">
                <a:solidFill>
                  <a:srgbClr val="000000"/>
                </a:solidFill>
                <a:latin typeface="Arial Rounded MT Bold"/>
              </a:rPr>
              <a:t>L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73120" y="2852640"/>
            <a:ext cx="8078760" cy="3618000"/>
            <a:chOff x="573120" y="2852640"/>
            <a:chExt cx="8078760" cy="3618000"/>
          </a:xfrm>
        </p:grpSpPr>
        <p:sp>
          <p:nvSpPr>
            <p:cNvPr id="324" name=""/>
            <p:cNvSpPr/>
            <p:nvPr/>
          </p:nvSpPr>
          <p:spPr>
            <a:xfrm>
              <a:off x="573120" y="2852640"/>
              <a:ext cx="8078760" cy="361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689040" y="3063960"/>
              <a:ext cx="7686720" cy="30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640" y="2274480"/>
            <a:ext cx="69328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odifies strength based on your cycle lif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726000" y="1509840"/>
            <a:ext cx="1509480" cy="50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270320" y="1527120"/>
            <a:ext cx="401760" cy="28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6960" y="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Hardness Ratio Factor 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1" i="1" lang="en-US" sz="3600" spc="-1" strike="noStrike" baseline="-10000">
                <a:solidFill>
                  <a:srgbClr val="000000"/>
                </a:solidFill>
                <a:latin typeface="Arial Rounded MT Bold"/>
              </a:rPr>
              <a:t>H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55680" y="1527120"/>
            <a:ext cx="6662880" cy="1787760"/>
            <a:chOff x="1255680" y="1527120"/>
            <a:chExt cx="6662880" cy="1787760"/>
          </a:xfrm>
        </p:grpSpPr>
        <p:sp>
          <p:nvSpPr>
            <p:cNvPr id="331" name=""/>
            <p:cNvSpPr/>
            <p:nvPr/>
          </p:nvSpPr>
          <p:spPr>
            <a:xfrm>
              <a:off x="1255680" y="1527120"/>
              <a:ext cx="6662880" cy="1787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584360" y="1668600"/>
              <a:ext cx="6134040" cy="1512720"/>
              <a:chOff x="1584360" y="1668600"/>
              <a:chExt cx="6134040" cy="1512720"/>
            </a:xfrm>
          </p:grpSpPr>
          <p:pic>
            <p:nvPicPr>
              <p:cNvPr id="3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8120" y="1668600"/>
                <a:ext cx="6067440" cy="10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4360" y="2658960"/>
                <a:ext cx="6134040" cy="52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5" name=""/>
          <p:cNvGrpSpPr/>
          <p:nvPr/>
        </p:nvGrpSpPr>
        <p:grpSpPr>
          <a:xfrm>
            <a:off x="1257480" y="3417840"/>
            <a:ext cx="6662520" cy="3295800"/>
            <a:chOff x="1257480" y="3417840"/>
            <a:chExt cx="6662520" cy="3295800"/>
          </a:xfrm>
        </p:grpSpPr>
        <p:sp>
          <p:nvSpPr>
            <p:cNvPr id="336" name=""/>
            <p:cNvSpPr/>
            <p:nvPr/>
          </p:nvSpPr>
          <p:spPr>
            <a:xfrm>
              <a:off x="1257480" y="3417840"/>
              <a:ext cx="6662520" cy="329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60520" y="3529080"/>
              <a:ext cx="6202440" cy="3136680"/>
              <a:chOff x="1460520" y="3529080"/>
              <a:chExt cx="6202440" cy="3136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3529080"/>
                <a:ext cx="6067440" cy="173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60520" y="5156280"/>
                <a:ext cx="6202440" cy="15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0" name=""/>
          <p:cNvSpPr/>
          <p:nvPr/>
        </p:nvSpPr>
        <p:spPr>
          <a:xfrm>
            <a:off x="3486240" y="712800"/>
            <a:ext cx="21207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735360" y="825480"/>
            <a:ext cx="1509840" cy="506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470480" y="833400"/>
            <a:ext cx="401400" cy="28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ubrication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ars need lubric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il bath is be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ease lubrication is a poor substitut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ypoid oils are needed where sliding component of velocity is hig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erboloidal (hypoid) gear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ormset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y Examples 11-4, -5, -6,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74840" y="352440"/>
            <a:ext cx="2752920" cy="612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3018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Gear Teeth Always Have Dynamic Loading Even if Applied Load is Constant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597120" y="490680"/>
            <a:ext cx="2151360" cy="5736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30960" y="874800"/>
            <a:ext cx="2541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Gear teeth see both bending and surface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Gears can be designed for infinite life against bending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Gears cannot be designed for infinite life against surface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There is no endurance limit for surface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They will eventually fail in surface fatigue by pitting and sp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Inadequate or dirty lubrication can cause premature failure by adhesion or abras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Automobile gears very rarely fail in the life of the vehicle unless abused in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6280" y="1789200"/>
            <a:ext cx="6319800" cy="396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5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Bending stresses </a:t>
            </a:r>
            <a:br>
              <a:rPr sz="2200"/>
            </a:b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(note that contact stresses are also genera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736720" y="2689200"/>
          <a:ext cx="368172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2689200"/>
                    <a:ext cx="368172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153880" y="1962000"/>
            <a:ext cx="47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Tooth is modeled as a Cantilever beam in ben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35640" y="4740120"/>
                <a:ext cx="15825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514960" y="483408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Bending stre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22360" y="1144440"/>
            <a:ext cx="8169120" cy="549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Bending st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48480" y="2579760"/>
                <a:ext cx="2008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0" name=""/>
          <p:cNvGrpSpPr/>
          <p:nvPr/>
        </p:nvGrpSpPr>
        <p:grpSpPr>
          <a:xfrm>
            <a:off x="658800" y="1271520"/>
            <a:ext cx="4717440" cy="5265720"/>
            <a:chOff x="658800" y="1271520"/>
            <a:chExt cx="4717440" cy="5265720"/>
          </a:xfrm>
        </p:grpSpPr>
        <p:grpSp>
          <p:nvGrpSpPr>
            <p:cNvPr id="171" name=""/>
            <p:cNvGrpSpPr/>
            <p:nvPr/>
          </p:nvGrpSpPr>
          <p:grpSpPr>
            <a:xfrm>
              <a:off x="1018800" y="1271520"/>
              <a:ext cx="4357440" cy="5265720"/>
              <a:chOff x="1018800" y="1271520"/>
              <a:chExt cx="4357440" cy="5265720"/>
            </a:xfrm>
          </p:grpSpPr>
          <p:graphicFrame>
            <p:nvGraphicFramePr>
              <p:cNvPr id="172" name=""/>
              <p:cNvGraphicFramePr/>
              <p:nvPr/>
            </p:nvGraphicFramePr>
            <p:xfrm>
              <a:off x="1018800" y="1271520"/>
              <a:ext cx="3700440" cy="5265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18800" y="1271520"/>
                        <a:ext cx="3700440" cy="526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4" name=""/>
              <p:cNvSpPr/>
              <p:nvPr/>
            </p:nvSpPr>
            <p:spPr>
              <a:xfrm>
                <a:off x="4877640" y="5608080"/>
                <a:ext cx="27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635200" y="3727440"/>
                <a:ext cx="0" cy="187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5120" y="5613840"/>
                <a:ext cx="2751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58800" y="167832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ear tooth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ending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0640" y="1897200"/>
            <a:ext cx="35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Bending stresses (Lewis’ equation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94440" y="3289320"/>
            <a:ext cx="35258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7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he tangential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he diametral pit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he face 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7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he geometric factor (Lewis dimensionless geometric fa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1440" y="934920"/>
            <a:ext cx="8712360" cy="563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Bending st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3057480"/>
            <a:ext cx="86914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face width (minimum face width is 3 to 5 tim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bending strength geometric factor (AGMA; Tables 11-8 through 11-15; pg. 7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dynamic factor (depends on tangential velocity -- Figure 11-22; pg. 71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load distribution factor (to account for misalignments -- Table 11-16; pg. 7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application factor (application dependent; “Shocks” -- Table 11-17; pg. 7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size factor (similar concept as Equation 6.7b -- AGMA recommends value of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rim thickness factor (for gears made of rims and spokes -- Figure 11-23; pg. 7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1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idler factor (set to 1.42 for an idler gear and 1 for a non-idler g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680" y="106200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GMA bending stress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782800" y="1474920"/>
                <a:ext cx="2508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J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769000" y="158760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U.S.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86040" y="2243160"/>
                <a:ext cx="2524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mJ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839200" y="2344680"/>
            <a:ext cx="247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SI specifications -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metric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6680" y="1057320"/>
            <a:ext cx="8351640" cy="19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82480" y="1577880"/>
            <a:ext cx="8199720" cy="421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5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Bending stresses </a:t>
            </a:r>
            <a:br>
              <a:rPr sz="2200"/>
            </a:b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(note that contact stresses are also genera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35200"/>
            <a:ext cx="7964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act ratio between 1 and 2 (# of teeth in contact at a given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terference between tips and ro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teeth are poi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is nonzero back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fillets ar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iction forces are neglected (assumed good lubr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85680" y="1655640"/>
            <a:ext cx="53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GMA standard 2001-B88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s subject to following general constrai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00120" y="2887560"/>
                <a:ext cx="2408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386160" y="352440"/>
            <a:ext cx="5165640" cy="612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0700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oad Sharing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759120" y="1009800"/>
            <a:ext cx="1982880" cy="4843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04120" y="495360"/>
            <a:ext cx="19825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080" y="221760"/>
            <a:ext cx="31179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AG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ynamic Factor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2360" y="2921040"/>
            <a:ext cx="6248160" cy="3647880"/>
            <a:chOff x="252360" y="2921040"/>
            <a:chExt cx="6248160" cy="3647880"/>
          </a:xfrm>
        </p:grpSpPr>
        <p:sp>
          <p:nvSpPr>
            <p:cNvPr id="200" name=""/>
            <p:cNvSpPr/>
            <p:nvPr/>
          </p:nvSpPr>
          <p:spPr>
            <a:xfrm>
              <a:off x="252360" y="2921040"/>
              <a:ext cx="6248160" cy="364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rcRect l="3039" t="0" r="0" b="8518"/>
            <a:stretch/>
          </p:blipFill>
          <p:spPr>
            <a:xfrm>
              <a:off x="352440" y="2989440"/>
              <a:ext cx="6075360" cy="344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3429000" y="352440"/>
            <a:ext cx="3046320" cy="83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33920" y="511200"/>
                <a:ext cx="2511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J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6672240" y="341280"/>
            <a:ext cx="2239920" cy="6249960"/>
            <a:chOff x="6672240" y="341280"/>
            <a:chExt cx="2239920" cy="6249960"/>
          </a:xfrm>
        </p:grpSpPr>
        <p:sp>
          <p:nvSpPr>
            <p:cNvPr id="205" name=""/>
            <p:cNvSpPr/>
            <p:nvPr/>
          </p:nvSpPr>
          <p:spPr>
            <a:xfrm>
              <a:off x="6672240" y="341280"/>
              <a:ext cx="2239920" cy="624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rcRect l="0" t="0" r="0" b="1341"/>
            <a:stretch/>
          </p:blipFill>
          <p:spPr>
            <a:xfrm>
              <a:off x="6804000" y="455760"/>
              <a:ext cx="1982520" cy="585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874960" y="1266840"/>
            <a:ext cx="3617640" cy="1577880"/>
            <a:chOff x="2874960" y="1266840"/>
            <a:chExt cx="3617640" cy="1577880"/>
          </a:xfrm>
        </p:grpSpPr>
        <p:sp>
          <p:nvSpPr>
            <p:cNvPr id="208" name=""/>
            <p:cNvSpPr/>
            <p:nvPr/>
          </p:nvSpPr>
          <p:spPr>
            <a:xfrm>
              <a:off x="2874960" y="1266840"/>
              <a:ext cx="3617640" cy="157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3"/>
            <a:srcRect l="0" t="34027" r="0" b="0"/>
            <a:stretch/>
          </p:blipFill>
          <p:spPr>
            <a:xfrm>
              <a:off x="4471920" y="1508040"/>
              <a:ext cx="18144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rcRect l="0" t="1198" r="17146" b="69798"/>
            <a:stretch/>
          </p:blipFill>
          <p:spPr>
            <a:xfrm>
              <a:off x="2941560" y="1690560"/>
              <a:ext cx="1503360" cy="4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4745160" y="774720"/>
            <a:ext cx="653760" cy="352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62080" y="1265400"/>
            <a:ext cx="2481120" cy="1577880"/>
            <a:chOff x="262080" y="1265400"/>
            <a:chExt cx="2481120" cy="1577880"/>
          </a:xfrm>
        </p:grpSpPr>
        <p:sp>
          <p:nvSpPr>
            <p:cNvPr id="213" name=""/>
            <p:cNvSpPr/>
            <p:nvPr/>
          </p:nvSpPr>
          <p:spPr>
            <a:xfrm>
              <a:off x="262080" y="1265400"/>
              <a:ext cx="2481120" cy="157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797040" y="1273320"/>
              <a:ext cx="13413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6"/>
            <a:stretch/>
          </p:blipFill>
          <p:spPr>
            <a:xfrm>
              <a:off x="793800" y="2184480"/>
              <a:ext cx="12063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7"/>
            <a:stretch/>
          </p:blipFill>
          <p:spPr>
            <a:xfrm>
              <a:off x="722160" y="1914480"/>
              <a:ext cx="1409760" cy="30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>Second lecture on gears: spurs</dc:description>
  <dc:language>en-US</dc:language>
  <cp:lastModifiedBy>R. L. Norton</cp:lastModifiedBy>
  <cp:lastPrinted>2003-02-10T14:43:48Z</cp:lastPrinted>
  <dcterms:modified xsi:type="dcterms:W3CDTF">2006-01-06T01:08:44Z</dcterms:modified>
  <cp:revision>618</cp:revision>
  <dc:subject/>
  <dc:title>Lect23-24-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