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7023E-77F0-4FEF-8582-3976B80F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FAF63-0544-418E-B274-E2948EA4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3085C-E0AF-4C38-A725-EDE0F1EF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3DEE9-9631-40FF-A6BD-8505D409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572D-E314-4E27-98A4-69EF3A8B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62EF-9F52-4125-B422-3D11ACFA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EE44-4818-4A55-ACE2-3CCD1C3B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004A-C000-436C-A300-1B952B8D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BAE6-4BA9-4486-92AE-EB621CF2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39E6-681E-48E1-B8CA-128E5340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D713-A52A-482E-9FB8-3386CBF6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86FE2-2F42-4F1F-809D-CB9DBFB0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A6CF-0CF0-48A6-B1E5-01E5056A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CEA1-C85A-48F9-AAFA-83981EA2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F823-224F-4E98-B4F0-DE7A0D40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168D-AD1F-4912-ACEC-690D38B8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7DBB-9D30-4461-A078-58986463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E729A-1B25-41CA-9FF9-E6EE180C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78134-927E-46F6-8329-46E785BB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6AE81-3F91-4558-AA69-43DE1675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C2C36-1A5B-4C3A-ACC5-9E1367F5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E8679-2592-417D-8E23-01E7EE03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EC3C8-928F-42A5-99F9-CF7CD6AD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60B59-115E-4CAD-A2CF-CC38ACDD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E988-40D3-4DF3-A581-52423ED1C6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2240-AE0E-405B-8AA7-ED336AE8C2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Quiz 4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20 Lecture 1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. L. Nor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z 4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bo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no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culators allow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 minu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22:36:35Z</dcterms:created>
  <dc:creator>R. L. Norton</dc:creator>
  <dc:description/>
  <dc:language>en-US</dc:language>
  <cp:lastModifiedBy>R. L. Norton</cp:lastModifiedBy>
  <dcterms:modified xsi:type="dcterms:W3CDTF">2006-01-03T02:23:42Z</dcterms:modified>
  <cp:revision>4</cp:revision>
  <dc:subject/>
  <dc:title>Quiz 2</dc:title>
</cp:coreProperties>
</file>