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0.png" ContentType="image/png"/>
  <Override PartName="/ppt/media/image30.wmf" ContentType="image/x-wmf"/>
  <Override PartName="/ppt/media/image28.wmf" ContentType="image/x-wmf"/>
  <Override PartName="/ppt/media/image5.png" ContentType="image/png"/>
  <Override PartName="/ppt/media/image13.wmf" ContentType="image/x-wmf"/>
  <Override PartName="/ppt/media/image9.png" ContentType="image/png"/>
  <Override PartName="/ppt/media/image6.wmf" ContentType="image/x-wmf"/>
  <Override PartName="/ppt/media/image31.wmf" ContentType="image/x-wmf"/>
  <Override PartName="/ppt/media/image11.png" ContentType="image/png"/>
  <Override PartName="/ppt/media/image32.png" ContentType="image/png"/>
  <Override PartName="/ppt/media/image34.wmf" ContentType="image/x-wmf"/>
  <Override PartName="/ppt/media/image4.jpeg" ContentType="image/jpeg"/>
  <Override PartName="/ppt/media/image3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3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816-2340-4D19-8068-5AFF3353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E34-CB90-4E9A-AD4A-ABDCD16E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B0C-8F34-4931-A02E-8535AF4D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B43-E40F-4B88-A6E5-1F1E5C60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53793-3B21-4B95-A6C3-CA2500D2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36990-B788-4054-9625-814A8944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C6F51-F667-4AEB-8134-B4F142A4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357B5-5E68-48B7-AD09-2033262B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2537D-2ECD-44AD-B7E9-405082F4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63727-E646-49AA-8C0C-434534EE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8E11A-E4DC-45F1-B580-2BFB219B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042-28B1-4B49-9382-2CEA61E7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2193F-6CD7-439D-A6B2-46CE8A8F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9DAFA-F9B4-4542-8196-7B253ADC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B1C74-B647-45D7-BB6D-F564406D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5807C-1774-46CC-8490-09627341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54F29-C558-4801-899A-94847366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FAF04-124B-4D38-9BE7-22FC5303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FB465-BBE1-4E6A-9F98-439045C4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4854C-F13E-4FBC-B8AD-3182F8F5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42F2A-9AA5-42FA-A8E3-9E7A4BF0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83A40-F252-482E-8111-DD9B4829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7BE-8F9D-48ED-8BCE-E2CAD8BA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98131-E04B-464E-BA55-FCECE9C1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93342-CF01-49C9-87CF-8C62A16C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55569-7B65-4560-9561-17286AFB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0396E-147B-461B-86A3-4F8715D3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2FDE8-A317-454A-BBD0-659F895E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879FB-1837-4F76-A96D-4AFFD17C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B7E7E-B611-4565-8762-C97B5E4A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5A6-4DB8-4C20-852A-31756288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EEC7-A7A8-4814-AAA5-40C85313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FA4F-DBA2-445A-BC01-44C56A4F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2F1-2C77-4844-AA66-DE117E3C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AAE-719A-4B71-8DC7-AF453CF4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B026-240A-4EFF-895E-E3F33D20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C054-2CB7-4D40-BA9F-90DB2DD78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88320" y="7104240"/>
            <a:ext cx="1255680" cy="61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59B0-BE40-46FB-8C14-C42D0BC50A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88320" y="7104240"/>
            <a:ext cx="1255680" cy="615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888320" y="7104240"/>
            <a:ext cx="1255680" cy="61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47AE-4ED1-4881-A2BB-D9235FD9C6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888320" y="7104240"/>
            <a:ext cx="1255680" cy="615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888320" y="7104240"/>
            <a:ext cx="1255680" cy="615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44400"/>
            <a:ext cx="77724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lly Reversed Stres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otch Sensitivity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sidual Str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14360" y="1852560"/>
            <a:ext cx="8240760" cy="3994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ase Hardening - Residual Stress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3120" y="2077920"/>
            <a:ext cx="788976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44520" y="1946160"/>
            <a:ext cx="6464520" cy="3465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ffect of Shot Peening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392120" y="2085840"/>
            <a:ext cx="61675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77800" y="1212840"/>
            <a:ext cx="6464520" cy="5156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Prestressing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08120" y="1335240"/>
            <a:ext cx="620244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rces of Harmful Residual Stres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sidual surface tensile stress is induced b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rough hardening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rinding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Welding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oading beyond yield point in direct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opposite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to applied stress direction before putting part in servic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4336920" y="2700360"/>
            <a:ext cx="4019760" cy="3860640"/>
            <a:chOff x="4336920" y="2700360"/>
            <a:chExt cx="4019760" cy="3860640"/>
          </a:xfrm>
        </p:grpSpPr>
        <p:sp>
          <p:nvSpPr>
            <p:cNvPr id="197" name=""/>
            <p:cNvSpPr/>
            <p:nvPr/>
          </p:nvSpPr>
          <p:spPr>
            <a:xfrm>
              <a:off x="4336920" y="2700360"/>
              <a:ext cx="4019760" cy="386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4416480" y="2773440"/>
              <a:ext cx="3765600" cy="1701720"/>
              <a:chOff x="4416480" y="2773440"/>
              <a:chExt cx="3765600" cy="1701720"/>
            </a:xfrm>
          </p:grpSpPr>
          <p:pic>
            <p:nvPicPr>
              <p:cNvPr id="1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56360" y="2773440"/>
                <a:ext cx="2025720" cy="17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4416480" y="2990880"/>
                <a:ext cx="162720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333399"/>
                    </a:solidFill>
                    <a:latin typeface="Comic Sans MS"/>
                  </a:rPr>
                  <a:t>Residual stresses introduced during welding caused crack initi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"/>
          <p:cNvSpPr/>
          <p:nvPr/>
        </p:nvSpPr>
        <p:spPr>
          <a:xfrm>
            <a:off x="330120" y="371520"/>
            <a:ext cx="82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sidual Stress due to We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65160" y="974880"/>
            <a:ext cx="73026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 fontScale="98000"/>
          </a:bodyPr>
          <a:p>
            <a:pPr marL="335880" indent="-3358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Residual stresses are built-in or introduced (typically during manufacturing) to an unloaded part either inadvertently or deliberate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Tensile residual stresses can be the cause of crack initiation and therefore promote fatigue fail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460760" y="4498920"/>
            <a:ext cx="3721320" cy="192420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828720" y="2700360"/>
            <a:ext cx="3136680" cy="3860640"/>
            <a:chOff x="828720" y="2700360"/>
            <a:chExt cx="3136680" cy="3860640"/>
          </a:xfrm>
        </p:grpSpPr>
        <p:sp>
          <p:nvSpPr>
            <p:cNvPr id="205" name=""/>
            <p:cNvSpPr/>
            <p:nvPr/>
          </p:nvSpPr>
          <p:spPr>
            <a:xfrm>
              <a:off x="828720" y="2700360"/>
              <a:ext cx="3136680" cy="386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885960" y="2927520"/>
              <a:ext cx="2997000" cy="3341880"/>
              <a:chOff x="885960" y="2927520"/>
              <a:chExt cx="2997000" cy="3341880"/>
            </a:xfrm>
          </p:grpSpPr>
          <p:sp>
            <p:nvSpPr>
              <p:cNvPr id="207" name=""/>
              <p:cNvSpPr/>
              <p:nvPr/>
            </p:nvSpPr>
            <p:spPr>
              <a:xfrm>
                <a:off x="906120" y="5992920"/>
                <a:ext cx="2306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Comic Sans MS"/>
                  </a:rPr>
                  <a:t>Source: ASM Internatio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885960" y="2927520"/>
                <a:ext cx="2997000" cy="3080880"/>
                <a:chOff x="885960" y="2927520"/>
                <a:chExt cx="2997000" cy="3080880"/>
              </a:xfrm>
            </p:grpSpPr>
            <p:pic>
              <p:nvPicPr>
                <p:cNvPr id="20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20600" y="3464640"/>
                  <a:ext cx="2725200" cy="254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>
                  <a:off x="885960" y="2927520"/>
                  <a:ext cx="29970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333399"/>
                      </a:solidFill>
                      <a:latin typeface="Comic Sans MS"/>
                    </a:rPr>
                    <a:t>Example: rotary dryer.  Welding lifters to a rotary shel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igning for Fully Reversed Str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38320" y="1849320"/>
            <a:ext cx="6815160" cy="275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8560" y="74304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 Fatigue Design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190520" y="1938240"/>
            <a:ext cx="6635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00040" y="2243160"/>
            <a:ext cx="8388360" cy="303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3252960"/>
            <a:ext cx="35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first design for fully reversed lo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Types of Loading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34304" t="0" r="0" b="0"/>
          <a:stretch/>
        </p:blipFill>
        <p:spPr>
          <a:xfrm>
            <a:off x="3449520" y="2367000"/>
            <a:ext cx="5272200" cy="2616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rcRect l="0" t="0" r="65207" b="0"/>
          <a:stretch/>
        </p:blipFill>
        <p:spPr>
          <a:xfrm>
            <a:off x="657360" y="2370240"/>
            <a:ext cx="279216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76120" y="1552680"/>
            <a:ext cx="8740800" cy="517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Fatigue Strength in the Fully Reversed Stress Case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96720" y="1989000"/>
            <a:ext cx="4502160" cy="1825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31720" y="4040280"/>
            <a:ext cx="4100760" cy="2544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996920" y="1808280"/>
            <a:ext cx="164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Rounded MT Bold"/>
              </a:rPr>
              <a:t>Ste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86600" y="311004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Rounded MT Bold"/>
              </a:rPr>
              <a:t>Pla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92720" y="58770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Rounded MT Bold"/>
              </a:rPr>
              <a:t>Alumi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23040" y="1797120"/>
            <a:ext cx="33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ngth decreases with number of fully-reversed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923000" y="3419640"/>
            <a:ext cx="3995640" cy="2193840"/>
            <a:chOff x="4923000" y="3419640"/>
            <a:chExt cx="3995640" cy="2193840"/>
          </a:xfrm>
        </p:grpSpPr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5102280" y="3419640"/>
              <a:ext cx="3816360" cy="20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923000" y="5359320"/>
              <a:ext cx="946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69960" y="2030400"/>
            <a:ext cx="7815240" cy="2935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Determine a Corrected Fatigue Strength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03160" y="2135160"/>
            <a:ext cx="75186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otch Sensitivity and Fatigue Stress Concentration Fact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730840" y="212760"/>
            <a:ext cx="3041640" cy="245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67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Determine the Alternating Stress on the Par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7" name=""/>
          <p:cNvSpPr/>
          <p:nvPr/>
        </p:nvSpPr>
        <p:spPr>
          <a:xfrm>
            <a:off x="181080" y="2765520"/>
            <a:ext cx="8580240" cy="3446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0440" y="3021120"/>
            <a:ext cx="5276520" cy="2790720"/>
            <a:chOff x="190440" y="3021120"/>
            <a:chExt cx="5276520" cy="279072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509760" y="3021120"/>
              <a:ext cx="4957200" cy="27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90440" y="3086640"/>
              <a:ext cx="823680" cy="79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534000" y="4397400"/>
                <a:ext cx="96048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641920" y="2832120"/>
            <a:ext cx="31431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ully reversed load of 1000 lb (amplitude, therefore, is 500 lb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Life of about 10 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y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aterial: 1040 steel/mach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perating conditions: room tem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96520" y="210816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e Example 6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002280" y="495360"/>
            <a:ext cx="2454480" cy="1992600"/>
            <a:chOff x="6002280" y="495360"/>
            <a:chExt cx="2454480" cy="1992600"/>
          </a:xfrm>
        </p:grpSpPr>
        <p:pic>
          <p:nvPicPr>
            <p:cNvPr id="245" name="" descr=""/>
            <p:cNvPicPr/>
            <p:nvPr/>
          </p:nvPicPr>
          <p:blipFill>
            <a:blip r:embed="rId2"/>
            <a:srcRect l="37751" t="27983" r="36075" b="57694"/>
            <a:stretch/>
          </p:blipFill>
          <p:spPr>
            <a:xfrm>
              <a:off x="6346800" y="1649520"/>
              <a:ext cx="1658880" cy="5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6002280" y="495360"/>
              <a:ext cx="2454480" cy="9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804000" y="2211480"/>
              <a:ext cx="87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500 l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2562120" y="339840"/>
            <a:ext cx="6262920" cy="3573360"/>
            <a:chOff x="2562120" y="339840"/>
            <a:chExt cx="6262920" cy="3573360"/>
          </a:xfrm>
        </p:grpSpPr>
        <p:sp>
          <p:nvSpPr>
            <p:cNvPr id="249" name=""/>
            <p:cNvSpPr/>
            <p:nvPr/>
          </p:nvSpPr>
          <p:spPr>
            <a:xfrm>
              <a:off x="2562120" y="339840"/>
              <a:ext cx="6262920" cy="3573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2662200" y="446040"/>
              <a:ext cx="5965920" cy="322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" name=""/>
          <p:cNvGrpSpPr/>
          <p:nvPr/>
        </p:nvGrpSpPr>
        <p:grpSpPr>
          <a:xfrm>
            <a:off x="2554200" y="4075200"/>
            <a:ext cx="6262920" cy="2244600"/>
            <a:chOff x="2554200" y="4075200"/>
            <a:chExt cx="6262920" cy="2244600"/>
          </a:xfrm>
        </p:grpSpPr>
        <p:sp>
          <p:nvSpPr>
            <p:cNvPr id="252" name=""/>
            <p:cNvSpPr/>
            <p:nvPr/>
          </p:nvSpPr>
          <p:spPr>
            <a:xfrm>
              <a:off x="2554200" y="4075200"/>
              <a:ext cx="6262920" cy="2244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2"/>
            <a:stretch/>
          </p:blipFill>
          <p:spPr>
            <a:xfrm>
              <a:off x="2571840" y="4221360"/>
              <a:ext cx="6235560" cy="194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"/>
          <p:cNvGrpSpPr/>
          <p:nvPr/>
        </p:nvGrpSpPr>
        <p:grpSpPr>
          <a:xfrm>
            <a:off x="169920" y="2297160"/>
            <a:ext cx="2265480" cy="4008240"/>
            <a:chOff x="169920" y="2297160"/>
            <a:chExt cx="2265480" cy="4008240"/>
          </a:xfrm>
        </p:grpSpPr>
        <p:sp>
          <p:nvSpPr>
            <p:cNvPr id="255" name=""/>
            <p:cNvSpPr/>
            <p:nvPr/>
          </p:nvSpPr>
          <p:spPr>
            <a:xfrm>
              <a:off x="169920" y="2297160"/>
              <a:ext cx="2265480" cy="4008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3"/>
            <a:srcRect l="0" t="0" r="4723" b="3323"/>
            <a:stretch/>
          </p:blipFill>
          <p:spPr>
            <a:xfrm>
              <a:off x="486000" y="4294080"/>
              <a:ext cx="1728720" cy="18432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878040" y="2411280"/>
                  <a:ext cx="960480" cy="17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  <m:e>
                          <m:r>
                            <m:t xml:space="preserve">d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  <m:e>
                          <m:r>
                            <m:t xml:space="preserve">D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94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  <m:e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8" name=""/>
          <p:cNvGrpSpPr/>
          <p:nvPr/>
        </p:nvGrpSpPr>
        <p:grpSpPr>
          <a:xfrm>
            <a:off x="138240" y="339840"/>
            <a:ext cx="2327040" cy="1712880"/>
            <a:chOff x="138240" y="339840"/>
            <a:chExt cx="2327040" cy="1712880"/>
          </a:xfrm>
        </p:grpSpPr>
        <p:sp>
          <p:nvSpPr>
            <p:cNvPr id="259" name=""/>
            <p:cNvSpPr/>
            <p:nvPr/>
          </p:nvSpPr>
          <p:spPr>
            <a:xfrm>
              <a:off x="138240" y="339840"/>
              <a:ext cx="2327040" cy="171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4"/>
            <a:srcRect l="37751" t="27983" r="36075" b="57694"/>
            <a:stretch/>
          </p:blipFill>
          <p:spPr>
            <a:xfrm>
              <a:off x="163440" y="1490760"/>
              <a:ext cx="1658880" cy="5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5"/>
            <a:srcRect l="0" t="0" r="6541" b="0"/>
            <a:stretch/>
          </p:blipFill>
          <p:spPr>
            <a:xfrm>
              <a:off x="160200" y="422280"/>
              <a:ext cx="2293920" cy="9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1631880" y="1616040"/>
              <a:ext cx="74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500 l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81080" y="1754280"/>
            <a:ext cx="8675640" cy="492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00080" y="1192320"/>
            <a:ext cx="74325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Example 6-4: fully-reversed be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1000" y="380880"/>
            <a:ext cx="84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nd the Geometric Stress Concentration Factor 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64960" y="1809720"/>
            <a:ext cx="85536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562120" y="339840"/>
            <a:ext cx="6262920" cy="206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54200" y="2606760"/>
            <a:ext cx="6262920" cy="3713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76120" y="1393920"/>
            <a:ext cx="2052720" cy="4008240"/>
            <a:chOff x="276120" y="1393920"/>
            <a:chExt cx="2052720" cy="4008240"/>
          </a:xfrm>
        </p:grpSpPr>
        <p:sp>
          <p:nvSpPr>
            <p:cNvPr id="270" name=""/>
            <p:cNvSpPr/>
            <p:nvPr/>
          </p:nvSpPr>
          <p:spPr>
            <a:xfrm>
              <a:off x="276120" y="1393920"/>
              <a:ext cx="2052720" cy="4008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1"/>
            <a:srcRect l="0" t="0" r="4723" b="3323"/>
            <a:stretch/>
          </p:blipFill>
          <p:spPr>
            <a:xfrm>
              <a:off x="442800" y="3390840"/>
              <a:ext cx="1728720" cy="18424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814320" y="1508040"/>
                  <a:ext cx="960480" cy="171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  <m:e>
                          <m:r>
                            <m:t xml:space="preserve">d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  <m:e>
                          <m:r>
                            <m:t xml:space="preserve">D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94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  <m:e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712960" y="415800"/>
            <a:ext cx="6032520" cy="1924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2673360" y="2692440"/>
            <a:ext cx="6032520" cy="20667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3292560" y="4626000"/>
            <a:ext cx="53910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562120" y="339840"/>
            <a:ext cx="6262920" cy="36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76120" y="1393920"/>
            <a:ext cx="2052720" cy="4008240"/>
            <a:chOff x="276120" y="1393920"/>
            <a:chExt cx="2052720" cy="4008240"/>
          </a:xfrm>
        </p:grpSpPr>
        <p:sp>
          <p:nvSpPr>
            <p:cNvPr id="278" name=""/>
            <p:cNvSpPr/>
            <p:nvPr/>
          </p:nvSpPr>
          <p:spPr>
            <a:xfrm>
              <a:off x="276120" y="1393920"/>
              <a:ext cx="2052720" cy="4008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"/>
            <a:srcRect l="0" t="0" r="4723" b="3323"/>
            <a:stretch/>
          </p:blipFill>
          <p:spPr>
            <a:xfrm>
              <a:off x="442800" y="3390840"/>
              <a:ext cx="1728720" cy="18424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814320" y="1508040"/>
                  <a:ext cx="960480" cy="171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  <m:e>
                          <m:r>
                            <m:t xml:space="preserve">d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  <m:e>
                          <m:r>
                            <m:t xml:space="preserve">D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94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  <m:e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587680" y="430200"/>
            <a:ext cx="6202440" cy="348444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2554200" y="4062240"/>
            <a:ext cx="6262920" cy="2384640"/>
            <a:chOff x="2554200" y="4062240"/>
            <a:chExt cx="6262920" cy="2384640"/>
          </a:xfrm>
        </p:grpSpPr>
        <p:sp>
          <p:nvSpPr>
            <p:cNvPr id="283" name=""/>
            <p:cNvSpPr/>
            <p:nvPr/>
          </p:nvSpPr>
          <p:spPr>
            <a:xfrm>
              <a:off x="2554200" y="4062240"/>
              <a:ext cx="6262920" cy="2384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3"/>
            <a:stretch/>
          </p:blipFill>
          <p:spPr>
            <a:xfrm>
              <a:off x="2643120" y="4114800"/>
              <a:ext cx="6134040" cy="21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/>
          <p:cNvSpPr/>
          <p:nvPr/>
        </p:nvSpPr>
        <p:spPr>
          <a:xfrm>
            <a:off x="2817720" y="3614760"/>
            <a:ext cx="366876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276120" y="1393920"/>
            <a:ext cx="2052720" cy="4008240"/>
            <a:chOff x="276120" y="1393920"/>
            <a:chExt cx="2052720" cy="4008240"/>
          </a:xfrm>
        </p:grpSpPr>
        <p:sp>
          <p:nvSpPr>
            <p:cNvPr id="287" name=""/>
            <p:cNvSpPr/>
            <p:nvPr/>
          </p:nvSpPr>
          <p:spPr>
            <a:xfrm>
              <a:off x="276120" y="1393920"/>
              <a:ext cx="2052720" cy="4008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8" name="" descr=""/>
            <p:cNvPicPr/>
            <p:nvPr/>
          </p:nvPicPr>
          <p:blipFill>
            <a:blip r:embed="rId1"/>
            <a:srcRect l="0" t="0" r="4723" b="3323"/>
            <a:stretch/>
          </p:blipFill>
          <p:spPr>
            <a:xfrm>
              <a:off x="442800" y="3390840"/>
              <a:ext cx="1728720" cy="18424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814320" y="1508040"/>
                  <a:ext cx="960480" cy="171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  <m:e>
                          <m:r>
                            <m:t xml:space="preserve">d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  <m:e>
                          <m:r>
                            <m:t xml:space="preserve">D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94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  <m:e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0" name=""/>
          <p:cNvGrpSpPr/>
          <p:nvPr/>
        </p:nvGrpSpPr>
        <p:grpSpPr>
          <a:xfrm>
            <a:off x="2562120" y="339840"/>
            <a:ext cx="6262920" cy="1530360"/>
            <a:chOff x="2562120" y="339840"/>
            <a:chExt cx="6262920" cy="1530360"/>
          </a:xfrm>
        </p:grpSpPr>
        <p:sp>
          <p:nvSpPr>
            <p:cNvPr id="291" name=""/>
            <p:cNvSpPr/>
            <p:nvPr/>
          </p:nvSpPr>
          <p:spPr>
            <a:xfrm>
              <a:off x="2562120" y="339840"/>
              <a:ext cx="6262920" cy="153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2" name="" descr=""/>
            <p:cNvPicPr/>
            <p:nvPr/>
          </p:nvPicPr>
          <p:blipFill>
            <a:blip r:embed="rId2"/>
            <a:stretch/>
          </p:blipFill>
          <p:spPr>
            <a:xfrm>
              <a:off x="2759040" y="388800"/>
              <a:ext cx="5965920" cy="102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3"/>
            <a:stretch/>
          </p:blipFill>
          <p:spPr>
            <a:xfrm>
              <a:off x="3062160" y="1189080"/>
              <a:ext cx="5526360" cy="64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4" name=""/>
          <p:cNvGrpSpPr/>
          <p:nvPr/>
        </p:nvGrpSpPr>
        <p:grpSpPr>
          <a:xfrm>
            <a:off x="2554200" y="4284720"/>
            <a:ext cx="6262920" cy="2278080"/>
            <a:chOff x="2554200" y="4284720"/>
            <a:chExt cx="6262920" cy="2278080"/>
          </a:xfrm>
        </p:grpSpPr>
        <p:sp>
          <p:nvSpPr>
            <p:cNvPr id="295" name=""/>
            <p:cNvSpPr/>
            <p:nvPr/>
          </p:nvSpPr>
          <p:spPr>
            <a:xfrm>
              <a:off x="2554200" y="4284720"/>
              <a:ext cx="6262920" cy="227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4"/>
            <a:stretch/>
          </p:blipFill>
          <p:spPr>
            <a:xfrm>
              <a:off x="2687760" y="4464360"/>
              <a:ext cx="5999040" cy="203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7" name=""/>
          <p:cNvGrpSpPr/>
          <p:nvPr/>
        </p:nvGrpSpPr>
        <p:grpSpPr>
          <a:xfrm>
            <a:off x="2573280" y="1987560"/>
            <a:ext cx="6230880" cy="2170080"/>
            <a:chOff x="2573280" y="1987560"/>
            <a:chExt cx="6230880" cy="2170080"/>
          </a:xfrm>
        </p:grpSpPr>
        <p:sp>
          <p:nvSpPr>
            <p:cNvPr id="298" name=""/>
            <p:cNvSpPr/>
            <p:nvPr/>
          </p:nvSpPr>
          <p:spPr>
            <a:xfrm>
              <a:off x="2573280" y="1987560"/>
              <a:ext cx="6230880" cy="2170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2930400" y="2070000"/>
              <a:ext cx="5429160" cy="1949400"/>
              <a:chOff x="2930400" y="2070000"/>
              <a:chExt cx="5429160" cy="1949400"/>
            </a:xfrm>
          </p:grpSpPr>
          <p:pic>
            <p:nvPicPr>
              <p:cNvPr id="30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511440" y="3327480"/>
                <a:ext cx="4817880" cy="69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676320" y="3041640"/>
                <a:ext cx="4683240" cy="27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930400" y="2070000"/>
                <a:ext cx="542448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bservation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131480"/>
            <a:ext cx="831528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Had to make assumptions about size, material, etc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irst attempt was unsuccessful.  This is to be expected in design!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teration is usually required in design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f you don’t use an equation solver for design problems, you will waste time recalculating and make mistakes in the process. (No pity from me!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t the problem equations up in a software package and use its ability to quickly iterate to a solution by playing “what if” with your assumed values for design parameters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KSolver is the best “iterator” of all the packages as it can be backsolved for a desired outcome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36680" y="1351080"/>
            <a:ext cx="8250120" cy="509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aterials Have Notch Sensitivity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71680" y="1514520"/>
            <a:ext cx="795636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73120" y="1339920"/>
            <a:ext cx="8123040" cy="5072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tch Sensitivity and Stress Concent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568920" y="3984480"/>
                <a:ext cx="9194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574560" y="3994200"/>
            <a:ext cx="613728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Stress concentration factors in fatigue are differ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Are a function of geometric stress concentration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and the material’s notch sensitivity </a:t>
            </a:r>
            <a:r>
              <a:rPr b="1" i="1" lang="en-US" sz="1600" spc="-1" strike="noStrike">
                <a:solidFill>
                  <a:srgbClr val="000066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400" y="5221440"/>
            <a:ext cx="65199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Use these stress concentration factors for fatig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535800" y="5208480"/>
                <a:ext cx="17049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minal</m:t>
                            </m:r>
                          </m:sub>
                        </m:sSub>
                      </m:e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s</m:t>
                            </m:r>
                          </m:sub>
                        </m:sSub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mina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863640" y="1417680"/>
            <a:ext cx="57434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Notches introduce stress-concentration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11927"/>
          <a:stretch/>
        </p:blipFill>
        <p:spPr>
          <a:xfrm>
            <a:off x="2117880" y="1932120"/>
            <a:ext cx="3433680" cy="1887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535800" y="4597560"/>
                <a:ext cx="199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63800" y="1457280"/>
            <a:ext cx="7378560" cy="465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38320" y="1639800"/>
            <a:ext cx="65199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Stress concentration factors in fatig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548160" y="2260440"/>
                <a:ext cx="19954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Stress Concentration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Notches and stress concent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601640" y="2814480"/>
            <a:ext cx="6316560" cy="666720"/>
            <a:chOff x="1601640" y="2814480"/>
            <a:chExt cx="6316560" cy="66672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7581600" y="2852640"/>
                  <a:ext cx="33660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1601640" y="2814480"/>
              <a:ext cx="617220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20000"/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mic Sans MS"/>
                </a:rPr>
                <a:t>Theoretical (static) stress-concentration factor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50000"/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601640" y="4795920"/>
            <a:ext cx="6172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Neuber’s constant (depends on the value of the ultimate tensile strength of the material used).  See, for example, Tables 6-6, 6-7, and 6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5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01640" y="3370320"/>
            <a:ext cx="6172200" cy="1230840"/>
            <a:chOff x="1601640" y="3370320"/>
            <a:chExt cx="6172200" cy="1230840"/>
          </a:xfrm>
        </p:grpSpPr>
        <p:sp>
          <p:nvSpPr>
            <p:cNvPr id="171" name=""/>
            <p:cNvSpPr/>
            <p:nvPr/>
          </p:nvSpPr>
          <p:spPr>
            <a:xfrm>
              <a:off x="1601640" y="3490920"/>
              <a:ext cx="617220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20000"/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mic Sans MS"/>
                </a:rPr>
                <a:t>Notch sensitivity factor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50000"/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4935240" y="3370320"/>
                  <a:ext cx="127188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a</m:t>
                                  </m:r>
                                </m:e>
                              </m:rad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r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"/>
            <p:cNvGrpSpPr/>
            <p:nvPr/>
          </p:nvGrpSpPr>
          <p:grpSpPr>
            <a:xfrm>
              <a:off x="2498400" y="4213080"/>
              <a:ext cx="2479680" cy="388080"/>
              <a:chOff x="2498400" y="4213080"/>
              <a:chExt cx="2479680" cy="388080"/>
            </a:xfrm>
          </p:grpSpPr>
          <mc:AlternateContent>
            <mc:Choice xmlns:a14="http://schemas.microsoft.com/office/drawing/2010/main" Requires="a14">
              <p:sp>
                <p:nvSpPr>
                  <p:cNvPr id="174" name=""/>
                  <p:cNvSpPr txBox="1"/>
                  <p:nvPr/>
                </p:nvSpPr>
                <p:spPr>
                  <a:xfrm>
                    <a:off x="2498400" y="4213080"/>
                    <a:ext cx="424080" cy="378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5" name=""/>
              <p:cNvSpPr/>
              <p:nvPr/>
            </p:nvSpPr>
            <p:spPr>
              <a:xfrm>
                <a:off x="2823840" y="4263840"/>
                <a:ext cx="2154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Comic Sans MS"/>
                  </a:rPr>
                  <a:t>Neuber’s consta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7680" y="1403280"/>
            <a:ext cx="6816960" cy="5072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Designing for H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2793" r="0" b="-639"/>
          <a:stretch/>
        </p:blipFill>
        <p:spPr>
          <a:xfrm>
            <a:off x="1227240" y="1609560"/>
            <a:ext cx="6616440" cy="48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sidual Str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Residual Stres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36320" y="1217160"/>
            <a:ext cx="83041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ress “built-in” to a part at manufacture or at assembly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an “protect” against fatigue failure if done right or can make situation worse if wrong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ll fatigue failures are due to tensile stress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esidual tensile stresses promote failure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y building in residual compressive stress, can shift the failure threshold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ny applied tensile stress has to first “undo” the residual compression before the part knows it’s being tensile stressed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reating Beneficial Residual Stress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9400" y="1292400"/>
            <a:ext cx="830412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  bending and torsion, stress is max at the surfac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rmal treatmen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rough hardening leaves tensile residual stress in the surface – not good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ase hardening leaves compressive stress in the surface – good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urface treatmen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ld working – hammering, drawing, rolling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hot peening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restressing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Overstress and yield part once in same direction as will be loaded in service – only works for non-reversed loading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2:00:34Z</dcterms:created>
  <dc:creator>Cosme Furlong</dc:creator>
  <dc:description>Make sure to be concise when discussing Example 6-4.  Time is limited and fluctuating stress topics need to be covered.</dc:description>
  <dc:language>en-US</dc:language>
  <cp:lastModifiedBy>R. L. Norton</cp:lastModifiedBy>
  <cp:lastPrinted>2003-02-03T14:52:50Z</cp:lastPrinted>
  <dcterms:modified xsi:type="dcterms:W3CDTF">2006-01-03T05:49:56Z</dcterms:modified>
  <cp:revision>433</cp:revision>
  <dc:subject/>
  <dc:title>Lect1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wpi.edu/~cfurlong/es-2501.html</vt:lpwstr>
  </property>
  <property fmtid="{D5CDD505-2E9C-101B-9397-08002B2CF9AE}" pid="9" name="LinkColor">
    <vt:r8>16711782</vt:r8>
  </property>
  <property fmtid="{D5CDD505-2E9C-101B-9397-08002B2CF9AE}" pid="10" name="MailAddress">
    <vt:lpwstr>cfurlong@wpi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