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6.wmf" ContentType="image/x-wmf"/>
  <Override PartName="/ppt/media/image41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6.png" ContentType="image/png"/>
  <Override PartName="/ppt/media/image29.png" ContentType="image/png"/>
  <Override PartName="/ppt/media/image50.png" ContentType="image/png"/>
  <Override PartName="/ppt/media/image13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5.wmf" ContentType="image/x-wmf"/>
  <Override PartName="/ppt/media/image30.png" ContentType="image/png"/>
  <Override PartName="/ppt/media/image5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51.wmf" ContentType="image/x-wmf"/>
  <Override PartName="/ppt/media/image48.png" ContentType="image/pn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26CF-8F9E-4AAD-844C-36784B55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1E99-7B27-48DE-8AD5-A9990F28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16E5-F5C7-4835-B06B-9988FCCB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4CF3-5188-46B1-8B16-990EEF16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8BFA-9DAB-4589-B8EB-62222354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6A09-0A2D-498B-B625-0CE47A5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362A-8E4C-4623-9CE4-757C897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F663-D329-4755-9C27-BD849A27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642F-A38A-40A1-8C2A-3BB4077D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4E1E-ADC1-4AD9-BA55-312FBB0C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17BD-FF22-4E10-AD36-CA2A48AB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8D2E-4EEA-4416-819F-CD125952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750E-77D4-407B-BFE1-B081AFF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85E2-E8B4-4ED8-B058-DCF079E4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71C8-AC44-4C00-9D91-40A7A222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D339-90AF-4E2E-AA3D-E08EE4AE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D0E9-EC1C-4783-A5B9-43D69953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ED9B-5538-4120-BB77-CF4EF9C0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0B2C-BB3B-48FC-8688-398CB74B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483A-2A80-4588-92D8-9E79DD48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F81B-BC8E-43AE-8B92-8C750624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0E53-2B53-40AB-B2AE-D5EBDE8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FF26-6D04-4F3F-ACF0-D752F3B5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F806-00DE-4E19-8480-954445C3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C9C2-1136-4119-B322-39A8E70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6AB7-C1F8-4294-8243-3AB0467E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8E0A-D418-4AB1-AE1D-19F1FC9D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96EB-1257-42B0-A90B-34219CB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7A17-E83C-4035-BD61-07311BA0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50D3-4E56-4768-BB48-AAB884A0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619A-A98D-47CD-9AA3-A03BBC4F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77C2-A4F6-4D87-8EBC-49A6D589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3079-C3F0-4327-9545-17E24D1A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8FDD-AB72-4AB8-BE2F-405F9FC2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9708-9B05-431D-880E-4EB37A6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D8EB-B12F-4DF7-9CC8-71153E82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227-3ED1-4F22-8C83-088D5BC4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D11-6EA5-435A-A5AA-A4CAFA11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A404-056F-4ECE-B91F-5B9CCE02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image" Target="../media/image3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od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m of pa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97080" y="1568520"/>
            <a:ext cx="6602400" cy="484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verse shear st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71240" y="1778040"/>
            <a:ext cx="4843800" cy="1465920"/>
            <a:chOff x="2271240" y="1778040"/>
            <a:chExt cx="4843800" cy="1465920"/>
          </a:xfrm>
        </p:grpSpPr>
        <p:grpSp>
          <p:nvGrpSpPr>
            <p:cNvPr id="272" name=""/>
            <p:cNvGrpSpPr/>
            <p:nvPr/>
          </p:nvGrpSpPr>
          <p:grpSpPr>
            <a:xfrm>
              <a:off x="3120840" y="1995120"/>
              <a:ext cx="3994200" cy="1248840"/>
              <a:chOff x="3120840" y="1995120"/>
              <a:chExt cx="3994200" cy="124884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0840" y="1995120"/>
                <a:ext cx="3994200" cy="119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4392360" y="3002760"/>
                <a:ext cx="96696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271240" y="1778040"/>
              <a:ext cx="152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Bending load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604520" y="3441600"/>
            <a:ext cx="5910840" cy="1208160"/>
            <a:chOff x="1604520" y="3441600"/>
            <a:chExt cx="5910840" cy="1208160"/>
          </a:xfrm>
        </p:grpSpPr>
        <p:grpSp>
          <p:nvGrpSpPr>
            <p:cNvPr id="277" name=""/>
            <p:cNvGrpSpPr/>
            <p:nvPr/>
          </p:nvGrpSpPr>
          <p:grpSpPr>
            <a:xfrm>
              <a:off x="2640240" y="3441600"/>
              <a:ext cx="4875120" cy="1208160"/>
              <a:chOff x="2640240" y="3441600"/>
              <a:chExt cx="4875120" cy="1208160"/>
            </a:xfrm>
          </p:grpSpPr>
          <p:sp>
            <p:nvSpPr>
              <p:cNvPr id="278" name=""/>
              <p:cNvSpPr/>
              <p:nvPr/>
            </p:nvSpPr>
            <p:spPr>
              <a:xfrm>
                <a:off x="3237120" y="4119480"/>
                <a:ext cx="404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243600" y="3441600"/>
                <a:ext cx="2880" cy="120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40240" y="348444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(</a:t>
                </a: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46920" y="411660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248280" y="3733920"/>
              <a:ext cx="1646280" cy="38556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92760" y="4119480"/>
              <a:ext cx="2062080" cy="1825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04520" y="3957840"/>
              <a:ext cx="14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Shear diagram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436760" y="4951440"/>
            <a:ext cx="6078600" cy="1172880"/>
            <a:chOff x="1436760" y="4951440"/>
            <a:chExt cx="6078600" cy="1172880"/>
          </a:xfrm>
        </p:grpSpPr>
        <p:grpSp>
          <p:nvGrpSpPr>
            <p:cNvPr id="286" name=""/>
            <p:cNvGrpSpPr/>
            <p:nvPr/>
          </p:nvGrpSpPr>
          <p:grpSpPr>
            <a:xfrm>
              <a:off x="2640240" y="4951440"/>
              <a:ext cx="4875120" cy="1172880"/>
              <a:chOff x="2640240" y="4951440"/>
              <a:chExt cx="4875120" cy="1172880"/>
            </a:xfrm>
          </p:grpSpPr>
          <p:sp>
            <p:nvSpPr>
              <p:cNvPr id="287" name=""/>
              <p:cNvSpPr/>
              <p:nvPr/>
            </p:nvSpPr>
            <p:spPr>
              <a:xfrm>
                <a:off x="3237120" y="5586480"/>
                <a:ext cx="404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3243600" y="5019480"/>
                <a:ext cx="1440" cy="1104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640240" y="495144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(</a:t>
                </a: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46920" y="558324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 flipH="1">
              <a:off x="3271320" y="5064120"/>
              <a:ext cx="1646280" cy="519120"/>
            </a:xfrm>
            <a:prstGeom prst="rtTriangle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18320" y="5064120"/>
              <a:ext cx="2054160" cy="517680"/>
            </a:xfrm>
            <a:prstGeom prst="rtTriangle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6760" y="541836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Moments diagram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768840" y="3419640"/>
            <a:ext cx="3034800" cy="1435680"/>
            <a:chOff x="3768840" y="3419640"/>
            <a:chExt cx="3034800" cy="1435680"/>
          </a:xfrm>
        </p:grpSpPr>
        <p:sp>
          <p:nvSpPr>
            <p:cNvPr id="295" name=""/>
            <p:cNvSpPr/>
            <p:nvPr/>
          </p:nvSpPr>
          <p:spPr>
            <a:xfrm>
              <a:off x="3768840" y="3419640"/>
              <a:ext cx="75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r>
                <a:rPr b="0" i="1" lang="en-US" sz="1400" spc="-1" strike="noStrike">
                  <a:solidFill>
                    <a:srgbClr val="333399"/>
                  </a:solidFill>
                  <a:latin typeface="Times New Roman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052520" y="4283280"/>
              <a:ext cx="2751120" cy="572040"/>
              <a:chOff x="4052520" y="4283280"/>
              <a:chExt cx="2751120" cy="572040"/>
            </a:xfrm>
          </p:grpSpPr>
          <p:sp>
            <p:nvSpPr>
              <p:cNvPr id="297" name=""/>
              <p:cNvSpPr/>
              <p:nvPr/>
            </p:nvSpPr>
            <p:spPr>
              <a:xfrm>
                <a:off x="4573080" y="4548240"/>
                <a:ext cx="22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Critical section (shea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052520" y="4283280"/>
                <a:ext cx="558720" cy="401400"/>
              </a:xfrm>
              <a:custGeom>
                <a:avLst/>
                <a:gdLst/>
                <a:ahLst/>
                <a:rect l="l" t="t" r="r" b="b"/>
                <a:pathLst>
                  <a:path w="523" h="308">
                    <a:moveTo>
                      <a:pt x="0" y="308"/>
                    </a:moveTo>
                    <a:cubicBezTo>
                      <a:pt x="71" y="232"/>
                      <a:pt x="142" y="157"/>
                      <a:pt x="184" y="146"/>
                    </a:cubicBezTo>
                    <a:cubicBezTo>
                      <a:pt x="226" y="135"/>
                      <a:pt x="198" y="263"/>
                      <a:pt x="254" y="239"/>
                    </a:cubicBezTo>
                    <a:cubicBezTo>
                      <a:pt x="310" y="215"/>
                      <a:pt x="476" y="41"/>
                      <a:pt x="52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794040" y="3494160"/>
              <a:ext cx="0" cy="942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57200" y="1477800"/>
            <a:ext cx="6470640" cy="502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883160" y="1636560"/>
            <a:ext cx="4844520" cy="1467000"/>
            <a:chOff x="1883160" y="1636560"/>
            <a:chExt cx="4844520" cy="1467000"/>
          </a:xfrm>
        </p:grpSpPr>
        <p:grpSp>
          <p:nvGrpSpPr>
            <p:cNvPr id="302" name=""/>
            <p:cNvGrpSpPr/>
            <p:nvPr/>
          </p:nvGrpSpPr>
          <p:grpSpPr>
            <a:xfrm>
              <a:off x="2733480" y="1854000"/>
              <a:ext cx="3994200" cy="1249560"/>
              <a:chOff x="2733480" y="1854000"/>
              <a:chExt cx="3994200" cy="1249560"/>
            </a:xfrm>
          </p:grpSpPr>
          <p:pic>
            <p:nvPicPr>
              <p:cNvPr id="3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33480" y="1854000"/>
                <a:ext cx="3994200" cy="12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4005000" y="2862000"/>
                <a:ext cx="966960" cy="24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883160" y="163656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Bending 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852360" y="1949400"/>
            <a:ext cx="638640" cy="1162080"/>
            <a:chOff x="3852360" y="1949400"/>
            <a:chExt cx="638640" cy="1162080"/>
          </a:xfrm>
        </p:grpSpPr>
        <p:grpSp>
          <p:nvGrpSpPr>
            <p:cNvPr id="307" name=""/>
            <p:cNvGrpSpPr/>
            <p:nvPr/>
          </p:nvGrpSpPr>
          <p:grpSpPr>
            <a:xfrm>
              <a:off x="3852360" y="1949400"/>
              <a:ext cx="363960" cy="1162080"/>
              <a:chOff x="3852360" y="1949400"/>
              <a:chExt cx="363960" cy="116208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3852720" y="1949400"/>
                <a:ext cx="363600" cy="48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3852360" y="2803320"/>
                <a:ext cx="230040" cy="30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852720" y="2433600"/>
                <a:ext cx="0" cy="67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4209480" y="1952280"/>
                <a:ext cx="4680" cy="31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3987360" y="2252520"/>
                <a:ext cx="152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87720" y="247140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40000" y="2257200"/>
                <a:ext cx="0" cy="330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982680" y="2581200"/>
                <a:ext cx="15264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08400" y="2268360"/>
                <a:ext cx="6120" cy="36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4044240" y="2627280"/>
                <a:ext cx="166680" cy="23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985920" y="2765160"/>
              <a:ext cx="3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46480" y="2011320"/>
              <a:ext cx="3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33800" y="3024360"/>
            <a:ext cx="1912680" cy="572040"/>
            <a:chOff x="4033800" y="3024360"/>
            <a:chExt cx="1912680" cy="572040"/>
          </a:xfrm>
        </p:grpSpPr>
        <p:sp>
          <p:nvSpPr>
            <p:cNvPr id="321" name=""/>
            <p:cNvSpPr/>
            <p:nvPr/>
          </p:nvSpPr>
          <p:spPr>
            <a:xfrm>
              <a:off x="4554360" y="3289320"/>
              <a:ext cx="139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Se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033800" y="3024360"/>
              <a:ext cx="558720" cy="401400"/>
            </a:xfrm>
            <a:custGeom>
              <a:avLst/>
              <a:gdLst/>
              <a:ahLst/>
              <a:rect l="l" t="t" r="r" b="b"/>
              <a:pathLst>
                <a:path w="523" h="308">
                  <a:moveTo>
                    <a:pt x="0" y="308"/>
                  </a:moveTo>
                  <a:cubicBezTo>
                    <a:pt x="71" y="232"/>
                    <a:pt x="142" y="157"/>
                    <a:pt x="184" y="146"/>
                  </a:cubicBezTo>
                  <a:cubicBezTo>
                    <a:pt x="226" y="135"/>
                    <a:pt x="198" y="263"/>
                    <a:pt x="254" y="239"/>
                  </a:cubicBezTo>
                  <a:cubicBezTo>
                    <a:pt x="310" y="215"/>
                    <a:pt x="476" y="41"/>
                    <a:pt x="523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877760" y="3900600"/>
            <a:ext cx="46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ernal distribution of transverse shear fo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98760" y="4495680"/>
            <a:ext cx="1909800" cy="1290600"/>
          </a:xfrm>
          <a:prstGeom prst="cube">
            <a:avLst>
              <a:gd name="adj" fmla="val 4157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14760" y="49528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867200" y="5122800"/>
            <a:ext cx="0" cy="58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75200" y="5562720"/>
            <a:ext cx="23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Resulting shear 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87440" y="193680"/>
            <a:ext cx="827856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tress distribution in cross-section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 Rounded MT Bold"/>
              </a:rPr>
              <a:t>Transverse shear stres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76520" y="58690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08400" y="5123880"/>
            <a:ext cx="0" cy="58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69880" y="45594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lement within b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76320" y="3567240"/>
            <a:ext cx="7405560" cy="29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84240" y="853920"/>
            <a:ext cx="7405560" cy="259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616120" y="1652760"/>
            <a:ext cx="1644840" cy="1647720"/>
            <a:chOff x="2616120" y="1652760"/>
            <a:chExt cx="1644840" cy="164772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2616120" y="1652760"/>
              <a:ext cx="1644840" cy="148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3689280" y="2997360"/>
                  <a:ext cx="4334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1425240" y="3639960"/>
            <a:ext cx="4137120" cy="2668680"/>
            <a:chOff x="1425240" y="3639960"/>
            <a:chExt cx="4137120" cy="2668680"/>
          </a:xfrm>
        </p:grpSpPr>
        <p:grpSp>
          <p:nvGrpSpPr>
            <p:cNvPr id="338" name=""/>
            <p:cNvGrpSpPr/>
            <p:nvPr/>
          </p:nvGrpSpPr>
          <p:grpSpPr>
            <a:xfrm>
              <a:off x="1425240" y="3639960"/>
              <a:ext cx="4137120" cy="2668680"/>
              <a:chOff x="1425240" y="3639960"/>
              <a:chExt cx="4137120" cy="2668680"/>
            </a:xfrm>
          </p:grpSpPr>
          <p:sp>
            <p:nvSpPr>
              <p:cNvPr id="339" name=""/>
              <p:cNvSpPr/>
              <p:nvPr/>
            </p:nvSpPr>
            <p:spPr>
              <a:xfrm>
                <a:off x="1425240" y="3639960"/>
                <a:ext cx="23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eneric cross-section: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84440" y="4289400"/>
                <a:ext cx="2077920" cy="2019240"/>
              </a:xfrm>
              <a:custGeom>
                <a:avLst/>
                <a:gdLst/>
                <a:ahLst/>
                <a:rect l="l" t="t" r="r" b="b"/>
                <a:pathLst>
                  <a:path w="1309" h="1272">
                    <a:moveTo>
                      <a:pt x="25" y="538"/>
                    </a:moveTo>
                    <a:cubicBezTo>
                      <a:pt x="50" y="450"/>
                      <a:pt x="71" y="263"/>
                      <a:pt x="199" y="178"/>
                    </a:cubicBezTo>
                    <a:cubicBezTo>
                      <a:pt x="327" y="93"/>
                      <a:pt x="643" y="0"/>
                      <a:pt x="793" y="28"/>
                    </a:cubicBezTo>
                    <a:cubicBezTo>
                      <a:pt x="943" y="56"/>
                      <a:pt x="1035" y="261"/>
                      <a:pt x="1099" y="346"/>
                    </a:cubicBezTo>
                    <a:cubicBezTo>
                      <a:pt x="1163" y="431"/>
                      <a:pt x="1167" y="401"/>
                      <a:pt x="1177" y="538"/>
                    </a:cubicBezTo>
                    <a:cubicBezTo>
                      <a:pt x="1187" y="675"/>
                      <a:pt x="1309" y="1064"/>
                      <a:pt x="1159" y="1168"/>
                    </a:cubicBezTo>
                    <a:cubicBezTo>
                      <a:pt x="1009" y="1272"/>
                      <a:pt x="462" y="1239"/>
                      <a:pt x="277" y="1162"/>
                    </a:cubicBezTo>
                    <a:cubicBezTo>
                      <a:pt x="92" y="1085"/>
                      <a:pt x="90" y="809"/>
                      <a:pt x="49" y="706"/>
                    </a:cubicBezTo>
                    <a:cubicBezTo>
                      <a:pt x="8" y="603"/>
                      <a:pt x="0" y="626"/>
                      <a:pt x="25" y="538"/>
                    </a:cubicBezTo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71560" y="4181400"/>
                <a:ext cx="1743120" cy="752400"/>
              </a:xfrm>
              <a:custGeom>
                <a:avLst/>
                <a:gdLst/>
                <a:ahLst/>
                <a:rect l="l" t="t" r="r" b="b"/>
                <a:pathLst>
                  <a:path w="1098" h="402">
                    <a:moveTo>
                      <a:pt x="0" y="402"/>
                    </a:moveTo>
                    <a:lnTo>
                      <a:pt x="96" y="168"/>
                    </a:lnTo>
                    <a:lnTo>
                      <a:pt x="570" y="0"/>
                    </a:lnTo>
                    <a:lnTo>
                      <a:pt x="984" y="144"/>
                    </a:lnTo>
                    <a:lnTo>
                      <a:pt x="1050" y="270"/>
                    </a:lnTo>
                    <a:lnTo>
                      <a:pt x="1098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581280" y="4933800"/>
              <a:ext cx="17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781280" y="5133960"/>
            <a:ext cx="4333680" cy="307080"/>
            <a:chOff x="1781280" y="5133960"/>
            <a:chExt cx="4333680" cy="307080"/>
          </a:xfrm>
        </p:grpSpPr>
        <p:sp>
          <p:nvSpPr>
            <p:cNvPr id="344" name=""/>
            <p:cNvSpPr/>
            <p:nvPr/>
          </p:nvSpPr>
          <p:spPr>
            <a:xfrm>
              <a:off x="2886120" y="5295600"/>
              <a:ext cx="3228840" cy="972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81280" y="513396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utral ax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581280" y="4933800"/>
            <a:ext cx="1704960" cy="304920"/>
            <a:chOff x="3581280" y="4933800"/>
            <a:chExt cx="1704960" cy="304920"/>
          </a:xfrm>
        </p:grpSpPr>
        <p:sp>
          <p:nvSpPr>
            <p:cNvPr id="347" name=""/>
            <p:cNvSpPr/>
            <p:nvPr/>
          </p:nvSpPr>
          <p:spPr>
            <a:xfrm>
              <a:off x="3581280" y="505764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86240" y="498132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5181480"/>
              <a:ext cx="170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393800" y="4933800"/>
                  <a:ext cx="2113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1" name=""/>
          <p:cNvGrpSpPr/>
          <p:nvPr/>
        </p:nvGrpSpPr>
        <p:grpSpPr>
          <a:xfrm>
            <a:off x="4827600" y="3994200"/>
            <a:ext cx="2122560" cy="506160"/>
            <a:chOff x="4827600" y="3994200"/>
            <a:chExt cx="2122560" cy="506160"/>
          </a:xfrm>
        </p:grpSpPr>
        <p:sp>
          <p:nvSpPr>
            <p:cNvPr id="352" name=""/>
            <p:cNvSpPr/>
            <p:nvPr/>
          </p:nvSpPr>
          <p:spPr>
            <a:xfrm>
              <a:off x="5558040" y="3994200"/>
              <a:ext cx="13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Area 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Times New Roman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827600" y="4254120"/>
              <a:ext cx="758880" cy="245880"/>
            </a:xfrm>
            <a:custGeom>
              <a:avLst/>
              <a:gdLst/>
              <a:ahLst/>
              <a:rect l="l" t="t" r="r" b="b"/>
              <a:pathLst>
                <a:path w="523" h="308">
                  <a:moveTo>
                    <a:pt x="0" y="308"/>
                  </a:moveTo>
                  <a:cubicBezTo>
                    <a:pt x="71" y="232"/>
                    <a:pt x="142" y="157"/>
                    <a:pt x="184" y="146"/>
                  </a:cubicBezTo>
                  <a:cubicBezTo>
                    <a:pt x="226" y="135"/>
                    <a:pt x="198" y="263"/>
                    <a:pt x="254" y="239"/>
                  </a:cubicBezTo>
                  <a:cubicBezTo>
                    <a:pt x="310" y="215"/>
                    <a:pt x="476" y="41"/>
                    <a:pt x="523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448160" y="4432320"/>
            <a:ext cx="3425760" cy="863280"/>
            <a:chOff x="4448160" y="4432320"/>
            <a:chExt cx="3425760" cy="863280"/>
          </a:xfrm>
        </p:grpSpPr>
        <p:grpSp>
          <p:nvGrpSpPr>
            <p:cNvPr id="355" name=""/>
            <p:cNvGrpSpPr/>
            <p:nvPr/>
          </p:nvGrpSpPr>
          <p:grpSpPr>
            <a:xfrm>
              <a:off x="4448160" y="4543200"/>
              <a:ext cx="1589040" cy="752400"/>
              <a:chOff x="4448160" y="4543200"/>
              <a:chExt cx="1589040" cy="752400"/>
            </a:xfrm>
          </p:grpSpPr>
          <p:sp>
            <p:nvSpPr>
              <p:cNvPr id="356" name=""/>
              <p:cNvSpPr/>
              <p:nvPr/>
            </p:nvSpPr>
            <p:spPr>
              <a:xfrm>
                <a:off x="4448160" y="4543200"/>
                <a:ext cx="133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57680" y="460980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5762520" y="4619520"/>
                <a:ext cx="0" cy="67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9" name=""/>
                  <p:cNvSpPr txBox="1"/>
                  <p:nvPr/>
                </p:nvSpPr>
                <p:spPr>
                  <a:xfrm>
                    <a:off x="5802480" y="4798800"/>
                    <a:ext cx="234720" cy="32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60" name=""/>
            <p:cNvGrpSpPr/>
            <p:nvPr/>
          </p:nvGrpSpPr>
          <p:grpSpPr>
            <a:xfrm>
              <a:off x="6037200" y="4432320"/>
              <a:ext cx="1836720" cy="581400"/>
              <a:chOff x="6037200" y="4432320"/>
              <a:chExt cx="1836720" cy="581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767640" y="4432320"/>
                <a:ext cx="110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Centroid of area </a:t>
                </a:r>
                <a:r>
                  <a:rPr b="0" i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6037200" y="4692600"/>
                <a:ext cx="758880" cy="245520"/>
              </a:xfrm>
              <a:custGeom>
                <a:avLst/>
                <a:gdLst/>
                <a:ahLst/>
                <a:rect l="l" t="t" r="r" b="b"/>
                <a:pathLst>
                  <a:path w="523" h="308">
                    <a:moveTo>
                      <a:pt x="0" y="308"/>
                    </a:moveTo>
                    <a:cubicBezTo>
                      <a:pt x="71" y="232"/>
                      <a:pt x="142" y="157"/>
                      <a:pt x="184" y="146"/>
                    </a:cubicBezTo>
                    <a:cubicBezTo>
                      <a:pt x="226" y="135"/>
                      <a:pt x="198" y="263"/>
                      <a:pt x="254" y="239"/>
                    </a:cubicBezTo>
                    <a:cubicBezTo>
                      <a:pt x="310" y="215"/>
                      <a:pt x="476" y="41"/>
                      <a:pt x="52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1271520" y="4194000"/>
            <a:ext cx="2214360" cy="1091880"/>
            <a:chOff x="1271520" y="4194000"/>
            <a:chExt cx="2214360" cy="1091880"/>
          </a:xfrm>
        </p:grpSpPr>
        <p:grpSp>
          <p:nvGrpSpPr>
            <p:cNvPr id="364" name=""/>
            <p:cNvGrpSpPr/>
            <p:nvPr/>
          </p:nvGrpSpPr>
          <p:grpSpPr>
            <a:xfrm>
              <a:off x="2935080" y="4924080"/>
              <a:ext cx="550800" cy="361800"/>
              <a:chOff x="2935080" y="4924080"/>
              <a:chExt cx="550800" cy="361800"/>
            </a:xfrm>
          </p:grpSpPr>
          <p:sp>
            <p:nvSpPr>
              <p:cNvPr id="365" name=""/>
              <p:cNvSpPr/>
              <p:nvPr/>
            </p:nvSpPr>
            <p:spPr>
              <a:xfrm>
                <a:off x="3047760" y="492444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180960" y="4924080"/>
                <a:ext cx="0" cy="36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7" name=""/>
                  <p:cNvSpPr txBox="1"/>
                  <p:nvPr/>
                </p:nvSpPr>
                <p:spPr>
                  <a:xfrm>
                    <a:off x="2935080" y="4991040"/>
                    <a:ext cx="234720" cy="27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68" name=""/>
            <p:cNvGrpSpPr/>
            <p:nvPr/>
          </p:nvGrpSpPr>
          <p:grpSpPr>
            <a:xfrm>
              <a:off x="1271520" y="4194000"/>
              <a:ext cx="1716120" cy="839880"/>
              <a:chOff x="1271520" y="4194000"/>
              <a:chExt cx="1716120" cy="83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1271520" y="4194000"/>
                <a:ext cx="1716120" cy="6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Location where </a:t>
                </a:r>
                <a:r>
                  <a:rPr b="0" i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</a:t>
                </a:r>
                <a:r>
                  <a:rPr b="0" i="1" lang="en-US" sz="1800" spc="-1" strike="noStrike" baseline="-5000">
                    <a:solidFill>
                      <a:srgbClr val="ffffff"/>
                    </a:solidFill>
                    <a:latin typeface="Times New Roman"/>
                  </a:rPr>
                  <a:t>xy</a:t>
                </a: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is determin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386080" y="4787640"/>
                <a:ext cx="565200" cy="246240"/>
              </a:xfrm>
              <a:custGeom>
                <a:avLst/>
                <a:gdLst/>
                <a:ahLst/>
                <a:rect l="l" t="t" r="r" b="b"/>
                <a:pathLst>
                  <a:path w="523" h="308">
                    <a:moveTo>
                      <a:pt x="0" y="308"/>
                    </a:moveTo>
                    <a:cubicBezTo>
                      <a:pt x="71" y="232"/>
                      <a:pt x="142" y="157"/>
                      <a:pt x="184" y="146"/>
                    </a:cubicBezTo>
                    <a:cubicBezTo>
                      <a:pt x="226" y="135"/>
                      <a:pt x="198" y="263"/>
                      <a:pt x="254" y="239"/>
                    </a:cubicBezTo>
                    <a:cubicBezTo>
                      <a:pt x="310" y="215"/>
                      <a:pt x="476" y="41"/>
                      <a:pt x="52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4695840" y="1773360"/>
            <a:ext cx="3122280" cy="1460160"/>
            <a:chOff x="4695840" y="1773360"/>
            <a:chExt cx="3122280" cy="1460160"/>
          </a:xfrm>
        </p:grpSpPr>
        <p:sp>
          <p:nvSpPr>
            <p:cNvPr id="372" name=""/>
            <p:cNvSpPr/>
            <p:nvPr/>
          </p:nvSpPr>
          <p:spPr>
            <a:xfrm>
              <a:off x="4699800" y="1773360"/>
              <a:ext cx="25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Transverse shear stress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95840" y="286524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Recall that 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Times New Roman"/>
                </a:rPr>
                <a:t>V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= 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821120" y="2135160"/>
              <a:ext cx="2997000" cy="693360"/>
              <a:chOff x="4821120" y="2135160"/>
              <a:chExt cx="2997000" cy="693360"/>
            </a:xfrm>
          </p:grpSpPr>
          <mc:AlternateContent>
            <mc:Choice xmlns:a14="http://schemas.microsoft.com/office/drawing/2010/main" Requires="a14">
              <p:sp>
                <p:nvSpPr>
                  <p:cNvPr id="375" name=""/>
                  <p:cNvSpPr txBox="1"/>
                  <p:nvPr/>
                </p:nvSpPr>
                <p:spPr>
                  <a:xfrm>
                    <a:off x="4821120" y="2135160"/>
                    <a:ext cx="1143000" cy="69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b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76" name=""/>
                  <p:cNvSpPr txBox="1"/>
                  <p:nvPr/>
                </p:nvSpPr>
                <p:spPr>
                  <a:xfrm>
                    <a:off x="6832440" y="2302920"/>
                    <a:ext cx="985680" cy="35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A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7" name=""/>
              <p:cNvSpPr/>
              <p:nvPr/>
            </p:nvSpPr>
            <p:spPr>
              <a:xfrm>
                <a:off x="6147000" y="2306160"/>
                <a:ext cx="58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wit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587520" y="260280"/>
            <a:ext cx="83088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tress distribution in cross-section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 Rounded MT Bold"/>
              </a:rPr>
              <a:t>Transverse shear stres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76400" y="2079720"/>
            <a:ext cx="7203960" cy="296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35040" y="2503440"/>
            <a:ext cx="1568520" cy="2165400"/>
            <a:chOff x="1535040" y="2503440"/>
            <a:chExt cx="1568520" cy="216540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1535040" y="2503440"/>
              <a:ext cx="15685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92320" y="3917880"/>
              <a:ext cx="914400" cy="4474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672000" y="2457360"/>
            <a:ext cx="1676160" cy="2197080"/>
            <a:chOff x="3672000" y="2457360"/>
            <a:chExt cx="1676160" cy="219708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3672000" y="2457360"/>
              <a:ext cx="167616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302000" y="3917880"/>
              <a:ext cx="914400" cy="4474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019920" y="2479680"/>
            <a:ext cx="1619280" cy="2158920"/>
            <a:chOff x="6019920" y="2479680"/>
            <a:chExt cx="1619280" cy="2158920"/>
          </a:xfrm>
        </p:grpSpPr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6019920" y="2479680"/>
              <a:ext cx="16192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635880" y="3879720"/>
              <a:ext cx="914400" cy="44784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6040" y="35532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tress distribution in cross-sections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 Rounded MT Bold"/>
              </a:rPr>
              <a:t>Transverse shear stress: distribution in common section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85840" y="1357200"/>
            <a:ext cx="6892920" cy="522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rsional st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2720" y="1527120"/>
            <a:ext cx="5162400" cy="2241360"/>
            <a:chOff x="2052720" y="1527120"/>
            <a:chExt cx="5162400" cy="22413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052720" y="1527120"/>
              <a:ext cx="5162400" cy="22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811840" y="3058920"/>
              <a:ext cx="38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79960" y="2886120"/>
              <a:ext cx="2217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03520" y="2225520"/>
              <a:ext cx="41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207120" y="2371680"/>
              <a:ext cx="26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397480" y="17002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Pure shear 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53200" y="3917880"/>
            <a:ext cx="4928760" cy="1047600"/>
            <a:chOff x="1753200" y="3917880"/>
            <a:chExt cx="4928760" cy="1047600"/>
          </a:xfrm>
        </p:grpSpPr>
        <p:sp>
          <p:nvSpPr>
            <p:cNvPr id="400" name=""/>
            <p:cNvSpPr/>
            <p:nvPr/>
          </p:nvSpPr>
          <p:spPr>
            <a:xfrm>
              <a:off x="1753200" y="3917880"/>
              <a:ext cx="26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hear stress distribution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3045240" y="4271760"/>
              <a:ext cx="3636720" cy="693720"/>
              <a:chOff x="3045240" y="4271760"/>
              <a:chExt cx="3636720" cy="693720"/>
            </a:xfrm>
          </p:grpSpPr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3045240" y="4271760"/>
                    <a:ext cx="111888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>
                <a:off x="4464000" y="445896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recall th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4" name=""/>
                  <p:cNvSpPr txBox="1"/>
                  <p:nvPr/>
                </p:nvSpPr>
                <p:spPr>
                  <a:xfrm>
                    <a:off x="5424840" y="4406760"/>
                    <a:ext cx="12571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05" name=""/>
          <p:cNvGrpSpPr/>
          <p:nvPr/>
        </p:nvGrpSpPr>
        <p:grpSpPr>
          <a:xfrm>
            <a:off x="1752120" y="4965840"/>
            <a:ext cx="5854320" cy="1051920"/>
            <a:chOff x="1752120" y="4965840"/>
            <a:chExt cx="5854320" cy="1051920"/>
          </a:xfrm>
        </p:grpSpPr>
        <p:sp>
          <p:nvSpPr>
            <p:cNvPr id="406" name=""/>
            <p:cNvSpPr/>
            <p:nvPr/>
          </p:nvSpPr>
          <p:spPr>
            <a:xfrm>
              <a:off x="1752120" y="4965840"/>
              <a:ext cx="202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ngular deflection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230200" y="5276520"/>
              <a:ext cx="5376240" cy="741240"/>
              <a:chOff x="2230200" y="5276520"/>
              <a:chExt cx="5376240" cy="741240"/>
            </a:xfrm>
          </p:grpSpPr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2230200" y="5290560"/>
                    <a:ext cx="1187280" cy="69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>
                <a:off x="3504600" y="5478120"/>
                <a:ext cx="26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recall that the shear modulus i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0" name=""/>
                  <p:cNvSpPr txBox="1"/>
                  <p:nvPr/>
                </p:nvSpPr>
                <p:spPr>
                  <a:xfrm>
                    <a:off x="6192360" y="5276520"/>
                    <a:ext cx="14140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11" name=""/>
          <p:cNvSpPr/>
          <p:nvPr/>
        </p:nvSpPr>
        <p:spPr>
          <a:xfrm>
            <a:off x="1731960" y="600876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is a geometric factor -- see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Table 4-3, p.176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506600" y="1849320"/>
            <a:ext cx="6441840" cy="405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bined Str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4560" y="1947960"/>
            <a:ext cx="76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What kinds of stresses are present at at point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610000" y="2828880"/>
            <a:ext cx="381780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92040" y="169920"/>
            <a:ext cx="2309760" cy="129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2040" y="1566720"/>
            <a:ext cx="8460000" cy="461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52800" y="450720"/>
            <a:ext cx="53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am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0120" y="617688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iva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41520" y="1654200"/>
                <a:ext cx="11649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41520" y="2610000"/>
                <a:ext cx="11649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41520" y="3530520"/>
                <a:ext cx="11649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809640" y="4510080"/>
                <a:ext cx="828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341960" y="1866960"/>
                <a:ext cx="618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245120" y="2556000"/>
            <a:ext cx="2084400" cy="8856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346640" y="3592440"/>
            <a:ext cx="2827440" cy="7430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349880" y="4452840"/>
            <a:ext cx="3738600" cy="8524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4368960" y="5238720"/>
            <a:ext cx="4446360" cy="827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110120" y="1181160"/>
            <a:ext cx="20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687240" y="247680"/>
            <a:ext cx="1830600" cy="114948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1992240" y="2706840"/>
            <a:ext cx="2116080" cy="725400"/>
            <a:chOff x="1992240" y="2706840"/>
            <a:chExt cx="2116080" cy="725400"/>
          </a:xfrm>
        </p:grpSpPr>
        <p:sp>
          <p:nvSpPr>
            <p:cNvPr id="432" name=""/>
            <p:cNvSpPr/>
            <p:nvPr/>
          </p:nvSpPr>
          <p:spPr>
            <a:xfrm>
              <a:off x="1992240" y="2760840"/>
              <a:ext cx="105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hea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6"/>
            <a:stretch/>
          </p:blipFill>
          <p:spPr>
            <a:xfrm>
              <a:off x="3360600" y="2706840"/>
              <a:ext cx="74772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"/>
          <p:cNvGrpSpPr/>
          <p:nvPr/>
        </p:nvGrpSpPr>
        <p:grpSpPr>
          <a:xfrm>
            <a:off x="1992240" y="3586320"/>
            <a:ext cx="2106720" cy="798120"/>
            <a:chOff x="1992240" y="3586320"/>
            <a:chExt cx="2106720" cy="798120"/>
          </a:xfrm>
        </p:grpSpPr>
        <p:sp>
          <p:nvSpPr>
            <p:cNvPr id="435" name=""/>
            <p:cNvSpPr/>
            <p:nvPr/>
          </p:nvSpPr>
          <p:spPr>
            <a:xfrm>
              <a:off x="1992240" y="374184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ment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3351240" y="3586320"/>
              <a:ext cx="747720" cy="7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"/>
          <p:cNvGrpSpPr/>
          <p:nvPr/>
        </p:nvGrpSpPr>
        <p:grpSpPr>
          <a:xfrm>
            <a:off x="1992240" y="4483080"/>
            <a:ext cx="2127240" cy="768240"/>
            <a:chOff x="1992240" y="4483080"/>
            <a:chExt cx="2127240" cy="768240"/>
          </a:xfrm>
        </p:grpSpPr>
        <p:sp>
          <p:nvSpPr>
            <p:cNvPr id="438" name=""/>
            <p:cNvSpPr/>
            <p:nvPr/>
          </p:nvSpPr>
          <p:spPr>
            <a:xfrm>
              <a:off x="1992240" y="4589640"/>
              <a:ext cx="103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am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o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9" name="" descr=""/>
            <p:cNvPicPr/>
            <p:nvPr/>
          </p:nvPicPr>
          <p:blipFill>
            <a:blip r:embed="rId8"/>
            <a:stretch/>
          </p:blipFill>
          <p:spPr>
            <a:xfrm>
              <a:off x="3371760" y="4483080"/>
              <a:ext cx="747720" cy="7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1992240" y="1743120"/>
            <a:ext cx="2089080" cy="758880"/>
            <a:chOff x="1992240" y="1743120"/>
            <a:chExt cx="2089080" cy="758880"/>
          </a:xfrm>
        </p:grpSpPr>
        <p:sp>
          <p:nvSpPr>
            <p:cNvPr id="441" name=""/>
            <p:cNvSpPr/>
            <p:nvPr/>
          </p:nvSpPr>
          <p:spPr>
            <a:xfrm>
              <a:off x="1992240" y="1827360"/>
              <a:ext cx="114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ad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9"/>
            <a:stretch/>
          </p:blipFill>
          <p:spPr>
            <a:xfrm>
              <a:off x="3333600" y="1743120"/>
              <a:ext cx="74772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"/>
          <p:cNvGrpSpPr/>
          <p:nvPr/>
        </p:nvGrpSpPr>
        <p:grpSpPr>
          <a:xfrm>
            <a:off x="706320" y="5388120"/>
            <a:ext cx="3413160" cy="682560"/>
            <a:chOff x="706320" y="5388120"/>
            <a:chExt cx="3413160" cy="682560"/>
          </a:xfrm>
        </p:grpSpPr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706320" y="5486400"/>
                  <a:ext cx="10526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5" name=""/>
            <p:cNvGrpSpPr/>
            <p:nvPr/>
          </p:nvGrpSpPr>
          <p:grpSpPr>
            <a:xfrm>
              <a:off x="1933560" y="5388120"/>
              <a:ext cx="2185920" cy="682560"/>
              <a:chOff x="1933560" y="5388120"/>
              <a:chExt cx="2185920" cy="682560"/>
            </a:xfrm>
          </p:grpSpPr>
          <p:sp>
            <p:nvSpPr>
              <p:cNvPr id="446" name=""/>
              <p:cNvSpPr/>
              <p:nvPr/>
            </p:nvSpPr>
            <p:spPr>
              <a:xfrm>
                <a:off x="1933560" y="5492880"/>
                <a:ext cx="127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flec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71760" y="5388120"/>
                <a:ext cx="747720" cy="68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84080" y="1065240"/>
            <a:ext cx="7677360" cy="557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47920" y="1287360"/>
            <a:ext cx="2813040" cy="24894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4778280" y="1368360"/>
            <a:ext cx="2997360" cy="22924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1287360" y="4094280"/>
            <a:ext cx="3022560" cy="2286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5016600" y="4064040"/>
            <a:ext cx="3003480" cy="2324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95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ar and bending-moment dia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s of beam loading functions and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135080" y="1035000"/>
            <a:ext cx="7235640" cy="567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357200" y="1122480"/>
            <a:ext cx="6816960" cy="5491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0" y="95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ar and bending-moment dia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gularity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111400" y="262080"/>
            <a:ext cx="6851520" cy="638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6000" y="159840"/>
            <a:ext cx="18079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ngularity Func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87440" y="428760"/>
            <a:ext cx="6613200" cy="6067440"/>
            <a:chOff x="2287440" y="428760"/>
            <a:chExt cx="6613200" cy="606744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2436480" y="470160"/>
              <a:ext cx="6202440" cy="18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2"/>
            <a:stretch/>
          </p:blipFill>
          <p:spPr>
            <a:xfrm>
              <a:off x="2361960" y="2235240"/>
              <a:ext cx="653868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2338200" y="428760"/>
              <a:ext cx="6481800" cy="1052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30280" y="1546200"/>
              <a:ext cx="6481440" cy="106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42880" y="2673360"/>
              <a:ext cx="6481800" cy="1192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14440" y="3978360"/>
              <a:ext cx="6481440" cy="1193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87440" y="5243760"/>
              <a:ext cx="6481440" cy="1233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30320" y="1255680"/>
            <a:ext cx="1847880" cy="5033880"/>
            <a:chOff x="130320" y="1255680"/>
            <a:chExt cx="1847880" cy="5033880"/>
          </a:xfrm>
        </p:grpSpPr>
        <p:sp>
          <p:nvSpPr>
            <p:cNvPr id="468" name=""/>
            <p:cNvSpPr/>
            <p:nvPr/>
          </p:nvSpPr>
          <p:spPr>
            <a:xfrm>
              <a:off x="130320" y="1255680"/>
              <a:ext cx="1847880" cy="5033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3"/>
            <a:stretch/>
          </p:blipFill>
          <p:spPr>
            <a:xfrm>
              <a:off x="303120" y="3218040"/>
              <a:ext cx="1611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4"/>
            <a:srcRect l="0" t="0" r="4228" b="0"/>
            <a:stretch/>
          </p:blipFill>
          <p:spPr>
            <a:xfrm>
              <a:off x="158760" y="1363680"/>
              <a:ext cx="1801800" cy="15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5"/>
            <a:stretch/>
          </p:blipFill>
          <p:spPr>
            <a:xfrm>
              <a:off x="177840" y="4729320"/>
              <a:ext cx="1779480" cy="144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ress Distribu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aluating Singularity Fun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990800" y="1276200"/>
            <a:ext cx="5192640" cy="5004000"/>
            <a:chOff x="1990800" y="1276200"/>
            <a:chExt cx="5192640" cy="5004000"/>
          </a:xfrm>
        </p:grpSpPr>
        <p:sp>
          <p:nvSpPr>
            <p:cNvPr id="474" name=""/>
            <p:cNvSpPr/>
            <p:nvPr/>
          </p:nvSpPr>
          <p:spPr>
            <a:xfrm>
              <a:off x="1990800" y="1276200"/>
              <a:ext cx="5192640" cy="500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2205000" y="1454040"/>
              <a:ext cx="4682520" cy="465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03440" y="1255680"/>
            <a:ext cx="7918200" cy="485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5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ar and bending-moment dia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27000" y="15080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and plot the shear and moment functions for the simply supported beam show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268280" y="2522520"/>
            <a:ext cx="3748320" cy="33163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499000" y="2801880"/>
            <a:ext cx="23148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52440" y="522360"/>
            <a:ext cx="6118200" cy="296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84120" y="608040"/>
            <a:ext cx="6032520" cy="285120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363600" y="3629160"/>
            <a:ext cx="8599320" cy="2963880"/>
            <a:chOff x="363600" y="3629160"/>
            <a:chExt cx="8599320" cy="2963880"/>
          </a:xfrm>
        </p:grpSpPr>
        <p:sp>
          <p:nvSpPr>
            <p:cNvPr id="484" name=""/>
            <p:cNvSpPr/>
            <p:nvPr/>
          </p:nvSpPr>
          <p:spPr>
            <a:xfrm>
              <a:off x="363600" y="3629160"/>
              <a:ext cx="8599320" cy="2963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441440" y="3803760"/>
              <a:ext cx="6134040" cy="2570040"/>
              <a:chOff x="1441440" y="3803760"/>
              <a:chExt cx="6134040" cy="2570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1440" y="3803760"/>
                <a:ext cx="6134040" cy="18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720" y="5529240"/>
                <a:ext cx="5526000" cy="84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8" name=""/>
          <p:cNvGrpSpPr/>
          <p:nvPr/>
        </p:nvGrpSpPr>
        <p:grpSpPr>
          <a:xfrm>
            <a:off x="6634080" y="523800"/>
            <a:ext cx="2340000" cy="2963880"/>
            <a:chOff x="6634080" y="523800"/>
            <a:chExt cx="2340000" cy="2963880"/>
          </a:xfrm>
        </p:grpSpPr>
        <p:sp>
          <p:nvSpPr>
            <p:cNvPr id="489" name=""/>
            <p:cNvSpPr/>
            <p:nvPr/>
          </p:nvSpPr>
          <p:spPr>
            <a:xfrm>
              <a:off x="6634080" y="523800"/>
              <a:ext cx="2340000" cy="2963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4"/>
            <a:stretch/>
          </p:blipFill>
          <p:spPr>
            <a:xfrm>
              <a:off x="6672240" y="1022400"/>
              <a:ext cx="2284560" cy="202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66840" y="120600"/>
            <a:ext cx="6491160" cy="204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258920" y="2271600"/>
            <a:ext cx="6491160" cy="4400640"/>
            <a:chOff x="1258920" y="2271600"/>
            <a:chExt cx="6491160" cy="4400640"/>
          </a:xfrm>
        </p:grpSpPr>
        <p:sp>
          <p:nvSpPr>
            <p:cNvPr id="493" name=""/>
            <p:cNvSpPr/>
            <p:nvPr/>
          </p:nvSpPr>
          <p:spPr>
            <a:xfrm>
              <a:off x="1258920" y="2271600"/>
              <a:ext cx="6491160" cy="440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1"/>
            <a:srcRect l="1774" t="0" r="1774" b="5833"/>
            <a:stretch/>
          </p:blipFill>
          <p:spPr>
            <a:xfrm>
              <a:off x="1522440" y="2284560"/>
              <a:ext cx="6046920" cy="430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000160" y="139680"/>
            <a:ext cx="2284560" cy="20210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5178600" y="309600"/>
            <a:ext cx="14112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42840" y="893880"/>
            <a:ext cx="7607520" cy="51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765440" y="1144440"/>
            <a:ext cx="6202080" cy="41259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914400" y="2801880"/>
            <a:ext cx="116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substit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x = 0, y =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5400" y="4422600"/>
            <a:ext cx="116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substit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x = l, y =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21080" y="2781360"/>
            <a:ext cx="5244840" cy="98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12960" y="4351320"/>
            <a:ext cx="5245200" cy="98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23960" y="3792600"/>
            <a:ext cx="524520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92360" y="712800"/>
            <a:ext cx="6350040" cy="387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1200" y="4713120"/>
            <a:ext cx="8701200" cy="183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1840" y="723960"/>
            <a:ext cx="2239920" cy="386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633760" y="814320"/>
            <a:ext cx="6269040" cy="36529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66640" y="4842000"/>
            <a:ext cx="1712880" cy="16030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2776680" y="4830840"/>
            <a:ext cx="1814400" cy="16444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4740120" y="4821120"/>
            <a:ext cx="1644840" cy="16797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6762600" y="4849920"/>
            <a:ext cx="1814760" cy="15858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312840" y="844560"/>
            <a:ext cx="2063520" cy="18255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7"/>
          <a:stretch/>
        </p:blipFill>
        <p:spPr>
          <a:xfrm>
            <a:off x="595440" y="2770200"/>
            <a:ext cx="14112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KSolver solution of singularity functions will be demonstrated in section me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416400" y="311040"/>
            <a:ext cx="5265720" cy="630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1280" y="326880"/>
            <a:ext cx="282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ving Singularity Functions in MathC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716280" y="431640"/>
            <a:ext cx="469440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39960" y="1468440"/>
            <a:ext cx="7486560" cy="499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axial 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54160" y="3171960"/>
            <a:ext cx="6611760" cy="3276360"/>
            <a:chOff x="1154160" y="3171960"/>
            <a:chExt cx="6611760" cy="327636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154160" y="3171960"/>
              <a:ext cx="5091120" cy="32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48520" y="4572000"/>
              <a:ext cx="151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tress cube for uniaxial stress loa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3173400"/>
              <a:ext cx="151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413000" y="1585800"/>
            <a:ext cx="4784760" cy="1352520"/>
            <a:chOff x="1413000" y="1585800"/>
            <a:chExt cx="4784760" cy="135252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413000" y="1709640"/>
              <a:ext cx="47847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384640" y="1585800"/>
              <a:ext cx="18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Uniaxial 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61120" y="3043080"/>
            <a:ext cx="2768400" cy="1303560"/>
            <a:chOff x="5361120" y="3043080"/>
            <a:chExt cx="2768400" cy="1303560"/>
          </a:xfrm>
        </p:grpSpPr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6146640" y="3529080"/>
                  <a:ext cx="10954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5418720" y="314784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duced change in length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61120" y="3043080"/>
              <a:ext cx="2768400" cy="130356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14320" y="1427040"/>
            <a:ext cx="7737480" cy="515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rect sh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58840" y="1673280"/>
            <a:ext cx="3017880" cy="2549520"/>
            <a:chOff x="1158840" y="1673280"/>
            <a:chExt cx="3017880" cy="25495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1158840" y="1736640"/>
              <a:ext cx="1671840" cy="2486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854440" y="1985760"/>
                  <a:ext cx="132228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hea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2460960" y="167328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ingle shear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87720" y="2735280"/>
            <a:ext cx="1593720" cy="36640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5349960" y="1665360"/>
            <a:ext cx="2928960" cy="3708360"/>
            <a:chOff x="5349960" y="1665360"/>
            <a:chExt cx="2928960" cy="370836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5349960" y="1665360"/>
              <a:ext cx="1549440" cy="37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"/>
            <p:cNvGrpSpPr/>
            <p:nvPr/>
          </p:nvGrpSpPr>
          <p:grpSpPr>
            <a:xfrm>
              <a:off x="6456960" y="2227320"/>
              <a:ext cx="1821960" cy="1028520"/>
              <a:chOff x="6456960" y="2227320"/>
              <a:chExt cx="1821960" cy="1028520"/>
            </a:xfrm>
          </p:grpSpPr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821640" y="2539800"/>
                    <a:ext cx="1457280" cy="71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hear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9" name=""/>
              <p:cNvSpPr/>
              <p:nvPr/>
            </p:nvSpPr>
            <p:spPr>
              <a:xfrm>
                <a:off x="6456960" y="2227320"/>
                <a:ext cx="153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Double shear: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03160" y="1517760"/>
            <a:ext cx="7628040" cy="495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aring and Tear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14360" y="1644480"/>
            <a:ext cx="2901960" cy="3740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77040" y="1650960"/>
            <a:ext cx="1911240" cy="37339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344600" y="5484960"/>
            <a:ext cx="3308400" cy="710280"/>
            <a:chOff x="1344600" y="5484960"/>
            <a:chExt cx="3308400" cy="71028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344600" y="5484960"/>
                  <a:ext cx="1376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earing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3132360" y="5619600"/>
                  <a:ext cx="114120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aring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2811600" y="5888160"/>
              <a:ext cx="184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(Areas in solid col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240160" y="5502240"/>
            <a:ext cx="3078000" cy="691200"/>
            <a:chOff x="5240160" y="5502240"/>
            <a:chExt cx="3078000" cy="69120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5240160" y="5502240"/>
                  <a:ext cx="11937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earout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7095960" y="5638680"/>
                  <a:ext cx="63180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earou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"/>
            <p:cNvSpPr/>
            <p:nvPr/>
          </p:nvSpPr>
          <p:spPr>
            <a:xfrm>
              <a:off x="6476760" y="5886360"/>
              <a:ext cx="184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(Areas in solid col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94400" y="1827360"/>
            <a:ext cx="4000320" cy="3627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040" y="1866960"/>
            <a:ext cx="4000680" cy="361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aring and Tearout: modes of fail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6960" y="2011320"/>
            <a:ext cx="3638520" cy="3114720"/>
            <a:chOff x="696960" y="2011320"/>
            <a:chExt cx="3638520" cy="31147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96960" y="2395440"/>
              <a:ext cx="363852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34120" y="2011320"/>
              <a:ext cx="16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Bearing Failu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849920" y="2000160"/>
            <a:ext cx="3638520" cy="3090960"/>
            <a:chOff x="4849920" y="2000160"/>
            <a:chExt cx="3638520" cy="309096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849920" y="2360520"/>
              <a:ext cx="363852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826960" y="200016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Tearout Failu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54080" y="1406520"/>
            <a:ext cx="7054920" cy="489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260080" y="1576440"/>
            <a:ext cx="4843800" cy="1465920"/>
            <a:chOff x="2260080" y="1576440"/>
            <a:chExt cx="4843800" cy="1465920"/>
          </a:xfrm>
        </p:grpSpPr>
        <p:grpSp>
          <p:nvGrpSpPr>
            <p:cNvPr id="193" name=""/>
            <p:cNvGrpSpPr/>
            <p:nvPr/>
          </p:nvGrpSpPr>
          <p:grpSpPr>
            <a:xfrm>
              <a:off x="3109680" y="1793520"/>
              <a:ext cx="3994200" cy="1248840"/>
              <a:chOff x="3109680" y="1793520"/>
              <a:chExt cx="3994200" cy="124884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09680" y="1793520"/>
                <a:ext cx="3994200" cy="119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4381200" y="2801160"/>
                <a:ext cx="96696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260080" y="1576440"/>
              <a:ext cx="152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Bending load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11040" y="290520"/>
            <a:ext cx="81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ding str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3360" y="3240000"/>
            <a:ext cx="5910840" cy="1208160"/>
            <a:chOff x="1593360" y="3240000"/>
            <a:chExt cx="5910840" cy="1208160"/>
          </a:xfrm>
        </p:grpSpPr>
        <p:grpSp>
          <p:nvGrpSpPr>
            <p:cNvPr id="199" name=""/>
            <p:cNvGrpSpPr/>
            <p:nvPr/>
          </p:nvGrpSpPr>
          <p:grpSpPr>
            <a:xfrm>
              <a:off x="2629080" y="3240000"/>
              <a:ext cx="4875120" cy="1208160"/>
              <a:chOff x="2629080" y="3240000"/>
              <a:chExt cx="4875120" cy="1208160"/>
            </a:xfrm>
          </p:grpSpPr>
          <p:sp>
            <p:nvSpPr>
              <p:cNvPr id="200" name=""/>
              <p:cNvSpPr/>
              <p:nvPr/>
            </p:nvSpPr>
            <p:spPr>
              <a:xfrm>
                <a:off x="3225960" y="3917880"/>
                <a:ext cx="404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3232440" y="3240000"/>
                <a:ext cx="2880" cy="120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29080" y="328284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(</a:t>
                </a: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35760" y="391500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3237120" y="3532320"/>
              <a:ext cx="1646280" cy="38556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81600" y="3917880"/>
              <a:ext cx="2062080" cy="1825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93360" y="3756240"/>
              <a:ext cx="140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Shear diagram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25600" y="4749840"/>
            <a:ext cx="6078600" cy="1172880"/>
            <a:chOff x="1425600" y="4749840"/>
            <a:chExt cx="6078600" cy="1172880"/>
          </a:xfrm>
        </p:grpSpPr>
        <p:grpSp>
          <p:nvGrpSpPr>
            <p:cNvPr id="208" name=""/>
            <p:cNvGrpSpPr/>
            <p:nvPr/>
          </p:nvGrpSpPr>
          <p:grpSpPr>
            <a:xfrm>
              <a:off x="2629080" y="4749840"/>
              <a:ext cx="4875120" cy="1172880"/>
              <a:chOff x="2629080" y="4749840"/>
              <a:chExt cx="4875120" cy="117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5960" y="5384880"/>
                <a:ext cx="404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3232440" y="4817880"/>
                <a:ext cx="1440" cy="1104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629080" y="474984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(</a:t>
                </a: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r>
                  <a:rPr b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35760" y="5381640"/>
                <a:ext cx="56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333399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3260160" y="4862520"/>
              <a:ext cx="1646280" cy="519120"/>
            </a:xfrm>
            <a:prstGeom prst="rtTriangle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07160" y="4862520"/>
              <a:ext cx="2054160" cy="517680"/>
            </a:xfrm>
            <a:prstGeom prst="rtTriangle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5600" y="521676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Moments diagram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24360" y="4599000"/>
            <a:ext cx="2816280" cy="1582200"/>
            <a:chOff x="4824360" y="4599000"/>
            <a:chExt cx="2816280" cy="1582200"/>
          </a:xfrm>
        </p:grpSpPr>
        <p:sp>
          <p:nvSpPr>
            <p:cNvPr id="217" name=""/>
            <p:cNvSpPr/>
            <p:nvPr/>
          </p:nvSpPr>
          <p:spPr>
            <a:xfrm>
              <a:off x="4824360" y="4599000"/>
              <a:ext cx="75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0" i="1" lang="en-US" sz="1400" spc="-1" strike="noStrike">
                  <a:solidFill>
                    <a:srgbClr val="333399"/>
                  </a:solidFill>
                  <a:latin typeface="Times New Roman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889520" y="5396040"/>
              <a:ext cx="2751120" cy="785160"/>
              <a:chOff x="4889520" y="5396040"/>
              <a:chExt cx="2751120" cy="785160"/>
            </a:xfrm>
          </p:grpSpPr>
          <p:sp>
            <p:nvSpPr>
              <p:cNvPr id="219" name=""/>
              <p:cNvSpPr/>
              <p:nvPr/>
            </p:nvSpPr>
            <p:spPr>
              <a:xfrm>
                <a:off x="5410080" y="5661000"/>
                <a:ext cx="2230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Critical section </a:t>
                </a:r>
                <a:br>
                  <a:rPr sz="1400"/>
                </a:br>
                <a:r>
                  <a:rPr b="0" i="1" lang="en-US" sz="1400" spc="-1" strike="noStrike">
                    <a:solidFill>
                      <a:srgbClr val="333399"/>
                    </a:solidFill>
                    <a:latin typeface="Arial"/>
                  </a:rPr>
                  <a:t>(max moment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889520" y="5396040"/>
                <a:ext cx="558720" cy="401400"/>
              </a:xfrm>
              <a:custGeom>
                <a:avLst/>
                <a:gdLst/>
                <a:ahLst/>
                <a:rect l="l" t="t" r="r" b="b"/>
                <a:pathLst>
                  <a:path w="523" h="308">
                    <a:moveTo>
                      <a:pt x="0" y="308"/>
                    </a:moveTo>
                    <a:cubicBezTo>
                      <a:pt x="71" y="232"/>
                      <a:pt x="142" y="157"/>
                      <a:pt x="184" y="146"/>
                    </a:cubicBezTo>
                    <a:cubicBezTo>
                      <a:pt x="226" y="135"/>
                      <a:pt x="198" y="263"/>
                      <a:pt x="254" y="239"/>
                    </a:cubicBezTo>
                    <a:cubicBezTo>
                      <a:pt x="310" y="215"/>
                      <a:pt x="476" y="41"/>
                      <a:pt x="523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77880" y="1427040"/>
            <a:ext cx="6310440" cy="497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848240" y="1627200"/>
            <a:ext cx="4844520" cy="1467000"/>
            <a:chOff x="1848240" y="1627200"/>
            <a:chExt cx="4844520" cy="1467000"/>
          </a:xfrm>
        </p:grpSpPr>
        <p:grpSp>
          <p:nvGrpSpPr>
            <p:cNvPr id="223" name=""/>
            <p:cNvGrpSpPr/>
            <p:nvPr/>
          </p:nvGrpSpPr>
          <p:grpSpPr>
            <a:xfrm>
              <a:off x="2698560" y="1844640"/>
              <a:ext cx="3994200" cy="1249560"/>
              <a:chOff x="2698560" y="1844640"/>
              <a:chExt cx="3994200" cy="1249560"/>
            </a:xfrm>
          </p:grpSpPr>
          <p:pic>
            <p:nvPicPr>
              <p:cNvPr id="2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8560" y="1844640"/>
                <a:ext cx="3994200" cy="12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3970080" y="2852640"/>
                <a:ext cx="966960" cy="24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848240" y="162720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Bending 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ding st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17440" y="1940040"/>
            <a:ext cx="638640" cy="1162080"/>
            <a:chOff x="3817440" y="1940040"/>
            <a:chExt cx="638640" cy="1162080"/>
          </a:xfrm>
        </p:grpSpPr>
        <p:grpSp>
          <p:nvGrpSpPr>
            <p:cNvPr id="229" name=""/>
            <p:cNvGrpSpPr/>
            <p:nvPr/>
          </p:nvGrpSpPr>
          <p:grpSpPr>
            <a:xfrm>
              <a:off x="3817440" y="1940040"/>
              <a:ext cx="363960" cy="1162080"/>
              <a:chOff x="3817440" y="1940040"/>
              <a:chExt cx="363960" cy="116208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3817800" y="1940040"/>
                <a:ext cx="363600" cy="48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817440" y="2793960"/>
                <a:ext cx="230040" cy="30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17800" y="2424240"/>
                <a:ext cx="0" cy="67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174560" y="1942920"/>
                <a:ext cx="4680" cy="31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952440" y="2243160"/>
                <a:ext cx="152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52800" y="246204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05080" y="2247840"/>
                <a:ext cx="0" cy="330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947760" y="2571840"/>
                <a:ext cx="15264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73480" y="2259000"/>
                <a:ext cx="6120" cy="36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009320" y="2617920"/>
                <a:ext cx="166680" cy="23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951000" y="2755800"/>
              <a:ext cx="3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1560" y="2001960"/>
              <a:ext cx="3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98880" y="3014640"/>
            <a:ext cx="1912680" cy="572040"/>
            <a:chOff x="3998880" y="3014640"/>
            <a:chExt cx="1912680" cy="572040"/>
          </a:xfrm>
        </p:grpSpPr>
        <p:sp>
          <p:nvSpPr>
            <p:cNvPr id="243" name=""/>
            <p:cNvSpPr/>
            <p:nvPr/>
          </p:nvSpPr>
          <p:spPr>
            <a:xfrm>
              <a:off x="4519440" y="3279600"/>
              <a:ext cx="139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Se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998880" y="3014640"/>
              <a:ext cx="558720" cy="401400"/>
            </a:xfrm>
            <a:custGeom>
              <a:avLst/>
              <a:gdLst/>
              <a:ahLst/>
              <a:rect l="l" t="t" r="r" b="b"/>
              <a:pathLst>
                <a:path w="523" h="308">
                  <a:moveTo>
                    <a:pt x="0" y="308"/>
                  </a:moveTo>
                  <a:cubicBezTo>
                    <a:pt x="71" y="232"/>
                    <a:pt x="142" y="157"/>
                    <a:pt x="184" y="146"/>
                  </a:cubicBezTo>
                  <a:cubicBezTo>
                    <a:pt x="226" y="135"/>
                    <a:pt x="198" y="263"/>
                    <a:pt x="254" y="239"/>
                  </a:cubicBezTo>
                  <a:cubicBezTo>
                    <a:pt x="310" y="215"/>
                    <a:pt x="476" y="41"/>
                    <a:pt x="523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035080" y="4275000"/>
            <a:ext cx="2733480" cy="1932120"/>
            <a:chOff x="2035080" y="4275000"/>
            <a:chExt cx="2733480" cy="193212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2035080" y="4275000"/>
              <a:ext cx="273348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368440" y="5864040"/>
              <a:ext cx="8316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003640" y="4149720"/>
            <a:ext cx="2519280" cy="2063520"/>
            <a:chOff x="5003640" y="4149720"/>
            <a:chExt cx="2519280" cy="2063520"/>
          </a:xfrm>
        </p:grpSpPr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5003640" y="4149720"/>
              <a:ext cx="2519280" cy="20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568840" y="5792760"/>
              <a:ext cx="831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23840" y="3749760"/>
            <a:ext cx="38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ernal distribution of bending fo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35160" y="1668600"/>
            <a:ext cx="6823080" cy="4651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distribution in cross-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ding str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614760" y="4194000"/>
                <a:ext cx="183816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2959920" y="383868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ending stress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000960" y="5013360"/>
            <a:ext cx="2678400" cy="1170000"/>
            <a:chOff x="3000960" y="5013360"/>
            <a:chExt cx="2678400" cy="1170000"/>
          </a:xfrm>
        </p:grpSpPr>
        <p:sp>
          <p:nvSpPr>
            <p:cNvPr id="257" name=""/>
            <p:cNvSpPr/>
            <p:nvPr/>
          </p:nvSpPr>
          <p:spPr>
            <a:xfrm>
              <a:off x="3000960" y="5013360"/>
              <a:ext cx="267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Maximum bending stress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727440" y="5489280"/>
                  <a:ext cx="1613160" cy="69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c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550880" y="1976400"/>
            <a:ext cx="5973120" cy="1724040"/>
            <a:chOff x="1550880" y="1976400"/>
            <a:chExt cx="5973120" cy="1724040"/>
          </a:xfrm>
        </p:grpSpPr>
        <p:grpSp>
          <p:nvGrpSpPr>
            <p:cNvPr id="260" name=""/>
            <p:cNvGrpSpPr/>
            <p:nvPr/>
          </p:nvGrpSpPr>
          <p:grpSpPr>
            <a:xfrm>
              <a:off x="1550880" y="1976400"/>
              <a:ext cx="5643360" cy="1724040"/>
              <a:chOff x="1550880" y="1976400"/>
              <a:chExt cx="5643360" cy="17240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50880" y="1976400"/>
                <a:ext cx="5643360" cy="172404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4464000" y="3236760"/>
                    <a:ext cx="493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3" name=""/>
                  <p:cNvSpPr txBox="1"/>
                  <p:nvPr/>
                </p:nvSpPr>
                <p:spPr>
                  <a:xfrm>
                    <a:off x="4167000" y="2074680"/>
                    <a:ext cx="66204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4" name=""/>
            <p:cNvSpPr/>
            <p:nvPr/>
          </p:nvSpPr>
          <p:spPr>
            <a:xfrm>
              <a:off x="6918120" y="238104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6480" y="2847960"/>
              <a:ext cx="2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04040" y="2390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53280" y="2419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851440" y="436248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Recall that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. L. Norton</cp:lastModifiedBy>
  <cp:lastPrinted>2005-09-01T17:45:25Z</cp:lastPrinted>
  <dcterms:modified xsi:type="dcterms:W3CDTF">2006-01-16T02:04:26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