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5CC3-8445-4451-BE11-37DD26B6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9419-0B22-425A-9496-79F227F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BFD6-AA0D-4124-8E89-E888BA26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AE07-4041-43D7-BCAF-6428F587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B9D6-8E09-4FAB-9E63-4EE8E3A6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ADF8-F900-43FF-892B-7F51E98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293-0E84-4378-B4E6-D9E3E45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98A-23B8-48EB-8B3B-AC1DD0A0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443C-E45C-465E-9929-1E1E075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69E4-102E-4535-98D6-AB7E1B4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08B6-F9E5-49C2-ABA0-611BDDE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7E94-C5A5-4C73-8D09-626E227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C0E-3E6E-42EA-882E-2182A41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331-6094-4BB2-8FB2-11438EC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5721-363F-43AB-ADDB-41FF3EE6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1A3-2ECD-473B-A7B7-7591DFCD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5E4-EED3-40A9-B9DE-08DDC98E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B147-7668-4A71-934A-607F786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F88E-6ED8-4FA3-BA72-1C98301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1D36-E8DA-4BCC-9AC2-3213202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10B2-2D2B-4555-ADFD-88D4C82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C27B-A5E9-4DB1-9349-29CA8B7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A482-3F46-4F2F-B053-CF704EA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3B8B-55BF-46D8-A5D8-CDE0FB6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1D90-B24A-4B15-A30C-8D308C737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7C47-E8FD-459F-98F5-26AE1590B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36:35Z</dcterms:created>
  <dc:creator>R. L. Norton</dc:creator>
  <dc:description/>
  <dc:language>en-US</dc:language>
  <cp:lastModifiedBy>R. L. Norton</cp:lastModifiedBy>
  <dcterms:modified xsi:type="dcterms:W3CDTF">2006-01-02T21:10:20Z</dcterms:modified>
  <cp:revision>3</cp:revision>
  <dc:subject/>
  <dc:title>Quiz 2</dc:title>
</cp:coreProperties>
</file>