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4760" y="7088040"/>
            <a:ext cx="125604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552600" y="1004760"/>
            <a:ext cx="4281480" cy="258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092560" y="998640"/>
            <a:ext cx="3483000" cy="573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49360" y="3770280"/>
            <a:ext cx="4286160" cy="296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Fastener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7200" y="1339920"/>
            <a:ext cx="3876480" cy="2077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31760" y="1011240"/>
            <a:ext cx="14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Bolts and n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19640" y="1476360"/>
            <a:ext cx="1663920" cy="521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8520" y="1424160"/>
            <a:ext cx="1471680" cy="5279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965160" y="4184640"/>
            <a:ext cx="1276560" cy="245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008160" y="4008600"/>
            <a:ext cx="1282680" cy="263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06000" y="1011240"/>
            <a:ext cx="6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B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46880" y="101124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N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15360" y="37908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Was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9680" y="1197000"/>
            <a:ext cx="1881360" cy="4811760"/>
            <a:chOff x="139680" y="1197000"/>
            <a:chExt cx="1881360" cy="4811760"/>
          </a:xfrm>
        </p:grpSpPr>
        <p:sp>
          <p:nvSpPr>
            <p:cNvPr id="150" name=""/>
            <p:cNvSpPr/>
            <p:nvPr/>
          </p:nvSpPr>
          <p:spPr>
            <a:xfrm>
              <a:off x="139680" y="1197000"/>
              <a:ext cx="1881360" cy="4811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16000" y="1711440"/>
              <a:ext cx="1762200" cy="376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2143080" y="1185840"/>
            <a:ext cx="6851160" cy="4824360"/>
            <a:chOff x="2143080" y="1185840"/>
            <a:chExt cx="6851160" cy="4824360"/>
          </a:xfrm>
        </p:grpSpPr>
        <p:sp>
          <p:nvSpPr>
            <p:cNvPr id="153" name=""/>
            <p:cNvSpPr/>
            <p:nvPr/>
          </p:nvSpPr>
          <p:spPr>
            <a:xfrm>
              <a:off x="2143080" y="1185840"/>
              <a:ext cx="6832440" cy="482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85560" y="1226880"/>
              <a:ext cx="63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pring constant for a round 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olt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 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92280" y="1717560"/>
              <a:ext cx="2817360" cy="791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4630320" y="1771560"/>
                  <a:ext cx="2179440" cy="67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2185560" y="2626920"/>
              <a:ext cx="680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pring constant for equivalent cylindrical clamped 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aterial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03440" y="3114360"/>
              <a:ext cx="2793600" cy="792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4525560" y="3155760"/>
                  <a:ext cx="246816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2313360" y="4375080"/>
              <a:ext cx="379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If clamped </a:t>
              </a: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aterials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 are the sam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3749400" y="4937040"/>
                  <a:ext cx="3596760" cy="88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π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ff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6252840" y="4349520"/>
                  <a:ext cx="167760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: </a:t>
            </a:r>
            <a:r>
              <a:rPr b="0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static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65160" y="1125360"/>
            <a:ext cx="7365960" cy="5305680"/>
            <a:chOff x="965160" y="1125360"/>
            <a:chExt cx="7365960" cy="5305680"/>
          </a:xfrm>
        </p:grpSpPr>
        <p:sp>
          <p:nvSpPr>
            <p:cNvPr id="165" name=""/>
            <p:cNvSpPr/>
            <p:nvPr/>
          </p:nvSpPr>
          <p:spPr>
            <a:xfrm>
              <a:off x="965160" y="1125360"/>
              <a:ext cx="7365960" cy="5305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1515960" y="1195560"/>
              <a:ext cx="3292560" cy="25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1120680" y="3824280"/>
              <a:ext cx="3900600" cy="247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5353200" y="1943280"/>
              <a:ext cx="2692080" cy="1157040"/>
              <a:chOff x="5353200" y="1943280"/>
              <a:chExt cx="2692080" cy="1157040"/>
            </a:xfrm>
          </p:grpSpPr>
          <p:sp>
            <p:nvSpPr>
              <p:cNvPr id="169" name=""/>
              <p:cNvSpPr/>
              <p:nvPr/>
            </p:nvSpPr>
            <p:spPr>
              <a:xfrm>
                <a:off x="5462280" y="1990800"/>
                <a:ext cx="2471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Load supported by bolt and material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6095880" y="2657520"/>
                    <a:ext cx="1206000" cy="33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1" name=""/>
              <p:cNvSpPr/>
              <p:nvPr/>
            </p:nvSpPr>
            <p:spPr>
              <a:xfrm>
                <a:off x="5353200" y="1943280"/>
                <a:ext cx="2692080" cy="115704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353200" y="3257640"/>
              <a:ext cx="2692080" cy="1157040"/>
              <a:chOff x="5353200" y="3257640"/>
              <a:chExt cx="2692080" cy="1157040"/>
            </a:xfrm>
          </p:grpSpPr>
          <p:sp>
            <p:nvSpPr>
              <p:cNvPr id="173" name=""/>
              <p:cNvSpPr/>
              <p:nvPr/>
            </p:nvSpPr>
            <p:spPr>
              <a:xfrm>
                <a:off x="5462280" y="3379680"/>
                <a:ext cx="2471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Compressive load in the material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5564160" y="3951360"/>
                    <a:ext cx="2268000" cy="33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5" name=""/>
              <p:cNvSpPr/>
              <p:nvPr/>
            </p:nvSpPr>
            <p:spPr>
              <a:xfrm>
                <a:off x="5353200" y="3257640"/>
                <a:ext cx="2692080" cy="115704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53200" y="4562640"/>
              <a:ext cx="2692080" cy="833400"/>
              <a:chOff x="5353200" y="4562640"/>
              <a:chExt cx="2692080" cy="833400"/>
            </a:xfrm>
          </p:grpSpPr>
          <p:sp>
            <p:nvSpPr>
              <p:cNvPr id="177" name=""/>
              <p:cNvSpPr/>
              <p:nvPr/>
            </p:nvSpPr>
            <p:spPr>
              <a:xfrm>
                <a:off x="5462280" y="4618440"/>
                <a:ext cx="247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ensile load in the bolt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8" name=""/>
                  <p:cNvSpPr txBox="1"/>
                  <p:nvPr/>
                </p:nvSpPr>
                <p:spPr>
                  <a:xfrm>
                    <a:off x="6084720" y="4989960"/>
                    <a:ext cx="1226880" cy="33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9" name=""/>
              <p:cNvSpPr/>
              <p:nvPr/>
            </p:nvSpPr>
            <p:spPr>
              <a:xfrm>
                <a:off x="5353200" y="4562640"/>
                <a:ext cx="2692080" cy="8334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: </a:t>
            </a:r>
            <a:r>
              <a:rPr b="0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static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44480" y="1174680"/>
            <a:ext cx="7716600" cy="5205240"/>
            <a:chOff x="744480" y="1174680"/>
            <a:chExt cx="7716600" cy="5205240"/>
          </a:xfrm>
        </p:grpSpPr>
        <p:sp>
          <p:nvSpPr>
            <p:cNvPr id="182" name=""/>
            <p:cNvSpPr/>
            <p:nvPr/>
          </p:nvSpPr>
          <p:spPr>
            <a:xfrm>
              <a:off x="744480" y="1174680"/>
              <a:ext cx="7716600" cy="520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0440" y="1195200"/>
              <a:ext cx="730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Key calculations showing advantage of preloaded fastener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082520" y="1642680"/>
              <a:ext cx="6959520" cy="762120"/>
              <a:chOff x="1082520" y="1642680"/>
              <a:chExt cx="6959520" cy="762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1731960" y="1734840"/>
                <a:ext cx="5708520" cy="582840"/>
                <a:chOff x="1731960" y="1734840"/>
                <a:chExt cx="5708520" cy="5828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86" name=""/>
                    <p:cNvSpPr txBox="1"/>
                    <p:nvPr/>
                  </p:nvSpPr>
                  <p:spPr>
                    <a:xfrm>
                      <a:off x="4302000" y="1734840"/>
                      <a:ext cx="3138480" cy="582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Δδ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⇒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87" name=""/>
                <p:cNvSpPr/>
                <p:nvPr/>
              </p:nvSpPr>
              <p:spPr>
                <a:xfrm>
                  <a:off x="1731960" y="1833480"/>
                  <a:ext cx="2317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hange in deflection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1082520" y="1642680"/>
                <a:ext cx="6959520" cy="7621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199960" y="2728800"/>
              <a:ext cx="6132600" cy="1541520"/>
              <a:chOff x="2199960" y="2728800"/>
              <a:chExt cx="6132600" cy="1541520"/>
            </a:xfrm>
          </p:grpSpPr>
          <p:sp>
            <p:nvSpPr>
              <p:cNvPr id="190" name=""/>
              <p:cNvSpPr/>
              <p:nvPr/>
            </p:nvSpPr>
            <p:spPr>
              <a:xfrm>
                <a:off x="2330640" y="2898720"/>
                <a:ext cx="81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sin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3355560" y="2803320"/>
                    <a:ext cx="3827520" cy="58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2" name=""/>
              <p:cNvSpPr/>
              <p:nvPr/>
            </p:nvSpPr>
            <p:spPr>
              <a:xfrm>
                <a:off x="6209640" y="3535200"/>
                <a:ext cx="733680" cy="365040"/>
              </a:xfrm>
              <a:custGeom>
                <a:avLst/>
                <a:gdLst/>
                <a:ahLst/>
                <a:rect l="l" t="t" r="r" b="b"/>
                <a:pathLst>
                  <a:path w="327" h="218">
                    <a:moveTo>
                      <a:pt x="0" y="0"/>
                    </a:moveTo>
                    <a:cubicBezTo>
                      <a:pt x="43" y="63"/>
                      <a:pt x="86" y="126"/>
                      <a:pt x="115" y="134"/>
                    </a:cubicBezTo>
                    <a:cubicBezTo>
                      <a:pt x="144" y="142"/>
                      <a:pt x="138" y="37"/>
                      <a:pt x="173" y="51"/>
                    </a:cubicBezTo>
                    <a:cubicBezTo>
                      <a:pt x="208" y="65"/>
                      <a:pt x="303" y="190"/>
                      <a:pt x="327" y="21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38200" y="3446280"/>
                <a:ext cx="1494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Bolt suppor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fra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of total load !!!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199960" y="2728800"/>
                <a:ext cx="5149800" cy="690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080720" y="4573440"/>
              <a:ext cx="6922440" cy="1719360"/>
              <a:chOff x="1080720" y="4573440"/>
              <a:chExt cx="6922440" cy="1719360"/>
            </a:xfrm>
          </p:grpSpPr>
          <p:sp>
            <p:nvSpPr>
              <p:cNvPr id="196" name=""/>
              <p:cNvSpPr/>
              <p:nvPr/>
            </p:nvSpPr>
            <p:spPr>
              <a:xfrm>
                <a:off x="1246320" y="4813200"/>
                <a:ext cx="132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so, usin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7" name=""/>
                  <p:cNvSpPr txBox="1"/>
                  <p:nvPr/>
                </p:nvSpPr>
                <p:spPr>
                  <a:xfrm>
                    <a:off x="2590560" y="4725720"/>
                    <a:ext cx="4389480" cy="58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8" name=""/>
              <p:cNvSpPr/>
              <p:nvPr/>
            </p:nvSpPr>
            <p:spPr>
              <a:xfrm>
                <a:off x="5503680" y="5518080"/>
                <a:ext cx="733320" cy="395280"/>
              </a:xfrm>
              <a:custGeom>
                <a:avLst/>
                <a:gdLst/>
                <a:ahLst/>
                <a:rect l="l" t="t" r="r" b="b"/>
                <a:pathLst>
                  <a:path w="327" h="218">
                    <a:moveTo>
                      <a:pt x="0" y="0"/>
                    </a:moveTo>
                    <a:cubicBezTo>
                      <a:pt x="43" y="63"/>
                      <a:pt x="86" y="126"/>
                      <a:pt x="115" y="134"/>
                    </a:cubicBezTo>
                    <a:cubicBezTo>
                      <a:pt x="144" y="142"/>
                      <a:pt x="138" y="37"/>
                      <a:pt x="173" y="51"/>
                    </a:cubicBezTo>
                    <a:cubicBezTo>
                      <a:pt x="208" y="65"/>
                      <a:pt x="303" y="190"/>
                      <a:pt x="327" y="21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26920" y="5468760"/>
                <a:ext cx="1776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Material suppor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m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of total load !!!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80720" y="4573440"/>
                <a:ext cx="6075360" cy="83160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: </a:t>
            </a:r>
            <a:r>
              <a:rPr b="0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static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195560" y="1336680"/>
            <a:ext cx="6771960" cy="4994280"/>
            <a:chOff x="1195560" y="1336680"/>
            <a:chExt cx="6771960" cy="4994280"/>
          </a:xfrm>
        </p:grpSpPr>
        <p:sp>
          <p:nvSpPr>
            <p:cNvPr id="203" name=""/>
            <p:cNvSpPr/>
            <p:nvPr/>
          </p:nvSpPr>
          <p:spPr>
            <a:xfrm>
              <a:off x="1195560" y="1336680"/>
              <a:ext cx="6771960" cy="499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92040" y="1397160"/>
              <a:ext cx="657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Key calculations showing advantage of preloaded fastener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795320" y="1844640"/>
              <a:ext cx="5557320" cy="762120"/>
              <a:chOff x="1795320" y="1844640"/>
              <a:chExt cx="5557320" cy="762120"/>
            </a:xfrm>
          </p:grpSpPr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11160" y="2051280"/>
                    <a:ext cx="1891800" cy="35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7" name=""/>
              <p:cNvSpPr/>
              <p:nvPr/>
            </p:nvSpPr>
            <p:spPr>
              <a:xfrm>
                <a:off x="2417400" y="203544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aterial load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95320" y="1844640"/>
                <a:ext cx="5557320" cy="7621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795320" y="3036960"/>
              <a:ext cx="3374640" cy="762120"/>
              <a:chOff x="1795320" y="3036960"/>
              <a:chExt cx="3374640" cy="76212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2010960" y="3227400"/>
                <a:ext cx="2961360" cy="368280"/>
                <a:chOff x="2010960" y="3227400"/>
                <a:chExt cx="2961360" cy="3682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11" name=""/>
                    <p:cNvSpPr txBox="1"/>
                    <p:nvPr/>
                  </p:nvSpPr>
                  <p:spPr>
                    <a:xfrm>
                      <a:off x="3643920" y="3252960"/>
                      <a:ext cx="1328400" cy="333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C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12" name=""/>
                <p:cNvSpPr/>
                <p:nvPr/>
              </p:nvSpPr>
              <p:spPr>
                <a:xfrm>
                  <a:off x="2010960" y="3227400"/>
                  <a:ext cx="1148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olt load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95320" y="3036960"/>
                <a:ext cx="3374640" cy="7621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795320" y="4259520"/>
              <a:ext cx="5547960" cy="761760"/>
              <a:chOff x="1795320" y="4259520"/>
              <a:chExt cx="5547960" cy="761760"/>
            </a:xfrm>
          </p:grpSpPr>
          <mc:AlternateContent>
            <mc:Choice xmlns:a14="http://schemas.microsoft.com/office/drawing/2010/main" Requires="a14">
              <p:sp>
                <p:nvSpPr>
                  <p:cNvPr id="215" name=""/>
                  <p:cNvSpPr txBox="1"/>
                  <p:nvPr/>
                </p:nvSpPr>
                <p:spPr>
                  <a:xfrm>
                    <a:off x="5168160" y="4351320"/>
                    <a:ext cx="1080720" cy="56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6" name=""/>
              <p:cNvSpPr/>
              <p:nvPr/>
            </p:nvSpPr>
            <p:spPr>
              <a:xfrm>
                <a:off x="2213640" y="4307040"/>
                <a:ext cx="2300760" cy="69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Joint separation lo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(set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000" spc="-1" strike="noStrike" baseline="-16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 0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)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95320" y="4259520"/>
                <a:ext cx="5547960" cy="7617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795320" y="5335560"/>
              <a:ext cx="5547960" cy="762120"/>
              <a:chOff x="1795320" y="5335560"/>
              <a:chExt cx="5547960" cy="762120"/>
            </a:xfrm>
          </p:grpSpPr>
          <mc:AlternateContent>
            <mc:Choice xmlns:a14="http://schemas.microsoft.com/office/drawing/2010/main" Requires="a14">
              <p:sp>
                <p:nvSpPr>
                  <p:cNvPr id="219" name=""/>
                  <p:cNvSpPr txBox="1"/>
                  <p:nvPr/>
                </p:nvSpPr>
                <p:spPr>
                  <a:xfrm>
                    <a:off x="4549320" y="5405400"/>
                    <a:ext cx="26618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paratio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0" name=""/>
              <p:cNvSpPr/>
              <p:nvPr/>
            </p:nvSpPr>
            <p:spPr>
              <a:xfrm>
                <a:off x="1951560" y="5383080"/>
                <a:ext cx="233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Safety factor agains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joint separation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95320" y="5335560"/>
                <a:ext cx="5547960" cy="7621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512960" y="2878200"/>
              <a:ext cx="3200040" cy="671400"/>
              <a:chOff x="4512960" y="2878200"/>
              <a:chExt cx="3200040" cy="67140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4512960" y="3059280"/>
                <a:ext cx="1258560" cy="216000"/>
              </a:xfrm>
              <a:custGeom>
                <a:avLst/>
                <a:gdLst/>
                <a:ahLst/>
                <a:rect l="l" t="t" r="r" b="b"/>
                <a:pathLst>
                  <a:path w="327" h="218">
                    <a:moveTo>
                      <a:pt x="0" y="0"/>
                    </a:moveTo>
                    <a:cubicBezTo>
                      <a:pt x="43" y="63"/>
                      <a:pt x="86" y="126"/>
                      <a:pt x="115" y="134"/>
                    </a:cubicBezTo>
                    <a:cubicBezTo>
                      <a:pt x="144" y="142"/>
                      <a:pt x="138" y="37"/>
                      <a:pt x="173" y="51"/>
                    </a:cubicBezTo>
                    <a:cubicBezTo>
                      <a:pt x="208" y="65"/>
                      <a:pt x="303" y="190"/>
                      <a:pt x="327" y="21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20400" y="2878200"/>
                <a:ext cx="19926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Comic Sans MS"/>
                  </a:rPr>
                  <a:t>Solve to determ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Comic Sans MS"/>
                  </a:rPr>
                  <a:t>optimal pre-load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000" spc="-1" strike="noStrike" baseline="-20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1640" y="1117440"/>
            <a:ext cx="8290080" cy="540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Fastener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2800" y="1135080"/>
            <a:ext cx="2019240" cy="3014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1520" y="4143240"/>
            <a:ext cx="1622160" cy="2318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986200" y="1976400"/>
            <a:ext cx="5065560" cy="224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06760" y="1195560"/>
            <a:ext cx="58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United National Standard (UNS) and ISO threa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(UNC - coarse thread; UNF - fine thread; see Table 14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467240" y="4800600"/>
                <a:ext cx="181296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 UNC-2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927880" y="440208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pecification (exampl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09840" y="4329000"/>
            <a:ext cx="6218280" cy="19321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462040" y="5037120"/>
            <a:ext cx="1971720" cy="442080"/>
            <a:chOff x="2462040" y="5037120"/>
            <a:chExt cx="1971720" cy="442080"/>
          </a:xfrm>
        </p:grpSpPr>
        <p:sp>
          <p:nvSpPr>
            <p:cNvPr id="60" name=""/>
            <p:cNvSpPr/>
            <p:nvPr/>
          </p:nvSpPr>
          <p:spPr>
            <a:xfrm>
              <a:off x="2462040" y="5172120"/>
              <a:ext cx="160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1/4” diameter,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63800" y="5037120"/>
              <a:ext cx="669960" cy="150840"/>
            </a:xfrm>
            <a:custGeom>
              <a:avLst/>
              <a:gdLst/>
              <a:ahLst/>
              <a:rect l="l" t="t" r="r" b="b"/>
              <a:pathLst>
                <a:path w="422" h="95">
                  <a:moveTo>
                    <a:pt x="0" y="73"/>
                  </a:moveTo>
                  <a:cubicBezTo>
                    <a:pt x="88" y="36"/>
                    <a:pt x="176" y="0"/>
                    <a:pt x="217" y="3"/>
                  </a:cubicBezTo>
                  <a:cubicBezTo>
                    <a:pt x="258" y="6"/>
                    <a:pt x="215" y="89"/>
                    <a:pt x="249" y="92"/>
                  </a:cubicBezTo>
                  <a:cubicBezTo>
                    <a:pt x="283" y="95"/>
                    <a:pt x="395" y="34"/>
                    <a:pt x="422" y="2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603600" y="5081760"/>
            <a:ext cx="1608120" cy="1119600"/>
            <a:chOff x="3603600" y="5081760"/>
            <a:chExt cx="1608120" cy="1119600"/>
          </a:xfrm>
        </p:grpSpPr>
        <p:sp>
          <p:nvSpPr>
            <p:cNvPr id="63" name=""/>
            <p:cNvSpPr/>
            <p:nvPr/>
          </p:nvSpPr>
          <p:spPr>
            <a:xfrm>
              <a:off x="3603600" y="5635800"/>
              <a:ext cx="160812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2- threads per inch (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600" spc="-1" strike="noStrike" baseline="-16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74960" y="5081760"/>
              <a:ext cx="426960" cy="528480"/>
            </a:xfrm>
            <a:custGeom>
              <a:avLst/>
              <a:gdLst/>
              <a:ahLst/>
              <a:rect l="l" t="t" r="r" b="b"/>
              <a:pathLst>
                <a:path w="269" h="333">
                  <a:moveTo>
                    <a:pt x="0" y="333"/>
                  </a:moveTo>
                  <a:cubicBezTo>
                    <a:pt x="43" y="234"/>
                    <a:pt x="86" y="135"/>
                    <a:pt x="116" y="109"/>
                  </a:cubicBezTo>
                  <a:cubicBezTo>
                    <a:pt x="146" y="83"/>
                    <a:pt x="155" y="197"/>
                    <a:pt x="180" y="179"/>
                  </a:cubicBezTo>
                  <a:cubicBezTo>
                    <a:pt x="205" y="161"/>
                    <a:pt x="255" y="29"/>
                    <a:pt x="269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214960" y="5049720"/>
            <a:ext cx="1658880" cy="808560"/>
            <a:chOff x="5214960" y="5049720"/>
            <a:chExt cx="1658880" cy="808560"/>
          </a:xfrm>
        </p:grpSpPr>
        <p:sp>
          <p:nvSpPr>
            <p:cNvPr id="66" name=""/>
            <p:cNvSpPr/>
            <p:nvPr/>
          </p:nvSpPr>
          <p:spPr>
            <a:xfrm>
              <a:off x="5214960" y="5551200"/>
              <a:ext cx="165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Coarse se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5507640" y="5049720"/>
              <a:ext cx="314280" cy="528480"/>
            </a:xfrm>
            <a:custGeom>
              <a:avLst/>
              <a:gdLst/>
              <a:ahLst/>
              <a:rect l="l" t="t" r="r" b="b"/>
              <a:pathLst>
                <a:path w="269" h="333">
                  <a:moveTo>
                    <a:pt x="0" y="333"/>
                  </a:moveTo>
                  <a:cubicBezTo>
                    <a:pt x="43" y="234"/>
                    <a:pt x="86" y="135"/>
                    <a:pt x="116" y="109"/>
                  </a:cubicBezTo>
                  <a:cubicBezTo>
                    <a:pt x="146" y="83"/>
                    <a:pt x="155" y="197"/>
                    <a:pt x="180" y="179"/>
                  </a:cubicBezTo>
                  <a:cubicBezTo>
                    <a:pt x="205" y="161"/>
                    <a:pt x="255" y="29"/>
                    <a:pt x="269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11440" y="5057640"/>
            <a:ext cx="2340360" cy="421200"/>
            <a:chOff x="6211440" y="5057640"/>
            <a:chExt cx="2340360" cy="421200"/>
          </a:xfrm>
        </p:grpSpPr>
        <p:sp>
          <p:nvSpPr>
            <p:cNvPr id="69" name=""/>
            <p:cNvSpPr/>
            <p:nvPr/>
          </p:nvSpPr>
          <p:spPr>
            <a:xfrm>
              <a:off x="6648480" y="517176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Class 2-fit, exter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211080" y="5057640"/>
              <a:ext cx="630360" cy="120600"/>
            </a:xfrm>
            <a:custGeom>
              <a:avLst/>
              <a:gdLst/>
              <a:ahLst/>
              <a:rect l="l" t="t" r="r" b="b"/>
              <a:pathLst>
                <a:path w="422" h="95">
                  <a:moveTo>
                    <a:pt x="0" y="73"/>
                  </a:moveTo>
                  <a:cubicBezTo>
                    <a:pt x="88" y="36"/>
                    <a:pt x="176" y="0"/>
                    <a:pt x="217" y="3"/>
                  </a:cubicBezTo>
                  <a:cubicBezTo>
                    <a:pt x="258" y="6"/>
                    <a:pt x="215" y="89"/>
                    <a:pt x="249" y="92"/>
                  </a:cubicBezTo>
                  <a:cubicBezTo>
                    <a:pt x="283" y="95"/>
                    <a:pt x="395" y="34"/>
                    <a:pt x="422" y="2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25640" y="1074600"/>
            <a:ext cx="7375320" cy="5245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Tensile stress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82680" y="3936960"/>
            <a:ext cx="5065920" cy="224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865760" y="1257480"/>
                <a:ext cx="1755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1568160" y="147780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ensile stress area (definition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5760" y="204156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UNS threa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321000" y="2044800"/>
                <a:ext cx="21034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64951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829480" y="2046240"/>
                <a:ext cx="20444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99038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589040" y="24796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SO threa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06680" y="2482920"/>
                <a:ext cx="1930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9519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905440" y="2475000"/>
                <a:ext cx="1890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869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" name=""/>
          <p:cNvGrpSpPr/>
          <p:nvPr/>
        </p:nvGrpSpPr>
        <p:grpSpPr>
          <a:xfrm>
            <a:off x="1576080" y="2992320"/>
            <a:ext cx="2429280" cy="522360"/>
            <a:chOff x="1576080" y="2992320"/>
            <a:chExt cx="2429280" cy="522360"/>
          </a:xfrm>
        </p:grpSpPr>
        <p:sp>
          <p:nvSpPr>
            <p:cNvPr id="83" name=""/>
            <p:cNvSpPr/>
            <p:nvPr/>
          </p:nvSpPr>
          <p:spPr>
            <a:xfrm>
              <a:off x="1576080" y="3075120"/>
              <a:ext cx="14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Comic Sans MS"/>
                </a:rPr>
                <a:t>Tensile stress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3233880" y="2992320"/>
                  <a:ext cx="77148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" name=""/>
          <p:cNvGrpSpPr/>
          <p:nvPr/>
        </p:nvGrpSpPr>
        <p:grpSpPr>
          <a:xfrm>
            <a:off x="4688280" y="3002040"/>
            <a:ext cx="3115800" cy="563400"/>
            <a:chOff x="4688280" y="3002040"/>
            <a:chExt cx="3115800" cy="563400"/>
          </a:xfrm>
        </p:grpSpPr>
        <p:sp>
          <p:nvSpPr>
            <p:cNvPr id="86" name=""/>
            <p:cNvSpPr/>
            <p:nvPr/>
          </p:nvSpPr>
          <p:spPr>
            <a:xfrm>
              <a:off x="4688280" y="3076560"/>
              <a:ext cx="168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Comic Sans MS"/>
                </a:rPr>
                <a:t>Torsional stress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496200" y="3002040"/>
                  <a:ext cx="130788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T</m:t>
                          </m:r>
                        </m:num>
                        <m:den>
                          <m:sSubSup>
                            <m:e>
                              <m:r>
                                <m:t xml:space="preserve">π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1280" y="905040"/>
            <a:ext cx="8561520" cy="561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ower screw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4720" y="1227240"/>
            <a:ext cx="1879560" cy="468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82840" y="936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Power-screw j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97400" y="104760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ypical power-screw thr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822400" y="1441440"/>
            <a:ext cx="5878800" cy="23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114800" y="4014720"/>
            <a:ext cx="32925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Strength of standard bolts and machine scre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73080" y="3478320"/>
            <a:ext cx="5607000" cy="3254400"/>
            <a:chOff x="973080" y="3478320"/>
            <a:chExt cx="5607000" cy="3254400"/>
          </a:xfrm>
        </p:grpSpPr>
        <p:sp>
          <p:nvSpPr>
            <p:cNvPr id="97" name=""/>
            <p:cNvSpPr/>
            <p:nvPr/>
          </p:nvSpPr>
          <p:spPr>
            <a:xfrm>
              <a:off x="973080" y="3478320"/>
              <a:ext cx="5607000" cy="325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rcRect l="0" t="3051" r="0" b="0"/>
            <a:stretch/>
          </p:blipFill>
          <p:spPr>
            <a:xfrm>
              <a:off x="1133280" y="3494160"/>
              <a:ext cx="5365800" cy="317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7164360" y="903240"/>
            <a:ext cx="1657440" cy="5824440"/>
            <a:chOff x="7164360" y="903240"/>
            <a:chExt cx="1657440" cy="5824440"/>
          </a:xfrm>
        </p:grpSpPr>
        <p:sp>
          <p:nvSpPr>
            <p:cNvPr id="100" name=""/>
            <p:cNvSpPr/>
            <p:nvPr/>
          </p:nvSpPr>
          <p:spPr>
            <a:xfrm>
              <a:off x="7164360" y="903240"/>
              <a:ext cx="1657440" cy="582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7326360" y="946080"/>
              <a:ext cx="1316160" cy="575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355680" y="933480"/>
            <a:ext cx="7049880" cy="2475000"/>
            <a:chOff x="355680" y="933480"/>
            <a:chExt cx="7049880" cy="2475000"/>
          </a:xfrm>
        </p:grpSpPr>
        <p:grpSp>
          <p:nvGrpSpPr>
            <p:cNvPr id="103" name=""/>
            <p:cNvGrpSpPr/>
            <p:nvPr/>
          </p:nvGrpSpPr>
          <p:grpSpPr>
            <a:xfrm>
              <a:off x="355680" y="933480"/>
              <a:ext cx="6689520" cy="2475000"/>
              <a:chOff x="355680" y="933480"/>
              <a:chExt cx="6689520" cy="2475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55680" y="933480"/>
                <a:ext cx="6689520" cy="2475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53920" y="1336680"/>
                <a:ext cx="5490720" cy="195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446040" y="957240"/>
                <a:ext cx="6008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rain structure of cut and rolled threads (stress concentrations; cracks; et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502240" y="1251000"/>
              <a:ext cx="1903320" cy="590040"/>
              <a:chOff x="5502240" y="1251000"/>
              <a:chExt cx="1903320" cy="590040"/>
            </a:xfrm>
          </p:grpSpPr>
          <p:sp>
            <p:nvSpPr>
              <p:cNvPr id="108" name=""/>
              <p:cNvSpPr/>
              <p:nvPr/>
            </p:nvSpPr>
            <p:spPr>
              <a:xfrm>
                <a:off x="5502240" y="1251000"/>
                <a:ext cx="190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rain follows </a:t>
                </a:r>
                <a:br>
                  <a:rPr sz="1200"/>
                </a:br>
                <a:r>
                  <a:rPr b="0" i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ont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5837040" y="1706400"/>
                <a:ext cx="619200" cy="134640"/>
              </a:xfrm>
              <a:custGeom>
                <a:avLst/>
                <a:gdLst/>
                <a:ahLst/>
                <a:rect l="l" t="t" r="r" b="b"/>
                <a:pathLst>
                  <a:path w="422" h="95">
                    <a:moveTo>
                      <a:pt x="0" y="73"/>
                    </a:moveTo>
                    <a:cubicBezTo>
                      <a:pt x="88" y="36"/>
                      <a:pt x="176" y="0"/>
                      <a:pt x="217" y="3"/>
                    </a:cubicBezTo>
                    <a:cubicBezTo>
                      <a:pt x="258" y="6"/>
                      <a:pt x="215" y="89"/>
                      <a:pt x="249" y="92"/>
                    </a:cubicBezTo>
                    <a:cubicBezTo>
                      <a:pt x="283" y="95"/>
                      <a:pt x="395" y="34"/>
                      <a:pt x="422" y="2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05040" y="1476360"/>
            <a:ext cx="7273800" cy="4351320"/>
            <a:chOff x="905040" y="1476360"/>
            <a:chExt cx="7273800" cy="4351320"/>
          </a:xfrm>
        </p:grpSpPr>
        <p:sp>
          <p:nvSpPr>
            <p:cNvPr id="112" name=""/>
            <p:cNvSpPr/>
            <p:nvPr/>
          </p:nvSpPr>
          <p:spPr>
            <a:xfrm>
              <a:off x="905040" y="1476360"/>
              <a:ext cx="7273800" cy="435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146240" y="2209680"/>
              <a:ext cx="68515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128680" y="1506600"/>
              <a:ext cx="511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Bolted assembly in tension: nomencl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849320" y="3924360"/>
              <a:ext cx="1608120" cy="1818360"/>
              <a:chOff x="1849320" y="3924360"/>
              <a:chExt cx="1608120" cy="1818360"/>
            </a:xfrm>
          </p:grpSpPr>
          <p:sp>
            <p:nvSpPr>
              <p:cNvPr id="116" name=""/>
              <p:cNvSpPr/>
              <p:nvPr/>
            </p:nvSpPr>
            <p:spPr>
              <a:xfrm>
                <a:off x="1849320" y="5435640"/>
                <a:ext cx="160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Comic Sans MS"/>
                  </a:rPr>
                  <a:t>Clamped mater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97040" y="3924360"/>
                <a:ext cx="309600" cy="1539720"/>
              </a:xfrm>
              <a:custGeom>
                <a:avLst/>
                <a:gdLst/>
                <a:ahLst/>
                <a:rect l="l" t="t" r="r" b="b"/>
                <a:pathLst>
                  <a:path w="195" h="970">
                    <a:moveTo>
                      <a:pt x="195" y="10"/>
                    </a:moveTo>
                    <a:cubicBezTo>
                      <a:pt x="195" y="5"/>
                      <a:pt x="195" y="0"/>
                      <a:pt x="163" y="93"/>
                    </a:cubicBezTo>
                    <a:cubicBezTo>
                      <a:pt x="131" y="186"/>
                      <a:pt x="0" y="499"/>
                      <a:pt x="3" y="567"/>
                    </a:cubicBezTo>
                    <a:cubicBezTo>
                      <a:pt x="6" y="635"/>
                      <a:pt x="176" y="436"/>
                      <a:pt x="182" y="503"/>
                    </a:cubicBezTo>
                    <a:cubicBezTo>
                      <a:pt x="188" y="570"/>
                      <a:pt x="54" y="899"/>
                      <a:pt x="41" y="97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0320" y="1185840"/>
            <a:ext cx="8893080" cy="4038480"/>
            <a:chOff x="130320" y="1185840"/>
            <a:chExt cx="8893080" cy="4038480"/>
          </a:xfrm>
        </p:grpSpPr>
        <p:sp>
          <p:nvSpPr>
            <p:cNvPr id="120" name=""/>
            <p:cNvSpPr/>
            <p:nvPr/>
          </p:nvSpPr>
          <p:spPr>
            <a:xfrm>
              <a:off x="130320" y="1185840"/>
              <a:ext cx="8893080" cy="40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192240" y="2111400"/>
              <a:ext cx="8778600" cy="30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57080" y="1303200"/>
              <a:ext cx="76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Preloading a bolted assembly: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Comic Sans MS"/>
                </a:rPr>
                <a:t>note that clamped material is modeled as a spring in com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61960" y="95400"/>
            <a:ext cx="7296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14520" y="1095480"/>
            <a:ext cx="3225600" cy="5526000"/>
            <a:chOff x="614520" y="1095480"/>
            <a:chExt cx="3225600" cy="5526000"/>
          </a:xfrm>
        </p:grpSpPr>
        <p:sp>
          <p:nvSpPr>
            <p:cNvPr id="125" name=""/>
            <p:cNvSpPr/>
            <p:nvPr/>
          </p:nvSpPr>
          <p:spPr>
            <a:xfrm>
              <a:off x="614520" y="1095480"/>
              <a:ext cx="3225600" cy="552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068480" y="1738440"/>
              <a:ext cx="220932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69960" y="1148040"/>
              <a:ext cx="30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mic Sans MS"/>
                </a:rPr>
                <a:t>Preloaded bolt compres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mic Sans MS"/>
                </a:rPr>
                <a:t>a cyli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089240" y="2028960"/>
            <a:ext cx="4757760" cy="3244680"/>
            <a:chOff x="4089240" y="2028960"/>
            <a:chExt cx="4757760" cy="3244680"/>
          </a:xfrm>
        </p:grpSpPr>
        <p:sp>
          <p:nvSpPr>
            <p:cNvPr id="129" name=""/>
            <p:cNvSpPr/>
            <p:nvPr/>
          </p:nvSpPr>
          <p:spPr>
            <a:xfrm>
              <a:off x="4089240" y="2028960"/>
              <a:ext cx="4702320" cy="324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4276440" y="2097000"/>
              <a:ext cx="2119320" cy="302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"/>
            <p:cNvGrpSpPr/>
            <p:nvPr/>
          </p:nvGrpSpPr>
          <p:grpSpPr>
            <a:xfrm>
              <a:off x="5817960" y="3181320"/>
              <a:ext cx="3029040" cy="1440000"/>
              <a:chOff x="5817960" y="3181320"/>
              <a:chExt cx="3029040" cy="144000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5817960" y="3181320"/>
                    <a:ext cx="289080" cy="144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/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/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/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/>
                              <m:e/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3" name=""/>
              <p:cNvSpPr/>
              <p:nvPr/>
            </p:nvSpPr>
            <p:spPr>
              <a:xfrm>
                <a:off x="5984640" y="3610080"/>
                <a:ext cx="2862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Length of thread = </a:t>
                </a:r>
                <a:r>
                  <a:rPr b="1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tw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 u="sng">
                    <a:solidFill>
                      <a:srgbClr val="ff0000"/>
                    </a:solidFill>
                    <a:uFillTx/>
                    <a:latin typeface="Comic Sans MS"/>
                  </a:rPr>
                  <a:t>bolt diameter + 1/4 in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3759120"/>
            <a:ext cx="7586640" cy="1677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720" y="1225440"/>
            <a:ext cx="7586640" cy="243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954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rews and fa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cc"/>
                </a:solidFill>
                <a:uFillTx/>
                <a:latin typeface="Comic Sans MS"/>
              </a:rPr>
              <a:t>Preloaded fasteners in 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7240" y="1243080"/>
            <a:ext cx="63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call the spring constant for a bar in ten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85120" y="19591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flection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005360" y="1838160"/>
                <a:ext cx="2682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072880" y="28386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quivalent spring constan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38960" y="2757600"/>
                <a:ext cx="1581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1830240" y="1671480"/>
            <a:ext cx="5772240" cy="186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7240" y="3805200"/>
            <a:ext cx="77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call the spring constant for different stiffness se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80120" y="4540320"/>
            <a:ext cx="29527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otal spring constan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 baseline="-14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946760" y="4432320"/>
                <a:ext cx="2635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403280" y="4276800"/>
            <a:ext cx="6626160" cy="993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43520" y="5638680"/>
            <a:ext cx="3608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7000"/>
              </a:lnSpc>
              <a:spcBef>
                <a:spcPts val="10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Note bad font above  … =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>Fasteners: make sure to highlight importance of pre-loading of bolts/fasteners</dc:description>
  <dc:language>en-US</dc:language>
  <cp:lastModifiedBy>R. L. Norton</cp:lastModifiedBy>
  <cp:lastPrinted>2005-03-01T15:28:34Z</cp:lastPrinted>
  <dcterms:modified xsi:type="dcterms:W3CDTF">2006-01-06T03:31:47Z</dcterms:modified>
  <cp:revision>672</cp:revision>
  <dc:subject/>
  <dc:title>Lect2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