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CE5D-833E-49C1-B698-4E0E61FC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7191-DAFD-4945-AC7E-DC31A94D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2585-1540-4867-8B66-469E5215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86E8-BCD7-4906-85ED-5FD79EB9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7F20-A599-4D75-BA21-B2A16681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E77-2EF4-47B0-9ECE-994D4D0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C98-DD3F-448A-85B0-25DD50F9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ACB-B3C0-4058-AD20-3618DDCB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AA2-2488-4D0F-B5E5-6CE1C7A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EFFE-7B54-42D5-9428-8D2E8899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FAB-D220-4326-AF8A-DED4A8E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6D83-35F0-4AF6-B2FB-9875943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75E-89CF-4ADE-8A2A-B2F1BA4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BA1-D459-4604-9D8B-ECB6DEA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8DE0-A8F3-486F-B557-AFC98A52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83EA-67CE-4D2D-9746-07D15904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263-383A-46CA-B1E5-F729032A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62FF-53AD-4BF5-8635-D8CFCD8B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FCC0-3264-4F1C-9AB5-89A0567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FD90-2E41-42CB-93C9-74FD2AE2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FD0A-58A2-4A4A-9861-6E028E9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4199-0689-4121-9175-305C6FC1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2845-E40B-4B80-B2DA-EF4AA4C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B8B6-D54F-48DC-B099-F2BA54C0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3997-2389-486A-B0BE-74CB545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F69B-F598-4D8D-B925-2DF85F53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223B-E6C7-4FF2-A3A9-2B539FE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7319-670B-4204-B4F8-8FB7848A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CFB5-1B50-4241-B860-B1724D0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A44D-E0D9-4201-9D97-D3C92713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A400-2DCD-4174-A127-D97F8C5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544A-CB12-41DD-8239-F2AAA8B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A31F-846D-477B-9016-54BD3BC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1230-DB5E-4079-8439-B94253E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240D-FF31-4E02-BCC5-7C88ECF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9BF9-63BF-4177-96B8-F6442A4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B1D-F8B9-4AC0-BB89-788801898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4C1-59DF-4574-B01B-B8C0606DA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801-E270-4B52-8770-2F046353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ress Analysis Review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cture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:  Sects 4.0-4.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1828800"/>
            <a:ext cx="7848360" cy="380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hea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55800" y="2063880"/>
            <a:ext cx="76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hear stresses can be found from valu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of the principal normal stresses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673440" y="2744640"/>
                <a:ext cx="15238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660840" y="3621240"/>
                <a:ext cx="15494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649680" y="4599000"/>
                <a:ext cx="15717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2209680"/>
            <a:ext cx="7467480" cy="388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rmal and shea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D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670120" y="3348000"/>
                <a:ext cx="671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3320" y="3059280"/>
            <a:ext cx="3591000" cy="981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60360" y="261792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ncipal normal stres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113360" y="4578480"/>
            <a:ext cx="2124000" cy="99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63960" y="4929120"/>
                <a:ext cx="984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260360" y="4141800"/>
            <a:ext cx="30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ximum shear str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1523880"/>
            <a:ext cx="76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use these equations extens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429000" y="152280"/>
            <a:ext cx="49528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2590920"/>
            <a:ext cx="7619760" cy="388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971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tructing Mohr’s Circl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6781680" cy="2583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4986360" cy="852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095880" y="304920"/>
            <a:ext cx="1982880" cy="2084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rcRect l="0" t="0" r="0" b="51284"/>
          <a:stretch/>
        </p:blipFill>
        <p:spPr>
          <a:xfrm>
            <a:off x="3809880" y="609480"/>
            <a:ext cx="1600200" cy="1327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90920" y="4038480"/>
            <a:ext cx="24382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5030640"/>
            <a:ext cx="0" cy="6098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5029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168720" y="4420800"/>
            <a:ext cx="0" cy="6094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3080" y="388620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83080" y="5029200"/>
            <a:ext cx="8413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00400" y="5030640"/>
            <a:ext cx="38088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581280"/>
            <a:ext cx="26668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1295280"/>
            <a:ext cx="784872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eed Three Mohr’s Circ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 get correct max shear stres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0" r="0" b="51284"/>
          <a:stretch/>
        </p:blipFill>
        <p:spPr>
          <a:xfrm>
            <a:off x="990720" y="1523880"/>
            <a:ext cx="1744560" cy="1447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019840" cy="784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280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grams to Find Principal Stress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hr.ex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ess 3D.tk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on your C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Mech Movi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Really Neat Way to Visualize Stress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s an “Amazing Stress Camera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monstration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DSOLIDS 3.1 on windows.wpi.edu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828800" y="1371600"/>
            <a:ext cx="59436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hr’s circle: principal normal and shear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phical representation of previous equations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057400" y="1523880"/>
            <a:ext cx="5319720" cy="4891320"/>
            <a:chOff x="2057400" y="1523880"/>
            <a:chExt cx="5319720" cy="48913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2057400" y="1523880"/>
              <a:ext cx="531972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47920" y="6138720"/>
              <a:ext cx="332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</a:rPr>
                <a:t>From Boresi: Mechanics of materi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52480" y="1523880"/>
            <a:ext cx="5791320" cy="449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hr’s circle: principal normal and shear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phical representation of previous equations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173320" y="1846440"/>
            <a:ext cx="4962600" cy="374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473720" y="5540400"/>
                <a:ext cx="537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22680" y="2665440"/>
                <a:ext cx="560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081760" y="3395520"/>
                <a:ext cx="2458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7080" y="1370160"/>
            <a:ext cx="6937200" cy="495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at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axial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81200" y="2930400"/>
            <a:ext cx="6611760" cy="3276720"/>
            <a:chOff x="1681200" y="2930400"/>
            <a:chExt cx="6611760" cy="32767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681200" y="2930400"/>
              <a:ext cx="509112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775560" y="4330800"/>
              <a:ext cx="151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tress cube for uniaxial stress load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0760" y="2932200"/>
              <a:ext cx="151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Se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82640" y="1468440"/>
            <a:ext cx="4784760" cy="1352520"/>
            <a:chOff x="1682640" y="1468440"/>
            <a:chExt cx="4784760" cy="135252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1682640" y="1592280"/>
              <a:ext cx="47847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654280" y="1468440"/>
              <a:ext cx="18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Uniaxial lo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1371600"/>
            <a:ext cx="6705360" cy="441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at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load case.  Stress cube in 2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16600" y="1641600"/>
            <a:ext cx="233820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208400" y="4282920"/>
            <a:ext cx="3956040" cy="1447920"/>
            <a:chOff x="4208400" y="4282920"/>
            <a:chExt cx="3956040" cy="1447920"/>
          </a:xfrm>
        </p:grpSpPr>
        <p:sp>
          <p:nvSpPr>
            <p:cNvPr id="156" name=""/>
            <p:cNvSpPr/>
            <p:nvPr/>
          </p:nvSpPr>
          <p:spPr>
            <a:xfrm>
              <a:off x="4208400" y="4282920"/>
              <a:ext cx="39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quilibrium conditions require th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589720" y="4861080"/>
              <a:ext cx="11919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08400" y="5364000"/>
              <a:ext cx="3956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14600" y="1496880"/>
            <a:ext cx="2340000" cy="3853080"/>
            <a:chOff x="1614600" y="1496880"/>
            <a:chExt cx="2340000" cy="385308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1614600" y="1496880"/>
              <a:ext cx="2340000" cy="38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90920" y="1503360"/>
              <a:ext cx="133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2D projection: x-y pla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1600200"/>
            <a:ext cx="6781680" cy="411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59080" y="1787400"/>
            <a:ext cx="3660480" cy="3231360"/>
            <a:chOff x="1459080" y="1787400"/>
            <a:chExt cx="3660480" cy="32313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657440" y="1859040"/>
              <a:ext cx="346212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40160" y="3968640"/>
              <a:ext cx="225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677600" y="3975120"/>
              <a:ext cx="855720" cy="8064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538000" y="1941120"/>
              <a:ext cx="1800" cy="20271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7440" y="3943440"/>
              <a:ext cx="29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28760" y="1787400"/>
              <a:ext cx="29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59080" y="4681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at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 load case.  Stress cube in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78640" y="1978200"/>
            <a:ext cx="2576520" cy="3384360"/>
            <a:chOff x="5678640" y="1978200"/>
            <a:chExt cx="2576520" cy="3384360"/>
          </a:xfrm>
        </p:grpSpPr>
        <p:sp>
          <p:nvSpPr>
            <p:cNvPr id="173" name=""/>
            <p:cNvSpPr/>
            <p:nvPr/>
          </p:nvSpPr>
          <p:spPr>
            <a:xfrm>
              <a:off x="5678640" y="1978200"/>
              <a:ext cx="2576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here are 9 components of stres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quilibrium conditions are used to reduce the number of stress components to 6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124680" y="4000680"/>
              <a:ext cx="112536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447920"/>
            <a:ext cx="7772400" cy="441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ten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chy stress ten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1600200"/>
                <a:ext cx="21384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751280" y="1589040"/>
            <a:ext cx="240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nsors are quantities that ar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varia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o coordinate transform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66880" y="3259080"/>
            <a:ext cx="74102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1371600"/>
            <a:ext cx="792504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84720" y="2357280"/>
            <a:ext cx="2517840" cy="2880000"/>
            <a:chOff x="4284720" y="2357280"/>
            <a:chExt cx="2517840" cy="28800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849920" y="2357280"/>
              <a:ext cx="1952640" cy="20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"/>
            <p:cNvGrpSpPr/>
            <p:nvPr/>
          </p:nvGrpSpPr>
          <p:grpSpPr>
            <a:xfrm>
              <a:off x="4284720" y="2987640"/>
              <a:ext cx="1543320" cy="2249640"/>
              <a:chOff x="4284720" y="2987640"/>
              <a:chExt cx="1543320" cy="224964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4284720" y="3235320"/>
                <a:ext cx="619200" cy="10605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99120" y="4276800"/>
                <a:ext cx="1133640" cy="674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26280" y="48690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'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486320" y="2987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'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803160" y="1441440"/>
            <a:ext cx="76582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problem involves performing coordinate transformation, which can provide a stress tensor that does NOT contain shear st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2D, this can be illustrated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41320" y="2997360"/>
            <a:ext cx="2477880" cy="2810520"/>
            <a:chOff x="841320" y="2997360"/>
            <a:chExt cx="2477880" cy="2810520"/>
          </a:xfrm>
        </p:grpSpPr>
        <p:grpSp>
          <p:nvGrpSpPr>
            <p:cNvPr id="190" name=""/>
            <p:cNvGrpSpPr/>
            <p:nvPr/>
          </p:nvGrpSpPr>
          <p:grpSpPr>
            <a:xfrm>
              <a:off x="941400" y="2997360"/>
              <a:ext cx="2174760" cy="2264760"/>
              <a:chOff x="941400" y="2997360"/>
              <a:chExt cx="2174760" cy="2264760"/>
            </a:xfrm>
          </p:grpSpPr>
          <p:pic>
            <p:nvPicPr>
              <p:cNvPr id="1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63680" y="2997360"/>
                <a:ext cx="1752480" cy="173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268280" y="4916160"/>
                <a:ext cx="903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274760" y="3980880"/>
                <a:ext cx="0" cy="9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69920" y="4893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41400" y="3862440"/>
                <a:ext cx="40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41320" y="5287680"/>
              <a:ext cx="2477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tress cube in original coordinate system (x,y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292640" y="5246640"/>
            <a:ext cx="2649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ress cube in transformed coordinate system (x’,y’) -- only normal stresses exist: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-16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-16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in this 2D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46760" y="3529080"/>
            <a:ext cx="1598400" cy="1144440"/>
            <a:chOff x="6746760" y="3529080"/>
            <a:chExt cx="1598400" cy="1144440"/>
          </a:xfrm>
        </p:grpSpPr>
        <p:sp>
          <p:nvSpPr>
            <p:cNvPr id="199" name=""/>
            <p:cNvSpPr/>
            <p:nvPr/>
          </p:nvSpPr>
          <p:spPr>
            <a:xfrm>
              <a:off x="6953040" y="3940200"/>
              <a:ext cx="139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Note transformation (rotation) ang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6760" y="3529080"/>
              <a:ext cx="817560" cy="366840"/>
            </a:xfrm>
            <a:custGeom>
              <a:avLst/>
              <a:gdLst/>
              <a:ahLst/>
              <a:rect l="l" t="t" r="r" b="b"/>
              <a:pathLst>
                <a:path w="515" h="231">
                  <a:moveTo>
                    <a:pt x="515" y="231"/>
                  </a:moveTo>
                  <a:cubicBezTo>
                    <a:pt x="412" y="215"/>
                    <a:pt x="309" y="199"/>
                    <a:pt x="300" y="177"/>
                  </a:cubicBezTo>
                  <a:cubicBezTo>
                    <a:pt x="291" y="155"/>
                    <a:pt x="511" y="129"/>
                    <a:pt x="461" y="100"/>
                  </a:cubicBezTo>
                  <a:cubicBezTo>
                    <a:pt x="411" y="71"/>
                    <a:pt x="77" y="19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65560" y="3232080"/>
            <a:ext cx="2104200" cy="1400400"/>
            <a:chOff x="3265560" y="3232080"/>
            <a:chExt cx="2104200" cy="1400400"/>
          </a:xfrm>
        </p:grpSpPr>
        <p:grpSp>
          <p:nvGrpSpPr>
            <p:cNvPr id="202" name=""/>
            <p:cNvGrpSpPr/>
            <p:nvPr/>
          </p:nvGrpSpPr>
          <p:grpSpPr>
            <a:xfrm>
              <a:off x="3939840" y="3232080"/>
              <a:ext cx="1429920" cy="1400400"/>
              <a:chOff x="3939840" y="3232080"/>
              <a:chExt cx="1429920" cy="1400400"/>
            </a:xfrm>
          </p:grpSpPr>
          <p:sp>
            <p:nvSpPr>
              <p:cNvPr id="203" name=""/>
              <p:cNvSpPr/>
              <p:nvPr/>
            </p:nvSpPr>
            <p:spPr>
              <a:xfrm>
                <a:off x="4266720" y="4286160"/>
                <a:ext cx="902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273200" y="3351240"/>
                <a:ext cx="0" cy="9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68360" y="4264200"/>
                <a:ext cx="40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39840" y="3232080"/>
                <a:ext cx="40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265560" y="4273560"/>
              <a:ext cx="45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3480" y="2498760"/>
                <a:ext cx="42768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σ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σ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σ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79480" y="1606680"/>
            <a:ext cx="76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problem involves performing coordinate transformation, which can provide a stress tensor that does NOT contain shear stresses, tha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801960" y="3452760"/>
            <a:ext cx="1392120" cy="2386080"/>
            <a:chOff x="3801960" y="3452760"/>
            <a:chExt cx="1392120" cy="2386080"/>
          </a:xfrm>
        </p:grpSpPr>
        <p:sp>
          <p:nvSpPr>
            <p:cNvPr id="213" name=""/>
            <p:cNvSpPr/>
            <p:nvPr/>
          </p:nvSpPr>
          <p:spPr>
            <a:xfrm>
              <a:off x="3801960" y="5105520"/>
              <a:ext cx="139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Unit vector, normal to principal pla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9000" y="3452760"/>
              <a:ext cx="304920" cy="1575000"/>
            </a:xfrm>
            <a:custGeom>
              <a:avLst/>
              <a:gdLst/>
              <a:ahLst/>
              <a:rect l="l" t="t" r="r" b="b"/>
              <a:pathLst>
                <a:path w="515" h="231">
                  <a:moveTo>
                    <a:pt x="515" y="231"/>
                  </a:moveTo>
                  <a:cubicBezTo>
                    <a:pt x="412" y="215"/>
                    <a:pt x="309" y="199"/>
                    <a:pt x="300" y="177"/>
                  </a:cubicBezTo>
                  <a:cubicBezTo>
                    <a:pt x="291" y="155"/>
                    <a:pt x="511" y="129"/>
                    <a:pt x="461" y="100"/>
                  </a:cubicBezTo>
                  <a:cubicBezTo>
                    <a:pt x="411" y="71"/>
                    <a:pt x="77" y="19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52640" y="4029120"/>
            <a:ext cx="1514520" cy="1040760"/>
            <a:chOff x="1052640" y="4029120"/>
            <a:chExt cx="1514520" cy="1040760"/>
          </a:xfrm>
        </p:grpSpPr>
        <p:sp>
          <p:nvSpPr>
            <p:cNvPr id="216" name=""/>
            <p:cNvSpPr/>
            <p:nvPr/>
          </p:nvSpPr>
          <p:spPr>
            <a:xfrm>
              <a:off x="1052640" y="4549680"/>
              <a:ext cx="139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Initial stress tens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37000" y="4029120"/>
              <a:ext cx="830160" cy="488880"/>
            </a:xfrm>
            <a:custGeom>
              <a:avLst/>
              <a:gdLst/>
              <a:ahLst/>
              <a:rect l="l" t="t" r="r" b="b"/>
              <a:pathLst>
                <a:path w="523" h="308">
                  <a:moveTo>
                    <a:pt x="0" y="308"/>
                  </a:moveTo>
                  <a:cubicBezTo>
                    <a:pt x="71" y="232"/>
                    <a:pt x="142" y="157"/>
                    <a:pt x="184" y="146"/>
                  </a:cubicBezTo>
                  <a:cubicBezTo>
                    <a:pt x="226" y="135"/>
                    <a:pt x="198" y="263"/>
                    <a:pt x="254" y="239"/>
                  </a:cubicBezTo>
                  <a:cubicBezTo>
                    <a:pt x="310" y="215"/>
                    <a:pt x="476" y="41"/>
                    <a:pt x="52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92640" y="3949560"/>
            <a:ext cx="1392120" cy="1120320"/>
            <a:chOff x="5192640" y="3949560"/>
            <a:chExt cx="1392120" cy="1120320"/>
          </a:xfrm>
        </p:grpSpPr>
        <p:sp>
          <p:nvSpPr>
            <p:cNvPr id="219" name=""/>
            <p:cNvSpPr/>
            <p:nvPr/>
          </p:nvSpPr>
          <p:spPr>
            <a:xfrm>
              <a:off x="5192640" y="4549680"/>
              <a:ext cx="139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Transformed stress tens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66520" y="3949560"/>
              <a:ext cx="731880" cy="574920"/>
            </a:xfrm>
            <a:custGeom>
              <a:avLst/>
              <a:gdLst/>
              <a:ahLst/>
              <a:rect l="l" t="t" r="r" b="b"/>
              <a:pathLst>
                <a:path w="523" h="308">
                  <a:moveTo>
                    <a:pt x="0" y="308"/>
                  </a:moveTo>
                  <a:cubicBezTo>
                    <a:pt x="71" y="232"/>
                    <a:pt x="142" y="157"/>
                    <a:pt x="184" y="146"/>
                  </a:cubicBezTo>
                  <a:cubicBezTo>
                    <a:pt x="226" y="135"/>
                    <a:pt x="198" y="263"/>
                    <a:pt x="254" y="239"/>
                  </a:cubicBezTo>
                  <a:cubicBezTo>
                    <a:pt x="310" y="215"/>
                    <a:pt x="476" y="41"/>
                    <a:pt x="523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19720" y="3273480"/>
            <a:ext cx="1868400" cy="1128240"/>
            <a:chOff x="6219720" y="3273480"/>
            <a:chExt cx="1868400" cy="1128240"/>
          </a:xfrm>
        </p:grpSpPr>
        <p:sp>
          <p:nvSpPr>
            <p:cNvPr id="222" name=""/>
            <p:cNvSpPr/>
            <p:nvPr/>
          </p:nvSpPr>
          <p:spPr>
            <a:xfrm>
              <a:off x="6696000" y="3668400"/>
              <a:ext cx="139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Arial"/>
                </a:rPr>
                <a:t>Unit vector, normal to principal pla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19720" y="3273480"/>
              <a:ext cx="622440" cy="572760"/>
            </a:xfrm>
            <a:custGeom>
              <a:avLst/>
              <a:gdLst/>
              <a:ahLst/>
              <a:rect l="l" t="t" r="r" b="b"/>
              <a:pathLst>
                <a:path w="515" h="231">
                  <a:moveTo>
                    <a:pt x="515" y="231"/>
                  </a:moveTo>
                  <a:cubicBezTo>
                    <a:pt x="412" y="215"/>
                    <a:pt x="309" y="199"/>
                    <a:pt x="300" y="177"/>
                  </a:cubicBezTo>
                  <a:cubicBezTo>
                    <a:pt x="291" y="155"/>
                    <a:pt x="511" y="129"/>
                    <a:pt x="461" y="100"/>
                  </a:cubicBezTo>
                  <a:cubicBezTo>
                    <a:pt x="411" y="71"/>
                    <a:pt x="77" y="19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65640" y="4476600"/>
            <a:ext cx="2332080" cy="1693080"/>
            <a:chOff x="5165640" y="4476600"/>
            <a:chExt cx="2332080" cy="1693080"/>
          </a:xfrm>
        </p:grpSpPr>
        <p:sp>
          <p:nvSpPr>
            <p:cNvPr id="225" name=""/>
            <p:cNvSpPr/>
            <p:nvPr/>
          </p:nvSpPr>
          <p:spPr>
            <a:xfrm>
              <a:off x="5165640" y="4476600"/>
              <a:ext cx="2332080" cy="1400040"/>
            </a:xfrm>
            <a:custGeom>
              <a:avLst/>
              <a:gdLst/>
              <a:ahLst/>
              <a:rect l="l" t="t" r="r" b="b"/>
              <a:pathLst>
                <a:path w="1469" h="882">
                  <a:moveTo>
                    <a:pt x="0" y="815"/>
                  </a:moveTo>
                  <a:cubicBezTo>
                    <a:pt x="404" y="848"/>
                    <a:pt x="809" y="882"/>
                    <a:pt x="1054" y="746"/>
                  </a:cubicBezTo>
                  <a:cubicBezTo>
                    <a:pt x="1299" y="610"/>
                    <a:pt x="1388" y="120"/>
                    <a:pt x="1469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0840" y="5649480"/>
              <a:ext cx="81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ame vecto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4880" y="2290680"/>
                <a:ext cx="7743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879480" y="1758960"/>
            <a:ext cx="76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vious equation can be written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9480" y="3803760"/>
            <a:ext cx="76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lying that the deter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13120" y="4346640"/>
                <a:ext cx="33210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1295280"/>
            <a:ext cx="8076960" cy="52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ation of principal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al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200" y="1758960"/>
            <a:ext cx="76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anding determinant and setting it to zero y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89360" y="2189160"/>
                <a:ext cx="2782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727200" y="2673360"/>
            <a:ext cx="7657920" cy="1725120"/>
            <a:chOff x="727200" y="2673360"/>
            <a:chExt cx="7657920" cy="1725120"/>
          </a:xfrm>
        </p:grpSpPr>
        <p:sp>
          <p:nvSpPr>
            <p:cNvPr id="239" name=""/>
            <p:cNvSpPr/>
            <p:nvPr/>
          </p:nvSpPr>
          <p:spPr>
            <a:xfrm>
              <a:off x="727200" y="2673360"/>
              <a:ext cx="76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in whi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734840" y="2982960"/>
              <a:ext cx="5820840" cy="1415520"/>
              <a:chOff x="1734840" y="2982960"/>
              <a:chExt cx="5820840" cy="1415520"/>
            </a:xfrm>
          </p:grpSpPr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1734840" y="2982960"/>
                    <a:ext cx="355320" cy="37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2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12480" y="2995560"/>
                <a:ext cx="5443200" cy="13852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1756800" y="3465360"/>
                    <a:ext cx="310680" cy="37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1766520" y="3993840"/>
                    <a:ext cx="35496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45" name=""/>
          <p:cNvSpPr/>
          <p:nvPr/>
        </p:nvSpPr>
        <p:spPr>
          <a:xfrm>
            <a:off x="727200" y="4603680"/>
            <a:ext cx="76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 stress invariants (have the same magnitudes for all choices of coordinate axes (x,y,z) in which the applied stresses are measured or calculate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200" y="5594400"/>
            <a:ext cx="7657920" cy="67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incipal normal stress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are the three roots of the cubic polynomial -- always real and typically ordered as: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16000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17128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21:44:18Z</dcterms:created>
  <dc:creator>R. L. Norton</dc:creator>
  <dc:description/>
  <dc:language>en-US</dc:language>
  <cp:lastModifiedBy>norton</cp:lastModifiedBy>
  <dcterms:modified xsi:type="dcterms:W3CDTF">2006-01-14T12:37:05Z</dcterms:modified>
  <cp:revision>15</cp:revision>
  <dc:subject/>
  <dc:title>Stress Analysis Review</dc:title>
</cp:coreProperties>
</file>